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1B4-D42C-41A9-A25C-50EE4B99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DB7-EF53-4056-932E-93A5A6FA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A0A-7FFC-44C0-9C55-4C80BB87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1AD-6994-4900-8592-1810F502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473-0A9E-4B22-ADDE-4457151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31F-1B75-4B2C-9035-0F793DF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DFB-966D-429D-B192-BE0D14B6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821-93C3-44EF-A32A-3B02FE54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F20-31DE-42FB-8448-33124E1E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B1F-A687-4011-AA68-2E529495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0AB-99B8-40D0-97F6-B953BAA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359-4DB6-48D2-B7F7-FA5A11EF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C2F0-6554-414B-B939-AFB219994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18.xml"/><Relationship Id="rId6" Type="http://schemas.openxmlformats.org/officeDocument/2006/relationships/slide" Target="slide23.xml"/><Relationship Id="rId7" Type="http://schemas.openxmlformats.org/officeDocument/2006/relationships/slide" Target="slide16.xml"/><Relationship Id="rId8" Type="http://schemas.openxmlformats.org/officeDocument/2006/relationships/slide" Target="slide27.xml"/><Relationship Id="rId9" Type="http://schemas.openxmlformats.org/officeDocument/2006/relationships/slide" Target="slide21.xml"/><Relationship Id="rId10" Type="http://schemas.openxmlformats.org/officeDocument/2006/relationships/slide" Target="slide26.xml"/><Relationship Id="rId11" Type="http://schemas.openxmlformats.org/officeDocument/2006/relationships/slide" Target="slide17.xml"/><Relationship Id="rId12" Type="http://schemas.openxmlformats.org/officeDocument/2006/relationships/slide" Target="slide20.xml"/><Relationship Id="rId13" Type="http://schemas.openxmlformats.org/officeDocument/2006/relationships/slide" Target="slide25.xml"/><Relationship Id="rId14" Type="http://schemas.openxmlformats.org/officeDocument/2006/relationships/slide" Target="slide28.xml"/><Relationship Id="rId15" Type="http://schemas.openxmlformats.org/officeDocument/2006/relationships/slide" Target="slide22.xml"/><Relationship Id="rId16" Type="http://schemas.openxmlformats.org/officeDocument/2006/relationships/slide" Target="slide29.xml"/><Relationship Id="rId17" Type="http://schemas.openxmlformats.org/officeDocument/2006/relationships/slide" Target="slide24.xml"/><Relationship Id="rId18" Type="http://schemas.openxmlformats.org/officeDocument/2006/relationships/slide" Target="slide34.xml"/><Relationship Id="rId19" Type="http://schemas.openxmlformats.org/officeDocument/2006/relationships/slide" Target="slide33.xml"/><Relationship Id="rId20" Type="http://schemas.openxmlformats.org/officeDocument/2006/relationships/slide" Target="slide32.xml"/><Relationship Id="rId21" Type="http://schemas.openxmlformats.org/officeDocument/2006/relationships/slide" Target="slide2.xml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35.xml"/><Relationship Id="rId4" Type="http://schemas.openxmlformats.org/officeDocument/2006/relationships/slide" Target="slide38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3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роды Древнего Востока и мировая 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880"/>
            <a:ext cx="4648320" cy="914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-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666880" y="22860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торически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те исторический кроссворд. В нем зашифрованы только исторические понятия, связанные с историей Древнего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274680"/>
          <a:ext cx="8229600" cy="62784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2960"/>
                <a:gridCol w="915840"/>
                <a:gridCol w="912960"/>
                <a:gridCol w="9158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274680"/>
          <a:ext cx="8229600" cy="62784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2960"/>
                <a:gridCol w="915840"/>
                <a:gridCol w="912960"/>
                <a:gridCol w="91584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AutoShape 167">
            <a:hlinkClick r:id="rId1" action="ppaction://hlinksldjump"/>
          </p:cNvPr>
          <p:cNvSpPr/>
          <p:nvPr/>
        </p:nvSpPr>
        <p:spPr>
          <a:xfrm>
            <a:off x="228600" y="5791320"/>
            <a:ext cx="838080" cy="8906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90640"/>
              <a:gd name="textAreaBottom" fmla="*/ 836640 h 890640"/>
            </a:gdLst>
            <a:ahLst/>
            <a:rect l="textAreaLeft" t="textAreaTop" r="textAreaRight" b="textAreaBottom"/>
            <a:pathLst>
              <a:path w="21600" h="22954">
                <a:moveTo>
                  <a:pt x="0" y="0"/>
                </a:moveTo>
                <a:lnTo>
                  <a:pt x="21600" y="0"/>
                </a:lnTo>
                <a:lnTo>
                  <a:pt x="21600" y="22954"/>
                </a:lnTo>
                <a:lnTo>
                  <a:pt x="0" y="22954"/>
                </a:lnTo>
                <a:close/>
              </a:path>
              <a:path fill="lightenLess" w="21600" h="229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4">
                <a:moveTo>
                  <a:pt x="21600" y="0"/>
                </a:moveTo>
                <a:lnTo>
                  <a:pt x="21600" y="22954"/>
                </a:lnTo>
                <a:lnTo>
                  <a:pt x="20200" y="21554"/>
                </a:lnTo>
                <a:lnTo>
                  <a:pt x="20200" y="1400"/>
                </a:lnTo>
                <a:close/>
              </a:path>
              <a:path fill="darkenLess" w="21600" h="22954">
                <a:moveTo>
                  <a:pt x="21600" y="22954"/>
                </a:moveTo>
                <a:lnTo>
                  <a:pt x="0" y="22954"/>
                </a:lnTo>
                <a:lnTo>
                  <a:pt x="1400" y="21554"/>
                </a:lnTo>
                <a:lnTo>
                  <a:pt x="20200" y="21554"/>
                </a:lnTo>
                <a:close/>
              </a:path>
              <a:path fill="lighten" w="21600" h="22954">
                <a:moveTo>
                  <a:pt x="0" y="229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4"/>
                </a:lnTo>
                <a:close/>
              </a:path>
              <a:path fill="darken" w="21600" h="22954">
                <a:moveTo>
                  <a:pt x="10800" y="4514"/>
                </a:moveTo>
                <a:lnTo>
                  <a:pt x="13376" y="7125"/>
                </a:lnTo>
                <a:lnTo>
                  <a:pt x="13376" y="5384"/>
                </a:lnTo>
                <a:lnTo>
                  <a:pt x="15152" y="5384"/>
                </a:lnTo>
                <a:lnTo>
                  <a:pt x="15152" y="8901"/>
                </a:lnTo>
                <a:lnTo>
                  <a:pt x="17763" y="11477"/>
                </a:lnTo>
                <a:lnTo>
                  <a:pt x="16109" y="11477"/>
                </a:lnTo>
                <a:lnTo>
                  <a:pt x="16109" y="18666"/>
                </a:lnTo>
                <a:lnTo>
                  <a:pt x="5491" y="18666"/>
                </a:lnTo>
                <a:lnTo>
                  <a:pt x="5491" y="11477"/>
                </a:lnTo>
                <a:lnTo>
                  <a:pt x="3837" y="11477"/>
                </a:lnTo>
                <a:close/>
              </a:path>
              <a:path fill="darkenLess" w="21600" h="22954">
                <a:moveTo>
                  <a:pt x="13376" y="7125"/>
                </a:moveTo>
                <a:lnTo>
                  <a:pt x="13376" y="5384"/>
                </a:lnTo>
                <a:lnTo>
                  <a:pt x="15152" y="5384"/>
                </a:lnTo>
                <a:lnTo>
                  <a:pt x="15152" y="8901"/>
                </a:lnTo>
                <a:close/>
              </a:path>
              <a:path fill="darkenLess" w="21600" h="22954">
                <a:moveTo>
                  <a:pt x="9877" y="14976"/>
                </a:moveTo>
                <a:lnTo>
                  <a:pt x="11723" y="14976"/>
                </a:lnTo>
                <a:lnTo>
                  <a:pt x="11723" y="18666"/>
                </a:lnTo>
                <a:lnTo>
                  <a:pt x="16109" y="18666"/>
                </a:lnTo>
                <a:lnTo>
                  <a:pt x="16109" y="11477"/>
                </a:lnTo>
                <a:lnTo>
                  <a:pt x="5491" y="11477"/>
                </a:lnTo>
                <a:lnTo>
                  <a:pt x="5491" y="18666"/>
                </a:lnTo>
                <a:lnTo>
                  <a:pt x="9877" y="186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2362320" y="30492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ревние наз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тели Древнего Востока давали своим странам, городам, людям и т.д. очень красивые, интересные, и самое главное, правильные  названия. Например, финикийцы свой город Сидон называли «местом для рыбной ловли», а город Тир – «скалой». Вам нужно отгадать три таких древних наз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838080" y="7621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rId2" action="ppaction://hlinksldjump"/>
          </p:cNvPr>
          <p:cNvSpPr/>
          <p:nvPr/>
        </p:nvSpPr>
        <p:spPr>
          <a:xfrm>
            <a:off x="1219320" y="2209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3" action="ppaction://hlinksldjump"/>
          </p:cNvPr>
          <p:cNvSpPr/>
          <p:nvPr/>
        </p:nvSpPr>
        <p:spPr>
          <a:xfrm>
            <a:off x="5105520" y="4114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>
            <a:hlinkClick r:id="rId4" action="ppaction://hlinksldjump"/>
          </p:cNvPr>
          <p:cNvSpPr/>
          <p:nvPr/>
        </p:nvSpPr>
        <p:spPr>
          <a:xfrm>
            <a:off x="8001000" y="53341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>
            <a:hlinkClick r:id="rId5" action="ppaction://hlinksldjump"/>
          </p:cNvPr>
          <p:cNvSpPr/>
          <p:nvPr/>
        </p:nvSpPr>
        <p:spPr>
          <a:xfrm>
            <a:off x="2895480" y="2286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>
            <a:hlinkClick r:id="rId6" action="ppaction://hlinksldjump"/>
          </p:cNvPr>
          <p:cNvSpPr/>
          <p:nvPr/>
        </p:nvSpPr>
        <p:spPr>
          <a:xfrm>
            <a:off x="5715000" y="25909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>
            <a:hlinkClick r:id="rId7" action="ppaction://hlinksldjump"/>
          </p:cNvPr>
          <p:cNvSpPr/>
          <p:nvPr/>
        </p:nvSpPr>
        <p:spPr>
          <a:xfrm>
            <a:off x="2666880" y="609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>
            <a:hlinkClick r:id="rId8" action="ppaction://hlinksldjump"/>
          </p:cNvPr>
          <p:cNvSpPr/>
          <p:nvPr/>
        </p:nvSpPr>
        <p:spPr>
          <a:xfrm>
            <a:off x="1981080" y="36576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>
            <a:hlinkClick r:id="rId9" action="ppaction://hlinksldjump"/>
          </p:cNvPr>
          <p:cNvSpPr/>
          <p:nvPr/>
        </p:nvSpPr>
        <p:spPr>
          <a:xfrm>
            <a:off x="5943600" y="5257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>
            <a:hlinkClick r:id="rId10" action="ppaction://hlinksldjump"/>
          </p:cNvPr>
          <p:cNvSpPr/>
          <p:nvPr/>
        </p:nvSpPr>
        <p:spPr>
          <a:xfrm>
            <a:off x="4343400" y="27432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>
            <a:hlinkClick r:id="rId11" action="ppaction://hlinksldjump"/>
          </p:cNvPr>
          <p:cNvSpPr/>
          <p:nvPr/>
        </p:nvSpPr>
        <p:spPr>
          <a:xfrm>
            <a:off x="3657600" y="38862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>
            <a:hlinkClick r:id="rId12" action="ppaction://hlinksldjump"/>
          </p:cNvPr>
          <p:cNvSpPr/>
          <p:nvPr/>
        </p:nvSpPr>
        <p:spPr>
          <a:xfrm>
            <a:off x="457200" y="3276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>
            <a:hlinkClick r:id="rId13" action="ppaction://hlinksldjump"/>
          </p:cNvPr>
          <p:cNvSpPr/>
          <p:nvPr/>
        </p:nvSpPr>
        <p:spPr>
          <a:xfrm>
            <a:off x="4191120" y="9144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>
            <a:hlinkClick r:id="rId14" action="ppaction://hlinksldjump"/>
          </p:cNvPr>
          <p:cNvSpPr/>
          <p:nvPr/>
        </p:nvSpPr>
        <p:spPr>
          <a:xfrm>
            <a:off x="190512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8">
            <a:hlinkClick r:id="rId15" action="ppaction://hlinksldjump"/>
          </p:cNvPr>
          <p:cNvSpPr/>
          <p:nvPr/>
        </p:nvSpPr>
        <p:spPr>
          <a:xfrm>
            <a:off x="6705720" y="35812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9">
            <a:hlinkClick r:id="rId16" action="ppaction://hlinksldjump"/>
          </p:cNvPr>
          <p:cNvSpPr/>
          <p:nvPr/>
        </p:nvSpPr>
        <p:spPr>
          <a:xfrm>
            <a:off x="3962520" y="53341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>
            <a:hlinkClick r:id="rId17" action="ppaction://hlinksldjump"/>
          </p:cNvPr>
          <p:cNvSpPr/>
          <p:nvPr/>
        </p:nvSpPr>
        <p:spPr>
          <a:xfrm>
            <a:off x="6629400" y="16002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>
            <a:hlinkClick r:id="rId18" action="ppaction://hlinksldjump"/>
          </p:cNvPr>
          <p:cNvSpPr/>
          <p:nvPr/>
        </p:nvSpPr>
        <p:spPr>
          <a:xfrm>
            <a:off x="304920" y="54864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2">
            <a:hlinkClick r:id="rId19" action="ppaction://hlinksldjump"/>
          </p:cNvPr>
          <p:cNvSpPr/>
          <p:nvPr/>
        </p:nvSpPr>
        <p:spPr>
          <a:xfrm>
            <a:off x="7924680" y="25909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3">
            <a:hlinkClick r:id="rId20" action="ppaction://hlinksldjump"/>
          </p:cNvPr>
          <p:cNvSpPr/>
          <p:nvPr/>
        </p:nvSpPr>
        <p:spPr>
          <a:xfrm>
            <a:off x="5638680" y="609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5">
            <a:hlinkClick r:id="rId21" action="ppaction://hlinksldjump"/>
          </p:cNvPr>
          <p:cNvSpPr/>
          <p:nvPr/>
        </p:nvSpPr>
        <p:spPr>
          <a:xfrm>
            <a:off x="1447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1876" y="3837"/>
                </a:moveTo>
                <a:lnTo>
                  <a:pt x="14452" y="6448"/>
                </a:lnTo>
                <a:lnTo>
                  <a:pt x="14452" y="4707"/>
                </a:lnTo>
                <a:lnTo>
                  <a:pt x="16228" y="4707"/>
                </a:lnTo>
                <a:lnTo>
                  <a:pt x="16228" y="8224"/>
                </a:lnTo>
                <a:lnTo>
                  <a:pt x="18839" y="10800"/>
                </a:lnTo>
                <a:lnTo>
                  <a:pt x="17185" y="10800"/>
                </a:lnTo>
                <a:lnTo>
                  <a:pt x="17185" y="17989"/>
                </a:lnTo>
                <a:lnTo>
                  <a:pt x="6567" y="17989"/>
                </a:lnTo>
                <a:lnTo>
                  <a:pt x="6567" y="10800"/>
                </a:lnTo>
                <a:lnTo>
                  <a:pt x="4913" y="10800"/>
                </a:lnTo>
                <a:close/>
              </a:path>
              <a:path fill="darkenLess" w="23752" h="21600">
                <a:moveTo>
                  <a:pt x="14452" y="6448"/>
                </a:moveTo>
                <a:lnTo>
                  <a:pt x="14452" y="4707"/>
                </a:lnTo>
                <a:lnTo>
                  <a:pt x="16228" y="4707"/>
                </a:lnTo>
                <a:lnTo>
                  <a:pt x="16228" y="8224"/>
                </a:lnTo>
                <a:close/>
              </a:path>
              <a:path fill="darkenLess" w="23752" h="21600">
                <a:moveTo>
                  <a:pt x="10953" y="14299"/>
                </a:moveTo>
                <a:lnTo>
                  <a:pt x="12799" y="14299"/>
                </a:lnTo>
                <a:lnTo>
                  <a:pt x="12799" y="17989"/>
                </a:lnTo>
                <a:lnTo>
                  <a:pt x="17185" y="17989"/>
                </a:lnTo>
                <a:lnTo>
                  <a:pt x="17185" y="10800"/>
                </a:lnTo>
                <a:lnTo>
                  <a:pt x="6567" y="10800"/>
                </a:lnTo>
                <a:lnTo>
                  <a:pt x="6567" y="17989"/>
                </a:lnTo>
                <a:lnTo>
                  <a:pt x="109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905120" y="2438280"/>
            <a:ext cx="472428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ын бога солнца Р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380880" y="5638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981080" y="2209680"/>
            <a:ext cx="472464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Живой убитый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>
            <a:hlinkClick r:id="rId1" action="ppaction://hlinksldjump"/>
          </p:cNvPr>
          <p:cNvSpPr/>
          <p:nvPr/>
        </p:nvSpPr>
        <p:spPr>
          <a:xfrm>
            <a:off x="380880" y="5638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981080" y="2209680"/>
            <a:ext cx="472464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Угодный Атону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>
            <a:hlinkClick r:id="rId1" action="ppaction://hlinksldjump"/>
          </p:cNvPr>
          <p:cNvSpPr/>
          <p:nvPr/>
        </p:nvSpPr>
        <p:spPr>
          <a:xfrm>
            <a:off x="533520" y="5715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981080" y="2209680"/>
            <a:ext cx="472464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вященное письмо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457200" y="5562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981080" y="2209680"/>
            <a:ext cx="472464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Дар Нил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380880" y="5638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наменитые прав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7800" y="464832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Исторически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257800" y="167652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ажные 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28600" y="243828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ультурные дост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09480" y="449568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Древние наз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7010280" y="2971800"/>
            <a:ext cx="1752840" cy="16002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тд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4419720" y="0"/>
            <a:ext cx="1752480" cy="16002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Г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4267080" y="2971800"/>
            <a:ext cx="1752840" cy="16002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Муз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>
            <a:hlinkClick r:id="" action="ppaction://hlinkshowjump?jump=lastslide"/>
          </p:cNvPr>
          <p:cNvSpPr/>
          <p:nvPr/>
        </p:nvSpPr>
        <p:spPr>
          <a:xfrm>
            <a:off x="152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981080" y="2209680"/>
            <a:ext cx="472464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Черная земля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rId1" action="ppaction://hlinksldjump"/>
          </p:cNvPr>
          <p:cNvSpPr/>
          <p:nvPr/>
        </p:nvSpPr>
        <p:spPr>
          <a:xfrm>
            <a:off x="152280" y="5715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981080" y="2209680"/>
            <a:ext cx="5105520" cy="2286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Река, текущая в обратном направлен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>
            <a:off x="457200" y="5715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981080" y="2209680"/>
            <a:ext cx="472464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оре «Среди земель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>
            <a:hlinkClick r:id="rId1" action="ppaction://hlinksldjump"/>
          </p:cNvPr>
          <p:cNvSpPr/>
          <p:nvPr/>
        </p:nvSpPr>
        <p:spPr>
          <a:xfrm>
            <a:off x="380880" y="5638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981080" y="2209680"/>
            <a:ext cx="472464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Небосклон Атон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457200" y="5715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981080" y="2209680"/>
            <a:ext cx="472464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трана Арие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380880" y="5715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981080" y="2209680"/>
            <a:ext cx="4724640" cy="1676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Царь царей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380880" y="5715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81080" y="2209680"/>
            <a:ext cx="4876920" cy="19814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толпотворение народо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33520" y="5562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81080" y="2209680"/>
            <a:ext cx="5105520" cy="2286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Пришла красивая женщин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609480" y="5562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981080" y="2209680"/>
            <a:ext cx="5105520" cy="2286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Глаза и уши царя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380880" y="5638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981080" y="2209680"/>
            <a:ext cx="5105520" cy="2286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Логовище львов и город крови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57200" y="54864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, какие правители древности могли написать о себе приведенные ниже слов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государствами они управля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742840" y="22824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наменитые прав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981080" y="2209680"/>
            <a:ext cx="5105520" cy="2286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Красная земля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380880" y="5638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981080" y="2209680"/>
            <a:ext cx="5105520" cy="2286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Царь четырех стран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380880" y="5638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981080" y="2209680"/>
            <a:ext cx="5105520" cy="2286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тремление добыть коро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380880" y="54864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981080" y="2209680"/>
            <a:ext cx="5105520" cy="2286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Охранитель коро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685800" y="53341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981080" y="2209680"/>
            <a:ext cx="5105520" cy="2286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Бич Китая, горе Китая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457200" y="56386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стории Древнего Востока было много событий. Самые важные из них мы изучили. Вы должны найти соответствие между событиями и датами. За каждое правильное соответствие вы получаете 1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590920" y="22860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ажные 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0"/>
          <a:ext cx="9144000" cy="6837480"/>
        </p:xfrm>
        <a:graphic>
          <a:graphicData uri="http://schemas.openxmlformats.org/drawingml/2006/table">
            <a:tbl>
              <a:tblPr/>
              <a:tblGrid>
                <a:gridCol w="6729480"/>
                <a:gridCol w="241452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чало железного ве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. 221 г. до н.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зрушение Ниневии, столицы Ассир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 до н.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оительство пирамиды Хеоп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600 г. до н.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бъединение Китая Цинь Шихуан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1792-1750 гг. до н.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равление вавилонского царя Хаммурап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1500 г. до н.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Объединение Индии царями из династии Маурье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 до н.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Финикийцы обогнули Афри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) 2600 г. до н.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Расцвет Египетского цар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) 612 г. до н.э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729480"/>
                <a:gridCol w="241452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ачало железного ве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 до н.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зрушение Ниневии, столицы Ассир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612 г. до н.э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оительство пирамиды Хеопс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2600 г. до н.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бъединение Китая Цинь Шихуан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221 г. до н.э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равление вавилонского царя Хаммурап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1792-1750 гг. до н.э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Объединение Индии царями из династии Маурье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 до н.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Финикийцы обогнули Африк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) 600 г. до н.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Расцвет Египетского ц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) 1500 г. до н.э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9" name="AutoShape 43"/>
          <p:cNvSpPr/>
          <p:nvPr/>
        </p:nvSpPr>
        <p:spPr>
          <a:xfrm>
            <a:off x="5334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онкурс капитанов – блиц - вопросы по культуре стран Древнего Вос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ый правильный ответ – 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590920" y="228600"/>
            <a:ext cx="3886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льтурные дост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572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905120" y="228600"/>
            <a:ext cx="6095880" cy="1295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узей стран Древнего Вост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81080" y="2209680"/>
            <a:ext cx="5791320" cy="40388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йчас перед вами откроется галерея изображений достижений Древнего вост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царь чью мудрость восхваляют по всему свету! Мне удалось заключить союз с фараоном Египта и женится на его дочери! Это обезопасило границы моего государства, и я с гордостью могу сказать: «Каждый жил спокойно под виноградником своим!» За то, что бог Яхве дал мне мудрое сердце воздвиг я в его честь храм и прославлял везде его им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3208"/>
          <p:cNvPicPr/>
          <p:nvPr/>
        </p:nvPicPr>
        <p:blipFill>
          <a:blip r:embed="rId1"/>
          <a:stretch/>
        </p:blipFill>
        <p:spPr>
          <a:xfrm>
            <a:off x="6256440" y="3476520"/>
            <a:ext cx="2887560" cy="338148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800px-Great_wall_of_china-mutianyu_3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65133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iza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b_292"/>
          <p:cNvPicPr/>
          <p:nvPr/>
        </p:nvPicPr>
        <p:blipFill>
          <a:blip r:embed="rId1"/>
          <a:stretch/>
        </p:blipFill>
        <p:spPr>
          <a:xfrm>
            <a:off x="1905120" y="0"/>
            <a:ext cx="512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8fba27a332cd0d3237038ca9033ec8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M-a-Tut-Q-cr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35Cyrus"/>
          <p:cNvPicPr/>
          <p:nvPr/>
        </p:nvPicPr>
        <p:blipFill>
          <a:blip r:embed="rId1"/>
          <a:srcRect l="0" t="546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ships0006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1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"/>
          <p:cNvSpPr/>
          <p:nvPr/>
        </p:nvSpPr>
        <p:spPr>
          <a:xfrm>
            <a:off x="304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участие в игр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229600" cy="3657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– царь, превосходящий прочих царей, даровавший жизнь Уруку, проведший обильную воду его населению! По велению Шамаша, великого судьи небес и земли, да воссияет в стране моя справедливость! Пусть мои законы не имею нарушител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ammurapi"/>
          <p:cNvPicPr/>
          <p:nvPr/>
        </p:nvPicPr>
        <p:blipFill>
          <a:blip r:embed="rId1"/>
          <a:stretch/>
        </p:blipFill>
        <p:spPr>
          <a:xfrm>
            <a:off x="4883040" y="3809880"/>
            <a:ext cx="2241720" cy="304812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5181480" cy="61722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ын Неба, объединив Поднебесную, принял титул первого императора династии! Обрушил мощь империи против варваров, живущих на севере, чтобы они не нарушали спокойствие империи, построил стену в десять тысяч л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9a86d144c3a9"/>
          <p:cNvPicPr/>
          <p:nvPr/>
        </p:nvPicPr>
        <p:blipFill>
          <a:blip r:embed="rId1"/>
          <a:stretch/>
        </p:blipFill>
        <p:spPr>
          <a:xfrm>
            <a:off x="5486400" y="457200"/>
            <a:ext cx="3454560" cy="57722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стал впереди моих победоносных воинов, указывая своими шагами путь каждому человеку! и лошадь шла за лошадью! Крепость покорилась моему величеству! Велика мая мощь, велика власть бога Амон-Ра над всеми чужеземными странам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SCN0352"/>
          <p:cNvPicPr/>
          <p:nvPr/>
        </p:nvPicPr>
        <p:blipFill>
          <a:blip r:embed="rId1"/>
          <a:stretch/>
        </p:blipFill>
        <p:spPr>
          <a:xfrm>
            <a:off x="304920" y="762120"/>
            <a:ext cx="3933720" cy="523872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5410080" cy="6858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Фивы захватили мои руки с помощью Ашшура! Награбил я добычу! Но не чуждо мне и прекрасное! Из всех военных походов везли по моему приказу в столицу книги и собирал я их в своем дворце! Я - царь великий, царь царей, царь этой земли! Мне достались 23 страны, они стали мне подвластны, приносили мне дань! Эти страны следовали моим закона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kotomatrisi.ru/uploads/posts/2011-04/thumbs/1304158661_piphago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376440" cy="440028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114800" y="0"/>
            <a:ext cx="5029200" cy="6858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Фивы захватили мои руки с помощью Ашшура! Награбил я добычу! Но не чуждо мне и прекрасное! Из всех военных походов везли по моему приказу в столицу книги и собирал я их в своем дворц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6"/>
          <p:cNvPicPr/>
          <p:nvPr/>
        </p:nvPicPr>
        <p:blipFill>
          <a:blip r:embed="rId1"/>
          <a:stretch/>
        </p:blipFill>
        <p:spPr>
          <a:xfrm>
            <a:off x="228600" y="838080"/>
            <a:ext cx="3733920" cy="47246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66" name="AutoShape 6">
            <a:hlinkClick r:id="rId2" action="ppaction://hlinksldjump"/>
          </p:cNvPr>
          <p:cNvSpPr/>
          <p:nvPr/>
        </p:nvSpPr>
        <p:spPr>
          <a:xfrm>
            <a:off x="2286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06-12-31T18:02:0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