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B2D-D090-4ED9-B5B8-D4E7B3D8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301-A000-4011-838F-A30A9F28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B3E-FEB2-4CF8-B202-C7149F20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1A8-D8F1-4459-B91F-B7BA34C1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A0EB-DF31-4B0A-A795-9F9F9DE9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867B-3A60-4512-BC7F-619C4927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AF3C-F8F8-4901-B871-46AF4E19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C4D9-64CA-4F0F-9F3B-38E95665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E9D-EEC2-449D-973C-02A7AFB5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BAB4-601C-4C80-B5C6-C66D7CE8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4728-EB40-4994-B61B-302D90F0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FFF-8559-4F6F-8F6F-500745B9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40BB-4E8E-4397-98B0-05BA2392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65A1-5EC1-4F05-9553-D6DABDE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2F50-D0C7-4195-AFAB-1AF557D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0D35-E3C3-415A-AD9B-3CDDA890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B207-29D8-4646-A76C-61102FD3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B24-4420-4298-BF72-EBC53F19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A0D-7DF2-4856-8701-44ADEE11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055-A8BD-44BA-8AF1-BF0981F4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F5E-1579-468E-A032-03DA970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384-75DF-43F9-8916-F53BEB6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759-7554-4E33-97D6-D43E4178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078-EB1C-4A3C-9E06-608C567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3F1-4C06-4B46-8777-F2ABB7ABA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BBD0-0089-400E-99FD-856BFC3A2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сско-Полянский аграрный техникум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зентации к уроку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теме: 1.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Система охлаждения двигателей трактор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предмету Эксплуатация и Техническое обслуживание тракторо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курс, специальность Тракторист-машинист сельскохозяйственного производств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Разработала преподаватель спецдисципл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ячева Людмила Борис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сская-Поляна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водяного насо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ремя работы двигателя шкив получает вращение от коленчатого вала клиновидными ремнями. При этом начинают вращаться вал и крыльчатка. При вращении крыльчатки охлаждающая жидкость, поступающая по всасывающему патрубку, попадает на лотки крыльчатки и отбрасывается к стенкам корпуса, откуда по нагнетательному патрубку направляется в рубашку двиг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осы, устанавливаемые на тракторных двигателях, потребляют от 0,5 до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щности и подают жидкость под давлением 0,04…0,08 МП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х подача достигает 5000…7000 л/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нтиля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746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нти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ужит для создания воздушного потока, обдувающего сердцевину ради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двигателей с жидкостным охлаждением вентиляторы сделаны в виде крестовины, к которой приклепаны лоп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исло лопастей может быть два, четыре, шесть или восем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ращение вентилятор получает от коленчатого 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Тракторы МТЗ с моторами Lombardini и навесное оборудование"/>
          <p:cNvPicPr/>
          <p:nvPr/>
        </p:nvPicPr>
        <p:blipFill>
          <a:blip r:embed="rId1"/>
          <a:stretch/>
        </p:blipFill>
        <p:spPr>
          <a:xfrm>
            <a:off x="4427640" y="1628640"/>
            <a:ext cx="4105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хлаждающие жид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отказную работу дизеля в нужном температурном режиме гарантируют два фактора: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охлаждающей жидкости, которая циркулирует в системе охлаждения трактора МТЗ. То есть если просто залить жидкость в радиатор мотора, то это не будет гарантировать качественное охла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тимальной жидкостью для дизеля является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осо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«Тосол» — торговая марка охлаждающей жидкости, которая выпускалась в советскую эпоху. Сегодня тосолом часто называют любую охлаждающую жидкость. Тосол это смесь следующих компонентов: вода, антифриз, присадки. Присадки тосола необходимы для уменьшения коррозии системы охлаждения и саму жидкость от термохимического разрушения. Антифризом в тосоле является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тиленглик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виде исключения можно использовать и воду. Вода должна быть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яг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(дождевая или талая). От жесткой воды на стенках системы охлаждения интенсивно осаждается накипь. Что в свою очередь приводить к сильному ухудшению качеству охлаждения. Жесткую воду в принципе можно смягчить, добавив в воду кальцинированную соду 10 г на 10 литров 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торой фактор - количество тосола  в системе охлаждения. В верхнем бачке радиатора уровень тосола должен быть на 50 мм ниже заливной горловины. Если выше, то, нагреваясь и расширяясь в процессе работы трактора, тосол вытечет загрязняя окружающую среду и сам двигатель. Если уровень тосола ниже нормы, то охлаждающей жидкости просто не хватит для качественного охлаждения, что приведет к постоянному перегреву двигателя, даже без нагру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исправности системы охла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1600200"/>
          <a:ext cx="7925040" cy="447192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22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испра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гатель перегре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ыты шторка или жалюзи радиа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жидкости в системе охла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 натянут ремень венти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накипи или грязи в системе охла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грузка двиг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дает клапан термостата (в закрытом положен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гатель переохлажд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 утеплительный чех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а шторка радиа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дает клапан термостата (в открытом положен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троль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Перечислите основные части системы жидкостного охлаждения двиг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орка или жалюзи, радиатор, вентилятор, водяной насос, термостат, водяная рубашка, соединительные патрубки, паровоздушный клап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Каково назначение термоста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мостат предназначен для автоматического регулирования температуры охлаждающей жидкости и для ускорения прогрева двигателя после пус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Для какой цели в крышке наливной горловины радиатора смонтирован паровоздушный клапа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паровоздушного клапана внутренняя полость радиатора сообщается с атмосфер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Какой тип насоса установлен в системе охлаждени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обеж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При достижении какой температуры клапаны термостата занимают свои крайние положени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6. Перечислите основные детали водяного насо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рпус, вал, шкив, крыльчатка, всасывающий и нагнетательный каналы, ремкомплек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При помощи какого клапана внутренняя полость радиатора сообщается с атмосфер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Парового;                                Б) Воздушного;      В) Паровоздуш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Из каких составляющих состоит ТОСОЛ А-4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Дисцилированная вода + этиленгликолевый спирт; Б) Дисцилированная вода + этиловый спирт;  В) Дисцилированная вода + соляная кис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Какая деталь служит для автоматической регулировки температуры охлаждающей жидк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Насос;                                       Б) Термостат;                 В) Што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Какова необходимая температура для нормальной работы двига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90-95гр;                                     Б) 50-80гр;                       В) 80-90г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Из какого материала изготавливают радиатор и термоста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Сталь;                                       Б) Латунь;                         В) Брон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Какая деталь служит для создания воздушного пот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Вентилятор;                             Б) Шторка;                         В) Радиа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Какова подача водяного насо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3000-5000л/ч;                           Б) 7000-10000л/ч;             В) 5000-7000л/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 По какой причине двигатель перегрев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Не утеплен;                              Б) Открыта шторка;          В) Мало охлаждающей жидк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 Какие типы насосов применяют в системе охлажд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Шестеренчатые;                      Б) Центробежные;            В) Универс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. При достижении, какой температуры клапаны термостата занимают свои крайние полож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90гр;                                         Б) 85гр;                               В) 95г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ильные варианты ответов на те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– В;  2 – А;  3 – Б;  4 – В;  5 – Б;  6 – А;  7 – В;  8 – В;  9 – Б;  10 – 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сок используемой литера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Пучин, Е.А. Техническое обслуживание и ремонт тракторов: учебное пособие для нач. проф. образования/ Е.А. Пучин. – 3-е изд., перераб. и доп. - М.: Издательский центр «Академия», 2010 . – 208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Родичев, В.А. Тракторы: учебное пособие для нач. проф. образования/ В.А.Родичев. – 5-е изд., перераб. и доп. – М.: Издательский центр «Академия», 2009 . – 228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5118120"/>
            <a:ext cx="66294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2952720" cy="2233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Трактор NEW HOLLAND T7050 купить в Санкт-Петербурге по низкой цене - OpenRussia.ru"/>
          <p:cNvPicPr/>
          <p:nvPr/>
        </p:nvPicPr>
        <p:blipFill>
          <a:blip r:embed="rId2"/>
          <a:stretch/>
        </p:blipFill>
        <p:spPr>
          <a:xfrm>
            <a:off x="324000" y="2421000"/>
            <a:ext cx="4032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пловой баланс диз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сгорании топлива в цилиндрах дизеля выделяется большое количество теплоты, но только часть ее превращается в полезную механическ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асть энергии расходуется на преодоление трения, возникающего между движущимися деталями, часть – на приведение в действие различных механизмов двигателя. Большое количество теплоты уносится в атмосферу с отработавшими газ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дновременно с этим довольно большое количество теплоты идет на нагрев деталей. Поэтому если во время работы дизеля теплоту не отводить, то работоспособность сопряжений и самих деталей будет наруш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отвода избыточной теплоты от дизеля во время работы и поддержания оптимального теплового режима прибегают к его искусственному охлажд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этому на автотракторных двигателях устанавливают систему охла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74472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начение системы охла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а охлаждения двигателя служит дл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вода теплоты от нагретых деталей и поддержания нормального температурного режима работы систем двиг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ы искусственного охла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способ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теплота от деталей двигателя отводится в жидкость, а затем через нее в окружающую среду – это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жидкостное охлажд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торой способ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плота передается непосредственно окружающему воздух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это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здушное охлажд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автотракторных двигателях устанавливают чаще всего жидкостную систему охлаждения, так как она поддерживает наивыгоднейший тепловой режим работы двигателя (наименьший износ деталей и расход топлива) достигается при температуре охлаждающей жидкости 85…90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хема системы охлаждения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пробка радиат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радиат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водоподводящий патруб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термоста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термомет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– водяной нас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– водоотводящий патруб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– вентилят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 – штор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– краник слива воды из ради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борочные единицы системы охлаждени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диатор и паровоздушный клап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70200" y="1599840"/>
            <a:ext cx="666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008840" cy="477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7008840" cy="477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7008840" cy="477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11280" y="1125360"/>
            <a:ext cx="6913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борочные единицы системы охла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аровоздушный клапа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регулирует  давление охлаждающей жидкости в системе охла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тройство паровоздушного клапа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 пароотводная труб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 паровой клап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 пружина парового клап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 запорная пружи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 корпус крыш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 горловина радиат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,8 - резиновые проклад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- воздушный клап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 пружина воздушного клап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- седло воздушного клап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диа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назначен для охлаждения жидкости, нагревшейся в рубашке двиг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тройство радиато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 сердцевина водяного радиатор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 верхний ба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 тяга управления жалюз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 крышка заливной горлови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,8- неподвижные план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 система рычаг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 подвижные план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- створ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 кран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- нижний ба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- масляный радиат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 – латунные труб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 – латунные пла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мост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Устройство и работа термостата с жидким наполнителем"/>
          <p:cNvPicPr/>
          <p:nvPr/>
        </p:nvPicPr>
        <p:blipFill>
          <a:blip r:embed="rId1"/>
          <a:stretch/>
        </p:blipFill>
        <p:spPr>
          <a:xfrm>
            <a:off x="4500720" y="1628640"/>
            <a:ext cx="422892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рмостат предназначен дл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матического поддержания температуры охлаждающей жидкости на нужном уровне при различных условиях работы двигателя, а также для ускорения прогрева после пус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рмостат состои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з следящего и исполнительного устройства, установленных в корпу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едящее устройств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лают двух типов в виде гофрированного цилиндра, частично заполненного легкоиспаряющейся жидкостью (обычно 15 процентный водный раствор  этилового спир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полнительное устройство состоит из двух клапанов – вспомогательного и глав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термост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мостат устанавливают в патрубке отводящем жидкость из двигателя в радиатор. Когда температура жидкости ниже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, вспомогательный клапан закрывает верхнее отверстие и не пропускает охлаждающую жидкость в радиатор.  Главный клапан постепенно открывает путь охлаждающей жидкости в радиатор, а вспомогательный  клапан в это время открывает проход для жидкости в перепускную трубку, по которой она, минуя радиатор, вновь поступает в водяной нас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повышении температуры более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жидкость в гофрированном цилиндре закипает и ее пары давят на стенки, растягивая цилиндр. При этом главный клапан постепенно открывает путь охлаждающей жидкости в радиатор, а вспомогательный клапан уменьшает пород к водяному насосу. При достижении температуры 8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клапаны занимают свои крайние положения, и весь поток жидкости, участвующий в охлаждении двигателя, проходит через радиа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справно действующий термостат, ускоряя прогрев двигателя при пуске, значительно снижает износ его деталей. Установлено, что если термостат удалить из системы охлаждения, то износы, например цилиндров двигателя, увеличатся в 2…3 ра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дяной нас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дяной насос предназначен для принудительной циркуляции охлаждающей жидк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дизеле А-41 водяной насос центробеж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тройство насо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шкив; 2- ступица шкива; 3- масленк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вал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 втулка корпуса, 6 – корпус; 7 – крьльчат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– обойма сальника;  9 – манжета саль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– шайба уплотняющая; 11 – упорная пружина сальника;  12 – полость нагне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 – полость всасывания; 14 – патруб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– самоподжимные каркасные саль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886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4:38:47Z</dcterms:created>
  <dc:creator>днс</dc:creator>
  <dc:description/>
  <dc:language>en-US</dc:language>
  <cp:lastModifiedBy>днс</cp:lastModifiedBy>
  <dcterms:modified xsi:type="dcterms:W3CDTF">2015-03-10T13:44:38Z</dcterms:modified>
  <cp:revision>17</cp:revision>
  <dc:subject/>
  <dc:title>Слайд 1</dc:title>
</cp:coreProperties>
</file>