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18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15.png" ContentType="image/png"/>
  <Override PartName="/ppt/media/image31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35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4E81-D72F-40C4-917B-06C8ACAEDF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74CB-C672-4C94-9B42-B310FA44A87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B3AB-EA39-4671-9202-D7CFE879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420C-1FBC-4ADA-838D-5F4ECBBC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AF77-FEA4-4996-93BD-517EA7A1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8833-3B74-4464-A39F-E5603E6B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8FAE-4C81-4AF4-BD4D-6AB21550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9353-D3A9-4723-B586-D0CDAFCA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0E3C-A912-4BD0-B20F-E26AC873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855F-80D0-41B5-8568-0463EFA7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7A30-A968-435A-A6B8-8E91C0F4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105A-5326-46AE-83B4-87A75039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1351-3A69-4F0D-B0BF-572989DD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5A7A-FACD-40EB-A151-23B262A2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C13C-5CD3-4BE7-9EE7-6FF5C68F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9CC5-9C46-4A22-95F4-7EBD750F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7B26-D4CA-42B4-9B82-061ED221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F5A4-A7A3-4224-AFEC-4F61D612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BB4D-D5A6-4D76-835A-F3B27A92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A7FD-FCDA-462A-BBBD-8188C970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CAE1-8EFF-456C-90F5-DBCC8B7F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6B3E-A39D-4D57-9F17-0D9617FE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6BF4-C930-438A-AB50-8EF1DDF1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EB70-3002-42A3-B5B4-D7323E6C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FC8A-93CB-445C-892B-3C888996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AC98-7317-404C-8D30-795EB8D0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C94F-4D57-40B9-B2DE-DA46D9B556D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460F-4CC5-4EB0-97A6-40C9DE33C0F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357120" y="785880"/>
            <a:ext cx="8286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"Приемы формирования исторического мировоззрения на уроках английского языка и во внеурочной деятельности "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2" descr="C:\Users\Учитель\Desktop\НЕДЕЛЯ 2011\Неделя\DSC02245.JPG"/>
          <p:cNvPicPr/>
          <p:nvPr/>
        </p:nvPicPr>
        <p:blipFill>
          <a:blip r:embed="rId1"/>
          <a:stretch/>
        </p:blipFill>
        <p:spPr>
          <a:xfrm rot="21056400">
            <a:off x="339480" y="3916080"/>
            <a:ext cx="2703240" cy="1800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Учитель\Desktop\НЕДЕЛЯ 2011\Неделя\DSC02282.JPG"/>
          <p:cNvPicPr/>
          <p:nvPr/>
        </p:nvPicPr>
        <p:blipFill>
          <a:blip r:embed="rId2"/>
          <a:stretch/>
        </p:blipFill>
        <p:spPr>
          <a:xfrm rot="628800">
            <a:off x="6054840" y="3873600"/>
            <a:ext cx="2695320" cy="1793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img-fotki.yandex.ru/get/5607/117064149.0/0_66aa7_67eddada_XL"/>
          <p:cNvPicPr/>
          <p:nvPr/>
        </p:nvPicPr>
        <p:blipFill>
          <a:blip r:embed="rId3"/>
          <a:stretch/>
        </p:blipFill>
        <p:spPr>
          <a:xfrm>
            <a:off x="3286080" y="4500720"/>
            <a:ext cx="25002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Gnedkova.avi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www.aveclassics.net/_nw/27/32792991.jpg"/>
          <p:cNvPicPr/>
          <p:nvPr/>
        </p:nvPicPr>
        <p:blipFill>
          <a:blip r:embed="rId1"/>
          <a:stretch/>
        </p:blipFill>
        <p:spPr>
          <a:xfrm>
            <a:off x="214200" y="1000080"/>
            <a:ext cx="3381480" cy="418140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3"/>
          <p:cNvSpPr/>
          <p:nvPr/>
        </p:nvSpPr>
        <p:spPr>
          <a:xfrm>
            <a:off x="3929040" y="3571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"Британия" предположительно от кельтского корня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”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brith “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-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скрашенный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857760" y="2230920"/>
            <a:ext cx="47149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"Наиболее цивилизованные из всех этих народов – жители Кантия (лат.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Cantium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местности целиком береговой, и их образ жизни немногим отличается от галльского. Жители внутренней части Британии большей частью не засевают полей, а питаются молоком и мясом и одеваются в шкуры. А все британцы вообще красятся 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вайдой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которая придает их телу голубой цвет, и от этого они в сражениях страшней других на вид”.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Прямоугольник 5"/>
          <p:cNvSpPr/>
          <p:nvPr/>
        </p:nvSpPr>
        <p:spPr>
          <a:xfrm>
            <a:off x="4714920" y="593424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Гай Юлий Цезар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"Записки о галльской войн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785880" y="443880"/>
            <a:ext cx="7786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ngland-an Englishman-Englis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нглия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нгличанин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нглий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rance –a Frenchman –Fren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Франция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француз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француз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Germany- a German- Ger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Германия – немец – немецкий и т.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3" descr="http://kafa-info.com.ua/news_thumbs/knf556f7e4207ea882dd72f75b676c43db4_800.jpg"/>
          <p:cNvPicPr/>
          <p:nvPr/>
        </p:nvPicPr>
        <p:blipFill>
          <a:blip r:embed="rId1"/>
          <a:stretch/>
        </p:blipFill>
        <p:spPr>
          <a:xfrm>
            <a:off x="0" y="442908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http://www.uapa.ru/media/uploads/attachment/cache/uploads/attachment/source/2012/08/31194379_1-display.jpg"/>
          <p:cNvPicPr/>
          <p:nvPr/>
        </p:nvPicPr>
        <p:blipFill>
          <a:blip r:embed="rId2"/>
          <a:stretch/>
        </p:blipFill>
        <p:spPr>
          <a:xfrm>
            <a:off x="6357960" y="450072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http://images.asteza.kz/2012-01-05/23153/photo0-800x600.jpeg"/>
          <p:cNvPicPr/>
          <p:nvPr/>
        </p:nvPicPr>
        <p:blipFill>
          <a:blip r:embed="rId3"/>
          <a:stretch/>
        </p:blipFill>
        <p:spPr>
          <a:xfrm>
            <a:off x="3000240" y="4572000"/>
            <a:ext cx="27622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8" descr="http://kartap4.narod.ru/otk/otk1.files/image012.jpg"/>
          <p:cNvPicPr/>
          <p:nvPr/>
        </p:nvPicPr>
        <p:blipFill>
          <a:blip r:embed="rId1"/>
          <a:stretch/>
        </p:blipFill>
        <p:spPr>
          <a:xfrm>
            <a:off x="2214720" y="1000080"/>
            <a:ext cx="4429080" cy="497196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5"/>
          <p:cNvSpPr/>
          <p:nvPr/>
        </p:nvSpPr>
        <p:spPr>
          <a:xfrm>
            <a:off x="6893280" y="3071880"/>
            <a:ext cx="13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ytv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Прямоугольник 6"/>
          <p:cNvSpPr/>
          <p:nvPr/>
        </p:nvSpPr>
        <p:spPr>
          <a:xfrm>
            <a:off x="131400" y="5929200"/>
            <a:ext cx="19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lle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Прямоугольник 7"/>
          <p:cNvSpPr/>
          <p:nvPr/>
        </p:nvSpPr>
        <p:spPr>
          <a:xfrm>
            <a:off x="419760" y="2357280"/>
            <a:ext cx="20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sakslane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Прямоугольник 8"/>
          <p:cNvSpPr/>
          <p:nvPr/>
        </p:nvSpPr>
        <p:spPr>
          <a:xfrm>
            <a:off x="192960" y="285840"/>
            <a:ext cx="25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Saksalaiset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ttp://kazfin.info/i/catalog/gbp.jpg"/>
          <p:cNvPicPr/>
          <p:nvPr/>
        </p:nvPicPr>
        <p:blipFill>
          <a:blip r:embed="rId1"/>
          <a:stretch/>
        </p:blipFill>
        <p:spPr>
          <a:xfrm>
            <a:off x="214200" y="2214720"/>
            <a:ext cx="2075040" cy="2214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http://www.euromag.ru/storage/c/2010/09/13/1284365009.202301_46.jpg"/>
          <p:cNvPicPr/>
          <p:nvPr/>
        </p:nvPicPr>
        <p:blipFill>
          <a:blip r:embed="rId2"/>
          <a:stretch/>
        </p:blipFill>
        <p:spPr>
          <a:xfrm>
            <a:off x="214200" y="214200"/>
            <a:ext cx="2238480" cy="1714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http://img0.liveinternet.ru/images/attach/c/1/59/86/59086428_1273958796_Valyutaliru.jpg"/>
          <p:cNvPicPr/>
          <p:nvPr/>
        </p:nvPicPr>
        <p:blipFill>
          <a:blip r:embed="rId3"/>
          <a:stretch/>
        </p:blipFill>
        <p:spPr>
          <a:xfrm>
            <a:off x="142920" y="4786200"/>
            <a:ext cx="2286000" cy="17161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7"/>
          <p:cNvSpPr/>
          <p:nvPr/>
        </p:nvSpPr>
        <p:spPr>
          <a:xfrm>
            <a:off x="2571840" y="273960"/>
            <a:ext cx="65721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the currency in Englan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much is a quid worth in Englan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se picture is found on all banknotes and coins in Englan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letters are found on the side of the coins in Englan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.G.REG.F.D.B A.G.REG.F.D.C E.W.REG.F.D.D Queen Elizabe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olour is one pound coi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many pence are there in one poun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five-pound note worth less than a fifty-pence piec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can be seen on this American coi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acagawea    B Susan B. Anthony C Elizabeth I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доллар.wmv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D:\Школа\Фотографии\DSC02137.JPG"/>
          <p:cNvPicPr/>
          <p:nvPr/>
        </p:nvPicPr>
        <p:blipFill>
          <a:blip r:embed="rId1"/>
          <a:stretch/>
        </p:blipFill>
        <p:spPr>
          <a:xfrm rot="21235800">
            <a:off x="103320" y="163080"/>
            <a:ext cx="3198600" cy="2127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F:\101NIKON\DSCN2951.JPG"/>
          <p:cNvPicPr/>
          <p:nvPr/>
        </p:nvPicPr>
        <p:blipFill>
          <a:blip r:embed="rId2"/>
          <a:stretch/>
        </p:blipFill>
        <p:spPr>
          <a:xfrm>
            <a:off x="3571920" y="285840"/>
            <a:ext cx="2933640" cy="2200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F:\101NIKON\DSCN2961.JPG"/>
          <p:cNvPicPr/>
          <p:nvPr/>
        </p:nvPicPr>
        <p:blipFill>
          <a:blip r:embed="rId3"/>
          <a:stretch/>
        </p:blipFill>
        <p:spPr>
          <a:xfrm rot="21132600">
            <a:off x="703080" y="4255560"/>
            <a:ext cx="2857320" cy="2143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F:\102NIKON\DSCN3018.JPG"/>
          <p:cNvPicPr/>
          <p:nvPr/>
        </p:nvPicPr>
        <p:blipFill>
          <a:blip r:embed="rId4"/>
          <a:stretch/>
        </p:blipFill>
        <p:spPr>
          <a:xfrm rot="20951400">
            <a:off x="178920" y="2398320"/>
            <a:ext cx="2928960" cy="2195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F:\102NIKON\DSCN3020.JPG"/>
          <p:cNvPicPr/>
          <p:nvPr/>
        </p:nvPicPr>
        <p:blipFill>
          <a:blip r:embed="rId5"/>
          <a:stretch/>
        </p:blipFill>
        <p:spPr>
          <a:xfrm rot="537000">
            <a:off x="6114600" y="1848960"/>
            <a:ext cx="2835360" cy="2125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F:\101NIKON\DSCN2933.JPG"/>
          <p:cNvPicPr/>
          <p:nvPr/>
        </p:nvPicPr>
        <p:blipFill>
          <a:blip r:embed="rId6"/>
          <a:stretch/>
        </p:blipFill>
        <p:spPr>
          <a:xfrm>
            <a:off x="3786120" y="264312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F:\101NIKON\DSCN2948.JPG"/>
          <p:cNvPicPr/>
          <p:nvPr/>
        </p:nvPicPr>
        <p:blipFill>
          <a:blip r:embed="rId7"/>
          <a:stretch/>
        </p:blipFill>
        <p:spPr>
          <a:xfrm rot="367800">
            <a:off x="5986080" y="4495320"/>
            <a:ext cx="276552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-214200" y="857160"/>
            <a:ext cx="9358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Язык - духовное богатство народ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Сколько я знаю языков, столько я - человек»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. А. Сухомлинский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2" descr="http://psimo.ru/cache/suhomlinskij_thumb.jpg"/>
          <p:cNvPicPr/>
          <p:nvPr/>
        </p:nvPicPr>
        <p:blipFill>
          <a:blip r:embed="rId1"/>
          <a:stretch/>
        </p:blipFill>
        <p:spPr>
          <a:xfrm>
            <a:off x="500040" y="3456000"/>
            <a:ext cx="200016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214200" y="-163800"/>
            <a:ext cx="8001000" cy="47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  комнату входит мальчи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для сравнения в англ.  A boy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omes into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the roo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льчик входит в комнату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для сравнения в англ.  The boy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omes into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the roo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6" descr="http://wallpaper.goodfon.ru/wallpaper/previews-middle/271967.jpg"/>
          <p:cNvPicPr/>
          <p:nvPr/>
        </p:nvPicPr>
        <p:blipFill>
          <a:blip r:embed="rId1"/>
          <a:stretch/>
        </p:blipFill>
        <p:spPr>
          <a:xfrm>
            <a:off x="5500800" y="3929040"/>
            <a:ext cx="27432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0" y="-96480"/>
            <a:ext cx="914400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Упражнения для достижения целей и задач по овладению лексикой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4492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развитие лексической памяти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4492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развитие лингвокреативного мышления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4492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прогнозирование слов и словосочетаний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4492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формирование языковой кар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ины мир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4492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развитие логики и т.д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3" descr="http://wallpaper.goodfon.ru/wallpaper/previews-middle/271967.jpg"/>
          <p:cNvPicPr/>
          <p:nvPr/>
        </p:nvPicPr>
        <p:blipFill>
          <a:blip r:embed="rId1"/>
          <a:stretch/>
        </p:blipFill>
        <p:spPr>
          <a:xfrm>
            <a:off x="7358040" y="2786040"/>
            <a:ext cx="15717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igranokia.ru/Games/6/AD/00.jpg"/>
          <p:cNvPicPr/>
          <p:nvPr/>
        </p:nvPicPr>
        <p:blipFill>
          <a:blip r:embed="rId1"/>
          <a:stretch/>
        </p:blipFill>
        <p:spPr>
          <a:xfrm>
            <a:off x="0" y="128592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3071880" y="454320"/>
            <a:ext cx="578628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pig 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— свинья    -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pork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(фр.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pork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)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— свини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cow 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— корова  -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bee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(фр.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boeuf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)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— говяди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sheep 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— овца  -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mut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(фр.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mouton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барани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calf 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— телёнок -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veal 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—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(фр.)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телятина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571680" y="285840"/>
            <a:ext cx="7643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адание: Определите, какого происхождения слова: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commerce, merchant, tailor, industry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2" descr="http://img0.liveinternet.ru/images/attach/c/6/91/435/91435304_large_x_f06b748a.jpg"/>
          <p:cNvPicPr/>
          <p:nvPr/>
        </p:nvPicPr>
        <p:blipFill>
          <a:blip r:embed="rId1"/>
          <a:stretch/>
        </p:blipFill>
        <p:spPr>
          <a:xfrm>
            <a:off x="1714680" y="2000160"/>
            <a:ext cx="528624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1000080" y="2088000"/>
            <a:ext cx="5857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министр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min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секретарь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cret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канцлер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hancell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монарх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mon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президент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presi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император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- emper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нц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pri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кандидат    -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andid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ристократия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aristocra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7" descr="http://msnbcmedia2.msn.com/j/MSNBC/Components/Photo/_new/090729-britain-twitter-hmed-3p.grid-6x2.jpg"/>
          <p:cNvPicPr/>
          <p:nvPr/>
        </p:nvPicPr>
        <p:blipFill>
          <a:blip r:embed="rId1"/>
          <a:stretch/>
        </p:blipFill>
        <p:spPr>
          <a:xfrm>
            <a:off x="857160" y="142920"/>
            <a:ext cx="3429000" cy="2127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http://www.reittherapie-naturnah.de/wp-content/uploads/2012/chola-dynasty-family-tree-583.jpg"/>
          <p:cNvPicPr/>
          <p:nvPr/>
        </p:nvPicPr>
        <p:blipFill>
          <a:blip r:embed="rId2"/>
          <a:stretch/>
        </p:blipFill>
        <p:spPr>
          <a:xfrm>
            <a:off x="5786280" y="214200"/>
            <a:ext cx="2870280" cy="2286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http://urbanshakedowns.files.wordpress.com/2011/08/475px-badge_of_the_house_of_windsor-svg.png"/>
          <p:cNvPicPr/>
          <p:nvPr/>
        </p:nvPicPr>
        <p:blipFill>
          <a:blip r:embed="rId3"/>
          <a:stretch/>
        </p:blipFill>
        <p:spPr>
          <a:xfrm>
            <a:off x="6143760" y="2786040"/>
            <a:ext cx="23223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ttp://www.carnaval.com/cityguides/london/great_britain_map.jpg"/>
          <p:cNvPicPr/>
          <p:nvPr/>
        </p:nvPicPr>
        <p:blipFill>
          <a:blip r:embed="rId1"/>
          <a:stretch/>
        </p:blipFill>
        <p:spPr>
          <a:xfrm>
            <a:off x="6000840" y="3500280"/>
            <a:ext cx="2192400" cy="29289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928800" y="4286160"/>
            <a:ext cx="521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министр» от латинского –</a:t>
            </a: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minister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- слуг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3571920" y="5716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канцлер» (примьер-министр) - от латинского </a:t>
            </a: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cancellarius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, -«привратник», «письмоводитель»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http://www.proza.ru/pics/2011/07/21/1427.gif"/>
          <p:cNvPicPr/>
          <p:nvPr/>
        </p:nvPicPr>
        <p:blipFill>
          <a:blip r:embed="rId2"/>
          <a:stretch/>
        </p:blipFill>
        <p:spPr>
          <a:xfrm>
            <a:off x="357120" y="214200"/>
            <a:ext cx="3000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Овал 1"/>
          <p:cNvGrpSpPr/>
          <p:nvPr/>
        </p:nvGrpSpPr>
        <p:grpSpPr>
          <a:xfrm>
            <a:off x="3048120" y="2693880"/>
            <a:ext cx="3114720" cy="1596960"/>
            <a:chOff x="3048120" y="2693880"/>
            <a:chExt cx="3114720" cy="1596960"/>
          </a:xfrm>
        </p:grpSpPr>
        <p:pic>
          <p:nvPicPr>
            <p:cNvPr id="112" name="Овал 1" descr=""/>
            <p:cNvPicPr/>
            <p:nvPr/>
          </p:nvPicPr>
          <p:blipFill>
            <a:blip r:embed="rId1"/>
            <a:stretch/>
          </p:blipFill>
          <p:spPr>
            <a:xfrm>
              <a:off x="3048120" y="2693880"/>
              <a:ext cx="311472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622680" y="3043080"/>
              <a:ext cx="1969920" cy="9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ook Antiqua"/>
                </a:rPr>
                <a:t>theatr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Овал 2"/>
          <p:cNvGrpSpPr/>
          <p:nvPr/>
        </p:nvGrpSpPr>
        <p:grpSpPr>
          <a:xfrm>
            <a:off x="1085760" y="658800"/>
            <a:ext cx="3327480" cy="1541520"/>
            <a:chOff x="1085760" y="658800"/>
            <a:chExt cx="3327480" cy="1541520"/>
          </a:xfrm>
        </p:grpSpPr>
        <p:pic>
          <p:nvPicPr>
            <p:cNvPr id="115" name="Овал 2" descr=""/>
            <p:cNvPicPr/>
            <p:nvPr/>
          </p:nvPicPr>
          <p:blipFill>
            <a:blip r:embed="rId2"/>
            <a:stretch/>
          </p:blipFill>
          <p:spPr>
            <a:xfrm>
              <a:off x="1085760" y="658800"/>
              <a:ext cx="332748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663560" y="974880"/>
              <a:ext cx="217332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Comed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Traged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Melodram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Carniv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Овал 4"/>
          <p:cNvGrpSpPr/>
          <p:nvPr/>
        </p:nvGrpSpPr>
        <p:grpSpPr>
          <a:xfrm>
            <a:off x="195120" y="2481120"/>
            <a:ext cx="2829240" cy="1614600"/>
            <a:chOff x="195120" y="2481120"/>
            <a:chExt cx="2829240" cy="1614600"/>
          </a:xfrm>
        </p:grpSpPr>
        <p:pic>
          <p:nvPicPr>
            <p:cNvPr id="118" name="Овал 4" descr=""/>
            <p:cNvPicPr/>
            <p:nvPr/>
          </p:nvPicPr>
          <p:blipFill>
            <a:blip r:embed="rId3"/>
            <a:stretch/>
          </p:blipFill>
          <p:spPr>
            <a:xfrm>
              <a:off x="195120" y="2481120"/>
              <a:ext cx="2829240" cy="16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23960" y="2832120"/>
              <a:ext cx="176688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Dialog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Monolog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Овал 5"/>
          <p:cNvGrpSpPr/>
          <p:nvPr/>
        </p:nvGrpSpPr>
        <p:grpSpPr>
          <a:xfrm>
            <a:off x="5194440" y="622440"/>
            <a:ext cx="3473280" cy="1541160"/>
            <a:chOff x="5194440" y="622440"/>
            <a:chExt cx="3473280" cy="1541160"/>
          </a:xfrm>
        </p:grpSpPr>
        <p:pic>
          <p:nvPicPr>
            <p:cNvPr id="121" name="Овал 5" descr=""/>
            <p:cNvPicPr/>
            <p:nvPr/>
          </p:nvPicPr>
          <p:blipFill>
            <a:blip r:embed="rId4"/>
            <a:stretch/>
          </p:blipFill>
          <p:spPr>
            <a:xfrm>
              <a:off x="5194440" y="622440"/>
              <a:ext cx="3473280" cy="15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818320" y="963720"/>
              <a:ext cx="222228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Person, personag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Public, audien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Овал 6"/>
          <p:cNvGrpSpPr/>
          <p:nvPr/>
        </p:nvGrpSpPr>
        <p:grpSpPr>
          <a:xfrm>
            <a:off x="1047600" y="4834080"/>
            <a:ext cx="3329280" cy="1547640"/>
            <a:chOff x="1047600" y="4834080"/>
            <a:chExt cx="3329280" cy="1547640"/>
          </a:xfrm>
        </p:grpSpPr>
        <p:pic>
          <p:nvPicPr>
            <p:cNvPr id="124" name="Овал 6" descr=""/>
            <p:cNvPicPr/>
            <p:nvPr/>
          </p:nvPicPr>
          <p:blipFill>
            <a:blip r:embed="rId5"/>
            <a:stretch/>
          </p:blipFill>
          <p:spPr>
            <a:xfrm>
              <a:off x="1047600" y="4834080"/>
              <a:ext cx="332928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654200" y="5178600"/>
              <a:ext cx="212076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Episod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Sce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Prolog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Epilog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Овал 7"/>
          <p:cNvGrpSpPr/>
          <p:nvPr/>
        </p:nvGrpSpPr>
        <p:grpSpPr>
          <a:xfrm>
            <a:off x="6267600" y="2620800"/>
            <a:ext cx="2827080" cy="1616400"/>
            <a:chOff x="6267600" y="2620800"/>
            <a:chExt cx="2827080" cy="1616400"/>
          </a:xfrm>
        </p:grpSpPr>
        <p:pic>
          <p:nvPicPr>
            <p:cNvPr id="127" name="Овал 7" descr=""/>
            <p:cNvPicPr/>
            <p:nvPr/>
          </p:nvPicPr>
          <p:blipFill>
            <a:blip r:embed="rId6"/>
            <a:stretch/>
          </p:blipFill>
          <p:spPr>
            <a:xfrm>
              <a:off x="6267600" y="2620800"/>
              <a:ext cx="2827080" cy="161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6796080" y="2975040"/>
              <a:ext cx="176688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Choru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Choreograph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Ov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" name="Овал 8"/>
          <p:cNvGrpSpPr/>
          <p:nvPr/>
        </p:nvGrpSpPr>
        <p:grpSpPr>
          <a:xfrm>
            <a:off x="5267160" y="4767120"/>
            <a:ext cx="3254400" cy="1614600"/>
            <a:chOff x="5267160" y="4767120"/>
            <a:chExt cx="3254400" cy="1614600"/>
          </a:xfrm>
        </p:grpSpPr>
        <p:pic>
          <p:nvPicPr>
            <p:cNvPr id="130" name="Овал 8" descr=""/>
            <p:cNvPicPr/>
            <p:nvPr/>
          </p:nvPicPr>
          <p:blipFill>
            <a:blip r:embed="rId7"/>
            <a:stretch/>
          </p:blipFill>
          <p:spPr>
            <a:xfrm>
              <a:off x="5267160" y="4767120"/>
              <a:ext cx="3254400" cy="16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857920" y="5118120"/>
              <a:ext cx="20718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Pro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Poe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132" name="Прямая со стрелкой 12"/>
          <p:cNvCxnSpPr/>
          <p:nvPr/>
        </p:nvCxnSpPr>
        <p:spPr>
          <a:xfrm flipH="1" flipV="1">
            <a:off x="3499560" y="2071080"/>
            <a:ext cx="715320" cy="786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3" name="Прямая со стрелкой 14"/>
          <p:cNvCxnSpPr/>
          <p:nvPr/>
        </p:nvCxnSpPr>
        <p:spPr>
          <a:xfrm flipH="1" flipV="1">
            <a:off x="2785680" y="3357360"/>
            <a:ext cx="3578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4" name="Прямая со стрелкой 16"/>
          <p:cNvCxnSpPr/>
          <p:nvPr/>
        </p:nvCxnSpPr>
        <p:spPr>
          <a:xfrm flipV="1">
            <a:off x="5286240" y="1928520"/>
            <a:ext cx="572400" cy="929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Прямая со стрелкой 20"/>
          <p:cNvCxnSpPr/>
          <p:nvPr/>
        </p:nvCxnSpPr>
        <p:spPr>
          <a:xfrm>
            <a:off x="6000840" y="3492360"/>
            <a:ext cx="357840" cy="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6" name="Прямая со стрелкой 25"/>
          <p:cNvCxnSpPr/>
          <p:nvPr/>
        </p:nvCxnSpPr>
        <p:spPr>
          <a:xfrm flipH="1">
            <a:off x="2999880" y="4070880"/>
            <a:ext cx="92952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7" name="Прямая со стрелкой 27"/>
          <p:cNvCxnSpPr/>
          <p:nvPr/>
        </p:nvCxnSpPr>
        <p:spPr>
          <a:xfrm>
            <a:off x="5357880" y="4071960"/>
            <a:ext cx="929520" cy="929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6:13:38Z</dcterms:created>
  <dc:creator>Надежда</dc:creator>
  <dc:description/>
  <dc:language>en-US</dc:language>
  <cp:lastModifiedBy>Надежда</cp:lastModifiedBy>
  <dcterms:modified xsi:type="dcterms:W3CDTF">2015-03-15T18:45:01Z</dcterms:modified>
  <cp:revision>18</cp:revision>
  <dc:subject/>
  <dc:title>Слайд 1</dc:title>
</cp:coreProperties>
</file>