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png" ContentType="image/png"/>
  <Override PartName="/ppt/media/image1.jpeg" ContentType="image/jpeg"/>
  <Override PartName="/ppt/media/image10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11.jpeg" ContentType="image/jpeg"/>
  <Override PartName="/ppt/media/image24.png" ContentType="image/png"/>
  <Override PartName="/ppt/media/image2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6FD-EF76-4DB8-830C-A4C31AC0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FE2-2937-478B-897D-168A051B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7A306-77B8-49F8-9951-5ED4ECD3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D06A5-F58F-4BE0-A034-56E2E8C5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D4F64-EBFB-432A-92BD-9E365859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F274A-FA22-48D7-9979-25A35B4E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664B5-A8D4-4476-95E7-6E59B623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309E0-06C4-4D1B-A1A8-C0D057B9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26425-A865-467C-8618-B9241D74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CADCA-4A6F-42F0-A1B9-A11EBB2E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BC1F8-DC2D-4B4D-A834-19CC66C5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BDE-D809-462E-987A-C17866F9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2A5-BB89-43A7-8EDA-50A3436A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5F4D-B236-408F-AA87-6DDDFE19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8ED4-EA01-4CBE-A4CA-E3639A28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BC1C-94BA-4730-AC90-B6C18690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A584-AE84-4CFB-A643-2643B3D8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D4D0-D184-40D0-90DB-FE12AE26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1F09-C661-43CB-829B-5D20CE99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4A95-0DB0-42F9-9313-7640E0F5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23D-0BE6-4E61-94B4-0EB0540A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F7AB-E344-4573-A3A0-536A9F76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65D4-E1EE-43EB-92E7-6ECE252F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1285-7E5A-4FCF-B88E-B4051143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9BAF-3C8C-48AF-8517-A7B1C438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6A71-560B-4834-9650-E1DD8360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39AB5-E1E8-45C6-81D8-2C3734F3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03537-6FCB-499C-85A3-E1065567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2A454-E2F5-4E28-A2A8-43333EAE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10995-67EF-42DC-BBF8-3A428F8C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FFC70-273C-4790-AFA1-DFACA5FE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244-0196-4EF0-A137-5B5BE1B4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04EF9-9F23-4465-AD82-8E3C871B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6336-ACB8-4FEA-8CA3-B4C286D1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D5736-DEDD-4B42-AC17-2CE1F239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73DD0-FED3-4D0E-9CA3-7E33CFCA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9F086-FEEB-48A2-B34B-797E12BC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C07D-2E09-4A85-A0BE-C830E31C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6100A-325B-4C82-B344-37F88237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EB236-4B6B-4245-8276-EEE1149B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3907A-7B58-4F77-882F-C5800DAD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0ED49-0D06-44DE-852E-E1298833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37A-4CA1-40D7-A72A-835D914C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E30A1-C779-4FE6-A410-4102F829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92C87-6FDB-4439-B3FB-2FF8FF8C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B7ECA-BE28-4696-8C0F-6244E4C7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7641E-1A75-4D49-99C6-5EC1C7A6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D7B37-372E-4ADB-8F8B-2E5D4CA8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3714D-8A0B-43D7-BE4E-977C79B7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AD079-F107-429C-BCB8-31CDC04A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F49B5-1A20-4137-BADB-1AB094CB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90CC4-73A8-47A6-A87E-41991AE5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38722-9BD9-40EE-AF46-C0B9BFCC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1DF-3EBC-48F0-A411-6313F23A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25D49-3FC4-41ED-9B91-9E49EBB5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30C1C-FEC7-48BE-8CB7-7D8F1AB8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6B48B-4D8F-46C2-97CC-0E9A687F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62E21-82FA-4067-9D1C-F537782A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CE6C5-8588-425B-8CFB-2D8C947F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171FA-82EE-440F-858F-B93A4B8D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09606-5309-4326-83D0-1B481739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8A857-199F-4995-B3C6-16020485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41680-9B83-4C7C-8720-E671699E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7C739-6D64-478D-939D-1A2064FD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D13-6796-49F5-9967-6CE32911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27712-E6FC-48A0-A7E3-E1ED5DB4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CC538-0828-42F7-8F0A-8897917B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D3538-FF9C-4D96-9FAA-22960264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0A01E-1556-4375-91AF-9EF01D66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0712C-DDFD-442C-B968-0B1D73D1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1CC77-F27F-4219-9283-04D1E02E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BFCF0-5D17-4254-8D82-D480A4AC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2D05F-FECD-419E-BB87-7F1B1045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94D2A-63A2-4C8E-9DE8-209439C7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022CE-2F31-4EE8-8958-D3FBBDC4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C63-F8ED-4215-8630-5445151D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C6DE6-A342-4DC1-A800-93055815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E2BAC-3948-4FF7-985F-E84F6085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C4CCC-5395-4520-BE09-861EB5A6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3363B-F822-40D4-B3B2-9D2C472B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0613D-D177-4D82-88B8-D1409023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BAFFF-5EDA-4EF5-9B1E-E7D5E527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90186-C738-486B-83BF-24337E97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F1EAF-FC20-4EF9-997F-85963EE0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486E0-7BD9-464D-A596-D23C8436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DE2A9-F478-4B1D-B720-FDBBCBBB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64E-2444-4F7B-84B3-FF6094E8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8058D-35D7-4565-B30C-1AC2AAD1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9FF20-1B5B-4E04-AF9B-F0C8EDFE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EBC4E-8034-4A85-B28B-42D0BA8F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F6325-5678-4671-9942-FBA1F563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B9305-FCEA-437B-A0AA-D1F99D73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487C6-23B4-4F07-A2EE-374D9A7C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21873-B628-42FF-8C3E-AAAB5A1F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FA45B-896F-4DBC-A8FF-276CE3E1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49A04-355F-4F34-A919-0B742245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9F572-B457-4920-8703-E75CE23A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3CF-016A-4C6E-9AD3-C2D4C415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455A2-5F4C-4602-8BC5-D6044D97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455F3-8B37-4442-A8E5-82728BFD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6818F-E7F4-40F0-A3A4-419C7B18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53968-AC7B-41E6-B66E-33B508A2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E738B-DDDA-4A28-B209-EE3FE9EA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526D0-9957-4297-9708-19CEDCF8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525A1-1E39-4085-89DF-2260BD4C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AEFE8-E1E3-4996-85A5-E6EAB779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999A4-EC02-4C28-AF89-0F1F9A62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1530A-921D-469F-A493-814ABA2F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429F-67CB-4538-AD46-323F6CA17F4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6DC7-8A65-4746-A938-5F2FF907958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02F6-B2D8-4D10-8FB5-BF07CD3EBF9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E542-ECEA-4BEC-B3E5-9A3E739B926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7CD7-EEC0-4BC1-A4C5-9A87CEB9C08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351C-CAFE-4B16-9C4C-81DC7219846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89BB-3E6A-4B2F-ACF4-7BD29E6964E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6EE9-2D93-4778-AE9B-353FE1DE7BF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5DF3-7203-475A-B0C3-BF29CDF1A78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7"/>
          <p:cNvSpPr/>
          <p:nvPr/>
        </p:nvSpPr>
        <p:spPr>
          <a:xfrm>
            <a:off x="108000" y="333360"/>
            <a:ext cx="8785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Castellar"/>
                <a:ea typeface="Arial"/>
              </a:rPr>
              <a:t>Тема урока «Швейные ручные рабо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Castellar"/>
                <a:ea typeface="Arial"/>
              </a:rPr>
              <a:t>Пришивание пуговиц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395280" y="3500280"/>
            <a:ext cx="561672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Arial"/>
                <a:ea typeface="Arial"/>
              </a:rPr>
              <a:t>Цель урок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ru-RU" sz="1800" spc="-1" strike="noStrike">
                <a:solidFill>
                  <a:srgbClr val="4e3b30"/>
                </a:solidFill>
                <a:latin typeface="Arial"/>
                <a:ea typeface="Arial"/>
              </a:rPr>
              <a:t>научиться правильно пришивать пуговиц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;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ru-RU" sz="1800" spc="-1" strike="noStrike">
                <a:solidFill>
                  <a:srgbClr val="4e3b30"/>
                </a:solidFill>
                <a:latin typeface="Arial"/>
                <a:ea typeface="Arial"/>
              </a:rPr>
              <a:t>познакомиться с историей возникновения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Arial"/>
                <a:ea typeface="Arial"/>
              </a:rPr>
              <a:t>        </a:t>
            </a:r>
            <a:r>
              <a:rPr b="1" lang="ru-RU" sz="1800" spc="-1" strike="noStrike">
                <a:solidFill>
                  <a:srgbClr val="4e3b30"/>
                </a:solidFill>
                <a:latin typeface="Arial"/>
                <a:ea typeface="Arial"/>
              </a:rPr>
              <a:t>пуговиц, их ви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3579840" cy="24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357720" y="1714320"/>
            <a:ext cx="5634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Содержимое 7"/>
          <p:cNvSpPr/>
          <p:nvPr/>
        </p:nvSpPr>
        <p:spPr>
          <a:xfrm>
            <a:off x="3429000" y="1571760"/>
            <a:ext cx="55627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Рисунок 10" descr=""/>
          <p:cNvPicPr/>
          <p:nvPr/>
        </p:nvPicPr>
        <p:blipFill>
          <a:blip r:embed="rId2"/>
          <a:stretch/>
        </p:blipFill>
        <p:spPr>
          <a:xfrm>
            <a:off x="6195960" y="4913280"/>
            <a:ext cx="1805040" cy="194472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12"/>
          <p:cNvSpPr/>
          <p:nvPr/>
        </p:nvSpPr>
        <p:spPr>
          <a:xfrm>
            <a:off x="0" y="1484280"/>
            <a:ext cx="3357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Пуговицы с четырьмя отверстиями можно пришить прямоугольником, крест-накрест, или соединяя оба этих способа. Интересно смотрится способ пришивания лапкой, когда одно из отверстий, поочередно соединяется с тремя осталь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Рисунок 14" descr=""/>
          <p:cNvPicPr/>
          <p:nvPr/>
        </p:nvPicPr>
        <p:blipFill>
          <a:blip r:embed="rId3"/>
          <a:stretch/>
        </p:blipFill>
        <p:spPr>
          <a:xfrm>
            <a:off x="7315200" y="1474920"/>
            <a:ext cx="1371600" cy="3305160"/>
          </a:xfrm>
          <a:prstGeom prst="rect">
            <a:avLst/>
          </a:prstGeom>
          <a:ln w="0">
            <a:noFill/>
          </a:ln>
        </p:spPr>
      </p:pic>
      <p:pic>
        <p:nvPicPr>
          <p:cNvPr id="454" name="Заголовок 6" descr=""/>
          <p:cNvPicPr/>
          <p:nvPr/>
        </p:nvPicPr>
        <p:blipFill>
          <a:blip r:embed="rId4"/>
          <a:stretch/>
        </p:blipFill>
        <p:spPr>
          <a:xfrm>
            <a:off x="901800" y="457200"/>
            <a:ext cx="7138800" cy="10429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5"/>
          <a:stretch/>
        </p:blipFill>
        <p:spPr>
          <a:xfrm>
            <a:off x="3492360" y="1557360"/>
            <a:ext cx="322920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рямоугольник 8"/>
          <p:cNvSpPr/>
          <p:nvPr/>
        </p:nvSpPr>
        <p:spPr>
          <a:xfrm>
            <a:off x="539640" y="83664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машнее задание предлагаю выполнить по выбо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создать аппликацию из пуговиц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подобрать  приметы и пословицы о пуговиц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Сметать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Наметать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Заметать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Пришить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296712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2843280" y="1413000"/>
            <a:ext cx="37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3635280" y="1197000"/>
            <a:ext cx="4969080" cy="48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ременно закрепить подогнутые края детали, склад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крепить фурнитуру, отделку на изделие стежками постоянного назна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ременно соединить две или несколько деталей по намеченным линия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ременно соединить две детали, наложив одну на друг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7"/>
          <p:cNvSpPr/>
          <p:nvPr/>
        </p:nvSpPr>
        <p:spPr>
          <a:xfrm flipV="1">
            <a:off x="2627280" y="3212640"/>
            <a:ext cx="107964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8"/>
          <p:cNvSpPr/>
          <p:nvPr/>
        </p:nvSpPr>
        <p:spPr>
          <a:xfrm>
            <a:off x="2340000" y="1844640"/>
            <a:ext cx="136836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9"/>
          <p:cNvSpPr/>
          <p:nvPr/>
        </p:nvSpPr>
        <p:spPr>
          <a:xfrm>
            <a:off x="2627280" y="3213000"/>
            <a:ext cx="115416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0"/>
          <p:cNvSpPr/>
          <p:nvPr/>
        </p:nvSpPr>
        <p:spPr>
          <a:xfrm flipV="1">
            <a:off x="2484360" y="1844640"/>
            <a:ext cx="122400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6" descr=""/>
          <p:cNvPicPr/>
          <p:nvPr/>
        </p:nvPicPr>
        <p:blipFill>
          <a:blip r:embed="rId2"/>
          <a:stretch/>
        </p:blipFill>
        <p:spPr>
          <a:xfrm>
            <a:off x="1573200" y="457200"/>
            <a:ext cx="6357960" cy="10429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5800" y="1714680"/>
            <a:ext cx="4705560" cy="43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Содержимое 7"/>
          <p:cNvSpPr/>
          <p:nvPr/>
        </p:nvSpPr>
        <p:spPr>
          <a:xfrm>
            <a:off x="5143680" y="1643040"/>
            <a:ext cx="384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Пуговица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— застёжка на одежде, предназначенная для соединения её частей. Пуговица на одной части одежды вдевается в петлю, находящуюся на другой части, и тем самым осуществляется застёг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324000" y="2021040"/>
            <a:ext cx="4679640" cy="44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6" descr=""/>
          <p:cNvPicPr/>
          <p:nvPr/>
        </p:nvPicPr>
        <p:blipFill>
          <a:blip r:embed="rId2"/>
          <a:stretch/>
        </p:blipFill>
        <p:spPr>
          <a:xfrm>
            <a:off x="1573200" y="457200"/>
            <a:ext cx="6357960" cy="11034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285800" y="1714680"/>
            <a:ext cx="4705560" cy="43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Содержимое 7"/>
          <p:cNvSpPr/>
          <p:nvPr/>
        </p:nvSpPr>
        <p:spPr>
          <a:xfrm>
            <a:off x="4143240" y="1643040"/>
            <a:ext cx="4848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Древние люди вместо пуговиц соединяли куски своей одежды шипами от растений, косточками животных и палками. В Древнем Египте уже использовались пряжки или один кусок одежды продевался в отверстие, сделанное в другом, или концы просто связыва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48006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6" descr=""/>
          <p:cNvPicPr/>
          <p:nvPr/>
        </p:nvPicPr>
        <p:blipFill>
          <a:blip r:embed="rId2"/>
          <a:stretch/>
        </p:blipFill>
        <p:spPr>
          <a:xfrm>
            <a:off x="1481040" y="6480"/>
            <a:ext cx="6357960" cy="11030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164120" y="5013000"/>
            <a:ext cx="47052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Содержимое 7"/>
          <p:cNvSpPr/>
          <p:nvPr/>
        </p:nvSpPr>
        <p:spPr>
          <a:xfrm>
            <a:off x="4691160" y="5408640"/>
            <a:ext cx="4205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магическая (оберег или талисма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I:\Documents and Settings\Администратор\Мои документы\Загрузки\стар пуг\51009776.jpg"/>
          <p:cNvPicPr/>
          <p:nvPr/>
        </p:nvPicPr>
        <p:blipFill>
          <a:blip r:embed="rId3"/>
          <a:stretch/>
        </p:blipFill>
        <p:spPr>
          <a:xfrm>
            <a:off x="307800" y="3687840"/>
            <a:ext cx="1746360" cy="175248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2"/>
          <p:cNvSpPr/>
          <p:nvPr/>
        </p:nvSpPr>
        <p:spPr>
          <a:xfrm>
            <a:off x="1052640" y="285264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утилитарная (застеж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3"/>
          <p:cNvSpPr/>
          <p:nvPr/>
        </p:nvSpPr>
        <p:spPr>
          <a:xfrm>
            <a:off x="5651640" y="28526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декоративная (украше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7"/>
          <p:cNvSpPr/>
          <p:nvPr/>
        </p:nvSpPr>
        <p:spPr>
          <a:xfrm>
            <a:off x="468360" y="5516640"/>
            <a:ext cx="30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информативная (опознавательный зна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6" descr="I:\Documents and Settings\Администратор\Мои документы\Загрузки\827163.thumb.jpg"/>
          <p:cNvPicPr/>
          <p:nvPr/>
        </p:nvPicPr>
        <p:blipFill>
          <a:blip r:embed="rId4"/>
          <a:stretch/>
        </p:blipFill>
        <p:spPr>
          <a:xfrm>
            <a:off x="2346480" y="3651120"/>
            <a:ext cx="1792080" cy="1854360"/>
          </a:xfrm>
          <a:prstGeom prst="rect">
            <a:avLst/>
          </a:prstGeom>
          <a:ln w="0">
            <a:noFill/>
          </a:ln>
        </p:spPr>
      </p:pic>
      <p:pic>
        <p:nvPicPr>
          <p:cNvPr id="426" name="Содержимое 3" descr="http://dreamworlds.ru/uploads/posts/2011-09/1315147532_165.jpg"/>
          <p:cNvPicPr/>
          <p:nvPr/>
        </p:nvPicPr>
        <p:blipFill>
          <a:blip r:embed="rId5"/>
          <a:stretch/>
        </p:blipFill>
        <p:spPr>
          <a:xfrm>
            <a:off x="5219640" y="3716280"/>
            <a:ext cx="2592360" cy="20178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 (300x346, 36Kb)"/>
          <p:cNvPicPr/>
          <p:nvPr/>
        </p:nvPicPr>
        <p:blipFill>
          <a:blip r:embed="rId6"/>
          <a:stretch/>
        </p:blipFill>
        <p:spPr>
          <a:xfrm>
            <a:off x="6300720" y="476280"/>
            <a:ext cx="2006640" cy="23144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7"/>
          <a:stretch/>
        </p:blipFill>
        <p:spPr>
          <a:xfrm>
            <a:off x="539640" y="907920"/>
            <a:ext cx="302904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6" descr=""/>
          <p:cNvPicPr/>
          <p:nvPr/>
        </p:nvPicPr>
        <p:blipFill>
          <a:blip r:embed="rId2"/>
          <a:stretch/>
        </p:blipFill>
        <p:spPr>
          <a:xfrm>
            <a:off x="1573200" y="457200"/>
            <a:ext cx="6357960" cy="11034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285800" y="1714320"/>
            <a:ext cx="4705560" cy="28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Содержимое 7"/>
          <p:cNvSpPr/>
          <p:nvPr/>
        </p:nvSpPr>
        <p:spPr>
          <a:xfrm>
            <a:off x="3708360" y="1643040"/>
            <a:ext cx="5283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ерег  – предмет, оберегающий, охраняющий от порчи, дурного г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1f1f"/>
                </a:solidFill>
                <a:latin typeface="Franklin Gothic Book"/>
                <a:ea typeface="Arial"/>
              </a:rPr>
              <a:t>«Пуговица — это пугал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Из  словаря Владимира Да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8" descr=""/>
          <p:cNvPicPr/>
          <p:nvPr/>
        </p:nvPicPr>
        <p:blipFill>
          <a:blip r:embed="rId3"/>
          <a:stretch/>
        </p:blipFill>
        <p:spPr>
          <a:xfrm>
            <a:off x="395280" y="1413000"/>
            <a:ext cx="2603520" cy="228420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3" descr="http://im0-tub-ru.yandex.net/i?id=350324013-16-72&amp;n=21"/>
          <p:cNvPicPr/>
          <p:nvPr/>
        </p:nvPicPr>
        <p:blipFill>
          <a:blip r:embed="rId4"/>
          <a:stretch/>
        </p:blipFill>
        <p:spPr>
          <a:xfrm>
            <a:off x="324000" y="4076640"/>
            <a:ext cx="295272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Пуговицы отличаются по: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Цвет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азмер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орме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атериалу изготовле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6" name="Рисунок 4" descr=""/>
          <p:cNvPicPr/>
          <p:nvPr/>
        </p:nvPicPr>
        <p:blipFill>
          <a:blip r:embed="rId2"/>
          <a:stretch/>
        </p:blipFill>
        <p:spPr>
          <a:xfrm>
            <a:off x="2987640" y="2565360"/>
            <a:ext cx="1871640" cy="185724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4" descr=""/>
          <p:cNvPicPr/>
          <p:nvPr/>
        </p:nvPicPr>
        <p:blipFill>
          <a:blip r:embed="rId3"/>
          <a:stretch/>
        </p:blipFill>
        <p:spPr>
          <a:xfrm>
            <a:off x="5364000" y="1413000"/>
            <a:ext cx="1943280" cy="18572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5940360" y="3933720"/>
            <a:ext cx="2311560" cy="18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 подобрать нитки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5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де должен находиться узелок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5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 пришить пуговицу с отверстиями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5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 пришивается пуговица на ножке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6" descr=""/>
          <p:cNvPicPr/>
          <p:nvPr/>
        </p:nvPicPr>
        <p:blipFill>
          <a:blip r:embed="rId2"/>
          <a:stretch/>
        </p:blipFill>
        <p:spPr>
          <a:xfrm>
            <a:off x="469800" y="457200"/>
            <a:ext cx="7461360" cy="10429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357720" y="1714320"/>
            <a:ext cx="5634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Содержимое 7"/>
          <p:cNvSpPr/>
          <p:nvPr/>
        </p:nvSpPr>
        <p:spPr>
          <a:xfrm>
            <a:off x="2297160" y="1300320"/>
            <a:ext cx="55627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9"/>
          <p:cNvSpPr/>
          <p:nvPr/>
        </p:nvSpPr>
        <p:spPr>
          <a:xfrm>
            <a:off x="2881440" y="1216080"/>
            <a:ext cx="514332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ки  для пришивания пуговиц с отверстиями подбирают в цвет пуговицы, а для пуговицы на ножке—в цвет тк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ивают пуговицы в две ни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-мя отверстиями — 4 –5 стежков свободно, на ножке из ни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4-мя отверстиями —  2 – 4 стежка в каждую пару отверстий; свободно, на ножке из ни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ожке —  4  стежка в ушко, нить затягиваем ту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ивая пуговицу, ткань прокалываем с лицевой стороны, чтобы узелок спрятался п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г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0" descr=""/>
          <p:cNvPicPr/>
          <p:nvPr/>
        </p:nvPicPr>
        <p:blipFill>
          <a:blip r:embed="rId3"/>
          <a:stretch/>
        </p:blipFill>
        <p:spPr>
          <a:xfrm>
            <a:off x="324000" y="1600200"/>
            <a:ext cx="1944360" cy="15415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4" descr=""/>
          <p:cNvPicPr/>
          <p:nvPr/>
        </p:nvPicPr>
        <p:blipFill>
          <a:blip r:embed="rId4"/>
          <a:stretch/>
        </p:blipFill>
        <p:spPr>
          <a:xfrm>
            <a:off x="593640" y="3218040"/>
            <a:ext cx="1866960" cy="165708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14" descr=""/>
          <p:cNvPicPr/>
          <p:nvPr/>
        </p:nvPicPr>
        <p:blipFill>
          <a:blip r:embed="rId5"/>
          <a:stretch/>
        </p:blipFill>
        <p:spPr>
          <a:xfrm>
            <a:off x="7183440" y="4849920"/>
            <a:ext cx="1969920" cy="15415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468360" y="4941720"/>
            <a:ext cx="2328840" cy="170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9:18:11Z</dcterms:created>
  <dc:creator>Садковская Светлана Николаевна</dc:creator>
  <dc:description/>
  <dc:language>en-US</dc:language>
  <cp:lastModifiedBy>User</cp:lastModifiedBy>
  <dcterms:modified xsi:type="dcterms:W3CDTF">2015-03-15T16:30:38Z</dcterms:modified>
  <cp:revision>162</cp:revision>
  <dc:subject/>
  <dc:title>пуговица</dc:title>
</cp:coreProperties>
</file>