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290AB-CEDD-4D04-B6E3-88D896FE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1307B-6B82-48C7-8B82-FD3C6133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E1DDF-98AD-44C6-9D6C-5D1FA16F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9E6B2-0934-46B9-A772-6D8C2483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548D1-8013-4546-8EA8-4AAD138F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CD200-36F9-4B03-A7EB-B9C7C2A8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A01E2-6993-42F3-A9B3-A5811450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4F5DC-56AB-4055-A3F2-4361A61A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8BB7B-9692-4754-B6FF-E758970F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885D2-DD67-40A0-AAFD-75CBD731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DE0E1-B945-4149-AB49-E7899E43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059F6-C196-496D-87AE-F443E23C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169B4-7B9E-409A-AF4C-2DA2A5FD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3085A-C8F8-4967-8A9B-7E480048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9C125-B9BE-4208-B0D5-6DEB0C38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D4ED0-F0F3-4E87-A3F4-F06073BC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8BC7E-F4DE-42FC-AA06-B8AB89E9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70C308-4E2A-4751-8C0B-493F4732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07EAD5-474E-43D2-9D1F-3187DF5A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9FF252-30DF-49B2-8795-EFBC7C57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848D7A-AC49-4288-B7BE-6D1A23F3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E0165B-3CC0-4149-B1B3-AA9A81DD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E1AB4-9A2D-4279-A600-429107DD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ABE7CE-FBBE-42CB-95E3-615AF554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C49102-BC63-4230-9C7F-E479497D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5B8E18-97A3-464F-BBA8-8F35727B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AFFFA-9E73-42DD-A530-3350C992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107B1F-148F-44A9-B8BE-3DB3530F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882242-23AC-43F9-9ED2-E8EB5E77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225FFB-E80C-4AD9-A5D4-F19C9F94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A34E7-E330-49D5-B3FE-6A6CE183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C09C1-A343-4677-925E-CADD8118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3BD3C-0E35-489A-8F28-0AEE6D04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B2DAD-B064-4734-9760-D2AFBB5D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BFD95-DFC1-4BF7-B715-4A25F7EB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36408-943E-40CB-9FAF-E965026A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66CEA-4DBF-48E0-8E8B-38E61CBB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BEBB9-EDDB-42B4-B6E9-EEA80009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9DC23-DED7-4C32-A725-4BB84B65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4B848-3196-434A-BF44-C96D4B59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FED8C-900C-401E-8376-A041F14C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8112E-DF19-4A68-AA89-7447F332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02BBD-59E1-447D-887B-2362167B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071DD-3238-468E-BAD5-8A076847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056C7-2C0A-4C54-B76B-C7420A4E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D2D47-5B3E-4D49-860C-9E07D908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7AFF2-DB93-4EC1-9999-5F1786A7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0A76F-A800-4604-A4E9-3A3F9BF5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57044-4040-4EE8-8999-9AF84B7E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CECBC-696E-49D9-B002-7DC98988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DD9A4-DF79-4CAD-A130-8DEEB16B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406E0-8980-4AB9-9F37-7099F32B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EF88E-73A3-4D26-B8DE-E158947A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853B3-643B-4ACC-8D3C-D9709A74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3AC61-1DFE-410D-A0C7-60549E14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1318C-21DA-41AE-AE93-6DE2DD92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5C668-5F12-4FD0-A326-CAD2E691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101D2-9C0B-44CD-A73C-44718AFB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E0830-0F8D-4013-ABC9-ADAD1EF0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9B6AF-D27E-4C2C-A85A-D93FD975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7e4b3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7e4b3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a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a1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67c4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3667c4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67c4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3667c4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0b74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67c4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3667c4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7e4b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67c4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3667c4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d4b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67c4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3667c4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3667c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67c4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3667c4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3667c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67c4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a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a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4AF8-DE1C-4138-903F-704CD26C871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7e4b3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48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50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7e4b3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53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a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a1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67c4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3667c4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67c4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3667c4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0b74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67c4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3667c4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7e4b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67c4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3667c4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d4b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67c4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3667c4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3667c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67c4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3667c4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3667c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67c4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a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a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D5CD-200B-4837-93BF-36666E7F42C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96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97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3667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98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7e4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99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100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101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a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a1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67c4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3667c4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67c4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3667c4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0b74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67c4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3667c4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7e4b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67c4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3667c4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d4b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67c4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3667c4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3667c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67c4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3667c4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3667c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67c4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a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a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67A3-DC25-4EF2-8E4D-985F9F438DD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12F5-B759-4EE4-9FD0-2D07E1B9012C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150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2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667c4"/>
                </a:solidFill>
                <a:latin typeface="Century Schoolbook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667c4"/>
                </a:solidFill>
                <a:latin typeface="Century Schoolbook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667c4"/>
                </a:solidFill>
                <a:latin typeface="Century Schoolbook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667c4"/>
                </a:solidFill>
                <a:latin typeface="Century Schoolbook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667c4"/>
                </a:solidFill>
                <a:latin typeface="Century Schoolbook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667c4"/>
                </a:solidFill>
                <a:latin typeface="Century Schoolbook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667c4"/>
                </a:solidFill>
                <a:latin typeface="Century Schoolbook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667c4"/>
                </a:solidFill>
                <a:latin typeface="Century Schoolbook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667c4"/>
                </a:solidFill>
                <a:latin typeface="Century Schoolbook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667c4"/>
                    </a:solidFill>
                    <a:latin typeface="Century Schoolbook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667c4"/>
                    </a:solidFill>
                    <a:latin typeface="Century Schoolbook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667c4"/>
                    </a:solidFill>
                    <a:latin typeface="Century Schoolbook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667c4"/>
                  </a:solidFill>
                  <a:latin typeface="Century Schoolbook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667c4"/>
                  </a:solidFill>
                  <a:latin typeface="Century Schoolbook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667c4"/>
                  </a:solidFill>
                  <a:latin typeface="Century Schoolbook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667c4"/>
                    </a:solidFill>
                    <a:latin typeface="Century Schoolbook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667c4"/>
                    </a:solidFill>
                    <a:latin typeface="Century Schoolbook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667c4"/>
                    </a:solidFill>
                    <a:latin typeface="Century Schoolbook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667c4"/>
                    </a:solidFill>
                    <a:latin typeface="Century Schoolbook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667c4"/>
                    </a:solidFill>
                    <a:latin typeface="Century Schoolbook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667c4"/>
                    </a:solidFill>
                    <a:latin typeface="Century Schoolbook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667c4"/>
                    </a:solidFill>
                    <a:latin typeface="Century Schoolbook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667c4"/>
                    </a:solidFill>
                    <a:latin typeface="Century Schoolbook"/>
                  </a:endParaRPr>
                </a:p>
              </p:txBody>
            </p:sp>
          </p:grpSp>
        </p:grpSp>
      </p:grpSp>
      <p:grpSp>
        <p:nvGrpSpPr>
          <p:cNvPr id="178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79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667c4"/>
                </a:solidFill>
                <a:latin typeface="Century Schoolbook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667c4"/>
                </a:solidFill>
                <a:latin typeface="Century Schoolbook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2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3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667c4"/>
                  </a:solidFill>
                  <a:latin typeface="Century Schoolbook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5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667c4"/>
                    </a:solidFill>
                    <a:latin typeface="Century Schoolbook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667c4"/>
                    </a:solidFill>
                    <a:latin typeface="Century Schoolbook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667c4"/>
                    </a:solidFill>
                    <a:latin typeface="Century Schoolbook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667c4"/>
                    </a:solidFill>
                    <a:latin typeface="Century Schoolbook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667c4"/>
                    </a:solidFill>
                    <a:latin typeface="Century Schoolbook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667c4"/>
                    </a:solidFill>
                    <a:latin typeface="Century Schoolbook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667c4"/>
                    </a:solidFill>
                    <a:latin typeface="Century Schoolbook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667c4"/>
                    </a:solidFill>
                    <a:latin typeface="Century Schoolbook"/>
                  </a:endParaRPr>
                </a:p>
              </p:txBody>
            </p:sp>
          </p:grpSp>
        </p:grpSp>
        <p:sp>
          <p:nvSpPr>
            <p:cNvPr id="193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667c4"/>
                </a:solidFill>
                <a:latin typeface="Century School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A12E-B9E2-419C-A4D4-517ABDACFF74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36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667c4"/>
                </a:solidFill>
                <a:latin typeface="Century Schoolbook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667c4"/>
                </a:solidFill>
                <a:latin typeface="Century Schoolbook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667c4"/>
                </a:solidFill>
                <a:latin typeface="Century Schoolbook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40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667c4"/>
                  </a:solidFill>
                  <a:latin typeface="Century Schoolbook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667c4"/>
                  </a:solidFill>
                  <a:latin typeface="Century Schoolbook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667c4"/>
                  </a:solidFill>
                  <a:latin typeface="Century Schoolbook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667c4"/>
                  </a:solidFill>
                  <a:latin typeface="Century Schoolbook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667c4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46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667c4"/>
                </a:solidFill>
                <a:latin typeface="Century Schoolbook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667c4"/>
                </a:solidFill>
                <a:latin typeface="Century Schoolbook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667c4"/>
                </a:solidFill>
                <a:latin typeface="Century Schoolbook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50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667c4"/>
                  </a:solidFill>
                  <a:latin typeface="Century Schoolbook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667c4"/>
                  </a:solidFill>
                  <a:latin typeface="Century Schoolbook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667c4"/>
                  </a:solidFill>
                  <a:latin typeface="Century Schoolbook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667c4"/>
                  </a:solidFill>
                  <a:latin typeface="Century Schoolbook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667c4"/>
                  </a:solidFill>
                  <a:latin typeface="Century Schoolbook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256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slania.com/pictures/big/978527118412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6920" y="2852640"/>
            <a:ext cx="73454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ТЕМА ПРОЕКТА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50911"/>
                </a:solidFill>
                <a:latin typeface="Times New Roman"/>
                <a:ea typeface="Times New Roman"/>
              </a:rPr>
              <a:t> «РАЗВИТИЕ ГРАФОМОТОРНЫХ НАВЫКОВ – ЭФФЕКТИВНЫЙ СПОСОБ ПОДГОТОВКИ РУКИ ДОШКОЛЬНИКА К ПИСЬМУ»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186920" y="333360"/>
            <a:ext cx="6672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НАЗВАНИЕ ПРОЕКТ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0911"/>
                </a:solidFill>
                <a:latin typeface="Times New Roman"/>
                <a:ea typeface="Times New Roman"/>
              </a:rPr>
              <a:t>«ЛОВКИЕ ПАЛЬЧИКИ»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Прямоугольник 6"/>
          <p:cNvSpPr/>
          <p:nvPr/>
        </p:nvSpPr>
        <p:spPr>
          <a:xfrm>
            <a:off x="2071800" y="4813200"/>
            <a:ext cx="621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проекта:</a:t>
            </a:r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 </a:t>
            </a:r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кич Светлана Валентиновна</a:t>
            </a:r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№78 «Ивушка» </a:t>
            </a:r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ургут</a:t>
            </a:r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  <p:pic>
        <p:nvPicPr>
          <p:cNvPr id="296" name="9785271184123" descr="">
            <a:hlinkClick r:id="rId1"/>
          </p:cNvPr>
          <p:cNvPicPr/>
          <p:nvPr/>
        </p:nvPicPr>
        <p:blipFill>
          <a:blip r:embed="rId2"/>
          <a:srcRect l="9213" t="38635" r="7866" b="9093"/>
          <a:stretch/>
        </p:blipFill>
        <p:spPr>
          <a:xfrm>
            <a:off x="0" y="4435560"/>
            <a:ext cx="284328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Интеграция образовательных областе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395280" y="1125360"/>
          <a:ext cx="8064360" cy="4756320"/>
        </p:xfrm>
        <a:graphic>
          <a:graphicData uri="http://schemas.openxmlformats.org/drawingml/2006/table">
            <a:tbl>
              <a:tblPr/>
              <a:tblGrid>
                <a:gridCol w="2305080"/>
                <a:gridCol w="57592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ознание»</a:t>
                      </a:r>
                      <a:endParaRPr b="0" lang="en-US" sz="1800" spc="-1" strike="noStrike">
                        <a:solidFill>
                          <a:srgbClr val="3667c4"/>
                        </a:solidFill>
                        <a:latin typeface="Century Schoolbook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</a:t>
                      </a:r>
                      <a:endParaRPr b="0" lang="en-US" sz="1800" spc="-1" strike="noStrike">
                        <a:solidFill>
                          <a:srgbClr val="3667c4"/>
                        </a:solidFill>
                        <a:latin typeface="Century Schoolbook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руирование</a:t>
                      </a:r>
                      <a:endParaRPr b="0" lang="en-US" sz="1800" spc="-1" strike="noStrike">
                        <a:solidFill>
                          <a:srgbClr val="3667c4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целостной картины мира, расширение кругозора в части  изобразительного искусства, творчества.</a:t>
                      </a:r>
                      <a:endParaRPr b="0" lang="en-US" sz="1800" spc="-1" strike="noStrike">
                        <a:solidFill>
                          <a:srgbClr val="3667c4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Труд» </a:t>
                      </a:r>
                      <a:endParaRPr b="0" lang="en-US" sz="1800" spc="-1" strike="noStrike">
                        <a:solidFill>
                          <a:srgbClr val="3667c4"/>
                        </a:solidFill>
                        <a:latin typeface="Century Schoolbook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ручной труд</a:t>
                      </a:r>
                      <a:endParaRPr b="0" lang="en-US" sz="1800" spc="-1" strike="noStrike">
                        <a:solidFill>
                          <a:srgbClr val="3667c4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трудовых умений и навыков, адекватных возрасту воспитанников, трудолюбия в различных видах продуктивной деятельности.</a:t>
                      </a:r>
                      <a:endParaRPr b="0" lang="en-US" sz="1800" spc="-1" strike="noStrike">
                        <a:solidFill>
                          <a:srgbClr val="3667c4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Художественное </a:t>
                      </a:r>
                      <a:endParaRPr b="0" lang="en-US" sz="1800" spc="-1" strike="noStrike">
                        <a:solidFill>
                          <a:srgbClr val="3667c4"/>
                        </a:solidFill>
                        <a:latin typeface="Century Schoolbook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тво» </a:t>
                      </a:r>
                      <a:endParaRPr b="0" lang="en-US" sz="1800" spc="-1" strike="noStrike">
                        <a:solidFill>
                          <a:srgbClr val="3667c4"/>
                        </a:solidFill>
                        <a:latin typeface="Century Schoolbook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лепка, </a:t>
                      </a:r>
                      <a:endParaRPr b="0" lang="en-US" sz="1800" spc="-1" strike="noStrike">
                        <a:solidFill>
                          <a:srgbClr val="3667c4"/>
                        </a:solidFill>
                        <a:latin typeface="Century Schoolbook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пликация,       </a:t>
                      </a:r>
                      <a:endParaRPr b="0" lang="en-US" sz="1800" spc="-1" strike="noStrike">
                        <a:solidFill>
                          <a:srgbClr val="3667c4"/>
                        </a:solidFill>
                        <a:latin typeface="Century Schoolbook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ование</a:t>
                      </a:r>
                      <a:endParaRPr b="0" lang="en-US" sz="1800" spc="-1" strike="noStrike">
                        <a:solidFill>
                          <a:srgbClr val="3667c4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интереса к эстетической стороне окружающей действительности, удовлетворяющие потребности детей в самовыражении через развитие продуктивной деятельности детей (рисование, лепка, аппликация, художественный труд;</a:t>
                      </a:r>
                      <a:endParaRPr b="0" lang="en-US" sz="1800" spc="-1" strike="noStrike">
                        <a:solidFill>
                          <a:srgbClr val="3667c4"/>
                        </a:solidFill>
                        <a:latin typeface="Century Schoolbook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ое творчество; приобщение к изобразительному искусству.</a:t>
                      </a:r>
                      <a:endParaRPr b="0" lang="en-US" sz="1800" spc="-1" strike="noStrike">
                        <a:solidFill>
                          <a:srgbClr val="3667c4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оммуникация»</a:t>
                      </a:r>
                      <a:endParaRPr b="0" lang="en-US" sz="1800" spc="-1" strike="noStrike">
                        <a:solidFill>
                          <a:srgbClr val="3667c4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познавательно – исследовательской и продуктивной деятельности в процессе свободного общения со сверстниками и взрослыми</a:t>
                      </a:r>
                      <a:endParaRPr b="0" lang="en-US" sz="1800" spc="-1" strike="noStrike">
                        <a:solidFill>
                          <a:srgbClr val="3667c4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68709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жидаемые результаты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696440" cy="40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о окончании проекта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дети знают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способы изображения предметов на бумаге;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различные техники штриховки.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Умеют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расслабляться и напрягать мышцы руки 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координировать движения пальцев и кистей рук;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концентрировать внимание, зрительную память, самоконтроль;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выполнять различные виды штриховки и графических диктантов; 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использовать полученные  умения и навыки в жизни. 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807200" y="620640"/>
            <a:ext cx="61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Сравнительный анализ работы по проекту</a:t>
            </a:r>
            <a:endParaRPr b="0" lang="en-US" sz="2400" spc="-1" strike="noStrike">
              <a:solidFill>
                <a:srgbClr val="3667c4"/>
              </a:solidFill>
              <a:latin typeface="Century Schoolbook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58504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ерспектив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1042920" y="1628640"/>
            <a:ext cx="7696440" cy="40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трансляция опыта работы по данному направлению педагогическому сообществу: в форме методических публикаций, представления опыта на интернет – сайтах педагогических идей, участия в конкурсах и фестивалях различного уровня;</a:t>
            </a: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пополнение  проекта новыми игровыми упражнениями, разработками, мини-проектами для детей младшего и среднего возраста;</a:t>
            </a: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реализация проекта в работе с воспитанниками последующих наборов.</a:t>
            </a: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87280" y="620640"/>
            <a:ext cx="68709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боснование необходимости проект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69644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Низкий уровень развития графического навыка является причиной целого ряда трудностей в обучении письму: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) низкий темп письма;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) быстрая утомляемость при письме;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) неровная, «дрожащая» линия;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) «угловатое» письмо, трудности в написании овалов;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) слишком сильный нажим;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6) трудности в воспроизведении формы графических элементов;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7) несоблюдение размера графических элементов;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8) несоблюдение наклона письма;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9) большое количество помарок и исправлений, «грязное» письмо;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0) нежелание выполнять письменные упражнения.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162960" y="69228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Актуальность проект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1686240"/>
            <a:ext cx="74883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Неподготовленность к письму, недостаточность движений ручной моторики может вызывать негативное отношение к обучению в школе уже с самых первых его этапах. В дошкольном возрасте важна работа именно по подготовке к письму, а не само письмо. </a:t>
            </a: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Дети должны научиться произвольно управлять движениями пишущей руки, зрительно контролировать направление и скорость этих движений, сохранять их длительность, слитность.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610720" y="549360"/>
            <a:ext cx="39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Практическая значимость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302" name=""/>
          <p:cNvSpPr/>
          <p:nvPr/>
        </p:nvSpPr>
        <p:spPr>
          <a:xfrm>
            <a:off x="1042920" y="1773720"/>
            <a:ext cx="7488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пределена в 3-ёх  аспектах: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1.  Раскрывается один из показателей подготовки ребёнка к школьному обучению.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2. Совместная творческая деятельность с родителями поможет в развитии способностей ребенка, в формировании его ценных жизненных ориентаций.</a:t>
            </a: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2. Систематизированный информационно-методический материал по развитию тонкокоординированных движений рук, зрительно–пространственного восприятия, памяти, мышления пополнит методическую копилку МБДОУ.</a:t>
            </a: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815280" y="476280"/>
            <a:ext cx="2072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Цель проекта</a:t>
            </a:r>
            <a:endParaRPr b="0" lang="en-US" sz="2400" spc="-1" strike="noStrike">
              <a:solidFill>
                <a:srgbClr val="3667c4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304" name=""/>
          <p:cNvSpPr/>
          <p:nvPr/>
        </p:nvSpPr>
        <p:spPr>
          <a:xfrm>
            <a:off x="684360" y="1197720"/>
            <a:ext cx="74880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Развитие графических навыков за счет совершенствования технических навыков и умений детей, регулярной практической деятельности, а также развитие детской фантазии, стремления добиться поставленной цели, почувствовать себя успешным.</a:t>
            </a: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305" name=""/>
          <p:cNvSpPr/>
          <p:nvPr/>
        </p:nvSpPr>
        <p:spPr>
          <a:xfrm>
            <a:off x="2195640" y="3429000"/>
            <a:ext cx="5327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Основная задача</a:t>
            </a:r>
            <a:endParaRPr b="0" lang="en-US" sz="2400" spc="-1" strike="noStrike">
              <a:solidFill>
                <a:srgbClr val="3667c4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306" name=""/>
          <p:cNvSpPr/>
          <p:nvPr/>
        </p:nvSpPr>
        <p:spPr>
          <a:xfrm>
            <a:off x="395280" y="4076280"/>
            <a:ext cx="8424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Развитие двигательных и познавательных способностей.</a:t>
            </a: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68360" y="160560"/>
            <a:ext cx="842472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анная задача реализуется через развитие:</a:t>
            </a: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1. Двигательной области коры головного мозга: </a:t>
            </a: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мение правильно держать карандаш, ручку, фломастер; </a:t>
            </a: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читься владеть ими, используя самомассаж, игры и </a:t>
            </a: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пражнения (обводя, закрашивая предметы, рисуя на заранее заготовленных листах). </a:t>
            </a: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 формирование зрительно-моторной координации. </a:t>
            </a: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2. Речевой области коры головного мозга: </a:t>
            </a: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 формирование активной речи ребенка, пополнение словарного запаса новыми понятиями. </a:t>
            </a: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3. Мышления, памяти, внимания, сосредоточенности, зрительного и слухового восприятия. </a:t>
            </a: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4. Пространственной ориентации на листе бумаги и в окружающем пространстве. </a:t>
            </a: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5. Формирование навыков учебной деятельности: </a:t>
            </a: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мение слушать, понимать и выполнять словесные установки </a:t>
            </a: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едагога; </a:t>
            </a: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 умение действовать, повторяя показанный образец и     </a:t>
            </a: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равило. </a:t>
            </a: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901880" y="54936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Пути и средства реализации проекта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309" name=""/>
          <p:cNvSpPr/>
          <p:nvPr/>
        </p:nvSpPr>
        <p:spPr>
          <a:xfrm>
            <a:off x="1042920" y="1500840"/>
            <a:ext cx="72010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Направления работы с детьми: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игровая, продуктивная, познавательная, коммуникативная деятельность.</a:t>
            </a: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Направления работы с родителями: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консультации, практикумы, мастер-классы, совместная работа по реализации проекта. </a:t>
            </a: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Направления работы с педагогами: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проведение совместных мероприятий, внедрение здоровьесберегающих технологий в разные виды деятельности в работе с детьми старшего дошкольного возраста.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71280" y="11592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Этапы реализации проект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403280" y="1413000"/>
          <a:ext cx="6264000" cy="3598920"/>
        </p:xfrm>
        <a:graphic>
          <a:graphicData uri="http://schemas.openxmlformats.org/drawingml/2006/table">
            <a:tbl>
              <a:tblPr/>
              <a:tblGrid>
                <a:gridCol w="1527480"/>
                <a:gridCol w="4736520"/>
              </a:tblGrid>
              <a:tr h="359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реализации проекта</a:t>
                      </a:r>
                      <a:endParaRPr b="0" lang="en-US" sz="2100" spc="-1" strike="noStrike">
                        <a:solidFill>
                          <a:srgbClr val="3667c4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1 этап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– подготовительный </a:t>
                      </a:r>
                      <a:endParaRPr b="0" lang="en-US" sz="2100" spc="-1" strike="noStrike">
                        <a:solidFill>
                          <a:srgbClr val="3667c4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май - сентябрь)</a:t>
                      </a:r>
                      <a:endParaRPr b="0" lang="en-US" sz="2100" spc="-1" strike="noStrike">
                        <a:solidFill>
                          <a:srgbClr val="3667c4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2 этап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иагностический </a:t>
                      </a:r>
                      <a:endParaRPr b="0" lang="en-US" sz="2100" spc="-1" strike="noStrike">
                        <a:solidFill>
                          <a:srgbClr val="3667c4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ентябрь)</a:t>
                      </a:r>
                      <a:endParaRPr b="0" lang="en-US" sz="2100" spc="-1" strike="noStrike">
                        <a:solidFill>
                          <a:srgbClr val="3667c4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3 этап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рактический </a:t>
                      </a:r>
                      <a:endParaRPr b="0" lang="en-US" sz="2100" spc="-1" strike="noStrike">
                        <a:solidFill>
                          <a:srgbClr val="3667c4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ентябрь – апрель)</a:t>
                      </a:r>
                      <a:endParaRPr b="0" lang="en-US" sz="2100" spc="-1" strike="noStrike">
                        <a:solidFill>
                          <a:srgbClr val="3667c4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4 этап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обобщающий </a:t>
                      </a:r>
                      <a:endParaRPr b="0" lang="en-US" sz="2100" spc="-1" strike="noStrike">
                        <a:solidFill>
                          <a:srgbClr val="3667c4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апрель - май)</a:t>
                      </a:r>
                      <a:endParaRPr b="0" lang="en-US" sz="2100" spc="-1" strike="noStrike">
                        <a:solidFill>
                          <a:srgbClr val="3667c4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200040" y="549360"/>
            <a:ext cx="28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Методы и приёмы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667c4"/>
              </a:solidFill>
              <a:latin typeface="Century Schoolbook"/>
            </a:endParaRPr>
          </a:p>
        </p:txBody>
      </p:sp>
      <p:sp>
        <p:nvSpPr>
          <p:cNvPr id="313" name=""/>
          <p:cNvSpPr/>
          <p:nvPr/>
        </p:nvSpPr>
        <p:spPr>
          <a:xfrm>
            <a:off x="1042920" y="1904400"/>
            <a:ext cx="720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Наглядные (показ, наблюдение, образец)</a:t>
            </a: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рактические (игровые упражнения) </a:t>
            </a: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Словесные (объяснение, собеседование, описание, инструкции, команды и распоряжения при выполнении графических диктантов) </a:t>
            </a: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667c4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3:38:00Z</dcterms:created>
  <dc:creator>DNA7 X86</dc:creator>
  <dc:description/>
  <dc:language>en-US</dc:language>
  <cp:lastModifiedBy>ДОМ</cp:lastModifiedBy>
  <dcterms:modified xsi:type="dcterms:W3CDTF">2014-04-27T07:59:41Z</dcterms:modified>
  <cp:revision>102</cp:revision>
  <dc:subject/>
  <dc:title>ТЕМА ПРОЕКТА:   «Развитие мелкой моторики у дошкольников как средство подготовки руки к письму»</dc:title>
</cp:coreProperties>
</file>