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555B-0F96-4AD1-994A-EE8F31C25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453B-465C-43D0-98C8-22525DFD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E865-10B1-4D8A-8CEB-29D3D71E7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830C-50CF-4EE9-AF2E-4C01C6AE2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700B-3E4D-4E38-9A46-D9FA9832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1244-4231-4A08-B7F0-D494A2C7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C62E-8566-47FD-8AF9-21FC6DC7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59BB-77C7-4CE7-B716-85A127D1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0D2C-EFA4-4D13-B33B-7AF1919E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4DD4-1067-479B-AFAE-55CB089B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F891-4CC2-458B-9FDF-E16AFFB5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3E5F-74A3-4331-BFF0-32D8B893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FE20-B975-48C5-9D34-BEA6FF130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b.foto.radikal.ru/0608/cee89a4788ae.jpg" TargetMode="External"/><Relationship Id="rId2" Type="http://schemas.openxmlformats.org/officeDocument/2006/relationships/image" Target="../media/image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solidFill>
            <a:srgbClr val="3366ff"/>
          </a:solidFill>
          <a:ln w="9360">
            <a:solidFill>
              <a:srgbClr val="00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Blackadder ITC"/>
              </a:rPr>
              <a:t>Прощание с Азбуко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1989000"/>
            <a:ext cx="4465800" cy="46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Станция № 4. Ребус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&amp;rcy;&amp;iecy;&amp;bcy;&amp;ucy;&amp;scy; &amp;dcy;&amp;lcy;&amp;yacy; &amp;dcy;&amp;iecy;&amp;tcy;&amp;iecy;&amp;jcy;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468360" y="1844640"/>
            <a:ext cx="8291520" cy="475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Станция № 4. Ребус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&amp;rcy;&amp;iecy;&amp;bcy;&amp;ucy;&amp;scy;"/>
          <p:cNvPicPr/>
          <p:nvPr/>
        </p:nvPicPr>
        <p:blipFill>
          <a:blip r:embed="rId1">
            <a:lum contrast="66000"/>
          </a:blip>
          <a:stretch/>
        </p:blipFill>
        <p:spPr>
          <a:xfrm>
            <a:off x="324000" y="1773360"/>
            <a:ext cx="8550000" cy="454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Станция №5. </a:t>
            </a:r>
            <a:br>
              <a:rPr sz="4000"/>
            </a:b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Маленький концер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16000" y="28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&amp;Kcy;&amp;acy;&amp;rcy;&amp;tcy;&amp;icy;&amp;ncy;&amp;kcy;&amp;acy; &amp;ncy;&amp;ocy;&amp;tcy;&amp;ycy;, &amp;Scy;&amp;kcy;&amp;rcy;&amp;icy;&amp;pcy;&amp;icy;&amp;chcy;&amp;ncy;&amp;ycy;&amp;jcy; &amp;kcy;&amp;lcy;&amp;yucy;&amp;chcy;, &amp;scy;&amp;vcy;&amp;iecy;&amp;tcy;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45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Arial"/>
              </a:rPr>
              <a:t>Станция №6. Награжд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&amp;shcy;&amp;kcy;&amp;ocy;&amp;lcy;&amp;softcy;&amp;ncy;&amp;ycy;&amp;iecy; &amp;kcy;&amp;acy;&amp;rcy;&amp;tcy;&amp;icy;&amp;ncy;&amp;kcy;&amp;icy; &amp;kcy; &amp;pcy;&amp;rcy;&amp;iecy;&amp;zcy;&amp;iecy;&amp;ncy;&amp;tcy;&amp;acy;&amp;tscy;&amp;icy;&amp;icy;"/>
          <p:cNvPicPr/>
          <p:nvPr/>
        </p:nvPicPr>
        <p:blipFill>
          <a:blip r:embed="rId1">
            <a:lum contrast="78000"/>
          </a:blip>
          <a:stretch/>
        </p:blipFill>
        <p:spPr>
          <a:xfrm>
            <a:off x="1979640" y="1557360"/>
            <a:ext cx="5099040" cy="50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Arial"/>
              </a:rPr>
              <a:t>Станция №1. Алфави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1309512536_c0878ee30e4f (450x450, 281Kb)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1619280" y="1484280"/>
            <a:ext cx="5689440" cy="52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Станция № 2. </a:t>
            </a:r>
            <a:br>
              <a:rPr sz="4000"/>
            </a:b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Как хорошо уметь    читат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>
            <a:lum contrast="28000"/>
          </a:blip>
          <a:stretch/>
        </p:blipFill>
        <p:spPr>
          <a:xfrm>
            <a:off x="611280" y="1628640"/>
            <a:ext cx="7910280" cy="500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Arial"/>
              </a:rPr>
              <a:t>Станция № 3. Кроссворд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4360" y="1484280"/>
          <a:ext cx="7848360" cy="5040360"/>
        </p:xfrm>
        <a:graphic>
          <a:graphicData uri="http://schemas.openxmlformats.org/drawingml/2006/table">
            <a:tbl>
              <a:tblPr/>
              <a:tblGrid>
                <a:gridCol w="1501560"/>
                <a:gridCol w="1646280"/>
                <a:gridCol w="1644840"/>
                <a:gridCol w="1645920"/>
                <a:gridCol w="140976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Arial"/>
              </a:rPr>
              <a:t>Станция № 3. Кроссворд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84360" y="1484280"/>
          <a:ext cx="7848360" cy="5040360"/>
        </p:xfrm>
        <a:graphic>
          <a:graphicData uri="http://schemas.openxmlformats.org/drawingml/2006/table">
            <a:tbl>
              <a:tblPr/>
              <a:tblGrid>
                <a:gridCol w="1501560"/>
                <a:gridCol w="1646280"/>
                <a:gridCol w="1676520"/>
                <a:gridCol w="1614240"/>
                <a:gridCol w="140976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    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Arial"/>
              </a:rPr>
              <a:t>Станция № 3. Кроссворд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4360" y="1484280"/>
          <a:ext cx="7848360" cy="5040360"/>
        </p:xfrm>
        <a:graphic>
          <a:graphicData uri="http://schemas.openxmlformats.org/drawingml/2006/table">
            <a:tbl>
              <a:tblPr/>
              <a:tblGrid>
                <a:gridCol w="1501560"/>
                <a:gridCol w="1646280"/>
                <a:gridCol w="1644840"/>
                <a:gridCol w="1645920"/>
                <a:gridCol w="140976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    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    ш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Arial"/>
              </a:rPr>
              <a:t>Станция № 3. Кроссворд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4360" y="1484280"/>
          <a:ext cx="7848360" cy="5040360"/>
        </p:xfrm>
        <a:graphic>
          <a:graphicData uri="http://schemas.openxmlformats.org/drawingml/2006/table">
            <a:tbl>
              <a:tblPr/>
              <a:tblGrid>
                <a:gridCol w="1501560"/>
                <a:gridCol w="1646280"/>
                <a:gridCol w="1644840"/>
                <a:gridCol w="1645920"/>
                <a:gridCol w="140976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    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    ш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    п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Arial"/>
              </a:rPr>
              <a:t>Станция № 3. Кроссворд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4360" y="1484280"/>
          <a:ext cx="7848360" cy="5040360"/>
        </p:xfrm>
        <a:graphic>
          <a:graphicData uri="http://schemas.openxmlformats.org/drawingml/2006/table">
            <a:tbl>
              <a:tblPr/>
              <a:tblGrid>
                <a:gridCol w="1501560"/>
                <a:gridCol w="1646280"/>
                <a:gridCol w="1644840"/>
                <a:gridCol w="1645920"/>
                <a:gridCol w="140976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    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    ш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    п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    з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Станция № 4. Ребус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&amp;rcy;&amp;iecy;&amp;bcy;&amp;ucy;&amp;scy;"/>
          <p:cNvPicPr/>
          <p:nvPr/>
        </p:nvPicPr>
        <p:blipFill>
          <a:blip r:embed="rId1"/>
          <a:stretch/>
        </p:blipFill>
        <p:spPr>
          <a:xfrm>
            <a:off x="1187280" y="1628640"/>
            <a:ext cx="6413760" cy="4886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6T17:38:26Z</dcterms:created>
  <dc:creator>MIHAIL</dc:creator>
  <dc:description/>
  <dc:language>en-US</dc:language>
  <cp:lastModifiedBy>MIHAIL</cp:lastModifiedBy>
  <dcterms:modified xsi:type="dcterms:W3CDTF">2014-04-09T20:09:21Z</dcterms:modified>
  <cp:revision>4</cp:revision>
  <dc:subject/>
  <dc:title>Прощание с Азбукой!</dc:title>
</cp:coreProperties>
</file>