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gif" ContentType="image/gif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4BE-26CD-4EF6-98EF-575878AA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E38-3FCF-4DE2-9156-58E8F5F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98B-8698-4EE0-9388-4872158C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61D-BB86-4B76-B953-8ABEB94E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B51-9B24-4F79-A9A6-E4DC35F7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DF45-FF1D-4439-ACA0-5004D19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D9D1-061C-42CB-B8A1-7B714355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70E1-BB25-4925-95BD-11AAAF6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D1B-5342-4D73-86BC-326E9406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C5B8-DA94-4E0F-9420-9C4528A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D84E-0BF8-4333-B1E5-FFA7BA3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D3B-CFD5-4206-B50C-B29A9E3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501-69D0-4C4D-96A4-25B3C0A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ED6D-7C39-423C-909A-B847FD7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91CA-CEBA-40DB-A6DA-3B99A9F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C1FA-08D0-44C5-AF21-2F41022B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E62A-7B94-4A82-AA49-0C576DB2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AA6-08F5-4A64-884E-A1761279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CD5-9D69-41C1-80B7-29444BFF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797-C068-4E85-8CB0-8C7B8BA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D2B-EE6B-4B9B-A469-806960F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74B-EAD2-4473-BA1C-7D95A5BE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2C4-9687-4CA2-A10D-B9F4770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5C9-1F35-4F53-92E3-3CB1345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E23-A70A-462A-8BFD-D19C8EDCF8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BAC5-4BED-4C7E-B379-A34093C3F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611280" y="3429000"/>
            <a:ext cx="8351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>
                    <a:alpha val="70000"/>
                  </a:srgbClr>
                </a:solid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Прощание с АЗБУКОЙ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0000ff">
                  <a:alpha val="70000"/>
                </a:srgbClr>
              </a:solid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 flipH="1" rot="20956800">
            <a:off x="3779280" y="981000"/>
            <a:ext cx="687240" cy="216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rot="1725600">
            <a:off x="5219280" y="620280"/>
            <a:ext cx="6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 flipH="1" rot="19886400">
            <a:off x="2987280" y="1844640"/>
            <a:ext cx="5270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17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1279440"/>
            <a:ext cx="8643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5fa326"/>
                </a:solidFill>
                <a:latin typeface="Courier New"/>
                <a:ea typeface="Courier New"/>
              </a:rPr>
              <a:t>Ч  Б  К  У  Е  Н  И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0" y="1225440"/>
            <a:ext cx="8643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5fa326"/>
                </a:solidFill>
                <a:latin typeface="Courier New"/>
                <a:ea typeface="Courier New"/>
              </a:rPr>
              <a:t>Л  Е  З  В  Е  Р  Т  И  О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92360" y="620640"/>
            <a:ext cx="575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Назови слов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0" y="1125360"/>
            <a:ext cx="8643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5fa326"/>
                </a:solidFill>
                <a:latin typeface="Courier New"/>
                <a:ea typeface="Courier New"/>
              </a:rPr>
              <a:t>П  Р  Т  Ф  Е  О  Л  Ь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11640" y="371628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404640"/>
            <a:ext cx="4572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Дорогие наши дет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Я пишу вам письмецо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Я прошу вас: мойте чащ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аши уши и ли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Картинка 286 из 493061"/>
          <p:cNvPicPr/>
          <p:nvPr/>
        </p:nvPicPr>
        <p:blipFill>
          <a:blip r:embed="rId1"/>
          <a:stretch/>
        </p:blipFill>
        <p:spPr>
          <a:xfrm>
            <a:off x="6732720" y="404640"/>
            <a:ext cx="1852560" cy="125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Картинка 101 из 4276"/>
          <p:cNvPicPr/>
          <p:nvPr/>
        </p:nvPicPr>
        <p:blipFill>
          <a:blip r:embed="rId2"/>
          <a:stretch/>
        </p:blipFill>
        <p:spPr>
          <a:xfrm>
            <a:off x="4572000" y="1700280"/>
            <a:ext cx="4097160" cy="4695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588000" y="189000"/>
            <a:ext cx="223200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3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прислал поздравлен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067280" y="328464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4" name="Picture 2" descr="Картинка 286 из 493061"/>
          <p:cNvPicPr/>
          <p:nvPr/>
        </p:nvPicPr>
        <p:blipFill>
          <a:blip r:embed="rId1"/>
          <a:stretch/>
        </p:blipFill>
        <p:spPr>
          <a:xfrm>
            <a:off x="6732720" y="404640"/>
            <a:ext cx="1852560" cy="12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490160" cy="472896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196" name=""/>
          <p:cNvSpPr txBox="1"/>
          <p:nvPr/>
        </p:nvSpPr>
        <p:spPr>
          <a:xfrm>
            <a:off x="1258920" y="47628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Спасите!  Нас съел серый волк..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588000" y="189000"/>
            <a:ext cx="223200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3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прислал поздравлен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700360" y="242100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46640" y="3644640"/>
            <a:ext cx="401652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doni MT Poster Compressed"/>
              </a:rPr>
              <a:t>Я очень расстроен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doni MT Poster Compressed"/>
              </a:rPr>
              <a:t>нечаянно разби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doni MT Poster Compressed"/>
              </a:rPr>
              <a:t>золотое яич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Картинка 286 из 493061"/>
          <p:cNvPicPr/>
          <p:nvPr/>
        </p:nvPicPr>
        <p:blipFill>
          <a:blip r:embed="rId1"/>
          <a:stretch/>
        </p:blipFill>
        <p:spPr>
          <a:xfrm>
            <a:off x="6804000" y="404640"/>
            <a:ext cx="1781280" cy="121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762440" cy="598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02" name=""/>
          <p:cNvSpPr txBox="1"/>
          <p:nvPr/>
        </p:nvSpPr>
        <p:spPr>
          <a:xfrm>
            <a:off x="6588000" y="189000"/>
            <a:ext cx="223200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3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прислал поздравлен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659640" y="371628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690120" y="404280"/>
            <a:ext cx="814644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doni MT Poster Compressed"/>
              </a:rPr>
              <a:t>Все закончилось благополуч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doni MT Poster Compresse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doni MT Poster Compressed"/>
              </a:rPr>
              <a:t>только хвост остался в проруби</a:t>
            </a:r>
            <a:r>
              <a:rPr b="1" lang="en-US" sz="4000" spc="-1" strike="noStrike">
                <a:solidFill>
                  <a:srgbClr val="ffffff"/>
                </a:solidFill>
                <a:latin typeface="Bodoni MT Poster Compressed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Картинка 286 из 493061"/>
          <p:cNvPicPr/>
          <p:nvPr/>
        </p:nvPicPr>
        <p:blipFill>
          <a:blip r:embed="rId1"/>
          <a:stretch/>
        </p:blipFill>
        <p:spPr>
          <a:xfrm>
            <a:off x="7147080" y="673200"/>
            <a:ext cx="1601640" cy="1089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rcRect l="0" t="0" r="52392" b="33344"/>
          <a:stretch/>
        </p:blipFill>
        <p:spPr>
          <a:xfrm>
            <a:off x="5940360" y="2781360"/>
            <a:ext cx="2606760" cy="2736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4824360" cy="3618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08" name=""/>
          <p:cNvSpPr txBox="1"/>
          <p:nvPr/>
        </p:nvSpPr>
        <p:spPr>
          <a:xfrm>
            <a:off x="6948360" y="333360"/>
            <a:ext cx="187164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3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прислал поздравлен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211640" y="371628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400" y="343440"/>
            <a:ext cx="5661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Дорогие гости, помогит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аука –злодея погуб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Картинка 286 из 493061"/>
          <p:cNvPicPr/>
          <p:nvPr/>
        </p:nvPicPr>
        <p:blipFill>
          <a:blip r:embed="rId1"/>
          <a:stretch/>
        </p:blipFill>
        <p:spPr>
          <a:xfrm>
            <a:off x="6732720" y="549360"/>
            <a:ext cx="1925640" cy="1309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715000" cy="468648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213" name=""/>
          <p:cNvSpPr txBox="1"/>
          <p:nvPr/>
        </p:nvSpPr>
        <p:spPr>
          <a:xfrm>
            <a:off x="6588000" y="189000"/>
            <a:ext cx="223200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3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прислал поздравлен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211640" y="3716280"/>
            <a:ext cx="122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1600" y="333360"/>
            <a:ext cx="4995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Перед волком не дрож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От медведя убеж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А лисице на зу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Все ж попал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Картинка 286 из 493061"/>
          <p:cNvPicPr/>
          <p:nvPr/>
        </p:nvPicPr>
        <p:blipFill>
          <a:blip r:embed="rId1"/>
          <a:stretch/>
        </p:blipFill>
        <p:spPr>
          <a:xfrm>
            <a:off x="6659640" y="836640"/>
            <a:ext cx="1996920" cy="13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3979800" cy="4292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18" name=""/>
          <p:cNvSpPr txBox="1"/>
          <p:nvPr/>
        </p:nvSpPr>
        <p:spPr>
          <a:xfrm>
            <a:off x="6372360" y="476280"/>
            <a:ext cx="252072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93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прислал поздравлен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938520" cy="27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20956800">
            <a:off x="5292000" y="981000"/>
            <a:ext cx="803160" cy="2519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 rot="786600">
            <a:off x="6372360" y="1125360"/>
            <a:ext cx="939600" cy="2951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 rot="21011400">
            <a:off x="3131640" y="1773360"/>
            <a:ext cx="2305080" cy="2271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619280" y="4076640"/>
            <a:ext cx="583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МОЛОДЦЫ 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 rot="1359600">
            <a:off x="3419280" y="476280"/>
            <a:ext cx="1103040" cy="1455840"/>
          </a:xfrm>
          <a:prstGeom prst="rect">
            <a:avLst/>
          </a:prstGeom>
          <a:ln w="1908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00400" y="1501920"/>
            <a:ext cx="454320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влекательнее чтен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чего на свете не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4762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 в школе почти целый год отучили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 много успели и много узн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сать и считать вы уже нау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первые книжки свои прочит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верным помощником в этом вам ст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ая главная книж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первые буквы она показ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вчонкам своим и мальчиш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квы потом сложились в сло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ва в предложенья и фра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громный и красочный мир тог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крылся, ребята, вам сраз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 прочитаете хороших книг нема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скай года пройдут и много-много д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м Азбука хорошим другом ста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этот праздник посвящаем 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352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ubBanner"/>
          <p:cNvSpPr/>
          <p:nvPr/>
        </p:nvSpPr>
        <p:spPr>
          <a:xfrm>
            <a:off x="1042920" y="189000"/>
            <a:ext cx="7058160" cy="1332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2" descr="086.gif"/>
          <p:cNvPicPr/>
          <p:nvPr/>
        </p:nvPicPr>
        <p:blipFill>
          <a:blip r:embed="rId1"/>
          <a:stretch/>
        </p:blipFill>
        <p:spPr>
          <a:xfrm>
            <a:off x="0" y="260280"/>
            <a:ext cx="1587600" cy="1422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086.gif"/>
          <p:cNvPicPr/>
          <p:nvPr/>
        </p:nvPicPr>
        <p:blipFill>
          <a:blip r:embed="rId2"/>
          <a:stretch/>
        </p:blipFill>
        <p:spPr>
          <a:xfrm flipH="1">
            <a:off x="7489440" y="189000"/>
            <a:ext cx="1654200" cy="14824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4"/>
          <p:cNvSpPr txBox="1"/>
          <p:nvPr/>
        </p:nvSpPr>
        <p:spPr>
          <a:xfrm>
            <a:off x="2268360" y="333360"/>
            <a:ext cx="460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А л ф а в и т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1402200" y="1281240"/>
            <a:ext cx="644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Б В Г Д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Е Ё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Ж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З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Й К Л М Н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П Р С Т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Ф</a:t>
            </a:r>
            <a:r>
              <a:rPr b="1" lang="en-US" sz="7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99"/>
                </a:solidFill>
                <a:latin typeface="Calibri"/>
              </a:rPr>
              <a:t>Ц Ч Ш Щ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1" lang="ru-RU" sz="7200" spc="-1" strike="noStrike">
                <a:solidFill>
                  <a:srgbClr val="5fa326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Э Ю 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16000" y="2060640"/>
            <a:ext cx="6192720" cy="22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Б В Г Д Е 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32000" y="2144880"/>
            <a:ext cx="6048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И К Л М Н 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2133720"/>
            <a:ext cx="698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 Р С Т У Ф 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Ц Ч Ш Щ Э Ю 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Ё Й Ъ Ь 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6:59:19Z</dcterms:created>
  <dc:creator>Космыс</dc:creator>
  <dc:description/>
  <dc:language>en-US</dc:language>
  <cp:lastModifiedBy>Admin</cp:lastModifiedBy>
  <dcterms:modified xsi:type="dcterms:W3CDTF">2013-02-02T20:23:37Z</dcterms:modified>
  <cp:revision>44</cp:revision>
  <dc:subject/>
  <dc:title>Слайд 1</dc:title>
</cp:coreProperties>
</file>