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DF0-D767-43E9-85A8-AD3306E1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37F-7DCC-40D6-A801-EC7F35B6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7398-2743-49C9-B4E4-6AF9E2D2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23C-3043-42A0-9F4D-11ACDB84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0A2-2827-484C-9782-D48D4C7B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67B6-0F53-4E5D-A432-ED3C202C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752-DA7E-4807-B0B1-A406474B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3B8-0E35-4F08-9C52-895C6DE4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C814-2F54-42EA-8BE4-7B08BB40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674-E09F-4760-8B67-ACE8011D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7D1-D317-4555-94DA-87CB45A0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7ED-87FA-4FDD-8385-38CA2235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875D-7317-43C3-A61A-CB00F991AEC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3913079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4"/>
          <p:cNvSpPr/>
          <p:nvPr/>
        </p:nvSpPr>
        <p:spPr>
          <a:xfrm>
            <a:off x="571680" y="31431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0"/>
          <p:cNvSpPr/>
          <p:nvPr/>
        </p:nvSpPr>
        <p:spPr>
          <a:xfrm>
            <a:off x="714240" y="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1"/>
          <p:cNvSpPr/>
          <p:nvPr/>
        </p:nvSpPr>
        <p:spPr>
          <a:xfrm>
            <a:off x="357120" y="0"/>
            <a:ext cx="41436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й  дедушка, ОСЬКИН СТЕПАН ИГНАТЬЕВИЧ, родился в 1923 году , в с. Адикаевка Головинщинского района Пензенской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ле оконча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ског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лища, его, 18-летнего юношу, призвали в армию - защищать Родин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4" descr="средняя школа.jpg"/>
          <p:cNvPicPr/>
          <p:nvPr/>
        </p:nvPicPr>
        <p:blipFill>
          <a:blip r:embed="rId2"/>
          <a:stretch/>
        </p:blipFill>
        <p:spPr>
          <a:xfrm>
            <a:off x="4786200" y="214200"/>
            <a:ext cx="1579680" cy="214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Рисунок 15" descr="18 летний юноша.jpg"/>
          <p:cNvPicPr/>
          <p:nvPr/>
        </p:nvPicPr>
        <p:blipFill>
          <a:blip r:embed="rId3"/>
          <a:stretch/>
        </p:blipFill>
        <p:spPr>
          <a:xfrm>
            <a:off x="7000920" y="285840"/>
            <a:ext cx="1620720" cy="207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Рисунок 16" descr="мед.училище.jpg"/>
          <p:cNvPicPr/>
          <p:nvPr/>
        </p:nvPicPr>
        <p:blipFill>
          <a:blip r:embed="rId4"/>
          <a:stretch/>
        </p:blipFill>
        <p:spPr>
          <a:xfrm>
            <a:off x="4788000" y="3284640"/>
            <a:ext cx="3571920" cy="200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TextBox 18"/>
          <p:cNvSpPr/>
          <p:nvPr/>
        </p:nvSpPr>
        <p:spPr>
          <a:xfrm>
            <a:off x="5796000" y="580536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д. училищ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399960"/>
            <a:ext cx="32148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им утром 22 июня 1941 года после артиллерийской и авиационной подготовки немецкие войска перешли границу СССР. Уже после этого, в 5:30 утра посол Германии в СССР В. Шуленбург явился к Народному комиссару иностранных дел СССР В. М. Молотову и сделал заявление, содержание которого сводилось к тому, что советское правительство проводило подрывную политику в Германии и в оккупированных ею странах, проводило внешнюю политику, направленную против Германии, и «сосредоточило на германской границе все свои войска в полной боевой готовности». Заявление заканчивалось следующими словами: «Фюрер поэтому приказал германским вооружённым силам противостоять этой угрозе всеми имеющимися в их распоряжении средствам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http://upload.wikimedia.org/wikipedia/commons/thumb/3/37/Operation_Barbarossa_-_Russian_planes.jpg/200px-Operation_Barbarossa_-_Russian_planes.jpg"/>
          <p:cNvPicPr/>
          <p:nvPr/>
        </p:nvPicPr>
        <p:blipFill>
          <a:blip r:embed="rId1"/>
          <a:stretch/>
        </p:blipFill>
        <p:spPr>
          <a:xfrm>
            <a:off x="4572000" y="2500200"/>
            <a:ext cx="3143160" cy="210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Rectangle 5"/>
          <p:cNvSpPr/>
          <p:nvPr/>
        </p:nvSpPr>
        <p:spPr>
          <a:xfrm>
            <a:off x="6750720" y="4805280"/>
            <a:ext cx="37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етский аэродром после немецкого авианалё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4286160" y="1357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т же день войну СССР объявили Италия (итальянские войска начали боевые действия 20 июня) и Румыния. 23 июня — Словак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2214720" y="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етне-весенняя кампания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F:\3913079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285840" y="214200"/>
            <a:ext cx="37148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раз при наступлении на г. Инстербург, командир дивизиона попал в нейтральную зону, где был тяжело ранен в обе ноги. Дедушка немедленно оказал ему медицинскую помощь и вместе с двумя солдатами эвакуировал командира в медсанбат. Командир остался жив. За его спасение командование части наградило дедушку  и солдат за мужество медалью «За боевые заслуг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11" descr="за боевые заслуги.jpg"/>
          <p:cNvPicPr/>
          <p:nvPr/>
        </p:nvPicPr>
        <p:blipFill>
          <a:blip r:embed="rId3"/>
          <a:stretch/>
        </p:blipFill>
        <p:spPr>
          <a:xfrm>
            <a:off x="5148360" y="765000"/>
            <a:ext cx="2047680" cy="7240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2"/>
          <p:cNvSpPr/>
          <p:nvPr/>
        </p:nvSpPr>
        <p:spPr>
          <a:xfrm>
            <a:off x="0" y="64296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е Балтики осуществление плана «Барбаросса» началось вечером 21 июня, когда немецкие минные заградители, базировавшиеся в финских портах, выставили два больших минных поля в Финском заливе. Эти минные поля в конечном счёте смогли запереть советский Балтийский флот в восточной части Финского зал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июня румынские и немецкие войска форсировали Прут, а также попытались форсировать Дунай, но советские войска им не дали это сделать и даже захватили плацдармы на румынской территории. Однако в июле-сентябре 1941 года румынские войска при поддержке немецких войск оккупировали всю Бессарабию, Буковину и междуречье Днестра и Южного Б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D:\документы\Ussr0437.jpg"/>
          <p:cNvPicPr/>
          <p:nvPr/>
        </p:nvPicPr>
        <p:blipFill>
          <a:blip r:embed="rId1"/>
          <a:stretch/>
        </p:blipFill>
        <p:spPr>
          <a:xfrm>
            <a:off x="5143680" y="285840"/>
            <a:ext cx="2857320" cy="41432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4786200" y="4500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-мать зовёт! — плакат первых дней Великой Отечественной вой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F:\3913079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214200" y="142920"/>
            <a:ext cx="25005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мцы, при отступлении, минировали дома, местность. Поэтому продвигаться было очень тяжело и опас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айоне Пилау              (г. Балтийск) мой дедушка был контужен. За смелость и мужество при наступательных операциях, по спасению раненых и за вынос с поля боя, Указом Президиума в мае 1945 года , дедушка был награжден орденом        «Красной Звезды» и медалью «За взятие Кёнигсбер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8" descr="За смелость..jpg"/>
          <p:cNvPicPr/>
          <p:nvPr/>
        </p:nvPicPr>
        <p:blipFill>
          <a:blip r:embed="rId3"/>
          <a:stretch/>
        </p:blipFill>
        <p:spPr>
          <a:xfrm>
            <a:off x="3706920" y="208080"/>
            <a:ext cx="2017440" cy="27478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9" descr="орден КРАСНОЙ ЗВЕЗДЫ.jpg"/>
          <p:cNvPicPr/>
          <p:nvPr/>
        </p:nvPicPr>
        <p:blipFill>
          <a:blip r:embed="rId4"/>
          <a:stretch/>
        </p:blipFill>
        <p:spPr>
          <a:xfrm>
            <a:off x="6211800" y="3279600"/>
            <a:ext cx="2438640" cy="23720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0" descr="за взятие кёнигсберга.jpg"/>
          <p:cNvPicPr/>
          <p:nvPr/>
        </p:nvPicPr>
        <p:blipFill>
          <a:blip r:embed="rId5"/>
          <a:stretch/>
        </p:blipFill>
        <p:spPr>
          <a:xfrm>
            <a:off x="3139920" y="3425760"/>
            <a:ext cx="2584440" cy="26510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2"/>
          <p:cNvSpPr/>
          <p:nvPr/>
        </p:nvSpPr>
        <p:spPr>
          <a:xfrm>
            <a:off x="2565720" y="621504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даль «За взятие Кёнигсбер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6008040" y="592920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ден «Красной Звезд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ушнарева Карина</dc:creator>
  <dc:description/>
  <dc:language>en-US</dc:language>
  <cp:lastModifiedBy>Галкины</cp:lastModifiedBy>
  <dcterms:modified xsi:type="dcterms:W3CDTF">2015-03-15T13:32:08Z</dcterms:modified>
  <cp:revision>19</cp:revision>
  <dc:subject>Великая Отечественная война</dc:subject>
  <dc:title>Презентация на тему: Великая Отечественная война</dc:title>
</cp:coreProperties>
</file>