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E53B-C51A-4B83-8920-37562438E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0B94-FCEF-4BF1-AF1C-925C4E427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3FA4-EE2B-4BB9-AD01-7F45F7BA3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D87E-AE1B-49FD-A6BE-8B8228831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E36BC-05B4-456C-A24C-7707AFF7E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02629-5760-4AE2-99E1-DF18451E0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F9DBB-41C0-43ED-8E9A-43F42B945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C2153-EAC8-47CF-8B9A-9B149157F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745E6-36D1-4DD9-8608-13E76268E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8ABCE-0A86-41D7-B530-AAE2CA298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AA173-EE7D-4EC2-AA21-2E108FAA0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5A22-5010-4FF9-A4F7-C8860E160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5C06D-6222-4478-8DC8-2E0FA755F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FAE98-AAFC-4AF7-A089-D2AF7450B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4C790-3835-454C-AF23-CF153E5FB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57FE2-EA03-41ED-833F-530FFA4F1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8484F-EEEA-4795-B045-579743D4D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10D18-8FFD-4379-B093-B3837595D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883F5-EE8E-4721-9FFF-16A47A014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94C43-C63B-4DA3-B162-8955F2C37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1620F-42E1-4055-BE6B-CC971C742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E8F9D-10C7-400E-8F93-23EA6C522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68F3-257F-4D97-BACD-7ADC2FB72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89BA6-5A64-4ACE-944D-0EE1E8129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41296-2EBB-4F7F-96E7-9D742CCC4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6CB88-E3AB-4E07-B9CD-3763B5D41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1E781-8495-494D-B0FD-327B9E11D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9C5EF-70C2-47A5-AA57-34F062299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EE735-C899-4069-A5AE-1A115FA88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CC319-F010-4629-ADC2-951F8661E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B49DE-B718-48BC-95F0-93787B579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5EAA1-B7D3-4736-BF0A-3FEFB8CCD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5FD63-1E09-46EE-86DD-720CD3ECE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203B-2C1C-4AD3-B6EB-4965112E3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FD113-89FC-4BD6-B066-9DEC8C746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07A98-A87C-4E88-B3D7-197F4881C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EA674-06EF-45A9-89B1-70BC4B2E4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08F1D-53BE-4AE5-B2E5-C1C99ED9A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AB75C-2568-4E4B-94D9-0BE57C0F0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B2648-DE15-48B1-9815-4936E4B39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EDAB5-4E16-4537-8AB0-29CAF60E7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210A9-6F8C-46A7-9E31-81F026B0B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AFCF2F-9680-4A0C-8EEA-6A1C3FC84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4AF96B-C751-4A92-AA52-5EF7AAA1B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8C19-B91B-4D0F-80FF-D478EC7C2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955001-1CB0-430C-AC34-86284AC50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43FF53-8767-447D-AFF2-1964E243F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74CB77-3ECB-4C61-9A61-1C52C5342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A11575-64C8-4FD1-A445-EA0A75BBA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F47C96-749B-4047-81B4-FD5ACDCD7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DF4F2A-FB41-4ACC-B49D-624E6D9AC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BB0817-3F6C-4356-9398-BD0BDDEC2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1CC82C-F9C3-4BA9-B366-9717C008A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78B278-A152-4DCA-B6AE-69CBC9659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B53181-3D9F-411E-A4BE-A267FE15D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582E-4446-4EFF-BB55-7B1D6D800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0F516F-1EBB-4066-93B7-0EDFA91C9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471BD4-70D6-45CB-99D0-9B076F7F4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C11558-EE54-43A2-9134-F594E4F05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80D547-D9AD-4ABE-89F2-F5750C4D6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D6AE0C-6348-45BE-8F24-00A125E9F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0E213C-23E0-4E23-8DE8-597339148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5221BD-9BFC-4E6A-A2A9-981315875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0581A3-B2C6-4301-9EDC-ADB62A41F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F3DC0C-B49C-4AA5-8E02-7D6D4F83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6CA347-FB2B-4574-8B5D-50C8584A8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C7CE-7E89-4CCE-9985-BE223D552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63D004-BA29-4A71-A110-388A46B23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2CE5DB-204C-49CB-BE02-56B02DF5F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567DE0-F7B6-446C-BC71-1BB02F463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7F438F-CC63-4455-80C3-0CA75E071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1B56D3-00BF-4E22-A101-C28877650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E198E0-A9E6-46D6-97B2-F2C6B2BB9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D9077E-47F5-40DA-BA8C-1DBAF5FFE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C90B85-4B98-43EC-828B-8D558DE2D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0C1F82-8841-4BA7-99A2-C19E5F412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EBA07C-61CC-4223-A93F-1BC5CB98C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01EF-2ED1-434D-9190-99E765CEF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A866C1-A2BC-4723-8890-565FD9314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2154A1-2400-4C3E-8E34-57B1F759C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3DD46A-40DB-465B-8406-68D27B9AC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28EC88-5B58-4E73-92D3-A47EB9034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CCA503-BD54-47A3-872F-401CE5D31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ED6E-4268-482F-A83E-E37DB0E91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0A36F-8756-4A4A-81D4-9CEF0602C73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2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2D2D7-9853-4B70-8851-A50C0F6A6AFA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49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50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53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2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98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101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9F6B6-6F57-4777-A9C5-AF9D6E18811C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4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4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5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F079E-3014-428C-9B9A-8009A709472D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2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204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72612-08EA-4B48-9377-6C1F7A1BBAF7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48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51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254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257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A6814-C56D-4039-95B5-776B0348C11D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0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04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307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310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456AC-9379-4FED-9565-C97C8F50C2A9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entury Gothic"/>
              </a:rPr>
              <a:t>Родительское собрание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entury Gothic"/>
              </a:rPr>
              <a:t>«Роль общения в жизни школьника.»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54" name="Picture 5" descr="Картинка 68 из 22800"/>
          <p:cNvPicPr/>
          <p:nvPr/>
        </p:nvPicPr>
        <p:blipFill>
          <a:blip r:embed="rId1"/>
          <a:stretch/>
        </p:blipFill>
        <p:spPr>
          <a:xfrm>
            <a:off x="5429160" y="3714840"/>
            <a:ext cx="286704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Прямоугольник 3"/>
          <p:cNvSpPr/>
          <p:nvPr/>
        </p:nvSpPr>
        <p:spPr>
          <a:xfrm>
            <a:off x="4479840" y="2967120"/>
            <a:ext cx="1843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179280" y="6840"/>
            <a:ext cx="8785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f6228"/>
                </a:solidFill>
                <a:latin typeface="Arial Unicode MS"/>
                <a:ea typeface="Arial Unicode MS"/>
              </a:rPr>
              <a:t>Толерантность – признание, уважение и соблюдение прав и свобод всех людей без различения социальных, классовых, религиозных, этнических и иных особенностей</a:t>
            </a:r>
            <a:r>
              <a:rPr b="1" lang="ru-RU" sz="3600" spc="-1" strike="noStrike">
                <a:solidFill>
                  <a:srgbClr val="4f6228"/>
                </a:solidFill>
                <a:latin typeface="Calibri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7" descr="Картинка 53 из 22800"/>
          <p:cNvPicPr/>
          <p:nvPr/>
        </p:nvPicPr>
        <p:blipFill>
          <a:blip r:embed="rId1"/>
          <a:stretch/>
        </p:blipFill>
        <p:spPr>
          <a:xfrm>
            <a:off x="2411280" y="3213000"/>
            <a:ext cx="4700880" cy="31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3" descr="C:\Users\ishimova\Desktop\MP900422987.JPG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9" name="Овал 25"/>
          <p:cNvSpPr/>
          <p:nvPr/>
        </p:nvSpPr>
        <p:spPr>
          <a:xfrm>
            <a:off x="2411280" y="2205000"/>
            <a:ext cx="3600720" cy="20876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86"/>
          <p:cNvGrpSpPr/>
          <p:nvPr/>
        </p:nvGrpSpPr>
        <p:grpSpPr>
          <a:xfrm>
            <a:off x="0" y="188280"/>
            <a:ext cx="9322560" cy="6480360"/>
            <a:chOff x="0" y="188280"/>
            <a:chExt cx="9322560" cy="6480360"/>
          </a:xfrm>
        </p:grpSpPr>
        <p:sp>
          <p:nvSpPr>
            <p:cNvPr id="371" name="Text Box 74"/>
            <p:cNvSpPr/>
            <p:nvPr/>
          </p:nvSpPr>
          <p:spPr>
            <a:xfrm>
              <a:off x="2556000" y="2853360"/>
              <a:ext cx="3520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33cc"/>
                  </a:solidFill>
                  <a:latin typeface="Times New Roman"/>
                </a:rPr>
                <a:t>Толерантность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 Box 75"/>
            <p:cNvSpPr/>
            <p:nvPr/>
          </p:nvSpPr>
          <p:spPr>
            <a:xfrm>
              <a:off x="3904200" y="844560"/>
              <a:ext cx="1309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Text Box 77"/>
            <p:cNvSpPr/>
            <p:nvPr/>
          </p:nvSpPr>
          <p:spPr>
            <a:xfrm flipV="1" rot="5400000">
              <a:off x="3216600" y="966240"/>
              <a:ext cx="201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000"/>
                  </a:solidFill>
                  <a:latin typeface="Times New Roman"/>
                </a:rPr>
                <a:t>Проще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78"/>
            <p:cNvSpPr/>
            <p:nvPr/>
          </p:nvSpPr>
          <p:spPr>
            <a:xfrm rot="5400000">
              <a:off x="3382200" y="5286960"/>
              <a:ext cx="230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c000"/>
                  </a:solidFill>
                  <a:latin typeface="Times New Roman"/>
                </a:rPr>
                <a:t> </a:t>
              </a:r>
              <a:r>
                <a:rPr b="1" lang="ru-RU" sz="2400" spc="-1" strike="noStrike">
                  <a:solidFill>
                    <a:srgbClr val="ffc000"/>
                  </a:solidFill>
                  <a:latin typeface="Times New Roman"/>
                </a:rPr>
                <a:t>Милосерд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Text Box 79"/>
            <p:cNvSpPr/>
            <p:nvPr/>
          </p:nvSpPr>
          <p:spPr>
            <a:xfrm>
              <a:off x="0" y="3283560"/>
              <a:ext cx="241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000"/>
                  </a:solidFill>
                  <a:latin typeface="Times New Roman"/>
                </a:rPr>
                <a:t>Сострада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Text Box 80"/>
            <p:cNvSpPr/>
            <p:nvPr/>
          </p:nvSpPr>
          <p:spPr>
            <a:xfrm rot="2105400">
              <a:off x="120240" y="1535400"/>
              <a:ext cx="274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000"/>
                  </a:solidFill>
                  <a:latin typeface="Times New Roman"/>
                </a:rPr>
                <a:t>Терпимос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Text Box 81"/>
            <p:cNvSpPr/>
            <p:nvPr/>
          </p:nvSpPr>
          <p:spPr>
            <a:xfrm rot="19110600">
              <a:off x="5533200" y="1465200"/>
              <a:ext cx="267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000"/>
                  </a:solidFill>
                  <a:latin typeface="Times New Roman"/>
                </a:rPr>
                <a:t>Сочувств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82"/>
            <p:cNvSpPr/>
            <p:nvPr/>
          </p:nvSpPr>
          <p:spPr>
            <a:xfrm rot="2068800">
              <a:off x="5353920" y="4698360"/>
              <a:ext cx="248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000"/>
                  </a:solidFill>
                  <a:latin typeface="Times New Roman"/>
                </a:rPr>
                <a:t>Уваже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 Box 83"/>
            <p:cNvSpPr/>
            <p:nvPr/>
          </p:nvSpPr>
          <p:spPr>
            <a:xfrm rot="19128600">
              <a:off x="286560" y="4845960"/>
              <a:ext cx="262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000"/>
                  </a:solidFill>
                  <a:latin typeface="Times New Roman"/>
                </a:rPr>
                <a:t>Содейств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 Box 84"/>
            <p:cNvSpPr/>
            <p:nvPr/>
          </p:nvSpPr>
          <p:spPr>
            <a:xfrm>
              <a:off x="5939280" y="3207240"/>
              <a:ext cx="338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000"/>
                  </a:solidFill>
                  <a:latin typeface="Times New Roman"/>
                </a:rPr>
                <a:t>Взаимопонима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4"/>
          <p:cNvSpPr/>
          <p:nvPr/>
        </p:nvSpPr>
        <p:spPr>
          <a:xfrm>
            <a:off x="395280" y="3240"/>
            <a:ext cx="84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Какими же чертами должен обладать толерантный человек, а какие черты личности мешают быть таковым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3" descr="Рисунок3"/>
          <p:cNvPicPr/>
          <p:nvPr/>
        </p:nvPicPr>
        <p:blipFill>
          <a:blip r:embed="rId1"/>
          <a:stretch/>
        </p:blipFill>
        <p:spPr>
          <a:xfrm>
            <a:off x="250920" y="692280"/>
            <a:ext cx="849780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6" descr="Картинка 34 из 52807"/>
          <p:cNvPicPr/>
          <p:nvPr/>
        </p:nvPicPr>
        <p:blipFill>
          <a:blip r:embed="rId1"/>
          <a:stretch/>
        </p:blipFill>
        <p:spPr>
          <a:xfrm>
            <a:off x="5219640" y="260280"/>
            <a:ext cx="3589560" cy="2700360"/>
          </a:xfrm>
          <a:prstGeom prst="rect">
            <a:avLst/>
          </a:prstGeom>
          <a:ln w="0">
            <a:noFill/>
          </a:ln>
        </p:spPr>
      </p:pic>
      <p:sp>
        <p:nvSpPr>
          <p:cNvPr id="384" name="TextBox 4"/>
          <p:cNvSpPr/>
          <p:nvPr/>
        </p:nvSpPr>
        <p:spPr>
          <a:xfrm>
            <a:off x="108000" y="2421000"/>
            <a:ext cx="871200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ТЕРЕОТИПЫ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- это неправомочные обобщения, которые мы делаем по поводу тех, о ком мы мало знаем. Человеческий мозг устроен таким образом, что он постоянно классифицирует все, что встречает в реальности. Когда у нас не хватает информации о каком-то предмете, мы относим его к определенной категории и приписываем ему определенные качества. Так мы решаем, что «все русские много пьют», а «все подростки употребляют наркотики».</a:t>
            </a:r>
            <a:br>
              <a:rPr sz="16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5"/>
          <p:cNvSpPr/>
          <p:nvPr/>
        </p:nvSpPr>
        <p:spPr>
          <a:xfrm>
            <a:off x="179280" y="260280"/>
            <a:ext cx="4753080" cy="24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олерантности мешают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тереотипы и предрассудки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Прямоугольник 1"/>
          <p:cNvSpPr/>
          <p:nvPr/>
        </p:nvSpPr>
        <p:spPr>
          <a:xfrm>
            <a:off x="971640" y="750960"/>
            <a:ext cx="72723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едрассудок 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 негативное отношение к человеку ли какой-нибудь группе людей, о которых вы на самом деле ничего не знаете. Это также негативное отношение на основании не личного знакомства с человеком, а мнения (стереотипа) по поводу группы, к которой он принадлежит. Он обычно появляется у нас благодаря тому, что уже принят в том обществе или группе, где мы находимся. Существуют разные виды предрассудков. Они могут быть связаны с полом, возрастом, национальной принадлежностью, приверженностью к определенной религии, происхождением, уровнем дохода, сексуальной ориентацией или инвалидностью человека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Главные принципы в отношениях между родителями и детьми: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entury Gothic"/>
              </a:rPr>
              <a:t>Уважайте детей и требуйте ответного уважения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entury Gothic"/>
              </a:rPr>
              <a:t>Воспитывайте объясняя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entury Gothic"/>
              </a:rPr>
              <a:t>Учите детей думать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457200" y="214200"/>
            <a:ext cx="8229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Хочешь быть умным, научись разумно спрашивать, внимательно слушать. Спокойно отвечать и переставать говорить, когда нечего больше сказать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(И.Лафатер, швейцарский писатель)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Относись к другим так. Как тебе хотелось бы, чтобы они относились к тебе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(Ф.Честерфилд, английский писатель)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395280" y="404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одители должны: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о-первых, не обижать ребёнка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о-вторых, выслушивать его мнение и считаться с ним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-третьих, уметь прощать обиды и просить прощения у ребенка. Это самый сложный момент, но, в то же время, и самый важный, поскольку у детей обостренное чувство справедливости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-четвертых, уметь договариваться без ссор и разрушительных конфликтов. Под словосочетанием «разрушительный конфликт» подразумевается противостояние, которое наносит «противнику» ущерб, моральный или физический. Разумеется, что в повседневной жизни невозможно избежать противоречий интересов, желаний и мнений. Задача – обратить конфликт в конструктивный, вызвав ребенка к разговору о возникших противоречиях и к совместному принятию компромиссных решений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-пятых, нельзя унижать достоинство ребенка – игнорировать его, проявлять неуважение к его увлечениям и т.п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-шестых, не стоит заставлять ребенка с помощью силы делать то, что хочется вам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324000" y="836640"/>
            <a:ext cx="85168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ест для родителей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«Пытаетесь ли Вы понять своего ребенка?»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з трех ответов на каждый вопрос выберите один, затем подсчитайте, каких ответов больше всего – А, Б, В.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1. Ребенок капризничает. Не ест суп, хотя всегда ел. Вы: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) дадите ему другое блюдо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б) разрешите выйти ему из-за стола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) не выпустите его из-за стола до тех пор, пока не съест все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2. Ваш ребенок во дворе «круто» поссорился со сверстниками. Вы: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) идете во двор и разбираетесь с детьми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б) советуете ребенку самому уладить конфликт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) предлагаете остаться дома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Прямоугольник 1"/>
          <p:cNvSpPr/>
          <p:nvPr/>
        </p:nvSpPr>
        <p:spPr>
          <a:xfrm>
            <a:off x="900000" y="620640"/>
            <a:ext cx="78487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3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. Ваш ребенок смотрит фильм, вместо того, чтобы делать уроки В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) начнете его ругать, крича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б) попытаетесь выяснить, почему он не делает уроки, возможно, сяде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ядом и разберете вместе с ним домашнее зада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) без слов выключите телевиз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4. Ваш ребенок скрыл от Вас полученные двой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) вы в гневе и за двойки, и за их сокрытие, запрещаете все, кроме урок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б) пытаетесь помочь исправить положе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) физически или как-нибудь иначе наказываете подрост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5. Ваш сын (дочь) гораздо позже назначенного времени вернулся (ась) домо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) не выяснив причины, начинаете руга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б) обсудите случившееся, выясните, почему задержался и договоритес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что впредь опозданий не буде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) накаже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Прямоугольник 1"/>
          <p:cNvSpPr/>
          <p:nvPr/>
        </p:nvSpPr>
        <p:spPr>
          <a:xfrm>
            <a:off x="1042920" y="1444680"/>
            <a:ext cx="7489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д каждой буквой прочтите мнение о себ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 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– это тип авторитарного родителя, который мало доверяет своему ребенку, мало понимает его потреб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Б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– это тип родителя, признающего право ребенка на личный опыт, даже ошибки, и пытающегося научить его отвечать за себя и свои поступ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– тип родителя, не пытающегося понять ребенка, основным его методом воспитания является порицание и наказ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Прямоугольник 1"/>
          <p:cNvSpPr/>
          <p:nvPr/>
        </p:nvSpPr>
        <p:spPr>
          <a:xfrm>
            <a:off x="1042920" y="620640"/>
            <a:ext cx="712944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авила воспит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Если ребенка постоянно критиковать, он учи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ненавиде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Если ребенок живет во вражде, он учи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агрессив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Если ребенка высмеивают, он станови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замкнут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Если ребенок растет в упреках, он учится жи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с чувством в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Если ребенок растет в терпимости, он учи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принимать друг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Если ребенка подбадривают, он учи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верить в себ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Если ребенок растет в честности, он учи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быть справедлив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Если ребенок растет в безопасности, он учи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верить в себ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Если ребенок живет в понимании и дружелюбии, он учи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находить любовь в этом ми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Шесть правил показывающие вашим детям, что готовы их выслушать и вникнуть в их проблемы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Устраните отвлекающие моменты 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Повернитесь к вашему ребенку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Поддерживайте зрительный контакт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Выразите лицом и голосом заботу и сочувствие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Будьте активным слушателем. Реагируйте краткими замечаниями, показывая ваше неослабевающее внимание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Назовите ребенку его проблему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Способы влияния на детей в подростковом возрасте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entury Gothic"/>
              </a:rPr>
              <a:t>Побуждение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. Поручите ребенку дело, подчеркивая, что вы уверены в его способностях и силах, поэтому доверяете ему важное и полезное дело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entury Gothic"/>
              </a:rPr>
              <a:t>Соблюдение ритма.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Давая поручение позаботьтесь о том, что бы оно не ломало привычного ритма жизни вашего взрослого ребенка. Признавайте право юного человека на ошибку. Помните, что не ошибается только тот, кто ничего не делает. 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7T17:28:58Z</dcterms:created>
  <dc:creator>ishimova</dc:creator>
  <dc:description/>
  <dc:language>en-US</dc:language>
  <cp:lastModifiedBy>pc</cp:lastModifiedBy>
  <dcterms:modified xsi:type="dcterms:W3CDTF">2015-03-15T08:19:55Z</dcterms:modified>
  <cp:revision>91</cp:revision>
  <dc:subject/>
  <dc:title>Слайд 1</dc:title>
</cp:coreProperties>
</file>