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78E-868C-4D9B-8FF9-E3881129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009-8BB6-4358-B388-1C442105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073-D11A-442B-A13E-C36F3368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09F-25A8-4170-9FED-B89AA1D3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82A-C246-42CF-8E4D-C4A6C5F8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350-0A9E-4A76-B39C-733CA161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E87-598B-4D05-BA3E-D322B61A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504-5E16-4FC5-B21D-F5E3FA31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0F8-C787-44D9-AA83-B88B44F2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AE7-D02F-486B-AC70-DF47B1E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662-C3A4-472E-A2AF-E0CD66B6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FF9-C948-42C5-8271-4558DE6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4750-9E1F-4B64-9049-F02D9D855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здоровье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0880" y="3500280"/>
            <a:ext cx="264312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еница 8 А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БОУ  «СОШ №7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наторова Соф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итель хим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Шелгачёва Т.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156120" y="607212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окузнецк,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803960" y="28584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«Средняя общеобразовательная школа № 71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g1.liveinternet.ru/images/attach/c/11/116/946/116946265_5634319_x.jpg"/>
          <p:cNvPicPr/>
          <p:nvPr/>
        </p:nvPicPr>
        <p:blipFill>
          <a:blip r:embed="rId1"/>
          <a:stretch/>
        </p:blipFill>
        <p:spPr>
          <a:xfrm>
            <a:off x="5618160" y="4500720"/>
            <a:ext cx="3525840" cy="2357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Calibri"/>
              </a:rPr>
              <a:t>Хлорид натрия </a:t>
            </a:r>
            <a:r>
              <a:rPr b="0" lang="en-US" sz="4000" spc="-1" strike="noStrike">
                <a:solidFill>
                  <a:srgbClr val="9933ff"/>
                </a:solidFill>
                <a:latin typeface="Calibri"/>
              </a:rPr>
              <a:t>NaC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ебные свойства поваренной соли известны давно. Они широко применяются в народной медицине. Соль обладает удивительными заживляющими, дезинфицирующими и противовоспалительными свойствами, что позволяет ей справляться с различными недуг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войны успешно применяли при лечении раненых гипертонический раствор поваренной соли: на обширную поверхность загрязненной раны он накладывал рыхлую, обильно смоченную солевым раствором большую салфетку. Через 3-4 дня рана становилась чистой, розовой, температура, если была высокой, опускалась почти до нормальных показателей, после чего накладывалась гипсовая повяз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http://dobrota.ru/UserFiles/Image/preview_katalog/samo_povyaz.jpg"/>
          <p:cNvPicPr/>
          <p:nvPr/>
        </p:nvPicPr>
        <p:blipFill>
          <a:blip r:embed="rId1"/>
          <a:stretch/>
        </p:blipFill>
        <p:spPr>
          <a:xfrm>
            <a:off x="6156360" y="4405320"/>
            <a:ext cx="2987640" cy="2452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Как наложить солевую повя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29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и насморке и головных болях. Сделать на ночь круговую повязку через лоб и затылок. Через час-два насморк проходит, а к утру исчезнет и головная боль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вязка на голову хорошо при повышенном давлении, опухолях, водянке. А вот при атеросклерозе повязку лучше не делать – она обезвоживает голову ещё больше. Для круговой повязки можно использовать только 8%-ный солевой раствор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и гриппе. Наложить повязку на голову при первых же признаках болезни. Если инфекция успела проникнуть в глотку и бронхи, сделать одновременно повязки на голову и шею (из 3-4 слоев мягкого тонкого полотна), на спину из двух слоев влажного и двух слоев сухого полотенца.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Питьевая сода</a:t>
            </a:r>
            <a:r>
              <a:rPr b="0" lang="en-US" sz="4400" spc="-1" strike="noStrike">
                <a:solidFill>
                  <a:srgbClr val="9933ff"/>
                </a:solidFill>
                <a:latin typeface="Calibri"/>
              </a:rPr>
              <a:t> NaHCO</a:t>
            </a:r>
            <a:r>
              <a:rPr b="0" lang="en-US" sz="2400" spc="-1" strike="noStrike">
                <a:solidFill>
                  <a:srgbClr val="9933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ль  гидрокарбонат натрия или питьевая сода. Применяется в порошках, таблетка, растворах при повышенной кислотности желудочного сока, язвенной болезни желудка и двенадцатиперстной кишки ,изжоге. Наружно применяется как слабая щелочь при ожогах , промывания и ингаляций при насмор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Питьевая сода - ваш друг Этот рецепт, как и... / Моя жизнь / Вода питьевая в бутылках / Pinme.ru / Юля"/>
          <p:cNvPicPr/>
          <p:nvPr/>
        </p:nvPicPr>
        <p:blipFill>
          <a:blip r:embed="rId1"/>
          <a:stretch/>
        </p:blipFill>
        <p:spPr>
          <a:xfrm>
            <a:off x="5786280" y="3929040"/>
            <a:ext cx="2705400" cy="270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Перманганат калия </a:t>
            </a:r>
            <a:r>
              <a:rPr b="0" lang="en-US" sz="4400" spc="-1" strike="noStrike">
                <a:solidFill>
                  <a:srgbClr val="9933ff"/>
                </a:solidFill>
                <a:latin typeface="Calibri"/>
              </a:rPr>
              <a:t>KMnO</a:t>
            </a:r>
            <a:r>
              <a:rPr b="0" lang="en-US" sz="2400" spc="-1" strike="noStrike">
                <a:solidFill>
                  <a:srgbClr val="9933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спользуется в медицинской практике в виде раствора для смазывания обожженных мест и как кровоостанавливающее средство. Употребляют для полоскания рта и горла. Обеззараживает многие яды. Способствует возникновению рвот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Химия и Химики 6 2011. Химия для любознательных. Основы химии и занимательные опыты - Гроссе Э., Вайсмантель X."/>
          <p:cNvPicPr/>
          <p:nvPr/>
        </p:nvPicPr>
        <p:blipFill>
          <a:blip r:embed="rId1"/>
          <a:stretch/>
        </p:blipFill>
        <p:spPr>
          <a:xfrm>
            <a:off x="5715000" y="4857840"/>
            <a:ext cx="274968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Calibri"/>
              </a:rPr>
              <a:t>Спиртовая настойка йо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зинфицирующее средство, которое используется для обработки поверхности вокруг раны, добавляется при полоскании горла в раствор соли с водой, используется для обеззараживания воды в условиях п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Йод от прыщей"/>
          <p:cNvPicPr/>
          <p:nvPr/>
        </p:nvPicPr>
        <p:blipFill>
          <a:blip r:embed="rId1"/>
          <a:stretch/>
        </p:blipFill>
        <p:spPr>
          <a:xfrm>
            <a:off x="5364000" y="3933720"/>
            <a:ext cx="3214800" cy="267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Перекись водорода </a:t>
            </a:r>
            <a:r>
              <a:rPr b="0" lang="en-US" sz="4400" spc="-1" strike="noStrike">
                <a:solidFill>
                  <a:srgbClr val="9933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9933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9933ff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личный антисептик, применяется для обработки ран и остановки крови. Клетки иммунной  системы вырабатывают Н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которая  при разложении выделяет атомарный кислород. Без него невозможна ни одна биоэнергетическая реакция. Уничтожает любую патогенную фл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ЗДОРОВЬЕ Записи в рубрике ЗДОРОВЬЕ Дневник Елена Тарасова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6072120" y="4143240"/>
            <a:ext cx="1714680" cy="211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Уголь активирован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ладает удивительной способностью поглощать многие яды и лекарства. При отравлении после промывания желудка необходимо принять кашицу из активированного угля.  10 г угля могут полностью нейтрализовать смертельную дозу снотвор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Как пить уголь чтобы похудеть Похудетки"/>
          <p:cNvPicPr/>
          <p:nvPr/>
        </p:nvPicPr>
        <p:blipFill>
          <a:blip r:embed="rId1"/>
          <a:stretch/>
        </p:blipFill>
        <p:spPr>
          <a:xfrm>
            <a:off x="4286160" y="4357800"/>
            <a:ext cx="35719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Lucida Sans Unicode"/>
              </a:rPr>
              <a:t>Неограниченные вещества, наиболее используемые для оказания медицинской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395280" y="1197000"/>
            <a:ext cx="842976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Calibri"/>
              </a:rPr>
              <a:t>Диаграмма №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hart 1" descr=""/>
          <p:cNvPicPr/>
          <p:nvPr/>
        </p:nvPicPr>
        <p:blipFill>
          <a:blip r:embed="rId1"/>
          <a:stretch/>
        </p:blipFill>
        <p:spPr>
          <a:xfrm>
            <a:off x="244440" y="1189080"/>
            <a:ext cx="8240760" cy="454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Calibri"/>
              </a:rPr>
              <a:t>Диаграмма №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hart 2" descr=""/>
          <p:cNvPicPr/>
          <p:nvPr/>
        </p:nvPicPr>
        <p:blipFill>
          <a:blip r:embed="rId1"/>
          <a:stretch/>
        </p:blipFill>
        <p:spPr>
          <a:xfrm>
            <a:off x="324000" y="1407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о данным Всемирной организации здравоохранения уровень здоровья человек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50% зависит от образа жизн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17-20%  от социальных и природных условий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17-20% от наследственност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8-9% от уровня здравоохран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Calibri"/>
              </a:rPr>
              <a:t>Диаграмма №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hart 3" descr=""/>
          <p:cNvPicPr/>
          <p:nvPr/>
        </p:nvPicPr>
        <p:blipFill>
          <a:blip r:embed="rId1"/>
          <a:stretch/>
        </p:blipFill>
        <p:spPr>
          <a:xfrm>
            <a:off x="0" y="1195560"/>
            <a:ext cx="8229600" cy="45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Calibri"/>
              </a:rPr>
              <a:t>Диаграмма №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hart 4" descr=""/>
          <p:cNvPicPr/>
          <p:nvPr/>
        </p:nvPicPr>
        <p:blipFill>
          <a:blip r:embed="rId1"/>
          <a:stretch/>
        </p:blipFill>
        <p:spPr>
          <a:xfrm>
            <a:off x="249120" y="1407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Calibri"/>
              </a:rPr>
              <a:t>Диаграмма №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1"/>
          <a:stretch/>
        </p:blipFill>
        <p:spPr>
          <a:xfrm>
            <a:off x="324000" y="133524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Calibri"/>
              </a:rPr>
              <a:t>Диаграмма №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hart 6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229600" cy="452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Диаграмма №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682560" y="1414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044720" y="187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 основании результатов исследования выявле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ольшинство учащихся связывают оказание медицинской помощи с неорганическими веществами традиционно считающимися лекарственными (раствор йода, перманганат калия, перекиси водорода и активированный угол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дростки хорошо ориентируются в применении перманганата калия  при обработке ран и пищевых  отравлений, но не знают об использовании слабых растворов для полоскания горла; 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494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8571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щиеся знают о применении поваренной соли и пищевой соды при лечении простудных заболеваний, но плохо ориентирующихся в применении этих веществ при пищевых отравления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щиеся плохо ориентируются в вопросах применения данных веществ  при термических ожог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ебольшая часть подростков знает о применении спиртовой настойки йода для обеззараживания воды       и добавлении его в соляно-содовый раствор при полос-кании горла;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щиеся  знают о применении активированного угля при отравлениях и обеззараживания воды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Calibri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щимся учиться применять знания, полученные на уроках, в повседневной жизни, в частности,  для поддержания своего здоровь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ителю химии и биологии увязывать проблемы образования с вопросами безопасности жизнедеятель-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ителю ОБЖ обратить внимание на пробелы в знаниях учащихся по вопросу обеззараживания воды в условиях похода и действиях учащихся при получении термических ож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39640" y="2997360"/>
            <a:ext cx="53578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те здоровы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http://dg54.mycdn.me/getImage?photoId=770933120572&amp;photoType=0"/>
          <p:cNvPicPr/>
          <p:nvPr/>
        </p:nvPicPr>
        <p:blipFill>
          <a:blip r:embed="rId1"/>
          <a:stretch/>
        </p:blipFill>
        <p:spPr>
          <a:xfrm>
            <a:off x="2124000" y="1125360"/>
            <a:ext cx="6072120" cy="464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«Не только сам  врач должен употреблять в дело всё, что необходимо, но и больной, и окружающие, и все внешние обстоятельства должны способствовать врачу в его деятельности»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Наши пищевые вещества должны быть лечебным средством, а наши лечебные средства должны быть пищевыми веществ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иппокр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пределение  роли некоторых неорганичес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ществ в сохранении здоровья чело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Formodessa.com - Пигменты, красители для бетона. Цветной бетон, технология окраски бетона, что такое красящие пигменты, красител"/>
          <p:cNvPicPr/>
          <p:nvPr/>
        </p:nvPicPr>
        <p:blipFill>
          <a:blip r:embed="rId1"/>
          <a:stretch/>
        </p:blipFill>
        <p:spPr>
          <a:xfrm>
            <a:off x="5219640" y="3860640"/>
            <a:ext cx="3286080" cy="230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Объект исследо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еорганические вещества 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здоровье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Химические реактивы и особо чистые вещества, органические и неорганические реактивы, Химические элементы, вещества и соединения."/>
          <p:cNvPicPr/>
          <p:nvPr/>
        </p:nvPicPr>
        <p:blipFill>
          <a:blip r:embed="rId1"/>
          <a:stretch/>
        </p:blipFill>
        <p:spPr>
          <a:xfrm>
            <a:off x="4357800" y="3429000"/>
            <a:ext cx="371448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6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.    Изучить роль некоторых неорганических вещест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aCI, NaHCO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KMnO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J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C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кт.) в жизни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    Выяснить представления учащихся школы № 71 о применении данных веществ в бытовых ситуациях связанных со здоровьем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3.    Разработать рекомендации для учителей и                   учащихся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Calibri"/>
              </a:rPr>
              <a:t>Гипотеза исследо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 все учащиеся знают о применении некоторых неорганических веществ, таких как поваренная соль, пищевая сода, водорода, спиртовой раствор йода, активированный уголь, для лечения симптомов простуды, ран, ожо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Татьяна</cp:lastModifiedBy>
  <dcterms:modified xsi:type="dcterms:W3CDTF">2015-03-03T07:13:43Z</dcterms:modified>
  <cp:revision>55</cp:revision>
  <dc:subject/>
  <dc:title>Презентация PowerPoint</dc:title>
</cp:coreProperties>
</file>