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E414FCE-7D97-48B8-A300-9B49BCF6B904}" type="doc">
      <dgm:prSet loTypeId="urn:microsoft.com/office/officeart/2005/8/layout/arrow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03CC2B-D5D4-47CC-BE22-C77927D9A85A}">
      <dgm:prSet phldrT="[Текст]" custT="1"/>
      <dgm:spPr/>
      <dgm:t>
        <a:bodyPr/>
        <a:lstStyle/>
        <a:p>
          <a:r>
            <a:rPr lang="ru-RU" sz="2000" b="1" dirty="0" smtClean="0">
              <a:solidFill>
                <a:srgbClr val="002060"/>
              </a:solidFill>
            </a:rPr>
            <a:t>словообразование</a:t>
          </a:r>
          <a:endParaRPr lang="ru-RU" sz="2000" b="1" dirty="0">
            <a:solidFill>
              <a:srgbClr val="002060"/>
            </a:solidFill>
          </a:endParaRPr>
        </a:p>
      </dgm:t>
    </dgm:pt>
    <dgm:pt modelId="{C69AC6D5-3A9B-4921-ADBD-6D993C0AB089}" type="parTrans" cxnId="{97BC9C9B-0116-48FF-80A4-A136CE3FFC7D}">
      <dgm:prSet/>
      <dgm:spPr/>
      <dgm:t>
        <a:bodyPr/>
        <a:lstStyle/>
        <a:p>
          <a:endParaRPr lang="ru-RU"/>
        </a:p>
      </dgm:t>
    </dgm:pt>
    <dgm:pt modelId="{9D182994-4BDA-43D2-9FA9-1760B04959D8}" type="sibTrans" cxnId="{97BC9C9B-0116-48FF-80A4-A136CE3FFC7D}">
      <dgm:prSet/>
      <dgm:spPr/>
      <dgm:t>
        <a:bodyPr/>
        <a:lstStyle/>
        <a:p>
          <a:endParaRPr lang="ru-RU"/>
        </a:p>
      </dgm:t>
    </dgm:pt>
    <dgm:pt modelId="{ABBD2AB7-E676-4886-A605-76333A98A551}">
      <dgm:prSet phldrT="[Текст]" custT="1"/>
      <dgm:spPr>
        <a:solidFill>
          <a:srgbClr val="00B0F0"/>
        </a:solidFill>
      </dgm:spPr>
      <dgm:t>
        <a:bodyPr/>
        <a:lstStyle/>
        <a:p>
          <a:r>
            <a:rPr lang="ru-RU" sz="2400" b="1" dirty="0" smtClean="0">
              <a:solidFill>
                <a:srgbClr val="C00000"/>
              </a:solidFill>
            </a:rPr>
            <a:t>заимствование</a:t>
          </a:r>
          <a:endParaRPr lang="ru-RU" sz="2400" b="1" dirty="0">
            <a:solidFill>
              <a:srgbClr val="C00000"/>
            </a:solidFill>
          </a:endParaRPr>
        </a:p>
      </dgm:t>
    </dgm:pt>
    <dgm:pt modelId="{5F458FB7-D658-45C2-ABF4-7B7F15A63236}" type="parTrans" cxnId="{34863E35-9724-45E3-BB3C-413BD9AD8070}">
      <dgm:prSet/>
      <dgm:spPr/>
      <dgm:t>
        <a:bodyPr/>
        <a:lstStyle/>
        <a:p>
          <a:endParaRPr lang="ru-RU"/>
        </a:p>
      </dgm:t>
    </dgm:pt>
    <dgm:pt modelId="{164BB6A3-7BA4-44B6-9810-F65AD37FF9DF}" type="sibTrans" cxnId="{34863E35-9724-45E3-BB3C-413BD9AD8070}">
      <dgm:prSet/>
      <dgm:spPr/>
      <dgm:t>
        <a:bodyPr/>
        <a:lstStyle/>
        <a:p>
          <a:endParaRPr lang="ru-RU"/>
        </a:p>
      </dgm:t>
    </dgm:pt>
    <dgm:pt modelId="{6EDE8B6B-1434-45FC-91BE-ECFF83EABF26}" type="pres">
      <dgm:prSet presAssocID="{AE414FCE-7D97-48B8-A300-9B49BCF6B904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C47EE7D-8D85-4F05-B453-76E64EA0C2FE}" type="pres">
      <dgm:prSet presAssocID="{A603CC2B-D5D4-47CC-BE22-C77927D9A85A}" presName="arrow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90BC73F-6A82-457C-B110-54BDC5CCE7A3}" type="pres">
      <dgm:prSet presAssocID="{ABBD2AB7-E676-4886-A605-76333A98A551}" presName="arrow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1D8EE83-9EEC-4BBA-AD7D-1C44CD07401D}" type="presOf" srcId="{ABBD2AB7-E676-4886-A605-76333A98A551}" destId="{C90BC73F-6A82-457C-B110-54BDC5CCE7A3}" srcOrd="0" destOrd="0" presId="urn:microsoft.com/office/officeart/2005/8/layout/arrow5"/>
    <dgm:cxn modelId="{97BC9C9B-0116-48FF-80A4-A136CE3FFC7D}" srcId="{AE414FCE-7D97-48B8-A300-9B49BCF6B904}" destId="{A603CC2B-D5D4-47CC-BE22-C77927D9A85A}" srcOrd="0" destOrd="0" parTransId="{C69AC6D5-3A9B-4921-ADBD-6D993C0AB089}" sibTransId="{9D182994-4BDA-43D2-9FA9-1760B04959D8}"/>
    <dgm:cxn modelId="{CA7F2477-5407-476F-87C1-644F5082B228}" type="presOf" srcId="{AE414FCE-7D97-48B8-A300-9B49BCF6B904}" destId="{6EDE8B6B-1434-45FC-91BE-ECFF83EABF26}" srcOrd="0" destOrd="0" presId="urn:microsoft.com/office/officeart/2005/8/layout/arrow5"/>
    <dgm:cxn modelId="{34863E35-9724-45E3-BB3C-413BD9AD8070}" srcId="{AE414FCE-7D97-48B8-A300-9B49BCF6B904}" destId="{ABBD2AB7-E676-4886-A605-76333A98A551}" srcOrd="1" destOrd="0" parTransId="{5F458FB7-D658-45C2-ABF4-7B7F15A63236}" sibTransId="{164BB6A3-7BA4-44B6-9810-F65AD37FF9DF}"/>
    <dgm:cxn modelId="{50728A54-0238-47D8-AE6E-B0F918520038}" type="presOf" srcId="{A603CC2B-D5D4-47CC-BE22-C77927D9A85A}" destId="{9C47EE7D-8D85-4F05-B453-76E64EA0C2FE}" srcOrd="0" destOrd="0" presId="urn:microsoft.com/office/officeart/2005/8/layout/arrow5"/>
    <dgm:cxn modelId="{26863F18-B8B5-42CD-8344-C9D0E788DB82}" type="presParOf" srcId="{6EDE8B6B-1434-45FC-91BE-ECFF83EABF26}" destId="{9C47EE7D-8D85-4F05-B453-76E64EA0C2FE}" srcOrd="0" destOrd="0" presId="urn:microsoft.com/office/officeart/2005/8/layout/arrow5"/>
    <dgm:cxn modelId="{B3838762-4CB9-494C-ABCF-DC6D8D5DD8FF}" type="presParOf" srcId="{6EDE8B6B-1434-45FC-91BE-ECFF83EABF26}" destId="{C90BC73F-6A82-457C-B110-54BDC5CCE7A3}" srcOrd="1" destOrd="0" presId="urn:microsoft.com/office/officeart/2005/8/layout/arrow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C47EE7D-8D85-4F05-B453-76E64EA0C2FE}">
      <dsp:nvSpPr>
        <dsp:cNvPr id="0" name=""/>
        <dsp:cNvSpPr/>
      </dsp:nvSpPr>
      <dsp:spPr>
        <a:xfrm rot="16200000">
          <a:off x="1678" y="630076"/>
          <a:ext cx="3613472" cy="3613472"/>
        </a:xfrm>
        <a:prstGeom prst="downArrow">
          <a:avLst>
            <a:gd name="adj1" fmla="val 50000"/>
            <a:gd name="adj2" fmla="val 35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solidFill>
                <a:srgbClr val="002060"/>
              </a:solidFill>
            </a:rPr>
            <a:t>словообразование</a:t>
          </a:r>
          <a:endParaRPr lang="ru-RU" sz="2000" b="1" kern="1200" dirty="0">
            <a:solidFill>
              <a:srgbClr val="002060"/>
            </a:solidFill>
          </a:endParaRPr>
        </a:p>
      </dsp:txBody>
      <dsp:txXfrm rot="5400000">
        <a:off x="1678" y="1533444"/>
        <a:ext cx="2981114" cy="1806736"/>
      </dsp:txXfrm>
    </dsp:sp>
    <dsp:sp modelId="{C90BC73F-6A82-457C-B110-54BDC5CCE7A3}">
      <dsp:nvSpPr>
        <dsp:cNvPr id="0" name=""/>
        <dsp:cNvSpPr/>
      </dsp:nvSpPr>
      <dsp:spPr>
        <a:xfrm rot="5400000">
          <a:off x="3852448" y="630076"/>
          <a:ext cx="3613472" cy="3613472"/>
        </a:xfrm>
        <a:prstGeom prst="downArrow">
          <a:avLst>
            <a:gd name="adj1" fmla="val 50000"/>
            <a:gd name="adj2" fmla="val 35000"/>
          </a:avLst>
        </a:prstGeom>
        <a:solidFill>
          <a:srgbClr val="00B0F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>
              <a:solidFill>
                <a:srgbClr val="C00000"/>
              </a:solidFill>
            </a:rPr>
            <a:t>заимствование</a:t>
          </a:r>
          <a:endParaRPr lang="ru-RU" sz="2400" b="1" kern="1200" dirty="0">
            <a:solidFill>
              <a:srgbClr val="C00000"/>
            </a:solidFill>
          </a:endParaRPr>
        </a:p>
      </dsp:txBody>
      <dsp:txXfrm rot="-5400000">
        <a:off x="4484806" y="1533444"/>
        <a:ext cx="2981114" cy="180673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arrow5">
  <dgm:title val=""/>
  <dgm:desc val=""/>
  <dgm:catLst>
    <dgm:cat type="relationship" pri="6000"/>
    <dgm:cat type="process" pri="31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axis="ch" ptType="node" func="cnt" op="equ" val="2">
        <dgm:choose name="Name2">
          <dgm:if name="Name3" func="var" arg="dir" op="equ" val="norm">
            <dgm:alg type="cycle">
              <dgm:param type="rotPath" val="alongPath"/>
              <dgm:param type="stAng" val="270"/>
            </dgm:alg>
          </dgm:if>
          <dgm:else name="Name4">
            <dgm:alg type="cycle">
              <dgm:param type="rotPath" val="alongPath"/>
              <dgm:param type="stAng" val="90"/>
              <dgm:param type="spanAng" val="-360"/>
            </dgm:alg>
          </dgm:else>
        </dgm:choose>
      </dgm:if>
      <dgm:else name="Name5">
        <dgm:choose name="Name6">
          <dgm:if name="Name7" func="var" arg="dir" op="equ" val="norm">
            <dgm:alg type="cycle">
              <dgm:param type="rotPath" val="alongPath"/>
            </dgm:alg>
          </dgm:if>
          <dgm:else name="Name8">
            <dgm:alg type="cycle">
              <dgm:param type="rotPath" val="alongPath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lte" val="2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0.1"/>
          <dgm:constr type="sibSp" refType="h" op="lte" fact="0.1"/>
          <dgm:constr type="diam" refType="w" refFor="ch" refPtType="node" op="equ" fact="1.1"/>
        </dgm:constrLst>
      </dgm:if>
      <dgm:if name="Name11" axis="ch" ptType="node" func="cnt" op="equ" val="5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2"/>
          <dgm:constr type="sibSp" refType="h" op="lte" fact="0.1"/>
        </dgm:constrLst>
      </dgm:if>
      <dgm:if name="Name12" axis="ch" ptType="node" func="cnt" op="equ" val="6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1"/>
          <dgm:constr type="sibSp" refType="h" op="lte" fact="0.1"/>
        </dgm:constrLst>
      </dgm:if>
      <dgm:if name="Name13" axis="ch" ptType="node" func="cnt" op="equ" val="7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1"/>
          <dgm:constr type="sibSp" refType="h" op="lte" fact="0.1"/>
        </dgm:constrLst>
      </dgm:if>
      <dgm:if name="Name14" axis="ch" ptType="node" func="cnt" op="equ" val="8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/>
          <dgm:constr type="sibSp" refType="h" op="lte" fact="0.1"/>
        </dgm:constrLst>
      </dgm:if>
      <dgm:if name="Name15" axis="ch" ptType="node" func="cnt" op="gte" val="9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1"/>
          <dgm:constr type="sibSp" refType="h" op="lte" fact="0.1"/>
        </dgm:constrLst>
      </dgm:if>
      <dgm:else name="Name16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35"/>
        </dgm:constrLst>
      </dgm:else>
    </dgm:choose>
    <dgm:ruleLst/>
    <dgm:forEach name="Name17" axis="ch" ptType="node">
      <dgm:layoutNode name="arrow">
        <dgm:varLst>
          <dgm:bulletEnabled val="1"/>
        </dgm:varLst>
        <dgm:alg type="tx"/>
        <dgm:shape xmlns:r="http://schemas.openxmlformats.org/officeDocument/2006/relationships" type="downArrow" r:blip="">
          <dgm:adjLst>
            <dgm:adj idx="2" val="0.35"/>
          </dgm:adjLst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E42-947B-497E-A5F3-D27E638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3B6-7204-47CD-852B-1DCF5302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1FC-48BF-47EB-B777-26F19E02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11D-403F-41FA-9A30-A514E91C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C3EA1-4EA9-4020-A574-1485BA17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CDBCC-4C78-4E7C-9510-0298E760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8335A-B115-4211-83F0-844914D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CE339-78D5-4961-8097-773B3CC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6E26F-770F-4C72-973B-A4770302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DA23-9304-4911-8E87-17FF9A7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6F39C-AAC7-4F2C-9AB8-D043D83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023-8F55-4ACE-B0B3-3761E0F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123AC-48F8-4F60-9928-EDD74B3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59208-8570-4D4E-AAD2-01D91B1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650A7-53DB-4A5F-B1E0-D29E5403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02FA-852E-46F1-A769-273DE032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59805-6B7D-4CFD-BFE5-3B609B6F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1E92-A887-4C22-BF9A-84D1831D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1DD7-0E70-4E6E-80A3-CBA58FA0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646B-EBAC-4287-AB4D-4474F5B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D7AD-4300-457F-B9FC-CECE5DB3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087A-30DB-4473-9249-92ABB033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185-E64C-4A11-AE7B-3B161544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4FBC-92C2-4AF1-A302-9FAD3139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9794-FD3C-4DE2-8537-F1A1BC6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0BB9-37F2-4C22-9E79-FC21D3AE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9F02-9D01-4A6C-87A0-C8DF250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772D-2458-4CA9-B398-4864B341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9342-FE40-4593-A981-0F8A6929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0BA9-3D52-4C92-B036-37499F9B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1B14-3D4E-4BD9-9427-090D7E98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AFA8-F5A8-43B5-8B7F-1A37F83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41E6-EC78-4197-9FE0-6EC1801B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B6F-DF6A-4C8D-964D-258D9EE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B2B4-67DF-4FB7-8026-B8A31433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4B24-7271-4D31-8045-25393DB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6970-1531-4B9A-A2E9-E803908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0BF0-4604-4C12-B03E-5F0367B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3281-AA58-4E83-9FB5-987AAEC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CDE3-87AA-4299-AE1E-691C853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76A2-603E-412B-BB26-E72EFED4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2929-F6AB-4A17-8E94-36C1B79D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BF49-E036-462D-B695-E0116C48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8E3-6C40-47FC-AECC-43B1D25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789-DEFC-4807-8CD0-AD75D31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A93-F9BB-4025-AF8C-C36244F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903-D171-429A-9067-62064F1C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CA7-78DE-4729-8DD5-64B39FD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7CE3E9-E802-4290-BAA4-8A8886D790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005DD9F-52DC-4808-984A-383D1BF6BA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AAD403-1606-44F9-A967-EFF3603857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2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089BC2C-ACA4-4791-89A3-9802A78011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body"/>
          </p:nvPr>
        </p:nvSpPr>
        <p:spPr>
          <a:xfrm>
            <a:off x="437184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 type="body"/>
          </p:nvPr>
        </p:nvSpPr>
        <p:spPr>
          <a:xfrm>
            <a:off x="4572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8"/>
          <p:cNvSpPr>
            <a:spLocks noGrp="1"/>
          </p:cNvSpPr>
          <p:nvPr>
            <p:ph type="body"/>
          </p:nvPr>
        </p:nvSpPr>
        <p:spPr>
          <a:xfrm>
            <a:off x="43434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 rot="21264600">
            <a:off x="1499760" y="1714680"/>
            <a:ext cx="65718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Как пополняется словарный запас</a:t>
            </a:r>
            <a:br>
              <a:rPr sz="4000"/>
            </a:b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 русского языка.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Урок русского языка в 5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Слова устаревают. </a:t>
            </a:r>
            <a:br>
              <a:rPr sz="3000"/>
            </a:b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Что это значит 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Историзм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Архаизм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1" name="Рисунок 4" descr="068.JPG"/>
          <p:cNvPicPr/>
          <p:nvPr/>
        </p:nvPicPr>
        <p:blipFill>
          <a:blip r:embed="rId1"/>
          <a:stretch/>
        </p:blipFill>
        <p:spPr>
          <a:xfrm>
            <a:off x="4500720" y="2214720"/>
            <a:ext cx="224388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7040160" y="3286080"/>
            <a:ext cx="2098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ветрил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а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6" descr="J0315592.JPG"/>
          <p:cNvPicPr/>
          <p:nvPr/>
        </p:nvPicPr>
        <p:blipFill>
          <a:blip r:embed="rId2"/>
          <a:stretch/>
        </p:blipFill>
        <p:spPr>
          <a:xfrm>
            <a:off x="357120" y="2071800"/>
            <a:ext cx="3230640" cy="23043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7"/>
          <p:cNvSpPr/>
          <p:nvPr/>
        </p:nvSpPr>
        <p:spPr>
          <a:xfrm>
            <a:off x="500040" y="4929120"/>
            <a:ext cx="3142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черни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Два способа пополнения словарного запас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25335858"/>
              </p:ext>
            </p:extLst>
          </p:nvPr>
        </p:nvGraphicFramePr>
        <p:xfrm>
          <a:off x="457200" y="1600200"/>
          <a:ext cx="7467120" cy="487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46" name="TextBox 6"/>
          <p:cNvSpPr/>
          <p:nvPr/>
        </p:nvSpPr>
        <p:spPr>
          <a:xfrm rot="16200000">
            <a:off x="2564280" y="3463920"/>
            <a:ext cx="327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Заимствованные слова или иноязычные слова в русском язык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Что вы узнали об  иностранных словах,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оторые живут в русском языке?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4" descr="J0144368.JPG"/>
          <p:cNvPicPr/>
          <p:nvPr/>
        </p:nvPicPr>
        <p:blipFill>
          <a:blip r:embed="rId1"/>
          <a:stretch/>
        </p:blipFill>
        <p:spPr>
          <a:xfrm>
            <a:off x="142920" y="53640"/>
            <a:ext cx="9000720" cy="6750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Рисунок 3"/>
          <p:cNvSpPr/>
          <p:nvPr/>
        </p:nvSpPr>
        <p:spPr>
          <a:xfrm>
            <a:off x="714240" y="928800"/>
            <a:ext cx="7786440" cy="495252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 flipV="1">
            <a:off x="5143320" y="2071440"/>
            <a:ext cx="786240" cy="7200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4" name="Прямая со стрелкой 10"/>
          <p:cNvCxnSpPr/>
          <p:nvPr/>
        </p:nvCxnSpPr>
        <p:spPr>
          <a:xfrm flipH="1" flipV="1">
            <a:off x="6357600" y="2357280"/>
            <a:ext cx="214920" cy="57168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5" name="Прямая со стрелкой 13"/>
          <p:cNvCxnSpPr/>
          <p:nvPr/>
        </p:nvCxnSpPr>
        <p:spPr>
          <a:xfrm flipV="1">
            <a:off x="4714560" y="2357280"/>
            <a:ext cx="1286280" cy="78624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6" name="Прямая со стрелкой 16"/>
          <p:cNvCxnSpPr/>
          <p:nvPr/>
        </p:nvCxnSpPr>
        <p:spPr>
          <a:xfrm flipV="1">
            <a:off x="3071520" y="2214360"/>
            <a:ext cx="2858040" cy="85752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7" name="Прямая со стрелкой 27"/>
          <p:cNvCxnSpPr/>
          <p:nvPr/>
        </p:nvCxnSpPr>
        <p:spPr>
          <a:xfrm flipH="1" flipV="1">
            <a:off x="6786360" y="2071440"/>
            <a:ext cx="1072080" cy="7200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4" descr="08.JPG"/>
          <p:cNvPicPr/>
          <p:nvPr/>
        </p:nvPicPr>
        <p:blipFill>
          <a:blip r:embed="rId1"/>
          <a:stretch/>
        </p:blipFill>
        <p:spPr>
          <a:xfrm>
            <a:off x="428760" y="214200"/>
            <a:ext cx="7953120" cy="6357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Халат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— hil’at — почётное платье 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Хал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— халяуа от хелюэ — сладость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Шахматы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- шах матт- шах умер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1" name="Рисунок 3" descr="J0179966.JPG"/>
          <p:cNvPicPr/>
          <p:nvPr/>
        </p:nvPicPr>
        <p:blipFill>
          <a:blip r:embed="rId2"/>
          <a:stretch/>
        </p:blipFill>
        <p:spPr>
          <a:xfrm>
            <a:off x="5786280" y="2571840"/>
            <a:ext cx="2953080" cy="4086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4" descr="J0144368.JPG"/>
          <p:cNvPicPr/>
          <p:nvPr/>
        </p:nvPicPr>
        <p:blipFill>
          <a:blip r:embed="rId1"/>
          <a:stretch/>
        </p:blipFill>
        <p:spPr>
          <a:xfrm>
            <a:off x="0" y="0"/>
            <a:ext cx="9000720" cy="6857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е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наука о Земле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Демократ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ласть народ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Каллиграф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расивый почерк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матика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– знание, нау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илология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– любовь к слову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илософия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- любовь к мудрост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Рисунок 3"/>
          <p:cNvSpPr/>
          <p:nvPr/>
        </p:nvSpPr>
        <p:spPr>
          <a:xfrm>
            <a:off x="4572000" y="1071360"/>
            <a:ext cx="3357360" cy="4928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5" descr="J0178920.JPG"/>
          <p:cNvPicPr/>
          <p:nvPr/>
        </p:nvPicPr>
        <p:blipFill>
          <a:blip r:embed="rId1"/>
          <a:stretch/>
        </p:blipFill>
        <p:spPr>
          <a:xfrm>
            <a:off x="142920" y="0"/>
            <a:ext cx="8857800" cy="6857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аспорт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пуск в порт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омидор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золотое яблок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Фортепьяно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сильно-слаб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апарацци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комары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бзац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йсберг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Бутерброд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Валторна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лесной рожо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Рыцарь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всадни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Рюкзак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спинной мешо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9" name="Picture 3" descr="C:\Documents and Settings\Миша\Рабочий стол\06T0002i.bmp"/>
          <p:cNvPicPr/>
          <p:nvPr/>
        </p:nvPicPr>
        <p:blipFill>
          <a:blip r:embed="rId2"/>
          <a:stretch/>
        </p:blipFill>
        <p:spPr>
          <a:xfrm rot="-20877000">
            <a:off x="5071680" y="2928600"/>
            <a:ext cx="3214440" cy="36428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70" name="Picture 5" descr="C:\Documents and Settings\Миша\Рабочий стол\I4644i.bmp"/>
          <p:cNvPicPr/>
          <p:nvPr/>
        </p:nvPicPr>
        <p:blipFill>
          <a:blip r:embed="rId3"/>
          <a:stretch/>
        </p:blipFill>
        <p:spPr>
          <a:xfrm>
            <a:off x="642960" y="785880"/>
            <a:ext cx="2642760" cy="36428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6" descr="J0316755.JPG"/>
          <p:cNvPicPr/>
          <p:nvPr/>
        </p:nvPicPr>
        <p:blipFill>
          <a:blip r:embed="rId1"/>
          <a:stretch/>
        </p:blipFill>
        <p:spPr>
          <a:xfrm>
            <a:off x="214200" y="214200"/>
            <a:ext cx="8500680" cy="6500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Арбуз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Бирю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амень счасть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Нефть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Булат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таль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ара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дворец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Абажур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Балет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Билет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Артист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человек искусств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Бульон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отвар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5" name="Содержимое 6" descr="J0227813.JPG"/>
          <p:cNvPicPr/>
          <p:nvPr/>
        </p:nvPicPr>
        <p:blipFill>
          <a:blip r:embed="rId2"/>
          <a:stretch/>
        </p:blipFill>
        <p:spPr>
          <a:xfrm>
            <a:off x="1499760" y="2571480"/>
            <a:ext cx="2401560" cy="36572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76" name="Рисунок 11" descr="J0164051.JPG"/>
          <p:cNvPicPr/>
          <p:nvPr/>
        </p:nvPicPr>
        <p:blipFill>
          <a:blip r:embed="rId3"/>
          <a:stretch/>
        </p:blipFill>
        <p:spPr>
          <a:xfrm rot="-20533800">
            <a:off x="6146640" y="836640"/>
            <a:ext cx="2310120" cy="36572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9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Как обнаружить иноязычное слово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8" name="Содержимое 3" descr="J0289434.JPG"/>
          <p:cNvPicPr/>
          <p:nvPr/>
        </p:nvPicPr>
        <p:blipFill>
          <a:blip r:embed="rId1"/>
          <a:stretch/>
        </p:blipFill>
        <p:spPr>
          <a:xfrm>
            <a:off x="571320" y="2000160"/>
            <a:ext cx="2407680" cy="3657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3214800" y="1785960"/>
            <a:ext cx="58208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лово начинается с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А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или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3">
                    <a:lumMod val="75000"/>
                  </a:schemeClr>
                </a:solidFill>
                <a:latin typeface="Century Schoolbook"/>
              </a:rPr>
              <a:t>АХ, АВОСЬ, АХНУТЬ,ЭТОТ,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четания в корне: </a:t>
            </a: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КЕ,ХЕ,ГЕ,ПЮ,ВЮ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МЮ,БЮ,КЮ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г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 слове есть буква </a:t>
            </a: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Ф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 фоку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седство двух или более гласных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 по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cap="small">
                <a:solidFill>
                  <a:srgbClr val="c00000"/>
                </a:solidFill>
                <a:latin typeface="Century Schoolbook"/>
              </a:rPr>
              <a:t>Задание!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Выбрать из списка иноязычные слова, составить с ними словосочетания, записать, проверяя себя по орфографическому словарю</a:t>
            </a:r>
            <a:r>
              <a:rPr b="0" lang="ru-RU" sz="36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5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600" spc="-1" strike="noStrike" cap="small">
                <a:solidFill>
                  <a:srgbClr val="002060"/>
                </a:solidFill>
                <a:latin typeface="Calibri"/>
              </a:rPr>
              <a:t>« Продолжи фразу»</a:t>
            </a:r>
            <a:endParaRPr b="0" lang="ru-RU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Мы изучаем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Лексика –это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Многозначным  является слово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Фразеологизм- это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solidFill>
            <a:schemeClr val="accent5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Эгоизм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плодисменты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Чемпион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нализ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нтракт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рмия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лоэ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ff0000"/>
                </a:solidFill>
                <a:latin typeface="Century Schoolbook"/>
              </a:rPr>
              <a:t>Найдите к каждому слову левого столбика синоним из правого столби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Перерыв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азбор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толетни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Победитель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Войск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ебялюби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укоплескани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4356000" y="1698120"/>
            <a:ext cx="37144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л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емп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р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плодис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357120" y="6500880"/>
            <a:ext cx="916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Какие из данных слов являются иноязычными, а какие исконно русски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5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500"/>
                            </p:stCondLst>
                            <p:childTnLst>
                              <p:par>
                                <p:cTn id="8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1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4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0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Старославянские слова в русском язык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А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Л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ЛА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Г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ра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д, б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ре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г, ш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ле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ла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денец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184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Р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ЕР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ЕЛ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Л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Г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оро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д, б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ере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г,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ош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ело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мить,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м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оло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дой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неполногласия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434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Schoolbook"/>
              </a:rPr>
              <a:t>полногласия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Стрелка вниз 9"/>
          <p:cNvSpPr/>
          <p:nvPr/>
        </p:nvSpPr>
        <p:spPr>
          <a:xfrm>
            <a:off x="2214720" y="1000080"/>
            <a:ext cx="484200" cy="713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пражнение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пражнение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Спасибо за урок!</a:t>
            </a:r>
            <a:endParaRPr b="0" lang="ru-RU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Агентство « Русский язык»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3" name="Picture 2" descr="D:\Мои рисунки\ФИЛЬМЫ\кино\meninbla.jpg"/>
          <p:cNvPicPr/>
          <p:nvPr/>
        </p:nvPicPr>
        <p:blipFill>
          <a:blip r:embed="rId1"/>
          <a:stretch/>
        </p:blipFill>
        <p:spPr>
          <a:xfrm>
            <a:off x="1285920" y="1928880"/>
            <a:ext cx="6000480" cy="45162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sp>
        <p:nvSpPr>
          <p:cNvPr id="214" name="TextBox 4"/>
          <p:cNvSpPr/>
          <p:nvPr/>
        </p:nvSpPr>
        <p:spPr>
          <a:xfrm>
            <a:off x="5609880" y="1785960"/>
            <a:ext cx="330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Чем занимаются агенты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6715080" y="2643120"/>
            <a:ext cx="24285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Аг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entury Schoolbook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Человек, выполняющий служебные, деловые пор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Человек, который служит чьим-то интере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То же, что шпи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Тест на профессиональную пригодность: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1.Найдите в предложениях фразеологизмы, замените их синонимами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Жили мы с братом душа в душу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Товарищ мой был не из храброго десятка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Дел у него было непочатый край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Улыбающееся лицо 3">
            <a:hlinkClick r:id="rId1" action="ppaction://hlinksldjump"/>
          </p:cNvPr>
          <p:cNvSpPr/>
          <p:nvPr/>
        </p:nvSpPr>
        <p:spPr>
          <a:xfrm>
            <a:off x="8001000" y="5500800"/>
            <a:ext cx="771120" cy="71388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Проверяем!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Жили мы с братом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душа в душу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Товарищ мой был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не из храброго десятка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Дел у него было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непочатый край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Улыбающееся лицо 3">
            <a:hlinkClick r:id="rId1" action="ppaction://hlinksldjump"/>
          </p:cNvPr>
          <p:cNvSpPr/>
          <p:nvPr/>
        </p:nvSpPr>
        <p:spPr>
          <a:xfrm>
            <a:off x="7929720" y="5643720"/>
            <a:ext cx="771120" cy="78552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7030a0"/>
                </a:solidFill>
                <a:latin typeface="Century Schoolbook"/>
              </a:rPr>
              <a:t>2.Лексическое значение какого слова сформулировано неправильно?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ерпантин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длинная узкая бумажная цветная лента, которую бросают в публику на праздничных вечерах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найпер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меткий стрелок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ллиграфия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– искусство писать ровным и красивым почерком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ерфинг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искусство составления букетов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Улыбающееся лицо 3">
            <a:hlinkClick r:id="rId1" action="ppaction://hlinksldjump"/>
          </p:cNvPr>
          <p:cNvSpPr/>
          <p:nvPr/>
        </p:nvSpPr>
        <p:spPr>
          <a:xfrm>
            <a:off x="7929720" y="5500800"/>
            <a:ext cx="842760" cy="78552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Проверяем!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Содержимое 3"/>
          <p:cNvSpPr/>
          <p:nvPr/>
        </p:nvSpPr>
        <p:spPr>
          <a:xfrm>
            <a:off x="928800" y="1428840"/>
            <a:ext cx="7058880" cy="48733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928800" y="2357280"/>
            <a:ext cx="7357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Серфинг</a:t>
            </a:r>
            <a:r>
              <a:rPr b="0" lang="ru-RU" sz="36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– вид водного сп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5">
            <a:hlinkClick r:id="rId2" action="ppaction://hlinksldjump"/>
          </p:cNvPr>
          <p:cNvSpPr/>
          <p:nvPr/>
        </p:nvSpPr>
        <p:spPr>
          <a:xfrm>
            <a:off x="8072640" y="5572080"/>
            <a:ext cx="771120" cy="78552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3. Тема нашего урока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6720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49" strike="noStrike">
                <a:solidFill>
                  <a:srgbClr val="002060"/>
                </a:solidFill>
                <a:latin typeface="Century Schoolbook"/>
              </a:rPr>
              <a:t>Как пополняется словарный запас</a:t>
            </a:r>
            <a:br>
              <a:rPr sz="4000"/>
            </a:br>
            <a:r>
              <a:rPr b="1" lang="ru-RU" sz="4000" spc="49" strike="noStrike">
                <a:solidFill>
                  <a:srgbClr val="002060"/>
                </a:solidFill>
                <a:latin typeface="Century Schoolbook"/>
              </a:rPr>
              <a:t> русского языка.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49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1" name="Рисунок 6" descr="space.jpg"/>
          <p:cNvPicPr/>
          <p:nvPr/>
        </p:nvPicPr>
        <p:blipFill>
          <a:blip r:embed="rId1"/>
          <a:stretch/>
        </p:blipFill>
        <p:spPr>
          <a:xfrm>
            <a:off x="4286160" y="3643200"/>
            <a:ext cx="3393000" cy="2714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838800" y="4357800"/>
            <a:ext cx="302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Сколько слов в рус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язы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Где можно найти нужную информацию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2714760" y="4357800"/>
            <a:ext cx="3321360" cy="221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Рисунок 4"/>
          <p:cNvSpPr/>
          <p:nvPr/>
        </p:nvSpPr>
        <p:spPr>
          <a:xfrm>
            <a:off x="5929200" y="1357200"/>
            <a:ext cx="2437920" cy="36572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Рисунок 5"/>
          <p:cNvSpPr/>
          <p:nvPr/>
        </p:nvSpPr>
        <p:spPr>
          <a:xfrm>
            <a:off x="500040" y="1571760"/>
            <a:ext cx="2444040" cy="365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Тройная стрелка влево/вправо/вверх 7"/>
          <p:cNvSpPr/>
          <p:nvPr/>
        </p:nvSpPr>
        <p:spPr>
          <a:xfrm rot="10800000">
            <a:off x="3786480" y="3143520"/>
            <a:ext cx="1215720" cy="849960"/>
          </a:xfrm>
          <a:prstGeom prst="leftRigh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00206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375</TotalTime>
  <Application>LibreOffice/7.4.7.2$Linux_X86_64 LibreOffice_project/40$Build-2</Application>
  <AppVersion>15.0000</AppVersion>
  <Words>435</Words>
  <Paragraphs>135</Paragraphs>
  <Company>WareZ Provider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1:56:24Z</dcterms:created>
  <dc:creator>www.PHILka.RU</dc:creator>
  <dc:description/>
  <dc:language>en-US</dc:language>
  <cp:lastModifiedBy>Учитель</cp:lastModifiedBy>
  <dcterms:modified xsi:type="dcterms:W3CDTF">2013-11-15T03:10:03Z</dcterms:modified>
  <cp:revision>298</cp:revision>
  <dc:subject/>
  <dc:title>Как пополняется словарный запас русского я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