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A5D-8031-490C-96A8-4DA0F82B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3FF-6694-4447-9804-D1BA7471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B65-7A1D-47DD-BBCE-A3AC1179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345-BA92-41FD-BD78-BF1B3A37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518C-FAAE-446D-B43A-AE021EB0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BFAD-9B8B-477C-8B2B-7A14295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2712-EB96-43F8-A748-2AF7C57B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D29B-7D19-43AE-A249-1E5FA118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EA2B-95A1-475C-8EEB-44CCC8D7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0EC2-2F3E-48A5-A625-746C578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192-95F7-4A80-9A63-4E2DF59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BAE-754D-4108-BCB2-BF189570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CF21-AE56-4523-96E5-DA6B545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2EF-579A-4380-86FB-5E1BC48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E0D1-51E4-4919-B988-C770101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C5D7-4262-4E90-A7D6-E6434610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CD1E-AAA3-4DF7-842F-6FA8206C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E3BA-4BBA-4EED-BC50-6FBF6F02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C125-EEFC-4A66-A84C-2AC2066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B0DF-DEE0-489F-A0C1-A4CE8EC6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534D-C329-4867-9D4A-80460D02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476A-E19A-481D-9A78-F0DA0021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6CA-5956-4F36-94EF-8B510AF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8FD8-B422-4D4F-8DF4-3C90BB77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4A78-C65A-4BF8-9E09-2E2F5F6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DDA6-1D0F-47F8-967E-6954598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055F-395A-4E81-AB50-1D88E0CE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E779-03B0-4DE7-AAC0-A271FFAB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03CA-668D-4E55-93D3-0919D02D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CB6F-E5B5-475C-A128-167C313C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FAFD-557A-43C2-9BF5-E3975022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7E33-7769-43AA-8B81-4F0D3513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7667-CFDE-438F-8FA0-14E4B051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A50-DEAE-4578-A2D6-0F3F568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4687-C974-4DA6-81CB-62BB09E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18DA-9EC9-4B9B-92CD-34AA4C57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41E0-7355-47B1-82E3-32556EEE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7E70-768A-4E94-BA47-5626C0E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3EE3-F522-4546-B8BF-AEEF438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CB9D-45BC-4732-88D8-F845DDC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153B-6FA5-4156-864C-183C291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21B6-85A8-4633-9CCB-8CC4ACEC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C974-9773-4198-9CFF-7C78CEAC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C25E-B498-4BA7-B9E4-3729E4AF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22A-D5F9-4E06-83E0-9DF9993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7595-CDE3-4BF4-97F9-50FCD83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C1C57-6F01-41E6-A09F-D096A2EF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8014-23A9-478B-A4F9-266FE642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3E83-2058-41A4-A501-525D4A83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34502-C2FE-4329-B5AA-A36E7CF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4108-015D-4BED-A407-68A803C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4CB0-2E60-4F19-B577-827D7210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2B15-3A03-4D5F-B5A2-226DA23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9B43-4AE3-4AC0-B9F9-9CD1929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AA41-6948-4657-BFCA-9C85418F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EA7-7875-44A5-8D0A-D54A6A93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F1C80-BF22-4912-9F8C-ADC5B2D9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EDB-3F6B-44F7-B5DA-51F2989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665-5214-4C59-9D9B-378D5D1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C79-102F-43E9-ABA7-2A715CB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00C46B-6215-4717-8255-20ADEF6E27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42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45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48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51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54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902FEE-78D7-4C8E-8692-8591338145C6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99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102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105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08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11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7E0F35-23C6-4BDA-AA2A-381AFA29BF69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58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161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164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67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70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091A46-AAF5-4006-A65D-495CC7385EB2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217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220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223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226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229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D8CBD3-3994-4E8E-B029-973658FF866E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Сотовая связ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Arial"/>
              </a:rPr>
              <a:t>BSC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щный компьютер, обеспечивающий управление работой базовых станций (BTS) и осуществляющий контроль работоспособности всех блоков базовой станции (BTS), а также отвечающий за процедуру handover (передача обслуживания мобильной станции от одной базовой станции к другой в режиме разговора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Основные назначения MSC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шрутизация (направление) сигнала, то есть анализ номера для исходящих и входящих вызовов;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, контроль и разъединение соединений;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CDR-файлов (Call Data Recorder) для предоставления в биллинговую систему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7351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Arial"/>
              </a:rPr>
              <a:t>MSC осуществляет «мониторинг» мобильных станций, используя регистры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280" y="28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LR ( Home Location Registe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домашний регистр местоположения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VLR ( Visitor Location Registe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гостевой регистр местоположения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Arial"/>
              </a:rPr>
              <a:t>AuC</a:t>
            </a: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159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нтр аутентификации формирует параметры для процедуры аутентификации и определяет ключи шифрования мобильных станций абонентов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159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дура аутентификации – процедура подтверждения подлинности абонента (действительности, законности, наличия прав на пользование услугами сотовой связи) сети GSM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Разбиение сети на </a:t>
            </a:r>
            <a:r>
              <a:rPr b="0" lang="en-US" sz="4200" spc="-1" strike="noStrike">
                <a:solidFill>
                  <a:srgbClr val="ebebeb"/>
                </a:solidFill>
                <a:latin typeface="Arial"/>
              </a:rPr>
              <a:t>L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BTS - базовых станций (одна BTS - одна "сота", ячейка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BTS объединяют в группы - домены, получившие название LA (Location Area - области расположения)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ой LA соответствует свой код LA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Location Area Identity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Алгоритм handover</a:t>
            </a:r>
            <a:r>
              <a:rPr b="0" lang="en-US" sz="4200" spc="-1" strike="noStrike">
                <a:solidFill>
                  <a:srgbClr val="ebebeb"/>
                </a:solidFill>
                <a:latin typeface="Arial"/>
              </a:rPr>
              <a:t>’</a:t>
            </a: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а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6828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1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на каналов в пределах одной базовой стан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2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на канала одной базовой станции на канал другой станции, но находящейся под патронажем того же BS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3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лючение каналов между базовыми станциями, контролируемыми разными BSC, но одним MSC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4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лючение каналов между базовыми станциями, за которые отвечают не только разные BSC, но и MSC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Внешний вид антен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2500200" y="2214720"/>
            <a:ext cx="354960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Системы сотовой связи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627280" y="2204640"/>
            <a:ext cx="60595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ют передачу информации между пунктами, по крайней мере, один из которых является подвижны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радиоканал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250920" y="1268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20606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Транковая связь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внутри некоторой группы, групповой вызов всем членам групп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приорите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скорость соедине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ая необходимость выхода в сети общего пользова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имущественная передача данны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ое использование полудуплексной передач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околы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T-1327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огов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TRA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ов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Технологии мобильной связи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йджин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30-932 МГ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ейджинг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товая телефони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нкин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runkin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История сотовой связи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поколение систем сотовой связ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1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46 г. - в г. Сент-Луис (США)  - первая система радиотелефонной связ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2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едина 1940-х год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Laboratorie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пании AT&amp;T - идея разбиения всей обслуживаемой территории н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т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3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ц 70х годов - работы по созданию единого стандарта связи (Швеция, Финляндия, Исландия, Дания, Норвегия)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450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rdic Mobile Telephon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4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83 г. – США, Чикаго – сеть стандар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S (Advanced Mobile Phone Service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5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85 г. – стандар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90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6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– Великобритания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S (Total Access Communications System), 1987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ACS (Enhanced TAC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901"/>
              </a:spcBef>
              <a:buSzPct val="136785"/>
              <a:buBlip>
                <a:blip r:embed="rId7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– Франция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com-200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Аналоговые систем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ется аналоговый способ передачи информации с помощью обычной частотной или фазовой модуляции, как и в обычных радиостанциях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1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ствует возможность прослушивания разговоров другими абонент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2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уют эффективные методы борьбы с замираниями сигналов под влиянием окружающего ландшафта и зданий или вследствие передвижения абонент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3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ширение частотного диапазона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SzPct val="117159"/>
              <a:buBlip>
                <a:blip r:embed="rId4"/>
              </a:buBlip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ход к рациональному частотному планированию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Arial"/>
              </a:rPr>
              <a:t>Принцип повторного использования частот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14720" y="2357280"/>
            <a:ext cx="430848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Переносной телефон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159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бильное устройство име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IME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международный идентификатор мобильного устройства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159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арт-кар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SI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(модуль идентификации абонента) содержи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IMS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международный идентификационный номер подписчика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Arial"/>
              </a:rPr>
              <a:t>Функции </a:t>
            </a:r>
            <a:r>
              <a:rPr b="1" lang="en-US" sz="4200" spc="-1" strike="noStrike">
                <a:solidFill>
                  <a:srgbClr val="ebebeb"/>
                </a:solidFill>
                <a:latin typeface="Arial"/>
              </a:rPr>
              <a:t>BTS</a:t>
            </a:r>
            <a:r>
              <a:rPr b="0" lang="ru-RU" sz="4200" spc="-1" strike="noStrike">
                <a:solidFill>
                  <a:srgbClr val="ebebeb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диопокрытие;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ение и передачу данных и служебной информации от и к мобильной станции;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ение мощностью мобильной станции;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ь качества передачи информации и т.д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тирующая функци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dHat</dc:creator>
  <dc:description/>
  <dc:language>en-US</dc:language>
  <cp:lastModifiedBy>Наташа</cp:lastModifiedBy>
  <dcterms:modified xsi:type="dcterms:W3CDTF">2015-03-15T13:42:43Z</dcterms:modified>
  <cp:revision>5</cp:revision>
  <dc:subject/>
  <dc:title>Слайд 1</dc:title>
</cp:coreProperties>
</file>