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5AC-CB05-4128-8D4C-BB3B6F4C0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54C-AA98-41A4-A06C-FF99049FD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9A2D-012C-430F-8A11-C9798435A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BD4-9694-4711-A970-1E5B4E919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793-E7B4-416D-9684-EAB1A038A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742-7B31-4195-B614-5D1910F5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7F-7472-40C5-9BA7-1521B65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7BE-74A0-4EE3-A1E2-DA2EE5E3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928-4FC9-446F-8348-6AE71AE1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3057-1587-42F1-AA6C-FACA0C5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EFEB-0844-458A-8EF3-BCBCF15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809D-BA82-48D0-B244-ED8F4C17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683-63D7-4235-9049-BCA0CE2C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793-ABDF-4A0A-8B65-EE15FA45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E3E-BD94-440C-9EB7-177FDF29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589-EE12-4D67-81DC-50EF1CB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BDE-A8C7-4C02-8C44-CB8CCC3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559-E528-4DA4-9229-14C9EBA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C135-D509-49C8-8137-F255872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A664-5DCC-4E47-AE86-7CE71EB9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A0D-3050-4A54-A4EA-E638604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C5F2-ACA2-46CA-8271-65E1DF10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813-3D93-421A-8945-B34D412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619-8F30-4029-9921-24C1691A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735-37FA-4AF2-8BD0-7228691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77A-0428-4BF3-BD95-D01F416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FA1-EAEF-4381-8CE4-325987A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4B9-2BCA-4A01-9E98-DAAB6C1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14B-4581-45B0-8E33-5A3562B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79F3-FBD8-40AC-B0FD-06FA5482E59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DCA-D47D-4253-B381-EF1FA9A287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6192720" cy="412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92000" y="404280"/>
            <a:ext cx="83520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атив в 11 класс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готовка к ЕГЭ по английскому языку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6084720" y="4221000"/>
            <a:ext cx="3059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 квалификационной категори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ова Ю.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личные подх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4670280" cy="38844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324000" y="206064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кци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следователь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разно уровневых заданий по материалам пособий по подготовке к ЕГЭ, имеющих гриф «Допущено ФИПИ к использованию в учебном процессе в образовательных учрежд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интернет 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компьютерных 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55280" y="2852280"/>
            <a:ext cx="7900920" cy="3816360"/>
          </a:xfrm>
          <a:prstGeom prst="rect">
            <a:avLst/>
          </a:prstGeom>
          <a:noFill/>
          <a:ln w="57240">
            <a:solidFill>
              <a:srgbClr val="5ff3ca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Навыками максимально эффективной работы с КИМам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Наиболее успешными стратегиями выполнения заданий по всем видам речевой деятельност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-  Алгоритмом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го распределения времени,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осознанности действий и концентрации внимания на ключевых моментах каждого задания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9" name="Прямоугольник 4"/>
          <p:cNvGrpSpPr/>
          <p:nvPr/>
        </p:nvGrpSpPr>
        <p:grpSpPr>
          <a:xfrm>
            <a:off x="755640" y="835200"/>
            <a:ext cx="7705800" cy="1012680"/>
            <a:chOff x="755640" y="835200"/>
            <a:chExt cx="7705800" cy="1012680"/>
          </a:xfrm>
        </p:grpSpPr>
        <p:pic>
          <p:nvPicPr>
            <p:cNvPr id="14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55640" y="835200"/>
              <a:ext cx="77058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6920" y="907920"/>
              <a:ext cx="756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полагается, что в результате изучения курса учащиеся овладею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Стрелка вниз 4"/>
          <p:cNvGrpSpPr/>
          <p:nvPr/>
        </p:nvGrpSpPr>
        <p:grpSpPr>
          <a:xfrm>
            <a:off x="4133880" y="1809720"/>
            <a:ext cx="1090440" cy="1158840"/>
            <a:chOff x="4133880" y="1809720"/>
            <a:chExt cx="1090440" cy="1158840"/>
          </a:xfrm>
        </p:grpSpPr>
        <p:pic>
          <p:nvPicPr>
            <p:cNvPr id="143" name="Стрелка вниз 4" descr=""/>
            <p:cNvPicPr/>
            <p:nvPr/>
          </p:nvPicPr>
          <p:blipFill>
            <a:blip r:embed="rId2"/>
            <a:stretch/>
          </p:blipFill>
          <p:spPr>
            <a:xfrm>
              <a:off x="4133880" y="180972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46720" y="1844640"/>
              <a:ext cx="466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" descr=""/>
          <p:cNvPicPr/>
          <p:nvPr/>
        </p:nvPicPr>
        <p:blipFill>
          <a:blip r:embed="rId1"/>
          <a:stretch/>
        </p:blipFill>
        <p:spPr>
          <a:xfrm>
            <a:off x="3695760" y="3573360"/>
            <a:ext cx="5272200" cy="30625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1547640" y="333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исание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24000" y="1413000"/>
            <a:ext cx="3816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: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5148360" y="1413000"/>
            <a:ext cx="3240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делю: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7"/>
          <p:cNvCxnSpPr/>
          <p:nvPr/>
        </p:nvCxnSpPr>
        <p:spPr>
          <a:xfrm>
            <a:off x="4284360" y="1628280"/>
            <a:ext cx="719640" cy="108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150" name="TextBox 8"/>
          <p:cNvSpPr/>
          <p:nvPr/>
        </p:nvSpPr>
        <p:spPr>
          <a:xfrm>
            <a:off x="395280" y="2349360"/>
            <a:ext cx="3743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н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50920" y="3933720"/>
            <a:ext cx="3743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зан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-16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859280" y="2708280"/>
            <a:ext cx="3743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ы: 304, 3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исок рекомендуемой литератур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других средств обуч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чебно-методическое сопровождени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обие по подготовке к ЕГЭ  (список учебных пособий для подготовки к единому государственному экзамену, имеющих гриф «Допущено ФИПИ к использованию в учебном процессе в образовательных учреждениях»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нет-материалы. КИМы для проведения ЕГЭ (Демоверсии ЕГЭ) по английскому языку в 11м классе с сай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http://www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ge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du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..ru/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http://www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ipi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.ru/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других источников в Интерне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е видео и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фильмы, программы, компьютерные тес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учающие компьютерные программы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st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587840" cy="3440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395280" y="3860640"/>
            <a:ext cx="4572000" cy="2531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учащихся к успешной сдаче ЕГ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590120" y="33336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атив ориентиро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Стрелка вниз 7"/>
          <p:cNvGrpSpPr/>
          <p:nvPr/>
        </p:nvGrpSpPr>
        <p:grpSpPr>
          <a:xfrm>
            <a:off x="2548080" y="1090440"/>
            <a:ext cx="519120" cy="2090880"/>
            <a:chOff x="2548080" y="1090440"/>
            <a:chExt cx="519120" cy="2090880"/>
          </a:xfrm>
        </p:grpSpPr>
        <p:pic>
          <p:nvPicPr>
            <p:cNvPr id="109" name="Стрелка вниз 7" descr=""/>
            <p:cNvPicPr/>
            <p:nvPr/>
          </p:nvPicPr>
          <p:blipFill>
            <a:blip r:embed="rId2"/>
            <a:stretch/>
          </p:blipFill>
          <p:spPr>
            <a:xfrm>
              <a:off x="2548080" y="1090440"/>
              <a:ext cx="51912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717640" y="1125360"/>
              <a:ext cx="17964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8"/>
          <p:cNvSpPr/>
          <p:nvPr/>
        </p:nvSpPr>
        <p:spPr>
          <a:xfrm>
            <a:off x="1692360" y="1700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4308480" y="2781360"/>
            <a:ext cx="483552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684360" y="0"/>
            <a:ext cx="7851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250920" y="1413000"/>
            <a:ext cx="4608360" cy="47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и оценить уровень готовности учащихся к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ильные и слабые стороны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нить имеющиеся пробе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1835280" y="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395280" y="1844640"/>
            <a:ext cx="414036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й информ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руктуре каждой части экзаменацио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932360" y="1844640"/>
            <a:ext cx="381636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атегий выполн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х типов экзаменационн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2"/>
          <p:cNvCxnSpPr/>
          <p:nvPr/>
        </p:nvCxnSpPr>
        <p:spPr>
          <a:xfrm flipH="1">
            <a:off x="2771280" y="620280"/>
            <a:ext cx="93744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>
            <a:off x="5795640" y="620280"/>
            <a:ext cx="108036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>
            <a:off x="4643280" y="476280"/>
            <a:ext cx="145440" cy="5906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260280"/>
            <a:ext cx="8229600" cy="485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ого алгорит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мотное распределение време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осознанности действи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центрация внимания 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ючевых моментах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зада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859280" y="3357720"/>
            <a:ext cx="4105440" cy="328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труктура письменной части ЕГЭ по английскому языку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7467480" cy="442440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701280">
                <a:tc gridSpan="5">
                  <a:txBody>
                    <a:bodyPr lIns="82800" rIns="82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а письменной части ЕГЭ по английскому язы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на выполнение 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 оценок выполнения частей работы в общей оце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 зада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36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соответствие, с выбором ответа и с кратким отв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f6fc6"/>
                      </a:solidFill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82800" rIns="82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с развернуты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25760" cy="223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23640" y="1557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рамматика.  Ключ к успех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какую форму  глагола имел в виду автор- личную (видо-временную), инфинитив, герундий или причаст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нужна ли вам форма активного или пассивного залог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относится ли действие, выраженное глаголом, к настоящему, прошедшему или будущему. Если оно описывает то, что случилось до других событий, вам нужно использовать форм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Perfec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ерфектный инфинитив. Если же относится к будущему, вам понадобится фор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in the pas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проверяйте, не сделали ли вы тривиальных ошибок по невнимательнос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/he have/, /can to go/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ultiple Choice (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на множественный выбор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успеху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тем как прочитать предложенные варианты ответов внимательно прочитайте задание и подумайте, как бы вы заполнили пропуск. Помните, что правильный ответ легче найти путем отбрасывания неверных вариант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ы рассматриваете неверные варианты, обратите внимание на следующее. Потенциально неверный вариант  отве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прямым переводом аналогичной русской струк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грамматически неверны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ust/to/do)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полнения пропуска дает грамматически неверные или нелогичные предложения (например, гласная буква посл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, hav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 отличается от других вариантов ответа (имеет совершенно другую форму или является другой частью речи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два или три похожих ответа (с точки зрения написания, произношения, грамматической формы)- один из них, скорее всего, является правильны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C:\Users\esafronov\Desktop\ser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08000" y="6559560"/>
            <a:ext cx="2671560" cy="18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esafronov\Desktop\pol.jpg"/>
          <p:cNvPicPr/>
          <p:nvPr/>
        </p:nvPicPr>
        <p:blipFill>
          <a:blip r:embed="rId2"/>
          <a:stretch/>
        </p:blipFill>
        <p:spPr>
          <a:xfrm>
            <a:off x="2771640" y="6559560"/>
            <a:ext cx="6264360" cy="18252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1"/>
          <p:cNvSpPr/>
          <p:nvPr/>
        </p:nvSpPr>
        <p:spPr>
          <a:xfrm>
            <a:off x="6743880" y="6573960"/>
            <a:ext cx="2350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6DF4-BC53-4A85-A93B-1E841A9FC3D7}" type="slidenum">
              <a:rPr b="1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8000" y="108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Внимание с 2014 года в состав экзамена входит устная речь!!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108000" y="816840"/>
            <a:ext cx="8928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Ключевые особенност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Проверка новых навыков и знаний по иностранным языкам, недоступных для бланковой формы: умения спонтан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Подготовка к ответу выполняется в минимальном объёме непосредственно при сдаче экзамена (перед ответом на задания): экзамен сдаётся без предварительной подготовки в специальной аудито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Для проведения экзамена используются три типа аудитор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Ожидания – общая аудитория ожидания сдачи экзам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Технической подготовки – аудитория проведения инструктажа и заполнения бланка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Arial"/>
              </a:rPr>
              <a:t>Сдачи экзамена – выдача КИМ, подготовка к ответу и запись ответов на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Экзамен проводится в два дня: в один день сдаётся письменная часть, во второй – устная,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для отдельных участников возможна сдача обеих частей экзамена в один день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3:25:52Z</dcterms:created>
  <dc:creator>Victoria</dc:creator>
  <dc:description/>
  <dc:language>en-US</dc:language>
  <cp:lastModifiedBy>Юля</cp:lastModifiedBy>
  <dcterms:modified xsi:type="dcterms:W3CDTF">2013-10-16T17:09:16Z</dcterms:modified>
  <cp:revision>91</cp:revision>
  <dc:subject/>
  <dc:title>Любопытство. С него все и началось. П.Джеймс, Дж.Мартин «Все возможные миры»</dc:title>
</cp:coreProperties>
</file>