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45E0-7243-4761-BEF0-9DA8EE06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67A-5355-45F8-9C50-5615D470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5AE-2FEA-453E-A41E-CA4DFAA6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94E-A3BA-4E39-A022-4AFB8F31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43AC-BFFB-40D6-B938-E91164C7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6A7D-1152-4E09-BC8D-CC028F06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B181-72FD-4CAF-8A1E-DD9448D0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F867-80B9-47A7-BCA4-1671F56F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7D32-D8BA-4C72-B356-C917A348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9586-DF85-4AE0-B1CD-CCF42F3E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DFAC-074E-4A21-8D39-8766597E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56F-11AF-4138-A0D6-4957DD91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9B04-0B0F-4AB1-96AF-F2781CFE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AB90-0DBA-4491-BCDA-F08F1468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6104-67FF-4803-92B3-4DE5D660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702F-48B9-4E9B-804A-B0E7FEED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0081-8F74-4626-8ADC-4ACC5ABF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BB1B-305A-4DF5-AE86-F181214D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A7A3-6C7D-48C7-AD75-8EFD0C57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9086-2644-4FF0-B504-DBE3D8CC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0421-4AC6-4BD7-B05D-692F0B78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7B6-354C-4A1E-857C-23AC16FE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01CD-2999-45ED-83DD-19AF6B45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6CB-DF7C-49EA-ABED-ED807691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ED3F-3FEE-4145-950D-AF9417743A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E12F-9BDD-4FFB-8435-E38ABDB7D3F6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2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7d47d"/>
                </a:solidFill>
                <a:latin typeface="Arial"/>
              </a:rPr>
              <a:t>Занимательная история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18960" y="3657600"/>
            <a:ext cx="5640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воя игр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стория российского искусств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колько лет Александр Иванов работал над своей картиной «Явление Христа народу»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10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15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20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5"/>
          <a:stretch/>
        </p:blipFill>
        <p:spPr>
          <a:xfrm>
            <a:off x="3352680" y="3276720"/>
            <a:ext cx="4876920" cy="33606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5">
            <a:hlinkClick r:id="rId6" action="ppaction://hlinksldjump"/>
          </p:cNvPr>
          <p:cNvSpPr/>
          <p:nvPr/>
        </p:nvSpPr>
        <p:spPr>
          <a:xfrm>
            <a:off x="22860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2199" y="3837"/>
                </a:moveTo>
                <a:lnTo>
                  <a:pt x="14775" y="6448"/>
                </a:ln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lnTo>
                  <a:pt x="19162" y="10800"/>
                </a:lnTo>
                <a:lnTo>
                  <a:pt x="17508" y="10800"/>
                </a:lnTo>
                <a:lnTo>
                  <a:pt x="17508" y="17989"/>
                </a:lnTo>
                <a:lnTo>
                  <a:pt x="6890" y="17989"/>
                </a:lnTo>
                <a:lnTo>
                  <a:pt x="6890" y="10800"/>
                </a:lnTo>
                <a:lnTo>
                  <a:pt x="5236" y="10800"/>
                </a:lnTo>
                <a:close/>
              </a:path>
              <a:path fill="darkenLess" w="24398" h="21600">
                <a:moveTo>
                  <a:pt x="14775" y="6448"/>
                </a:move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close/>
              </a:path>
              <a:path fill="darkenLess" w="24398" h="21600">
                <a:moveTo>
                  <a:pt x="11276" y="14299"/>
                </a:moveTo>
                <a:lnTo>
                  <a:pt x="13121" y="14299"/>
                </a:lnTo>
                <a:lnTo>
                  <a:pt x="13121" y="17989"/>
                </a:lnTo>
                <a:lnTo>
                  <a:pt x="17508" y="17989"/>
                </a:lnTo>
                <a:lnTo>
                  <a:pt x="17508" y="10800"/>
                </a:lnTo>
                <a:lnTo>
                  <a:pt x="6890" y="10800"/>
                </a:lnTo>
                <a:lnTo>
                  <a:pt x="6890" y="17989"/>
                </a:lnTo>
                <a:lnTo>
                  <a:pt x="11276" y="17989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стория российского искусств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то лет назад в русском цирке публику развлекали Рыжий и Белый клоуны. Название «Рыжий» стало популярным в конце 19 века. Так прозвали жизнерадостных клоунов, носивших рыжие парики. А какое имя носил Рыжий раньше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) Иван-кирпич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2) Шут гороховы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3) Болван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5"/>
          <a:stretch/>
        </p:blipFill>
        <p:spPr>
          <a:xfrm>
            <a:off x="5257800" y="3962520"/>
            <a:ext cx="2895480" cy="267480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6"/>
          <p:cNvSpPr/>
          <p:nvPr/>
        </p:nvSpPr>
        <p:spPr>
          <a:xfrm>
            <a:off x="22860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2199" y="3837"/>
                </a:moveTo>
                <a:lnTo>
                  <a:pt x="14775" y="6448"/>
                </a:ln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lnTo>
                  <a:pt x="19162" y="10800"/>
                </a:lnTo>
                <a:lnTo>
                  <a:pt x="17508" y="10800"/>
                </a:lnTo>
                <a:lnTo>
                  <a:pt x="17508" y="17989"/>
                </a:lnTo>
                <a:lnTo>
                  <a:pt x="6890" y="17989"/>
                </a:lnTo>
                <a:lnTo>
                  <a:pt x="6890" y="10800"/>
                </a:lnTo>
                <a:lnTo>
                  <a:pt x="5236" y="10800"/>
                </a:lnTo>
                <a:close/>
              </a:path>
              <a:path fill="darkenLess" w="24398" h="21600">
                <a:moveTo>
                  <a:pt x="14775" y="6448"/>
                </a:move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close/>
              </a:path>
              <a:path fill="darkenLess" w="24398" h="21600">
                <a:moveTo>
                  <a:pt x="11276" y="14299"/>
                </a:moveTo>
                <a:lnTo>
                  <a:pt x="13121" y="14299"/>
                </a:lnTo>
                <a:lnTo>
                  <a:pt x="13121" y="17989"/>
                </a:lnTo>
                <a:lnTo>
                  <a:pt x="17508" y="17989"/>
                </a:lnTo>
                <a:lnTo>
                  <a:pt x="17508" y="10800"/>
                </a:lnTo>
                <a:lnTo>
                  <a:pt x="6890" y="10800"/>
                </a:lnTo>
                <a:lnTo>
                  <a:pt x="6890" y="17989"/>
                </a:lnTo>
                <a:lnTo>
                  <a:pt x="11276" y="17989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стория российского искусств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18 веке в России был создан уникальный оркестр. Из каких предметов он был создан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из охотничьих рог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из ивовых прутье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из хрустальных бокалов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22860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2199" y="3837"/>
                </a:moveTo>
                <a:lnTo>
                  <a:pt x="14775" y="6448"/>
                </a:ln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lnTo>
                  <a:pt x="19162" y="10800"/>
                </a:lnTo>
                <a:lnTo>
                  <a:pt x="17508" y="10800"/>
                </a:lnTo>
                <a:lnTo>
                  <a:pt x="17508" y="17989"/>
                </a:lnTo>
                <a:lnTo>
                  <a:pt x="6890" y="17989"/>
                </a:lnTo>
                <a:lnTo>
                  <a:pt x="6890" y="10800"/>
                </a:lnTo>
                <a:lnTo>
                  <a:pt x="5236" y="10800"/>
                </a:lnTo>
                <a:close/>
              </a:path>
              <a:path fill="darkenLess" w="24398" h="21600">
                <a:moveTo>
                  <a:pt x="14775" y="6448"/>
                </a:move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close/>
              </a:path>
              <a:path fill="darkenLess" w="24398" h="21600">
                <a:moveTo>
                  <a:pt x="11276" y="14299"/>
                </a:moveTo>
                <a:lnTo>
                  <a:pt x="13121" y="14299"/>
                </a:lnTo>
                <a:lnTo>
                  <a:pt x="13121" y="17989"/>
                </a:lnTo>
                <a:lnTo>
                  <a:pt x="17508" y="17989"/>
                </a:lnTo>
                <a:lnTo>
                  <a:pt x="17508" y="10800"/>
                </a:lnTo>
                <a:lnTo>
                  <a:pt x="6890" y="10800"/>
                </a:lnTo>
                <a:lnTo>
                  <a:pt x="6890" y="17989"/>
                </a:lnTo>
                <a:lnTo>
                  <a:pt x="11276" y="17989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нтересные исторические факты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в 1867 году русское правительство продало по торговому договору США за 7,2 миллиона долларов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1000 тонн пушнин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тихоокеанский китобойный фло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Аляску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5"/>
          <a:stretch/>
        </p:blipFill>
        <p:spPr>
          <a:xfrm>
            <a:off x="6891480" y="1219320"/>
            <a:ext cx="2252520" cy="311472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5"/>
          <p:cNvSpPr/>
          <p:nvPr/>
        </p:nvSpPr>
        <p:spPr>
          <a:xfrm>
            <a:off x="22860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2199" y="3837"/>
                </a:moveTo>
                <a:lnTo>
                  <a:pt x="14775" y="6448"/>
                </a:ln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lnTo>
                  <a:pt x="19162" y="10800"/>
                </a:lnTo>
                <a:lnTo>
                  <a:pt x="17508" y="10800"/>
                </a:lnTo>
                <a:lnTo>
                  <a:pt x="17508" y="17989"/>
                </a:lnTo>
                <a:lnTo>
                  <a:pt x="6890" y="17989"/>
                </a:lnTo>
                <a:lnTo>
                  <a:pt x="6890" y="10800"/>
                </a:lnTo>
                <a:lnTo>
                  <a:pt x="5236" y="10800"/>
                </a:lnTo>
                <a:close/>
              </a:path>
              <a:path fill="darkenLess" w="24398" h="21600">
                <a:moveTo>
                  <a:pt x="14775" y="6448"/>
                </a:move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close/>
              </a:path>
              <a:path fill="darkenLess" w="24398" h="21600">
                <a:moveTo>
                  <a:pt x="11276" y="14299"/>
                </a:moveTo>
                <a:lnTo>
                  <a:pt x="13121" y="14299"/>
                </a:lnTo>
                <a:lnTo>
                  <a:pt x="13121" y="17989"/>
                </a:lnTo>
                <a:lnTo>
                  <a:pt x="17508" y="17989"/>
                </a:lnTo>
                <a:lnTo>
                  <a:pt x="17508" y="10800"/>
                </a:lnTo>
                <a:lnTo>
                  <a:pt x="6890" y="10800"/>
                </a:lnTo>
                <a:lnTo>
                  <a:pt x="6890" y="17989"/>
                </a:lnTo>
                <a:lnTo>
                  <a:pt x="11276" y="17989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нтересные исторические факты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ая мода царствовала в русской одежде на протяжении 800 лет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французск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римск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византийска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5"/>
          <a:stretch/>
        </p:blipFill>
        <p:spPr>
          <a:xfrm>
            <a:off x="5638680" y="2819520"/>
            <a:ext cx="3048120" cy="366696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6"/>
          <p:cNvSpPr/>
          <p:nvPr/>
        </p:nvSpPr>
        <p:spPr>
          <a:xfrm>
            <a:off x="22860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2199" y="3837"/>
                </a:moveTo>
                <a:lnTo>
                  <a:pt x="14775" y="6448"/>
                </a:ln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lnTo>
                  <a:pt x="19162" y="10800"/>
                </a:lnTo>
                <a:lnTo>
                  <a:pt x="17508" y="10800"/>
                </a:lnTo>
                <a:lnTo>
                  <a:pt x="17508" y="17989"/>
                </a:lnTo>
                <a:lnTo>
                  <a:pt x="6890" y="17989"/>
                </a:lnTo>
                <a:lnTo>
                  <a:pt x="6890" y="10800"/>
                </a:lnTo>
                <a:lnTo>
                  <a:pt x="5236" y="10800"/>
                </a:lnTo>
                <a:close/>
              </a:path>
              <a:path fill="darkenLess" w="24398" h="21600">
                <a:moveTo>
                  <a:pt x="14775" y="6448"/>
                </a:move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close/>
              </a:path>
              <a:path fill="darkenLess" w="24398" h="21600">
                <a:moveTo>
                  <a:pt x="11276" y="14299"/>
                </a:moveTo>
                <a:lnTo>
                  <a:pt x="13121" y="14299"/>
                </a:lnTo>
                <a:lnTo>
                  <a:pt x="13121" y="17989"/>
                </a:lnTo>
                <a:lnTo>
                  <a:pt x="17508" y="17989"/>
                </a:lnTo>
                <a:lnTo>
                  <a:pt x="17508" y="10800"/>
                </a:lnTo>
                <a:lnTo>
                  <a:pt x="6890" y="10800"/>
                </a:lnTo>
                <a:lnTo>
                  <a:pt x="6890" y="17989"/>
                </a:lnTo>
                <a:lnTo>
                  <a:pt x="11276" y="17989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нтересные исторические факты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называлась одна двухсотая часть московского рубля – русской серебряной монеты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XIV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XVIII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веков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копей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деньг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воробей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22860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2199" y="3837"/>
                </a:moveTo>
                <a:lnTo>
                  <a:pt x="14775" y="6448"/>
                </a:ln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lnTo>
                  <a:pt x="19162" y="10800"/>
                </a:lnTo>
                <a:lnTo>
                  <a:pt x="17508" y="10800"/>
                </a:lnTo>
                <a:lnTo>
                  <a:pt x="17508" y="17989"/>
                </a:lnTo>
                <a:lnTo>
                  <a:pt x="6890" y="17989"/>
                </a:lnTo>
                <a:lnTo>
                  <a:pt x="6890" y="10800"/>
                </a:lnTo>
                <a:lnTo>
                  <a:pt x="5236" y="10800"/>
                </a:lnTo>
                <a:close/>
              </a:path>
              <a:path fill="darkenLess" w="24398" h="21600">
                <a:moveTo>
                  <a:pt x="14775" y="6448"/>
                </a:move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close/>
              </a:path>
              <a:path fill="darkenLess" w="24398" h="21600">
                <a:moveTo>
                  <a:pt x="11276" y="14299"/>
                </a:moveTo>
                <a:lnTo>
                  <a:pt x="13121" y="14299"/>
                </a:lnTo>
                <a:lnTo>
                  <a:pt x="13121" y="17989"/>
                </a:lnTo>
                <a:lnTo>
                  <a:pt x="17508" y="17989"/>
                </a:lnTo>
                <a:lnTo>
                  <a:pt x="17508" y="10800"/>
                </a:lnTo>
                <a:lnTo>
                  <a:pt x="6890" y="10800"/>
                </a:lnTo>
                <a:lnTo>
                  <a:pt x="6890" y="17989"/>
                </a:lnTo>
                <a:lnTo>
                  <a:pt x="11276" y="17989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нтересные исторические факты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ая буква русского алфавита была введена в письмо в 1797 году Н.М.Карамзиным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Э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Ё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22860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2199" y="3837"/>
                </a:moveTo>
                <a:lnTo>
                  <a:pt x="14775" y="6448"/>
                </a:ln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lnTo>
                  <a:pt x="19162" y="10800"/>
                </a:lnTo>
                <a:lnTo>
                  <a:pt x="17508" y="10800"/>
                </a:lnTo>
                <a:lnTo>
                  <a:pt x="17508" y="17989"/>
                </a:lnTo>
                <a:lnTo>
                  <a:pt x="6890" y="17989"/>
                </a:lnTo>
                <a:lnTo>
                  <a:pt x="6890" y="10800"/>
                </a:lnTo>
                <a:lnTo>
                  <a:pt x="5236" y="10800"/>
                </a:lnTo>
                <a:close/>
              </a:path>
              <a:path fill="darkenLess" w="24398" h="21600">
                <a:moveTo>
                  <a:pt x="14775" y="6448"/>
                </a:move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close/>
              </a:path>
              <a:path fill="darkenLess" w="24398" h="21600">
                <a:moveTo>
                  <a:pt x="11276" y="14299"/>
                </a:moveTo>
                <a:lnTo>
                  <a:pt x="13121" y="14299"/>
                </a:lnTo>
                <a:lnTo>
                  <a:pt x="13121" y="17989"/>
                </a:lnTo>
                <a:lnTo>
                  <a:pt x="17508" y="17989"/>
                </a:lnTo>
                <a:lnTo>
                  <a:pt x="17508" y="10800"/>
                </a:lnTo>
                <a:lnTo>
                  <a:pt x="6890" y="10800"/>
                </a:lnTo>
                <a:lnTo>
                  <a:pt x="6890" y="17989"/>
                </a:lnTo>
                <a:lnTo>
                  <a:pt x="11276" y="17989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нтересные исторические факты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такое берковец? Это старая русская мера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длин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масс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объем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2860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2199" y="3837"/>
                </a:moveTo>
                <a:lnTo>
                  <a:pt x="14775" y="6448"/>
                </a:ln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lnTo>
                  <a:pt x="19162" y="10800"/>
                </a:lnTo>
                <a:lnTo>
                  <a:pt x="17508" y="10800"/>
                </a:lnTo>
                <a:lnTo>
                  <a:pt x="17508" y="17989"/>
                </a:lnTo>
                <a:lnTo>
                  <a:pt x="6890" y="17989"/>
                </a:lnTo>
                <a:lnTo>
                  <a:pt x="6890" y="10800"/>
                </a:lnTo>
                <a:lnTo>
                  <a:pt x="5236" y="10800"/>
                </a:lnTo>
                <a:close/>
              </a:path>
              <a:path fill="darkenLess" w="24398" h="21600">
                <a:moveTo>
                  <a:pt x="14775" y="6448"/>
                </a:move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close/>
              </a:path>
              <a:path fill="darkenLess" w="24398" h="21600">
                <a:moveTo>
                  <a:pt x="11276" y="14299"/>
                </a:moveTo>
                <a:lnTo>
                  <a:pt x="13121" y="14299"/>
                </a:lnTo>
                <a:lnTo>
                  <a:pt x="13121" y="17989"/>
                </a:lnTo>
                <a:lnTo>
                  <a:pt x="17508" y="17989"/>
                </a:lnTo>
                <a:lnTo>
                  <a:pt x="17508" y="10800"/>
                </a:lnTo>
                <a:lnTo>
                  <a:pt x="6890" y="10800"/>
                </a:lnTo>
                <a:lnTo>
                  <a:pt x="6890" y="17989"/>
                </a:lnTo>
                <a:lnTo>
                  <a:pt x="11276" y="17989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XIX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ек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ую страну мечтал завоевать Наполеон после того как расправится с Россией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Персию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Индию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Китай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5"/>
          <a:stretch/>
        </p:blipFill>
        <p:spPr>
          <a:xfrm>
            <a:off x="4800600" y="3352680"/>
            <a:ext cx="3809880" cy="307188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5"/>
          <p:cNvSpPr/>
          <p:nvPr/>
        </p:nvSpPr>
        <p:spPr>
          <a:xfrm>
            <a:off x="22860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2199" y="3837"/>
                </a:moveTo>
                <a:lnTo>
                  <a:pt x="14775" y="6448"/>
                </a:ln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lnTo>
                  <a:pt x="19162" y="10800"/>
                </a:lnTo>
                <a:lnTo>
                  <a:pt x="17508" y="10800"/>
                </a:lnTo>
                <a:lnTo>
                  <a:pt x="17508" y="17989"/>
                </a:lnTo>
                <a:lnTo>
                  <a:pt x="6890" y="17989"/>
                </a:lnTo>
                <a:lnTo>
                  <a:pt x="6890" y="10800"/>
                </a:lnTo>
                <a:lnTo>
                  <a:pt x="5236" y="10800"/>
                </a:lnTo>
                <a:close/>
              </a:path>
              <a:path fill="darkenLess" w="24398" h="21600">
                <a:moveTo>
                  <a:pt x="14775" y="6448"/>
                </a:move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close/>
              </a:path>
              <a:path fill="darkenLess" w="24398" h="21600">
                <a:moveTo>
                  <a:pt x="11276" y="14299"/>
                </a:moveTo>
                <a:lnTo>
                  <a:pt x="13121" y="14299"/>
                </a:lnTo>
                <a:lnTo>
                  <a:pt x="13121" y="17989"/>
                </a:lnTo>
                <a:lnTo>
                  <a:pt x="17508" y="17989"/>
                </a:lnTo>
                <a:lnTo>
                  <a:pt x="17508" y="10800"/>
                </a:lnTo>
                <a:lnTo>
                  <a:pt x="6890" y="10800"/>
                </a:lnTo>
                <a:lnTo>
                  <a:pt x="6890" y="17989"/>
                </a:lnTo>
                <a:lnTo>
                  <a:pt x="11276" y="17989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XIX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ек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ого императора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XIX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века прозвали Благословенный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Александра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Александра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Александра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857680" cy="401976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5"/>
          <p:cNvSpPr/>
          <p:nvPr/>
        </p:nvSpPr>
        <p:spPr>
          <a:xfrm>
            <a:off x="22860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2199" y="3837"/>
                </a:moveTo>
                <a:lnTo>
                  <a:pt x="14775" y="6448"/>
                </a:ln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lnTo>
                  <a:pt x="19162" y="10800"/>
                </a:lnTo>
                <a:lnTo>
                  <a:pt x="17508" y="10800"/>
                </a:lnTo>
                <a:lnTo>
                  <a:pt x="17508" y="17989"/>
                </a:lnTo>
                <a:lnTo>
                  <a:pt x="6890" y="17989"/>
                </a:lnTo>
                <a:lnTo>
                  <a:pt x="6890" y="10800"/>
                </a:lnTo>
                <a:lnTo>
                  <a:pt x="5236" y="10800"/>
                </a:lnTo>
                <a:close/>
              </a:path>
              <a:path fill="darkenLess" w="24398" h="21600">
                <a:moveTo>
                  <a:pt x="14775" y="6448"/>
                </a:move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close/>
              </a:path>
              <a:path fill="darkenLess" w="24398" h="21600">
                <a:moveTo>
                  <a:pt x="11276" y="14299"/>
                </a:moveTo>
                <a:lnTo>
                  <a:pt x="13121" y="14299"/>
                </a:lnTo>
                <a:lnTo>
                  <a:pt x="13121" y="17989"/>
                </a:lnTo>
                <a:lnTo>
                  <a:pt x="17508" y="17989"/>
                </a:lnTo>
                <a:lnTo>
                  <a:pt x="17508" y="10800"/>
                </a:lnTo>
                <a:lnTo>
                  <a:pt x="6890" y="10800"/>
                </a:lnTo>
                <a:lnTo>
                  <a:pt x="6890" y="17989"/>
                </a:lnTo>
                <a:lnTo>
                  <a:pt x="11276" y="17989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7720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7d47d"/>
                </a:solidFill>
                <a:latin typeface="Arial"/>
              </a:rPr>
              <a:t>II </a:t>
            </a:r>
            <a:r>
              <a:rPr b="0" lang="ru-RU" sz="8800" spc="-1" strike="noStrike">
                <a:solidFill>
                  <a:srgbClr val="f7d47d"/>
                </a:solidFill>
                <a:latin typeface="Arial"/>
              </a:rPr>
              <a:t>раунд</a:t>
            </a:r>
            <a:endParaRPr b="0" lang="en-US" sz="88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28600" y="1295280"/>
          <a:ext cx="7696080" cy="5240520"/>
        </p:xfrm>
        <a:graphic>
          <a:graphicData uri="http://schemas.openxmlformats.org/drawingml/2006/table">
            <a:tbl>
              <a:tblPr/>
              <a:tblGrid>
                <a:gridCol w="2479680"/>
                <a:gridCol w="838080"/>
                <a:gridCol w="1143000"/>
                <a:gridCol w="1067040"/>
                <a:gridCol w="990360"/>
                <a:gridCol w="11779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История российского спорт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60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0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История российского искусств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60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0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Интересные исторические факты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60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00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XIX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ек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60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100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AutoShape 56">
            <a:hlinkClick r:id="rId21" action="ppaction://hlinksldjump"/>
          </p:cNvPr>
          <p:cNvSpPr/>
          <p:nvPr/>
        </p:nvSpPr>
        <p:spPr>
          <a:xfrm>
            <a:off x="152280" y="6172200"/>
            <a:ext cx="685800" cy="585720"/>
          </a:xfrm>
          <a:custGeom>
            <a:avLst/>
            <a:gdLst>
              <a:gd name="textAreaLeft" fmla="*/ 37800 w 685800"/>
              <a:gd name="textAreaRight" fmla="*/ 648000 w 6858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5288" h="21600">
                <a:moveTo>
                  <a:pt x="0" y="0"/>
                </a:moveTo>
                <a:lnTo>
                  <a:pt x="25288" y="0"/>
                </a:lnTo>
                <a:lnTo>
                  <a:pt x="25288" y="21600"/>
                </a:lnTo>
                <a:lnTo>
                  <a:pt x="0" y="21600"/>
                </a:lnTo>
                <a:close/>
              </a:path>
              <a:path fill="lightenLess" w="25288" h="21600">
                <a:moveTo>
                  <a:pt x="0" y="0"/>
                </a:moveTo>
                <a:lnTo>
                  <a:pt x="25288" y="0"/>
                </a:lnTo>
                <a:lnTo>
                  <a:pt x="23888" y="1400"/>
                </a:lnTo>
                <a:lnTo>
                  <a:pt x="1400" y="1400"/>
                </a:lnTo>
                <a:close/>
              </a:path>
              <a:path fill="darken" w="25288" h="21600">
                <a:moveTo>
                  <a:pt x="25288" y="0"/>
                </a:moveTo>
                <a:lnTo>
                  <a:pt x="25288" y="21600"/>
                </a:lnTo>
                <a:lnTo>
                  <a:pt x="23888" y="20200"/>
                </a:lnTo>
                <a:lnTo>
                  <a:pt x="23888" y="1400"/>
                </a:lnTo>
                <a:close/>
              </a:path>
              <a:path fill="darkenLess" w="25288" h="21600">
                <a:moveTo>
                  <a:pt x="25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88" y="20200"/>
                </a:lnTo>
                <a:close/>
              </a:path>
              <a:path fill="lighten" w="25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88" h="21600">
                <a:moveTo>
                  <a:pt x="5638" y="3794"/>
                </a:moveTo>
                <a:lnTo>
                  <a:pt x="19651" y="10800"/>
                </a:lnTo>
                <a:lnTo>
                  <a:pt x="5638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XIX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ек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Этот закон был принят в США в 1787 году, во Франции в 1791 году, в Великобритании не принят до сих пор, а у нас в России так назывался программный документ декабристов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XIX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ек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) уголовный кодекс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2) конституц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3) декларация прав человека и гражданин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22860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2199" y="3837"/>
                </a:moveTo>
                <a:lnTo>
                  <a:pt x="14775" y="6448"/>
                </a:ln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lnTo>
                  <a:pt x="19162" y="10800"/>
                </a:lnTo>
                <a:lnTo>
                  <a:pt x="17508" y="10800"/>
                </a:lnTo>
                <a:lnTo>
                  <a:pt x="17508" y="17989"/>
                </a:lnTo>
                <a:lnTo>
                  <a:pt x="6890" y="17989"/>
                </a:lnTo>
                <a:lnTo>
                  <a:pt x="6890" y="10800"/>
                </a:lnTo>
                <a:lnTo>
                  <a:pt x="5236" y="10800"/>
                </a:lnTo>
                <a:close/>
              </a:path>
              <a:path fill="darkenLess" w="24398" h="21600">
                <a:moveTo>
                  <a:pt x="14775" y="6448"/>
                </a:move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close/>
              </a:path>
              <a:path fill="darkenLess" w="24398" h="21600">
                <a:moveTo>
                  <a:pt x="11276" y="14299"/>
                </a:moveTo>
                <a:lnTo>
                  <a:pt x="13121" y="14299"/>
                </a:lnTo>
                <a:lnTo>
                  <a:pt x="13121" y="17989"/>
                </a:lnTo>
                <a:lnTo>
                  <a:pt x="17508" y="17989"/>
                </a:lnTo>
                <a:lnTo>
                  <a:pt x="17508" y="10800"/>
                </a:lnTo>
                <a:lnTo>
                  <a:pt x="6890" y="10800"/>
                </a:lnTo>
                <a:lnTo>
                  <a:pt x="6890" y="17989"/>
                </a:lnTo>
                <a:lnTo>
                  <a:pt x="11276" y="17989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XIX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ек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о время отечественной войны 1812 года случалось, что русские солдаты в пылу сражения или ночью брали в плен или даже убивали своих же офицеров. Это происходило потому что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) многие из русских солдат и офицеров говорили на французском языке лучше чем на русско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2) все были одеты во французское плать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3) был приказ главнокомандующих убивать и брать  в плен всех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2860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2199" y="3837"/>
                </a:moveTo>
                <a:lnTo>
                  <a:pt x="14775" y="6448"/>
                </a:ln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lnTo>
                  <a:pt x="19162" y="10800"/>
                </a:lnTo>
                <a:lnTo>
                  <a:pt x="17508" y="10800"/>
                </a:lnTo>
                <a:lnTo>
                  <a:pt x="17508" y="17989"/>
                </a:lnTo>
                <a:lnTo>
                  <a:pt x="6890" y="17989"/>
                </a:lnTo>
                <a:lnTo>
                  <a:pt x="6890" y="10800"/>
                </a:lnTo>
                <a:lnTo>
                  <a:pt x="5236" y="10800"/>
                </a:lnTo>
                <a:close/>
              </a:path>
              <a:path fill="darkenLess" w="24398" h="21600">
                <a:moveTo>
                  <a:pt x="14775" y="6448"/>
                </a:move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close/>
              </a:path>
              <a:path fill="darkenLess" w="24398" h="21600">
                <a:moveTo>
                  <a:pt x="11276" y="14299"/>
                </a:moveTo>
                <a:lnTo>
                  <a:pt x="13121" y="14299"/>
                </a:lnTo>
                <a:lnTo>
                  <a:pt x="13121" y="17989"/>
                </a:lnTo>
                <a:lnTo>
                  <a:pt x="17508" y="17989"/>
                </a:lnTo>
                <a:lnTo>
                  <a:pt x="17508" y="10800"/>
                </a:lnTo>
                <a:lnTo>
                  <a:pt x="6890" y="10800"/>
                </a:lnTo>
                <a:lnTo>
                  <a:pt x="6890" y="17989"/>
                </a:lnTo>
                <a:lnTo>
                  <a:pt x="11276" y="17989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XIX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ек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то в России в первой половине 19 века с неодобрением отзывался о железных дорогах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цар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министр финанс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министр путей сообщени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5"/>
          <a:stretch/>
        </p:blipFill>
        <p:spPr>
          <a:xfrm>
            <a:off x="6400800" y="4836960"/>
            <a:ext cx="2571840" cy="192420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5"/>
          <p:cNvSpPr/>
          <p:nvPr/>
        </p:nvSpPr>
        <p:spPr>
          <a:xfrm>
            <a:off x="22860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2199" y="3837"/>
                </a:moveTo>
                <a:lnTo>
                  <a:pt x="14775" y="6448"/>
                </a:ln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lnTo>
                  <a:pt x="19162" y="10800"/>
                </a:lnTo>
                <a:lnTo>
                  <a:pt x="17508" y="10800"/>
                </a:lnTo>
                <a:lnTo>
                  <a:pt x="17508" y="17989"/>
                </a:lnTo>
                <a:lnTo>
                  <a:pt x="6890" y="17989"/>
                </a:lnTo>
                <a:lnTo>
                  <a:pt x="6890" y="10800"/>
                </a:lnTo>
                <a:lnTo>
                  <a:pt x="5236" y="10800"/>
                </a:lnTo>
                <a:close/>
              </a:path>
              <a:path fill="darkenLess" w="24398" h="21600">
                <a:moveTo>
                  <a:pt x="14775" y="6448"/>
                </a:move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close/>
              </a:path>
              <a:path fill="darkenLess" w="24398" h="21600">
                <a:moveTo>
                  <a:pt x="11276" y="14299"/>
                </a:moveTo>
                <a:lnTo>
                  <a:pt x="13121" y="14299"/>
                </a:lnTo>
                <a:lnTo>
                  <a:pt x="13121" y="17989"/>
                </a:lnTo>
                <a:lnTo>
                  <a:pt x="17508" y="17989"/>
                </a:lnTo>
                <a:lnTo>
                  <a:pt x="17508" y="10800"/>
                </a:lnTo>
                <a:lnTo>
                  <a:pt x="6890" y="10800"/>
                </a:lnTo>
                <a:lnTo>
                  <a:pt x="6890" y="17989"/>
                </a:lnTo>
                <a:lnTo>
                  <a:pt x="11276" y="17989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тория российского спор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ньше название игры «лапта» писалось через «о» - «лопта». Почему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потому что по мячу били так сильно, что он лопалс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потому что нужно было сбить как можно больше лопух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потому что били специальной палкой-лопатой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AutoShape 4">
            <a:hlinkClick r:id="rId5" action="ppaction://hlinksldjump"/>
          </p:cNvPr>
          <p:cNvSpPr/>
          <p:nvPr/>
        </p:nvSpPr>
        <p:spPr>
          <a:xfrm>
            <a:off x="22860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2199" y="3837"/>
                </a:moveTo>
                <a:lnTo>
                  <a:pt x="14775" y="6448"/>
                </a:ln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lnTo>
                  <a:pt x="19162" y="10800"/>
                </a:lnTo>
                <a:lnTo>
                  <a:pt x="17508" y="10800"/>
                </a:lnTo>
                <a:lnTo>
                  <a:pt x="17508" y="17989"/>
                </a:lnTo>
                <a:lnTo>
                  <a:pt x="6890" y="17989"/>
                </a:lnTo>
                <a:lnTo>
                  <a:pt x="6890" y="10800"/>
                </a:lnTo>
                <a:lnTo>
                  <a:pt x="5236" y="10800"/>
                </a:lnTo>
                <a:close/>
              </a:path>
              <a:path fill="darkenLess" w="24398" h="21600">
                <a:moveTo>
                  <a:pt x="14775" y="6448"/>
                </a:move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close/>
              </a:path>
              <a:path fill="darkenLess" w="24398" h="21600">
                <a:moveTo>
                  <a:pt x="11276" y="14299"/>
                </a:moveTo>
                <a:lnTo>
                  <a:pt x="13121" y="14299"/>
                </a:lnTo>
                <a:lnTo>
                  <a:pt x="13121" y="17989"/>
                </a:lnTo>
                <a:lnTo>
                  <a:pt x="17508" y="17989"/>
                </a:lnTo>
                <a:lnTo>
                  <a:pt x="17508" y="10800"/>
                </a:lnTo>
                <a:lnTo>
                  <a:pt x="6890" y="10800"/>
                </a:lnTo>
                <a:lnTo>
                  <a:pt x="6890" y="17989"/>
                </a:lnTo>
                <a:lnTo>
                  <a:pt x="11276" y="17989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тория российского спор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ое спортивный инвентарь помог в 1444 году московской рати защитить Рязань от татарского царевича Мустафы из Золотой Орды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сан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конь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лыжи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AutoShape 4">
            <a:hlinkClick r:id="rId5" action="ppaction://hlinksldjump"/>
          </p:cNvPr>
          <p:cNvSpPr/>
          <p:nvPr/>
        </p:nvSpPr>
        <p:spPr>
          <a:xfrm>
            <a:off x="22860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2199" y="3837"/>
                </a:moveTo>
                <a:lnTo>
                  <a:pt x="14775" y="6448"/>
                </a:ln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lnTo>
                  <a:pt x="19162" y="10800"/>
                </a:lnTo>
                <a:lnTo>
                  <a:pt x="17508" y="10800"/>
                </a:lnTo>
                <a:lnTo>
                  <a:pt x="17508" y="17989"/>
                </a:lnTo>
                <a:lnTo>
                  <a:pt x="6890" y="17989"/>
                </a:lnTo>
                <a:lnTo>
                  <a:pt x="6890" y="10800"/>
                </a:lnTo>
                <a:lnTo>
                  <a:pt x="5236" y="10800"/>
                </a:lnTo>
                <a:close/>
              </a:path>
              <a:path fill="darkenLess" w="24398" h="21600">
                <a:moveTo>
                  <a:pt x="14775" y="6448"/>
                </a:move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close/>
              </a:path>
              <a:path fill="darkenLess" w="24398" h="21600">
                <a:moveTo>
                  <a:pt x="11276" y="14299"/>
                </a:moveTo>
                <a:lnTo>
                  <a:pt x="13121" y="14299"/>
                </a:lnTo>
                <a:lnTo>
                  <a:pt x="13121" y="17989"/>
                </a:lnTo>
                <a:lnTo>
                  <a:pt x="17508" y="17989"/>
                </a:lnTo>
                <a:lnTo>
                  <a:pt x="17508" y="10800"/>
                </a:lnTo>
                <a:lnTo>
                  <a:pt x="6890" y="10800"/>
                </a:lnTo>
                <a:lnTo>
                  <a:pt x="6890" y="17989"/>
                </a:lnTo>
                <a:lnTo>
                  <a:pt x="11276" y="17989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тория российского спор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правление какого императора в России был открыт первый каток для фигуристов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Петра Первог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Александра Первог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Александра Второго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AutoShape 4">
            <a:hlinkClick r:id="rId5" action="ppaction://hlinksldjump"/>
          </p:cNvPr>
          <p:cNvSpPr/>
          <p:nvPr/>
        </p:nvSpPr>
        <p:spPr>
          <a:xfrm>
            <a:off x="22860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2199" y="3837"/>
                </a:moveTo>
                <a:lnTo>
                  <a:pt x="14775" y="6448"/>
                </a:ln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lnTo>
                  <a:pt x="19162" y="10800"/>
                </a:lnTo>
                <a:lnTo>
                  <a:pt x="17508" y="10800"/>
                </a:lnTo>
                <a:lnTo>
                  <a:pt x="17508" y="17989"/>
                </a:lnTo>
                <a:lnTo>
                  <a:pt x="6890" y="17989"/>
                </a:lnTo>
                <a:lnTo>
                  <a:pt x="6890" y="10800"/>
                </a:lnTo>
                <a:lnTo>
                  <a:pt x="5236" y="10800"/>
                </a:lnTo>
                <a:close/>
              </a:path>
              <a:path fill="darkenLess" w="24398" h="21600">
                <a:moveTo>
                  <a:pt x="14775" y="6448"/>
                </a:move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close/>
              </a:path>
              <a:path fill="darkenLess" w="24398" h="21600">
                <a:moveTo>
                  <a:pt x="11276" y="14299"/>
                </a:moveTo>
                <a:lnTo>
                  <a:pt x="13121" y="14299"/>
                </a:lnTo>
                <a:lnTo>
                  <a:pt x="13121" y="17989"/>
                </a:lnTo>
                <a:lnTo>
                  <a:pt x="17508" y="17989"/>
                </a:lnTo>
                <a:lnTo>
                  <a:pt x="17508" y="10800"/>
                </a:lnTo>
                <a:lnTo>
                  <a:pt x="6890" y="10800"/>
                </a:lnTo>
                <a:lnTo>
                  <a:pt x="6890" y="17989"/>
                </a:lnTo>
                <a:lnTo>
                  <a:pt x="11276" y="17989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тория российского спор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то были первыми альпинистами в России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горнорабоч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пастух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ученые-путешественники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AutoShape 4">
            <a:hlinkClick r:id="rId5" action="ppaction://hlinksldjump"/>
          </p:cNvPr>
          <p:cNvSpPr/>
          <p:nvPr/>
        </p:nvSpPr>
        <p:spPr>
          <a:xfrm>
            <a:off x="22860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2199" y="3837"/>
                </a:moveTo>
                <a:lnTo>
                  <a:pt x="14775" y="6448"/>
                </a:ln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lnTo>
                  <a:pt x="19162" y="10800"/>
                </a:lnTo>
                <a:lnTo>
                  <a:pt x="17508" y="10800"/>
                </a:lnTo>
                <a:lnTo>
                  <a:pt x="17508" y="17989"/>
                </a:lnTo>
                <a:lnTo>
                  <a:pt x="6890" y="17989"/>
                </a:lnTo>
                <a:lnTo>
                  <a:pt x="6890" y="10800"/>
                </a:lnTo>
                <a:lnTo>
                  <a:pt x="5236" y="10800"/>
                </a:lnTo>
                <a:close/>
              </a:path>
              <a:path fill="darkenLess" w="24398" h="21600">
                <a:moveTo>
                  <a:pt x="14775" y="6448"/>
                </a:move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close/>
              </a:path>
              <a:path fill="darkenLess" w="24398" h="21600">
                <a:moveTo>
                  <a:pt x="11276" y="14299"/>
                </a:moveTo>
                <a:lnTo>
                  <a:pt x="13121" y="14299"/>
                </a:lnTo>
                <a:lnTo>
                  <a:pt x="13121" y="17989"/>
                </a:lnTo>
                <a:lnTo>
                  <a:pt x="17508" y="17989"/>
                </a:lnTo>
                <a:lnTo>
                  <a:pt x="17508" y="10800"/>
                </a:lnTo>
                <a:lnTo>
                  <a:pt x="6890" y="10800"/>
                </a:lnTo>
                <a:lnTo>
                  <a:pt x="6890" y="17989"/>
                </a:lnTo>
                <a:lnTo>
                  <a:pt x="11276" y="17989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тория российского спор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портсмены царской России участвовали в Олимпийских играх с 1908 по 1912 гг. На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V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лимпийских играх 1908 года в Лондоне российская делегация состояла только из 5 человек. Но русские сумели завоевать три призовых места. Золото - в фигурном катании. А в каком виде спорта наши привезли 2 серебряные медали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) марафонский бег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2) метание копь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3) классическая борьб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AutoShape 4">
            <a:hlinkClick r:id="rId5" action="ppaction://hlinksldjump"/>
          </p:cNvPr>
          <p:cNvSpPr/>
          <p:nvPr/>
        </p:nvSpPr>
        <p:spPr>
          <a:xfrm>
            <a:off x="22860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2199" y="3837"/>
                </a:moveTo>
                <a:lnTo>
                  <a:pt x="14775" y="6448"/>
                </a:ln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lnTo>
                  <a:pt x="19162" y="10800"/>
                </a:lnTo>
                <a:lnTo>
                  <a:pt x="17508" y="10800"/>
                </a:lnTo>
                <a:lnTo>
                  <a:pt x="17508" y="17989"/>
                </a:lnTo>
                <a:lnTo>
                  <a:pt x="6890" y="17989"/>
                </a:lnTo>
                <a:lnTo>
                  <a:pt x="6890" y="10800"/>
                </a:lnTo>
                <a:lnTo>
                  <a:pt x="5236" y="10800"/>
                </a:lnTo>
                <a:close/>
              </a:path>
              <a:path fill="darkenLess" w="24398" h="21600">
                <a:moveTo>
                  <a:pt x="14775" y="6448"/>
                </a:move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close/>
              </a:path>
              <a:path fill="darkenLess" w="24398" h="21600">
                <a:moveTo>
                  <a:pt x="11276" y="14299"/>
                </a:moveTo>
                <a:lnTo>
                  <a:pt x="13121" y="14299"/>
                </a:lnTo>
                <a:lnTo>
                  <a:pt x="13121" y="17989"/>
                </a:lnTo>
                <a:lnTo>
                  <a:pt x="17508" y="17989"/>
                </a:lnTo>
                <a:lnTo>
                  <a:pt x="17508" y="10800"/>
                </a:lnTo>
                <a:lnTo>
                  <a:pt x="6890" y="10800"/>
                </a:lnTo>
                <a:lnTo>
                  <a:pt x="6890" y="17989"/>
                </a:lnTo>
                <a:lnTo>
                  <a:pt x="11276" y="17989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стория российского искусств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ая картина не принадлежит кисти Виктора Васнецова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«Утро стрелецкой казни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«Аленушка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«Богатыри»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5"/>
          <a:stretch/>
        </p:blipFill>
        <p:spPr>
          <a:xfrm>
            <a:off x="4419720" y="4343400"/>
            <a:ext cx="3247920" cy="2313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6"/>
          <a:stretch/>
        </p:blipFill>
        <p:spPr>
          <a:xfrm>
            <a:off x="304920" y="4429080"/>
            <a:ext cx="3809880" cy="2184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7"/>
          <a:stretch/>
        </p:blipFill>
        <p:spPr>
          <a:xfrm>
            <a:off x="6951600" y="1219320"/>
            <a:ext cx="2192400" cy="304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7">
            <a:hlinkClick r:id="rId8" action="ppaction://hlinksldjump"/>
          </p:cNvPr>
          <p:cNvSpPr/>
          <p:nvPr/>
        </p:nvSpPr>
        <p:spPr>
          <a:xfrm>
            <a:off x="22860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2199" y="3837"/>
                </a:moveTo>
                <a:lnTo>
                  <a:pt x="14775" y="6448"/>
                </a:ln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lnTo>
                  <a:pt x="19162" y="10800"/>
                </a:lnTo>
                <a:lnTo>
                  <a:pt x="17508" y="10800"/>
                </a:lnTo>
                <a:lnTo>
                  <a:pt x="17508" y="17989"/>
                </a:lnTo>
                <a:lnTo>
                  <a:pt x="6890" y="17989"/>
                </a:lnTo>
                <a:lnTo>
                  <a:pt x="6890" y="10800"/>
                </a:lnTo>
                <a:lnTo>
                  <a:pt x="5236" y="10800"/>
                </a:lnTo>
                <a:close/>
              </a:path>
              <a:path fill="darkenLess" w="24398" h="21600">
                <a:moveTo>
                  <a:pt x="14775" y="6448"/>
                </a:move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close/>
              </a:path>
              <a:path fill="darkenLess" w="24398" h="21600">
                <a:moveTo>
                  <a:pt x="11276" y="14299"/>
                </a:moveTo>
                <a:lnTo>
                  <a:pt x="13121" y="14299"/>
                </a:lnTo>
                <a:lnTo>
                  <a:pt x="13121" y="17989"/>
                </a:lnTo>
                <a:lnTo>
                  <a:pt x="17508" y="17989"/>
                </a:lnTo>
                <a:lnTo>
                  <a:pt x="17508" y="10800"/>
                </a:lnTo>
                <a:lnTo>
                  <a:pt x="6890" y="10800"/>
                </a:lnTo>
                <a:lnTo>
                  <a:pt x="6890" y="17989"/>
                </a:lnTo>
                <a:lnTo>
                  <a:pt x="11276" y="17989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стория российского искусств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то из великих композиторов был в юности юристом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Глин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Чайковски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Мусоргский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5"/>
          <a:stretch/>
        </p:blipFill>
        <p:spPr>
          <a:xfrm>
            <a:off x="7010280" y="2743200"/>
            <a:ext cx="1943280" cy="2590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6"/>
          <a:stretch/>
        </p:blipFill>
        <p:spPr>
          <a:xfrm>
            <a:off x="4648320" y="3124080"/>
            <a:ext cx="2076480" cy="2762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7"/>
          <a:stretch/>
        </p:blipFill>
        <p:spPr>
          <a:xfrm>
            <a:off x="2590920" y="4419720"/>
            <a:ext cx="1697040" cy="213336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7">
            <a:hlinkClick r:id="rId8" action="ppaction://hlinksldjump"/>
          </p:cNvPr>
          <p:cNvSpPr/>
          <p:nvPr/>
        </p:nvSpPr>
        <p:spPr>
          <a:xfrm>
            <a:off x="22860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2199" y="3837"/>
                </a:moveTo>
                <a:lnTo>
                  <a:pt x="14775" y="6448"/>
                </a:ln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lnTo>
                  <a:pt x="19162" y="10800"/>
                </a:lnTo>
                <a:lnTo>
                  <a:pt x="17508" y="10800"/>
                </a:lnTo>
                <a:lnTo>
                  <a:pt x="17508" y="17989"/>
                </a:lnTo>
                <a:lnTo>
                  <a:pt x="6890" y="17989"/>
                </a:lnTo>
                <a:lnTo>
                  <a:pt x="6890" y="10800"/>
                </a:lnTo>
                <a:lnTo>
                  <a:pt x="5236" y="10800"/>
                </a:lnTo>
                <a:close/>
              </a:path>
              <a:path fill="darkenLess" w="24398" h="21600">
                <a:moveTo>
                  <a:pt x="14775" y="6448"/>
                </a:moveTo>
                <a:lnTo>
                  <a:pt x="14775" y="4707"/>
                </a:lnTo>
                <a:lnTo>
                  <a:pt x="16551" y="4707"/>
                </a:lnTo>
                <a:lnTo>
                  <a:pt x="16551" y="8224"/>
                </a:lnTo>
                <a:close/>
              </a:path>
              <a:path fill="darkenLess" w="24398" h="21600">
                <a:moveTo>
                  <a:pt x="11276" y="14299"/>
                </a:moveTo>
                <a:lnTo>
                  <a:pt x="13121" y="14299"/>
                </a:lnTo>
                <a:lnTo>
                  <a:pt x="13121" y="17989"/>
                </a:lnTo>
                <a:lnTo>
                  <a:pt x="17508" y="17989"/>
                </a:lnTo>
                <a:lnTo>
                  <a:pt x="17508" y="10800"/>
                </a:lnTo>
                <a:lnTo>
                  <a:pt x="6890" y="10800"/>
                </a:lnTo>
                <a:lnTo>
                  <a:pt x="6890" y="17989"/>
                </a:lnTo>
                <a:lnTo>
                  <a:pt x="11276" y="17989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06-12-31T18:10:45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