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CD00-97DD-4786-AC8D-598DD53E2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8EDC-7B09-48F4-AA9A-2C621D30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7295-55A0-4BEB-8E35-0FD1A439E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33FC-AC01-475D-8D68-06325412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54F5-7EED-4374-98B3-643AB6B7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F416-A91F-4D0E-B6B2-513C860A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B8D7-F6EE-4552-AABF-99EC0ED3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59F4-9901-4CF9-B766-00C04E7C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0AC5-AEA6-4E00-BD65-BD17612A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7D33-5714-4902-81F5-72DA36E6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B7F6-3009-4A66-B65D-EE57F197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D718-193F-4626-A3C4-68A4F149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0589-2F49-4BB3-9FBB-BDC4AC8916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611280" y="78336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0000"/>
                </a:solidFill>
                <a:latin typeface="Arial"/>
              </a:rPr>
              <a:t>Мастер-класс: «Универсальные учебные действ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800000"/>
                </a:solidFill>
                <a:latin typeface="Arial"/>
              </a:rPr>
              <a:t>на основе ФГОС».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G:\Мои рисунки\для ФотоШопа\готовые рамки\96.pn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900000" y="1052640"/>
          <a:ext cx="7488360" cy="5497560"/>
        </p:xfrm>
        <a:graphic>
          <a:graphicData uri="http://schemas.openxmlformats.org/drawingml/2006/table">
            <a:tbl>
              <a:tblPr/>
              <a:tblGrid>
                <a:gridCol w="748836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Создавать устные и письменные тексты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для решения разных задач общения 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с помощью и</a:t>
                      </a:r>
                      <a:r>
                        <a:rPr b="0" i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самостоятель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Осознанно </a:t>
                      </a: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использовать речевые средства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 в соответствии с ситуацией общения и коммуникативной задач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Организовывать работу в паре, группе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(самостоятельно определять </a:t>
                      </a:r>
                      <a:r>
                        <a:rPr b="0" i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цели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, роли, задавать вопросы, вырабатывать решен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Преодолевать конфликты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договариваться с людьми</a:t>
                      </a:r>
                      <a:r>
                        <a:rPr b="0" i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, уметь взглянуть на ситуацию с позиции другог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Использовать ИКТ 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как инструмент для достижения своих ц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3"/>
          <p:cNvSpPr/>
          <p:nvPr/>
        </p:nvSpPr>
        <p:spPr>
          <a:xfrm>
            <a:off x="1187280" y="1785960"/>
            <a:ext cx="691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a045c"/>
                </a:solidFill>
                <a:latin typeface="Arial"/>
              </a:rPr>
              <a:t>Личностн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a045c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a045c"/>
                </a:solidFill>
                <a:latin typeface="Arial"/>
              </a:rPr>
              <a:t>учебн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a045c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a045c"/>
                </a:solidFill>
                <a:latin typeface="Arial"/>
              </a:rPr>
              <a:t>действи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v77"/>
          <p:cNvPicPr/>
          <p:nvPr/>
        </p:nvPicPr>
        <p:blipFill>
          <a:blip r:embed="rId1"/>
          <a:stretch/>
        </p:blipFill>
        <p:spPr>
          <a:xfrm>
            <a:off x="6443640" y="4292640"/>
            <a:ext cx="1630440" cy="1630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G:\Мои рисунки\для ФотоШопа\готовые рамки\96.pn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900000" y="907920"/>
          <a:ext cx="7417080" cy="5900760"/>
        </p:xfrm>
        <a:graphic>
          <a:graphicData uri="http://schemas.openxmlformats.org/drawingml/2006/table">
            <a:tbl>
              <a:tblPr/>
              <a:tblGrid>
                <a:gridCol w="7417080"/>
              </a:tblGrid>
              <a:tr h="14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Аргументированно оценивать свои и чужие поступки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в однозначных и неоднозначных ситуациях (в т.ч. учебных), опираясь на общечеловеческие нравственные ценност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Осознавать свои эмоции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адекватно выражать и контролировать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понимать эмоциональное состояние других люд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Осознавать свои черты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характера, интересы, цели, позиции, </a:t>
                      </a:r>
                      <a:r>
                        <a:rPr b="0" i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свой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мировоззренческий  выб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Осознавать и проявлять себя гражданином России в добрых словах и делах </a:t>
                      </a: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объяснять взаимные интересы, ценности, обязательства свои и своего общества, страны; </a:t>
                      </a:r>
                      <a:r>
                        <a:rPr b="0" i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добровольно ограничивать себя ради пользы друг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G:\Мои рисунки\для ФотоШопа\готовые рамки\96.pn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900000" y="981000"/>
          <a:ext cx="7559640" cy="5448240"/>
        </p:xfrm>
        <a:graphic>
          <a:graphicData uri="http://schemas.openxmlformats.org/drawingml/2006/table">
            <a:tbl>
              <a:tblPr/>
              <a:tblGrid>
                <a:gridCol w="7559640"/>
              </a:tblGrid>
              <a:tr h="14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Осознавать целостность мира и многообразия взглядов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на него, </a:t>
                      </a:r>
                      <a:r>
                        <a:rPr b="0" i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вырабатывать собственные мировоззренческие пози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Вырабатывать уважительно-доброжелательное отношение к непохожим на себя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идти на взаимные уступки в разных ситуациях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Осваивать новые социальные роли и правила</a:t>
                      </a:r>
                      <a:r>
                        <a:rPr b="0" i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, учиться критически осмысливать их и свое поведение, справляться с агрессивностью, эгоизм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Выбирать, как поступить,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в т.ч. в неоднозначных ситуациях, (моральные проблемы) </a:t>
                      </a:r>
                      <a:r>
                        <a:rPr b="0" i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и отвечать за свой выб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3"/>
          <p:cNvSpPr/>
          <p:nvPr/>
        </p:nvSpPr>
        <p:spPr>
          <a:xfrm>
            <a:off x="1187280" y="1785960"/>
            <a:ext cx="691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a045c"/>
                </a:solidFill>
                <a:latin typeface="Arial"/>
              </a:rPr>
              <a:t>Карта универсальны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a045c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a045c"/>
                </a:solidFill>
                <a:latin typeface="Arial"/>
              </a:rPr>
              <a:t>учебны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a045c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a045c"/>
                </a:solidFill>
                <a:latin typeface="Arial"/>
              </a:rPr>
              <a:t>действий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v77"/>
          <p:cNvPicPr/>
          <p:nvPr/>
        </p:nvPicPr>
        <p:blipFill>
          <a:blip r:embed="rId1"/>
          <a:stretch/>
        </p:blipFill>
        <p:spPr>
          <a:xfrm>
            <a:off x="6443640" y="4292640"/>
            <a:ext cx="1630440" cy="1630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G:\Мои рисунки\для ФотоШопа\готовые рамки\96.png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1116000" y="625320"/>
            <a:ext cx="73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45c"/>
                </a:solidFill>
                <a:latin typeface="Arial"/>
              </a:rPr>
              <a:t>Умение с достаточной полнотой выраж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45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a045c"/>
                </a:solidFill>
                <a:latin typeface="Arial"/>
              </a:rPr>
              <a:t>свои мысли в соответствии с задачами и условиями коммуник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903240" y="1941480"/>
            <a:ext cx="777240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«1» - Не желает точно выражать свои мысли, вступать в диалог; не осмысливает поставленную задач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«2» - Не умеет самостоятельно выражать свои мысли; не владеет навыками монологической и диалогической речи в соответствии с грамматическими и синтаксическими нормами родного язы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«3» - Частично владеет навыками устной речи при значительной поддержке учи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«4» - Умеет вступать в коммуникацию; излагает свои мысли; понимает собеседника; договаривается с собеседником с определенной целью (совместное выполнение задан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«5» - Использует языковые средства для отображения в своих высказываниях, в речи своих чувств, мыслей, суждений, владеет современными средствами коммуникации; проявляет социальную активность; умеет строить продуктивное взаимодействие и сотруднич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со сверстниками и взрослы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2627280" y="4437000"/>
            <a:ext cx="226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G:\Мои рисунки\для ФотоШопа\готовые рамки\96.pn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1403280" y="9324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45c"/>
                </a:solidFill>
                <a:latin typeface="Arial"/>
              </a:rPr>
              <a:t>Постановка и формулирование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826920" y="1989000"/>
            <a:ext cx="7705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«1» - Не умеет ставить и формулировать проблему; не может видеть проблему; ищет проблемы изв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«2» - Видит проблему, но не может сформулировать; осуществляет попытки с помощью учите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«3» - Дает решение проблемы, но без алгоритма; работает при поддержке учителя; неосознанно (стихийно) выстраивает алгорит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«4» - Владеет технологией построения алгоритма деятельности; активно сотрудничает с партнерами; инициирует общение по проблеме, предлагает варианты ре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«5» - Творческий и поисковый характер постановки проблемы и ее решения; выстраивает целостный алгоритм с несколькими возможными вариантами решений проблемы; мобилизирует других; ищет и находит оптимальный путь решения пробл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G:\Мои рисунки\для ФотоШопа\готовые рамки\96.pn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971640" y="79416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45c"/>
                </a:solidFill>
                <a:latin typeface="Arial"/>
              </a:rPr>
              <a:t>Рефлексия способов и условий действия, контроль и оценка процесса и результатов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826920" y="1700280"/>
            <a:ext cx="770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«1» - Не сформированы контроль и оценка процесса и результатов деятельности; непонимание способов и условий действия; нежела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«2» - Осознает необходимость контроля и оценки, но не может провести рефлексию результатов собственной деятельности; неадекватное завышение или занижение результатов своей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«3» - Нуждается в сопровождении, помощи учителя; частично проводит рефлексию, контроль и оценку результатов дея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«4» - Владеет техникой, формулирует собственное мнение, инициирует деятельность по контролю и оценке; может вступать в оппози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«5» - Использует шкалу оценивания; высказывается логично, поясняет, прогнозирует возможные пути совершенствования; выстраивает долгосрочную линию по коррекции процесса и результатов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G:\Мои рисунки\для ФотоШопа\готовые рамки\96.pn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971640" y="5846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45c"/>
                </a:solidFill>
                <a:latin typeface="Arial"/>
              </a:rPr>
              <a:t>Смысловое чтение как осмысл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826920" y="1125360"/>
            <a:ext cx="7705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«1» - Не понимает основной мысли текста; неосознанное чтение тек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«2» -Не умеет извлекать необходимую информацию из текста; отсутствие навыков самостоятельной работы с текстом; цель чтения текста ставит под давлением взросл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«3» - Частичное осмысление прочитанного текста; не всегда умеет самостоятельно выявлять проблему текста; на практике испытывает сложности; частично информацию использует при подсказ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«4» - Извлекает необходимую информацию из текста; определяет основную и второстепенную информацию; ошибки допускает редко, старается сам их исправлять; использует информацию с незначительной помощью учите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«5» - Демонстрация полного понимания текст и всех его деталей; выявляет связь между отдельными частями текста с темой; работа с идеями текста; умение извлекать необходимую информацию из прочитанного; ставить перед собой цель чтения, направляя внимание на полезную в данный момент информацию; владение</a:t>
            </a: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 навыком использования материала в дальнейш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G:\Мои рисунки\для ФотоШопа\готовые рамки\96.pn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971640" y="79452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Целеполагание (регулятивные действ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826920" y="1844640"/>
            <a:ext cx="7705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«1» - Не хочет ставить цели; не понимает, что такое цель; умеет ставить цели, но использует в своих корыстных интересах, противоречащих нормам морали и нравствен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«2» - Может сформулировать цель, но под давлением взросл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«3» - Формулирует задачи, ставит цели; в нестандартных ситуациях теряется; необходимо сопровождение учите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«4» - Частично реализует задачи целеполагания; находит механизмы достижения целей, но допускает ошибки; быстро их исправля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«5» - Самостоятельно ставит цели и выстраивает стратегию деятельности; прогнозирует результаты своей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 rot="21417600">
            <a:off x="436320" y="1426680"/>
            <a:ext cx="74721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57160" y="1125000"/>
            <a:ext cx="7531200" cy="403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Calibri"/>
              </a:rPr>
              <a:t>Прямой шрифт –</a:t>
            </a:r>
            <a:r>
              <a:rPr b="1" lang="en-US" sz="32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необходимый уровень для 5–6 классов.</a:t>
            </a:r>
            <a:r>
              <a:rPr b="1" lang="en-US" sz="32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660033"/>
                </a:solidFill>
                <a:latin typeface="Calibri"/>
              </a:rPr>
              <a:t>К</a:t>
            </a:r>
            <a:r>
              <a:rPr b="1" i="1" lang="en-US" sz="4400" spc="-1" strike="noStrike">
                <a:solidFill>
                  <a:srgbClr val="660033"/>
                </a:solidFill>
                <a:latin typeface="Calibri"/>
              </a:rPr>
              <a:t>урсив –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800000"/>
                </a:solidFill>
                <a:latin typeface="Calibri"/>
              </a:rPr>
              <a:t>повышенный уровень </a:t>
            </a: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для </a:t>
            </a:r>
            <a:r>
              <a:rPr b="1" i="1" lang="en-US" sz="3200" spc="-1" strike="noStrike">
                <a:solidFill>
                  <a:srgbClr val="800000"/>
                </a:solidFill>
                <a:latin typeface="Calibri"/>
              </a:rPr>
              <a:t>5–6 классов </a:t>
            </a: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или необходимый урове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для 7–9 классов.</a:t>
            </a:r>
            <a:r>
              <a:rPr b="0" i="1" lang="en-US" sz="36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F:\ШКОЛА(((((((((((((((\портфолио\для портфолио\41754757_shkola_school.jpg"/>
          <p:cNvPicPr/>
          <p:nvPr/>
        </p:nvPicPr>
        <p:blipFill>
          <a:blip r:embed="rId1"/>
          <a:stretch/>
        </p:blipFill>
        <p:spPr>
          <a:xfrm>
            <a:off x="133200" y="4992840"/>
            <a:ext cx="2208240" cy="16938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"/>
          <p:cNvPicPr/>
          <p:nvPr/>
        </p:nvPicPr>
        <p:blipFill>
          <a:blip r:embed="rId2"/>
          <a:stretch/>
        </p:blipFill>
        <p:spPr>
          <a:xfrm>
            <a:off x="6084720" y="4724280"/>
            <a:ext cx="1955880" cy="1649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G:\Мои рисунки\для ФотоШопа\готовые рамки\96.pn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971640" y="8258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45c"/>
                </a:solidFill>
                <a:latin typeface="Arial"/>
              </a:rPr>
              <a:t>Планирование (регулятивные действ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826920" y="1844640"/>
            <a:ext cx="7705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«1» - Отказывается от процесса планирования; не умеет планировать, определять промежуточные цели; действия носят нравственный характе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«2» - Неправильно определяет промежуточные цели; самостоятельно затрудняется составить план; действует стихий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«3» - С помощью учителя определяет цели с учетом конечных результатов; составляет план действий, но не учитывает средства для достижения целей; запрашивает необходимые ресур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«4» -Умеет планировать и определять последовательность действий; иногда допускает ошибки, но быстро их исправляет; использует свои ресурсы, но иные ресурсы не пользу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«5» - Знает, владеет, применяет се этапы планирования; мобилизует все силы для достижения цели; достигает желаемого конечного результата; использует внешние и внутренние ресур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4" descr=""/>
          <p:cNvPicPr/>
          <p:nvPr/>
        </p:nvPicPr>
        <p:blipFill>
          <a:blip r:embed="rId1"/>
          <a:stretch/>
        </p:blipFill>
        <p:spPr>
          <a:xfrm>
            <a:off x="4211640" y="5013360"/>
            <a:ext cx="1527120" cy="16556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>
            <a:off x="179280" y="292320"/>
            <a:ext cx="8964720" cy="62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молов А. Г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проектировать универсальные учебные действия: от действия к мысли / Под ред. А. Г. Асмолова / А. Г. Асмолов, Г. В. Бурменская, И. А. Володарская, О. А. Карабанова, С. В. Молчанов, Н. Г. Салмина. — М., 200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молов А. Г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В. Бурменская, И. А. Володарская и др. Формирование универсальных учебных действий в  основной школе : от действия к мысли. Система заданий : пособие для учителя.  —  М.:  Просвещение,  2010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молов А.Г. Как проектировать универсальные учебные действия в начальной школе. От действия к мысли. – М.: Просвещение. 200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а развития и формирования универсальных учебных действий для основного общего образования. М.: Просвещение. 200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государственный образовательный стандарт основного общего образования / Министерство образования и науки РФ М.: Просвещение. 201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1619280" y="1908000"/>
            <a:ext cx="612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a045c"/>
                </a:solidFill>
                <a:latin typeface="Arial"/>
              </a:rPr>
              <a:t>Познавательные учебные действия.</a:t>
            </a:r>
            <a:r>
              <a:rPr b="0" lang="en-US" sz="5400" spc="-1" strike="noStrike">
                <a:solidFill>
                  <a:srgbClr val="0a045c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v77"/>
          <p:cNvPicPr/>
          <p:nvPr/>
        </p:nvPicPr>
        <p:blipFill>
          <a:blip r:embed="rId1"/>
          <a:stretch/>
        </p:blipFill>
        <p:spPr>
          <a:xfrm>
            <a:off x="6443640" y="4724280"/>
            <a:ext cx="1628640" cy="16290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G:\Мои рисунки\для ФотоШопа\готовые рамки\96.pn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971640" y="1052640"/>
          <a:ext cx="7345440" cy="4574880"/>
        </p:xfrm>
        <a:graphic>
          <a:graphicData uri="http://schemas.openxmlformats.org/drawingml/2006/table">
            <a:tbl>
              <a:tblPr/>
              <a:tblGrid>
                <a:gridCol w="734544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Находить 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(в учебниках и др. источниках, в т.ч. используя ИКТ)</a:t>
                      </a: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достоверную информацию,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необходимую для решения учебных и  </a:t>
                      </a:r>
                      <a:r>
                        <a:rPr b="0" i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жизненных зада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Владеть смысловым чтением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ru-RU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самостоятельно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вычитывать фактуальную, подтекстовую, концептуальную информацию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Самостоятельно выбирать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и использовать </a:t>
                      </a: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разные виды чтения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(в т.ч. просмотровое, ознакомительное, изучающе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Анализировать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(в т.ч. выделять главное, делить текст на части) и </a:t>
                      </a: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обобщать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, доказывать,</a:t>
                      </a: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делать выводы, определять понятия; строить логически обоснованные рассуждения  - на простом и </a:t>
                      </a:r>
                      <a:r>
                        <a:rPr b="0" i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сложном уров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G:\Мои рисунки\для ФотоШопа\готовые рамки\96.pn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1106640" y="1052640"/>
          <a:ext cx="6932520" cy="5184720"/>
        </p:xfrm>
        <a:graphic>
          <a:graphicData uri="http://schemas.openxmlformats.org/drawingml/2006/table">
            <a:tbl>
              <a:tblPr/>
              <a:tblGrid>
                <a:gridCol w="6932520"/>
              </a:tblGrid>
              <a:tr h="12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Классифицировать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(группировать, устанавливать иерархию) по заданным или </a:t>
                      </a:r>
                      <a:r>
                        <a:rPr b="0" i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самостоятельно выбранным основаниям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Сравнивать 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объекты по заданным или </a:t>
                      </a:r>
                      <a:r>
                        <a:rPr b="0" i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самостоятельно определенным критериям 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(в т.ч. используя ИК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Устанавливать причинно-следственные связи </a:t>
                      </a: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на простом и сложном уров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Устанавливать аналогии (создавать модели объектов)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для понимания закономерностей</a:t>
                      </a:r>
                      <a:r>
                        <a:rPr b="0" i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, использовать и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в решении  зада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Представлять информацию в разных формах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(рисунок, текст, таблица, план, </a:t>
                      </a:r>
                      <a:r>
                        <a:rPr b="0" i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схема, тезисы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), в т.ч. используя И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523880" y="1773000"/>
            <a:ext cx="60962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a045c"/>
                </a:solidFill>
                <a:latin typeface="Arial"/>
              </a:rPr>
              <a:t>Регулятивны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a045c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a045c"/>
                </a:solidFill>
                <a:latin typeface="Arial"/>
              </a:rPr>
              <a:t>учебны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a045c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a045c"/>
                </a:solidFill>
                <a:latin typeface="Arial"/>
              </a:rPr>
              <a:t>действия.</a:t>
            </a:r>
            <a:r>
              <a:rPr b="1" lang="en-US" sz="5400" spc="-1" strike="noStrike">
                <a:solidFill>
                  <a:srgbClr val="0a045c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a0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v77"/>
          <p:cNvPicPr/>
          <p:nvPr/>
        </p:nvPicPr>
        <p:blipFill>
          <a:blip r:embed="rId1"/>
          <a:stretch/>
        </p:blipFill>
        <p:spPr>
          <a:xfrm>
            <a:off x="6443640" y="4292640"/>
            <a:ext cx="1630440" cy="16304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G:\Мои рисунки\для ФотоШопа\готовые рамки\96.pn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900000" y="1125360"/>
          <a:ext cx="7417080" cy="5196240"/>
        </p:xfrm>
        <a:graphic>
          <a:graphicData uri="http://schemas.openxmlformats.org/drawingml/2006/table">
            <a:tbl>
              <a:tblPr/>
              <a:tblGrid>
                <a:gridCol w="7417080"/>
              </a:tblGrid>
              <a:tr h="104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Определять цель, проблему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в деятельности: учебной и </a:t>
                      </a:r>
                      <a:r>
                        <a:rPr b="0" i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жизненно-практической (в т.ч. в своих проектах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Выдвигать версии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, выбирать средства достижения цели в группе </a:t>
                      </a:r>
                      <a:r>
                        <a:rPr b="0" i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и индивидуально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Планировать деятельность 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в учебной и </a:t>
                      </a:r>
                      <a:r>
                        <a:rPr b="0" i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жизненной ситуации (в т.ч. проект)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, используя ИК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Работать по плану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сверяясь с целью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, находить и исправлять ошибки, в т.ч. </a:t>
                      </a:r>
                      <a:r>
                        <a:rPr b="0" i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самостоятельно, 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используя И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Оценивать степень и способы достижения цели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в учебных и </a:t>
                      </a:r>
                      <a:r>
                        <a:rPr b="0" i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жизненных ситуациях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самостоятельно 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исправлять ошиб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1187280" y="1785960"/>
            <a:ext cx="691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a045c"/>
                </a:solidFill>
                <a:latin typeface="Arial"/>
              </a:rPr>
              <a:t>Коммуникативн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a045c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a045c"/>
                </a:solidFill>
                <a:latin typeface="Arial"/>
              </a:rPr>
              <a:t>учебн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a045c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a045c"/>
                </a:solidFill>
                <a:latin typeface="Arial"/>
              </a:rPr>
              <a:t>действи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v77"/>
          <p:cNvPicPr/>
          <p:nvPr/>
        </p:nvPicPr>
        <p:blipFill>
          <a:blip r:embed="rId1"/>
          <a:stretch/>
        </p:blipFill>
        <p:spPr>
          <a:xfrm>
            <a:off x="6443640" y="4292640"/>
            <a:ext cx="1630440" cy="1630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G:\Мои рисунки\для ФотоШопа\готовые рамки\96.pn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971640" y="981000"/>
          <a:ext cx="7345440" cy="4989600"/>
        </p:xfrm>
        <a:graphic>
          <a:graphicData uri="http://schemas.openxmlformats.org/drawingml/2006/table">
            <a:tbl>
              <a:tblPr/>
              <a:tblGrid>
                <a:gridCol w="7345440"/>
              </a:tblGrid>
              <a:tr h="16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Излагать свое мнение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(в монологе, диалоге, полилоге),</a:t>
                      </a:r>
                      <a:r>
                        <a:rPr b="1" lang="ru-RU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аргументируя его, подтверждая фактами</a:t>
                      </a:r>
                      <a:r>
                        <a:rPr b="0" i="1" lang="ru-RU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, выдвигая контраргументы в диску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Понимать позицию другого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, выраженную в явном и </a:t>
                      </a:r>
                      <a:r>
                        <a:rPr b="0" i="1" lang="ru-RU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НЕ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явном виде (в т.ч. вести диалог с автором текст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Различать в речи другого мнения, доказательства, факты; </a:t>
                      </a:r>
                      <a:r>
                        <a:rPr b="0" i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гипотезы, аксиомы, догматы, те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Корректировать свое мнение 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под воздействием контраргументов, </a:t>
                      </a:r>
                      <a:r>
                        <a:rPr b="0" i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достойно признавать его ошибоч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3-15T17:50:44Z</dcterms:modified>
  <cp:revision>46</cp:revision>
  <dc:subject/>
  <dc:title>Слайд 1</dc:title>
</cp:coreProperties>
</file>