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39DC-AD8D-42C6-9BD4-D49C541B2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703-1027-45FA-A0AA-BC6E64A871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74D-57D6-46DC-B027-6D0770DC37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1FC-C790-43EF-B78F-8EDF9BCDB3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0C2-77C8-4E76-B72E-00F11B9B6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9A3C-F5CD-4058-A01A-FC6B3ABB1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D78C-3F09-4865-A90B-F2ED82C1D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FD0-7263-4412-981F-CDDC76B7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2A5-DFAD-42B2-8A66-9FB7A96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F80-485C-4A81-8F4C-5CF43D82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294-8950-446E-9C33-053F4285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2E2-8A08-41CB-ADE9-BA5AA6D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131-9669-4A3B-89F5-A6E6AE92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B7D-1F6A-46EB-9EDC-8D0828D2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090-105B-4CBD-A628-9C4D7F15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C21-CC82-46D2-BFDD-78F168C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BDC-A609-42D9-873F-2B7BB23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904-B3E2-4C8D-84B5-74D90C5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64B-CF35-481D-870B-894E49D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C871-68C6-4C62-ACC8-2CF124E96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640" y="3860280"/>
            <a:ext cx="52099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 ученик 3 «Б» класс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Уметской СОШ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онов Дани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водитель: Синегубова И.М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Аватары и анимация на GIFr.ru"/>
          <p:cNvPicPr/>
          <p:nvPr/>
        </p:nvPicPr>
        <p:blipFill>
          <a:blip r:embed="rId2"/>
          <a:stretch/>
        </p:blipFill>
        <p:spPr>
          <a:xfrm>
            <a:off x="2143080" y="1071720"/>
            <a:ext cx="6676920" cy="278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s17.rimg.info/84d0d29e6c40cbb5683c3d1cce783572.gif"/>
          <p:cNvPicPr/>
          <p:nvPr/>
        </p:nvPicPr>
        <p:blipFill>
          <a:blip r:embed="rId3"/>
          <a:stretch/>
        </p:blipFill>
        <p:spPr>
          <a:xfrm>
            <a:off x="357120" y="285840"/>
            <a:ext cx="185760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zaryadka__-_solnyshko_luchistoe_lyubit_skakat_s_oblachka_na_oblachko_pereletat.mp3" descr=""/>
          <p:cNvPicPr/>
          <p:nvPr/>
        </p:nvPicPr>
        <p:blipFill>
          <a:blip r:embed="rId4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Na_zarjadky.mp3" descr=""/>
          <p:cNvPicPr/>
          <p:nvPr/>
        </p:nvPicPr>
        <p:blipFill>
          <a:blip r:embed="rId5"/>
          <a:stretch/>
        </p:blipFill>
        <p:spPr>
          <a:xfrm>
            <a:off x="831708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26836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, как моты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оздушны и лег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тели, поле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ужились и при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Юлия\Рабочий стол\0006-014-Ne-obizhaj-lesnykh-nasekomykh.gif"/>
          <p:cNvPicPr/>
          <p:nvPr/>
        </p:nvPicPr>
        <p:blipFill>
          <a:blip r:embed="rId1"/>
          <a:stretch/>
        </p:blipFill>
        <p:spPr>
          <a:xfrm>
            <a:off x="2987640" y="260280"/>
            <a:ext cx="2720880" cy="235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Юлия\Рабочий стол\insects_048.gif"/>
          <p:cNvPicPr/>
          <p:nvPr/>
        </p:nvPicPr>
        <p:blipFill>
          <a:blip r:embed="rId2"/>
          <a:stretch/>
        </p:blipFill>
        <p:spPr>
          <a:xfrm>
            <a:off x="1908000" y="2637000"/>
            <a:ext cx="5239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286000" y="24130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ялись и встали круг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ели друг на дру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активно занима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внимательным, стара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сам себе похлоп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еяться и потоп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mga.ucoz.ru/Dobroe_utro/slonik_utro.gif"/>
          <p:cNvPicPr/>
          <p:nvPr/>
        </p:nvPicPr>
        <p:blipFill>
          <a:blip r:embed="rId2"/>
          <a:stretch/>
        </p:blipFill>
        <p:spPr>
          <a:xfrm>
            <a:off x="2571840" y="1357200"/>
            <a:ext cx="4214880" cy="425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s14.rimg.info/b5c599345b1ab1f8e7eb3a2435720fab.gif"/>
          <p:cNvPicPr/>
          <p:nvPr/>
        </p:nvPicPr>
        <p:blipFill>
          <a:blip r:embed="rId3"/>
          <a:stretch/>
        </p:blipFill>
        <p:spPr>
          <a:xfrm flipH="1">
            <a:off x="7071840" y="4000680"/>
            <a:ext cx="150516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s10.rimg.info/9d3607614810962ae6655722155d7983.gif"/>
          <p:cNvPicPr/>
          <p:nvPr/>
        </p:nvPicPr>
        <p:blipFill>
          <a:blip r:embed="rId4"/>
          <a:stretch/>
        </p:blipFill>
        <p:spPr>
          <a:xfrm>
            <a:off x="500040" y="8571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s2.rimg.info/f4601028ea49cb7744f2dd13786cd96a.gif"/>
          <p:cNvPicPr/>
          <p:nvPr/>
        </p:nvPicPr>
        <p:blipFill>
          <a:blip r:embed="rId5"/>
          <a:stretch/>
        </p:blipFill>
        <p:spPr>
          <a:xfrm>
            <a:off x="6643800" y="10000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s14.rimg.info/b5c599345b1ab1f8e7eb3a2435720fab.gif"/>
          <p:cNvPicPr/>
          <p:nvPr/>
        </p:nvPicPr>
        <p:blipFill>
          <a:blip r:embed="rId6"/>
          <a:stretch/>
        </p:blipFill>
        <p:spPr>
          <a:xfrm>
            <a:off x="500040" y="4000680"/>
            <a:ext cx="1495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s17.rimg.info/84d0d29e6c40cbb5683c3d1cce783572.gif"/>
          <p:cNvPicPr/>
          <p:nvPr/>
        </p:nvPicPr>
        <p:blipFill>
          <a:blip r:embed="rId1"/>
          <a:stretch/>
        </p:blipFill>
        <p:spPr>
          <a:xfrm>
            <a:off x="714240" y="571680"/>
            <a:ext cx="185760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" descr=""/>
          <p:cNvPicPr/>
          <p:nvPr/>
        </p:nvPicPr>
        <p:blipFill>
          <a:blip r:embed="rId2"/>
          <a:stretch/>
        </p:blipFill>
        <p:spPr>
          <a:xfrm>
            <a:off x="1779480" y="1311120"/>
            <a:ext cx="7285320" cy="33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17.rimg.info/84d0d29e6c40cbb5683c3d1cce783572.gif"/>
          <p:cNvPicPr/>
          <p:nvPr/>
        </p:nvPicPr>
        <p:blipFill>
          <a:blip r:embed="rId1"/>
          <a:stretch/>
        </p:blipFill>
        <p:spPr>
          <a:xfrm>
            <a:off x="1214280" y="785880"/>
            <a:ext cx="185760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1187280" y="3716280"/>
            <a:ext cx="480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ньте дети на заряд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янитесь сладко – слад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янулись, по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янулись и просну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s.rimg.info/3bffde1cba3dd9d81ff3f03bf363fec3.gif"/>
          <p:cNvPicPr/>
          <p:nvPr/>
        </p:nvPicPr>
        <p:blipFill>
          <a:blip r:embed="rId2"/>
          <a:stretch/>
        </p:blipFill>
        <p:spPr>
          <a:xfrm>
            <a:off x="5357880" y="571680"/>
            <a:ext cx="378612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1481E-006 C 0.0335 0.00324 0.06145 0.02962 0.07621 0.06898 L 0.10972 0.16111 C 0.11718 0.18125 0.12882 0.19097 0.1434 0.19097 C 0.16389 0.19097 0.18159 0.16458 0.18316 0.12523 C 0.18159 0.09189 0.16389 0.06226 0.1434 0.06226 C 0.12882 0.06226 0.11718 0.07546 0.10972 0.09189 L 0.07621 0.18472 C 0.06145 0.22407 0.0335 0.25046 3.88889E-006 0.25393 C -0.03368 0.25046 -0.06164 0.22407 -0.07639 0.18472 L -0.1099 0.09189 C -0.11719 0.07546 -0.129 0.06226 -0.14341 0.06226 C -0.16407 0.06226 -0.1816 0.09189 -0.18299 0.12523 C -0.1816 0.16458 -0.16407 0.19097 -0.14341 0.19097 C -0.129 0.19097 -0.11719 0.18125 -0.1099 0.16111 L -0.07639 0.06898 C -0.06164 0.02962 -0.03368 0.00324 3.88889E-006 4.81481E-006 Z">
                                      <p:cBhvr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1"/>
          <p:cNvSpPr/>
          <p:nvPr/>
        </p:nvSpPr>
        <p:spPr>
          <a:xfrm>
            <a:off x="3924360" y="206064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олдаты мы шаг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олени подним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й- правой, аты – ба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ой – правой, как солд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Юлия\Рабочий стол\176359846.jpg"/>
          <p:cNvPicPr/>
          <p:nvPr/>
        </p:nvPicPr>
        <p:blipFill>
          <a:blip r:embed="rId1"/>
          <a:stretch/>
        </p:blipFill>
        <p:spPr>
          <a:xfrm>
            <a:off x="755640" y="981000"/>
            <a:ext cx="381636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s17.rimg.info/84d0d29e6c40cbb5683c3d1cce783572.gif"/>
          <p:cNvPicPr/>
          <p:nvPr/>
        </p:nvPicPr>
        <p:blipFill>
          <a:blip r:embed="rId1"/>
          <a:stretch/>
        </p:blipFill>
        <p:spPr>
          <a:xfrm>
            <a:off x="928800" y="928800"/>
            <a:ext cx="185724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2286000" y="2828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и в боки и прис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нечке посид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ли – с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ли – с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38 0.18311 C -0.02587 0.16598 -0.03212 0.18797 -0.02534 0.16991 C -0.02257 0.16274 -0.02222 0.15672 -0.01857 0.14977 C -0.01753 0.14537 -0.01632 0.14098 -0.01528 0.13658 C -0.01475 0.13426 -0.01493 0.13149 -0.01371 0.12987 C -0.0125 0.12825 -0.01024 0.12871 -0.00868 0.12755 C -0.00694 0.12639 -0.00538 0.12454 -0.00364 0.12315 C -0.00173 0.11783 0.00486 0.09746 0.00799 0.09422 C 0.01077 0.09121 0.01493 0.0919 0.01806 0.08982 C 0.02778 0.08334 0.02865 0.08311 0.04132 0.08102 C 0.06198 0.08241 0.07188 0.08357 0.08976 0.08774 C 0.09132 0.08912 0.09288 0.09098 0.09462 0.09213 C 0.09618 0.09306 0.09809 0.09306 0.09966 0.09422 C 0.10104 0.09537 0.10157 0.09769 0.10295 0.09885 C 0.10677 0.10209 0.11094 0.1044 0.11476 0.10764 C 0.11806 0.11412 0.11893 0.12014 0.12309 0.12547 C 0.12639 0.13982 0.12847 0.15487 0.13472 0.1676 C 0.13577 0.172 0.13698 0.17662 0.13802 0.18102 C 0.13924 0.18612 0.14462 0.19422 0.14462 0.19422 C 0.14636 0.20301 0.14757 0.20903 0.15139 0.21644 C 0.15782 0.24399 0.18507 0.24746 0.20295 0.24977 C 0.20625 0.24908 0.2099 0.24954 0.21302 0.24769 C 0.22292 0.2419 0.22622 0.21158 0.22969 0.19885 C 0.23021 0.19213 0.23091 0.18542 0.23143 0.17871 C 0.23212 0.16899 0.23212 0.1595 0.23299 0.14977 C 0.23334 0.14607 0.23403 0.14237 0.23472 0.13866 C 0.23559 0.13426 0.23802 0.12547 0.23802 0.12547 C 0.24063 0.10301 0.24532 0.08102 0.25295 0.06088 C 0.25591 0.05325 0.25295 0.05533 0.25799 0.04977 C 0.26407 0.04329 0.27275 0.04121 0.27969 0.03658 C 0.29254 0.03727 0.30538 0.03681 0.31806 0.03866 C 0.32153 0.03912 0.32795 0.04329 0.32795 0.04329 C 0.33299 0.06875 0.32483 0.03612 0.33629 0.05649 C 0.33837 0.06019 0.33872 0.06528 0.33976 0.06991 C 0.34288 0.08357 0.34549 0.09885 0.34966 0.11204 C 0.35538 0.13033 0.37222 0.13519 0.38472 0.14098 C 0.39514 0.13843 0.40486 0.1345 0.41476 0.12987 C 0.41893 0.1213 0.41927 0.11297 0.42136 0.10325 C 0.42413 0.09075 0.42726 0.07825 0.42969 0.06551 C 0.43038 0.04422 0.42518 -0.01365 0.45295 -0.01898 C 0.45903 -0.02013 0.46528 -0.0206 0.47136 -0.02129 C 0.47813 -0.01944 0.48455 -0.01689 0.49132 -0.01458 C 0.50295 -0.00439 0.49757 -0.00763 0.50643 -0.00347 C 0.50747 -0.00115 0.50834 0.00139 0.50972 0.00325 C 0.51111 0.0051 0.51354 0.00556 0.51476 0.00764 C 0.5158 0.0095 0.51545 0.01227 0.51632 0.01436 C 0.51823 0.01899 0.52309 0.02755 0.52309 0.02755 C 0.52639 0.04167 0.53299 0.05348 0.53629 0.0676 C 0.53716 0.075 0.53924 0.08218 0.53976 0.08982 C 0.5408 0.10417 0.54028 0.12709 0.54306 0.14329 C 0.54462 0.15232 0.54792 0.16088 0.54966 0.16991 C 0.55226 0.1838 0.55382 0.19792 0.55972 0.20996 C 0.56372 0.23195 0.55816 0.2088 0.56476 0.22315 C 0.57222 0.23982 0.5592 0.21945 0.56962 0.23658 C 0.5757 0.24676 0.57222 0.23473 0.58299 0.24977 C 0.58403 0.25139 0.5849 0.25325 0.58629 0.2544 C 0.59323 0.25996 0.6066 0.26019 0.61302 0.26088 C 0.61528 0.26042 0.63386 0.25857 0.64132 0.2544 C 0.64966 0.24954 0.65799 0.23843 0.66476 0.22987 C 0.66719 0.21575 0.67309 0.20348 0.67639 0.18982 C 0.68316 0.1625 0.68837 0.1345 0.69636 0.10764 C 0.69757 0.09676 0.69896 0.08704 0.70139 0.07662 C 0.70243 0.07223 0.70365 0.0676 0.70469 0.0632 C 0.70521 0.06088 0.70643 0.05649 0.70643 0.05649 C 0.70747 0.04375 0.70868 0.03681 0.71129 0.02547 C 0.71337 -0.01458 0.7257 -0.07523 0.70972 -0.10787 C 0.70868 -0.11388 0.70747 -0.11967 0.70643 -0.12569 C 0.70608 -0.12777 0.704 -0.12847 0.70295 -0.13009 C 0.69584 -0.14282 0.68785 -0.15694 0.68143 -0.17013 C 0.67778 -0.17754 0.65643 -0.18912 0.65139 -0.19236 C 0.64688 -0.19537 0.64132 -0.19375 0.63629 -0.19467 C 0.62014 -0.19745 0.60434 -0.20138 0.58802 -0.20347 C 0.54063 -0.20092 0.55643 -0.20763 0.53299 -0.19236 C 0.53125 -0.19004 0.52952 -0.18819 0.52795 -0.18564 C 0.525 -0.18078 0.51962 -0.17013 0.51962 -0.17013 C 0.51493 -0.15023 0.52188 -0.17754 0.51476 -0.15671 C 0.5099 -0.14213 0.50851 -0.12662 0.50295 -0.11226 C 0.49948 -0.05185 0.50556 0.01065 0.49462 0.06991 C 0.49323 0.07778 0.49063 0.08287 0.48802 0.08982 C 0.48351 0.10186 0.48264 0.11042 0.47639 0.12107 C 0.47483 0.12385 0.47222 0.13033 0.46962 0.13218 C 0.4665 0.13426 0.45972 0.13658 0.45972 0.13658 C 0.4092 0.13357 0.43177 0.14167 0.40643 0.11875 C 0.40417 0.11019 0.40104 0.1007 0.39636 0.09422 C 0.39358 0.0838 0.39254 0.07408 0.39132 0.0632 C 0.3908 0.02917 0.3908 -0.00509 0.38976 -0.03912 C 0.38907 -0.06157 0.38056 -0.11111 0.36129 -0.11898 C 0.35382 -0.12569 0.34653 -0.128 0.33802 -0.13009 C 0.30313 -0.128 0.30521 -0.13263 0.28299 -0.11226 C 0.28091 -0.10092 0.27674 -0.09884 0.27309 -0.08796 C 0.2691 -0.07615 0.26841 -0.06319 0.26302 -0.05231 C 0.26077 -0.03819 0.25886 -0.02407 0.25643 -0.01018 C 0.25591 0.06459 0.25573 0.13959 0.25469 0.21436 C 0.25469 0.21968 0.25365 0.22547 0.25139 0.22987 C 0.24896 0.23473 0.24462 0.23403 0.24132 0.23658 C 0.23195 0.24352 0.22518 0.24838 0.21476 0.25209 C 0.20313 0.25139 0.19132 0.25116 0.17969 0.24977 C 0.17049 0.24885 0.16216 0.23635 0.15469 0.22987 C 0.15417 0.22755 0.154 0.225 0.15295 0.22315 C 0.15174 0.22107 0.14913 0.22107 0.14809 0.21875 C 0.1467 0.21528 0.14427 0.19931 0.14306 0.19422 C 0.14132 0.1875 0.13802 0.17431 0.13802 0.17431 C 0.13733 0.06227 0.17066 -0.06759 0.12466 -0.16134 C 0.12049 -0.17893 0.12639 -0.1574 0.11962 -0.17245 C 0.11268 -0.18796 0.12396 -0.17083 0.11476 -0.18356 C 0.11146 -0.19583 0.10382 -0.20416 0.09462 -0.20787 C 0.08698 -0.21851 0.08073 -0.21689 0.07136 -0.22129 C 0.05295 -0.21944 0.03403 -0.22175 0.01632 -0.21458 C 0.00643 -0.21064 -0.00069 -0.19884 -0.01024 -0.19467 C -0.01666 -0.18611 -0.02187 -0.17569 -0.02691 -0.16574 C -0.02864 -0.16226 -0.03177 -0.16018 -0.03368 -0.15671 C -0.03715 -0.15069 -0.04149 -0.14213 -0.04357 -0.13449 C -0.04878 -0.11574 -0.05052 -0.0956 -0.05538 -0.07685 C -0.05694 0.1625 -0.11059 0.19491 -0.05364 0.1588 E">
                                      <p:cBhvr>
                                        <p:cTn id="38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8360" y="2492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какали, как ляг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-квакушки, ква-квак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 – к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 – к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Documents and Settings\Юлия\Рабочий стол\Jumping_frog_2.gif"/>
          <p:cNvPicPr/>
          <p:nvPr/>
        </p:nvPicPr>
        <p:blipFill>
          <a:blip r:embed="rId1"/>
          <a:stretch/>
        </p:blipFill>
        <p:spPr>
          <a:xfrm>
            <a:off x="4859280" y="836640"/>
            <a:ext cx="38894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788000" y="2637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, встаем на пя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м топать, как лош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ок – ц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ок – ц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C:\Documents and Settings\Юлия\Рабочий стол\784682-693.gif"/>
          <p:cNvPicPr/>
          <p:nvPr/>
        </p:nvPicPr>
        <p:blipFill>
          <a:blip r:embed="rId1"/>
          <a:stretch/>
        </p:blipFill>
        <p:spPr>
          <a:xfrm>
            <a:off x="-396720" y="1268280"/>
            <a:ext cx="49687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411280" y="4221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ы внутрь постав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ышки расправ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ята, кря – к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я – кря, кря – к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C:\Documents and Settings\Юлия\Рабочий стол\resize.jpeg"/>
          <p:cNvPicPr/>
          <p:nvPr/>
        </p:nvPicPr>
        <p:blipFill>
          <a:blip r:embed="rId1"/>
          <a:stretch/>
        </p:blipFill>
        <p:spPr>
          <a:xfrm>
            <a:off x="2556000" y="549360"/>
            <a:ext cx="402084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2340000" y="3573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ки делаем д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ы внешней сторо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гусята на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ышками маш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 – га - га, га – га – 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Юлия\Рабочий стол\315.gif"/>
          <p:cNvPicPr/>
          <p:nvPr/>
        </p:nvPicPr>
        <p:blipFill>
          <a:blip r:embed="rId1"/>
          <a:stretch/>
        </p:blipFill>
        <p:spPr>
          <a:xfrm>
            <a:off x="2916360" y="620640"/>
            <a:ext cx="287964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284720" y="2637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ли прямо, ноги в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рыгали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зайчата скок – ск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ыг – скок, прыг – ск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s9.rimg.info/6d4246fe41523565f4c2b54abd5f8248.gif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385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4:45:19Z</dcterms:created>
  <dc:creator>Татьяна</dc:creator>
  <dc:description/>
  <dc:language>en-US</dc:language>
  <cp:lastModifiedBy>User</cp:lastModifiedBy>
  <dcterms:modified xsi:type="dcterms:W3CDTF">2015-03-14T12:00:55Z</dcterms:modified>
  <cp:revision>71</cp:revision>
  <dc:subject/>
  <dc:title>Слайд 1</dc:title>
</cp:coreProperties>
</file>