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9.gif" ContentType="image/gif"/>
  <Override PartName="/ppt/media/image8.gif" ContentType="image/gif"/>
  <Override PartName="/ppt/media/image18.jpeg" ContentType="image/jpeg"/>
  <Override PartName="/ppt/media/image12.jpeg" ContentType="image/jpeg"/>
  <Override PartName="/ppt/media/image7.jpeg" ContentType="image/jpeg"/>
  <Override PartName="/ppt/media/image5.gif" ContentType="image/gif"/>
  <Override PartName="/ppt/media/image1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22.jpeg" ContentType="image/jpeg"/>
  <Override PartName="/ppt/media/image4.gif" ContentType="image/gif"/>
  <Override PartName="/ppt/media/image6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D186-9127-4C0A-AB13-404C74D12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D410-FEB9-4E70-97B5-77E95E29C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1625-8E77-473A-AAA0-FDACA69C7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8C09-17BA-4F1A-A7D9-8B48CCAC3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84AC-B218-4E3F-8867-44A97F74D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6E2B-488D-4144-B1F9-DC21576AA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F8EE-F615-4E34-868F-E621A6605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87D8-0DF3-4AB1-A8AF-874A7A76B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6BC4-52F0-430C-9C93-CC88A06DA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5E1B-E0E0-4F31-808E-4568BCE4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B9C1-F26B-40C7-93D4-5C58F14B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DC1E-808E-444C-A235-50E8A60E2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34C6E-8D74-4F3C-A6C0-83F475DFA0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calorizator.ru/vitamin/b" TargetMode="External"/><Relationship Id="rId3" Type="http://schemas.openxmlformats.org/officeDocument/2006/relationships/hyperlink" Target="http://www.calorizator.ru/vitamin/b1" TargetMode="External"/><Relationship Id="rId4" Type="http://schemas.openxmlformats.org/officeDocument/2006/relationships/hyperlink" Target="http://www.calorizator.ru/vitamin/b1" TargetMode="External"/><Relationship Id="rId5" Type="http://schemas.openxmlformats.org/officeDocument/2006/relationships/hyperlink" Target="http://www.calorizator.ru/vitamin/b2" TargetMode="External"/><Relationship Id="rId6" Type="http://schemas.openxmlformats.org/officeDocument/2006/relationships/hyperlink" Target="http://www.calorizator.ru/vitamin/b2" TargetMode="External"/><Relationship Id="rId7" Type="http://schemas.openxmlformats.org/officeDocument/2006/relationships/hyperlink" Target="http://www.calorizator.ru/vitamin/b6" TargetMode="External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20908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Тема проекта:</a:t>
            </a:r>
            <a:br>
              <a:rPr sz="4000"/>
            </a:b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«Влияние продуктов питания на жизнедеятельность организм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57120" y="2214720"/>
            <a:ext cx="440208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995640" y="2997000"/>
            <a:ext cx="468648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530028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Berlin Sans FB Demi"/>
            </a:endParaRPr>
          </a:p>
        </p:txBody>
      </p:sp>
      <p:pic>
        <p:nvPicPr>
          <p:cNvPr id="45" name="Picture 15" descr="bb305ec0a9e99b2e24a00813ebb70202"/>
          <p:cNvPicPr/>
          <p:nvPr/>
        </p:nvPicPr>
        <p:blipFill>
          <a:blip r:embed="rId1"/>
          <a:stretch/>
        </p:blipFill>
        <p:spPr>
          <a:xfrm>
            <a:off x="928800" y="2286000"/>
            <a:ext cx="4248000" cy="3440160"/>
          </a:xfrm>
          <a:prstGeom prst="rect">
            <a:avLst/>
          </a:prstGeom>
          <a:ln w="0">
            <a:noFill/>
          </a:ln>
        </p:spPr>
      </p:pic>
      <p:sp>
        <p:nvSpPr>
          <p:cNvPr id="46" name="TextBox 6"/>
          <p:cNvSpPr/>
          <p:nvPr/>
        </p:nvSpPr>
        <p:spPr>
          <a:xfrm>
            <a:off x="5280840" y="2928960"/>
            <a:ext cx="3495600" cy="15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ила: учениц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-а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амзина Гульна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уководитель: Газиева Л.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" dur="3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речневая каш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C:\Users\USER\Desktop\CE7FC4_0.jpg"/>
          <p:cNvPicPr/>
          <p:nvPr/>
        </p:nvPicPr>
        <p:blipFill>
          <a:blip r:embed="rId1"/>
          <a:stretch/>
        </p:blipFill>
        <p:spPr>
          <a:xfrm>
            <a:off x="5286240" y="150012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4"/>
          <p:cNvSpPr/>
          <p:nvPr/>
        </p:nvSpPr>
        <p:spPr>
          <a:xfrm>
            <a:off x="571680" y="1571760"/>
            <a:ext cx="4572000" cy="48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ечка способствует снижению уровня холестерина, очищает сосуды, а значит, предотвращает развитие атеросклероза, инфаркта и инсуль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личается греча и большим содержанием витаминов группы В и РР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исовая каш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C:\Users\USER\Desktop\17064278_Food_082.jpg"/>
          <p:cNvPicPr/>
          <p:nvPr/>
        </p:nvPicPr>
        <p:blipFill>
          <a:blip r:embed="rId1"/>
          <a:stretch/>
        </p:blipFill>
        <p:spPr>
          <a:xfrm>
            <a:off x="5072040" y="1714680"/>
            <a:ext cx="3506760" cy="278604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4"/>
          <p:cNvSpPr/>
          <p:nvPr/>
        </p:nvSpPr>
        <p:spPr>
          <a:xfrm>
            <a:off x="285840" y="2214720"/>
            <a:ext cx="4572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рисе, а, следовательно, и в ее каше содержится большое количество необходимых для организма человека полезных минералов и микроэлементов: фосфор, марганец, селен, цинк, калий, железо, кальций. Также она богата витаминами групп Е, В, РР, которые способны удовлетворить практически все запросы человеческого организма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ыр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C:\Users\USER\Desktop\i.jpg"/>
          <p:cNvPicPr/>
          <p:nvPr/>
        </p:nvPicPr>
        <p:blipFill>
          <a:blip r:embed="rId1"/>
          <a:stretch/>
        </p:blipFill>
        <p:spPr>
          <a:xfrm>
            <a:off x="4929120" y="1428840"/>
            <a:ext cx="3463920" cy="257184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4"/>
          <p:cNvSpPr/>
          <p:nvPr/>
        </p:nvSpPr>
        <p:spPr>
          <a:xfrm>
            <a:off x="357120" y="1928880"/>
            <a:ext cx="45720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ной компонент практически каждого вида сыра – питательный белок, который принимает активное участие в построении новых клеток. 500 граммов сыра содержит полезных веществ, столько, сколько содержится в 5 литрах молока.  Сыр используется в детском и диетическом питании, служит источником кальция и калия, имеет отличную усвояемость организм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акароны отварны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C:\Users\USER\Desktop\536471.jpg"/>
          <p:cNvPicPr/>
          <p:nvPr/>
        </p:nvPicPr>
        <p:blipFill>
          <a:blip r:embed="rId1"/>
          <a:stretch/>
        </p:blipFill>
        <p:spPr>
          <a:xfrm>
            <a:off x="5715000" y="114300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4"/>
          <p:cNvSpPr/>
          <p:nvPr/>
        </p:nvSpPr>
        <p:spPr>
          <a:xfrm>
            <a:off x="714240" y="1428840"/>
            <a:ext cx="457200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ука изначально содержит 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витамины группы B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, участвующие во многих биохимических реакциях: 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B1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 или 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тиамин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, способствующий расщеплению питательных веществ, 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B2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 или 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рибофлавин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, регулирующий состояние кожи и влияющий на зрение, 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B6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 или пиридоксин, регулирующий образование клеток крови, поддерживающий иммунитет, B9 способствующий образованию нуклеиновых кислот. Особенно выделяет по количеству витамин PP, необходимый для здоровья кожных покровов. Среди макроэлементов в макаронах много натрия, регулирующего проницаемость клеточных мембран. Из микроэлементов заметно количество калия и участвующего в усвоении глюкозы, передаче нервного импульса, магния. Сера и фосфор в макаронах усваиваются и влияют на качество волос, зубов и костей. Микроэлементы регулируют работу ферментов, участвуют в кроветворении. Их недостаток вызывает нарушение нервной деятельности, снижение иммуните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тлета говяжь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C:\Users\USER\Desktop\f8ed3f4b20e0.jpg"/>
          <p:cNvPicPr/>
          <p:nvPr/>
        </p:nvPicPr>
        <p:blipFill>
          <a:blip r:embed="rId1"/>
          <a:stretch/>
        </p:blipFill>
        <p:spPr>
          <a:xfrm>
            <a:off x="5143680" y="1428840"/>
            <a:ext cx="3390840" cy="254304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4"/>
          <p:cNvSpPr/>
          <p:nvPr/>
        </p:nvSpPr>
        <p:spPr>
          <a:xfrm>
            <a:off x="324000" y="974880"/>
            <a:ext cx="45720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к как говядина быстро усваивается в организме, то ее употребление не влечет засорение кишечника бродящими и гниющими отходами. Присутствие этого продукта в рационе человека в умеренных количествах оказывает влияние на работу сердечно-сосудистой системы, способствует повышению уровня гемоглобина в крови и укрепляет стенки сосудов. Кроме того говядина нормализует работу желудочно-кишечного тракта, снижает риск развития инфарктов. Кроме того, она улучшает память и оказывает благоприятное воздействие на нервную сист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уп гороховы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C:\Users\USER\Desktop\1159453418_6704.jpg"/>
          <p:cNvPicPr/>
          <p:nvPr/>
        </p:nvPicPr>
        <p:blipFill>
          <a:blip r:embed="rId1"/>
          <a:stretch/>
        </p:blipFill>
        <p:spPr>
          <a:xfrm>
            <a:off x="5302080" y="142884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4"/>
          <p:cNvSpPr/>
          <p:nvPr/>
        </p:nvSpPr>
        <p:spPr>
          <a:xfrm>
            <a:off x="428760" y="1143000"/>
            <a:ext cx="45720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ерна гороха  нужно обязательно включать в рацион, так как он содержит в своем составе легкоусвояемые белки. Кроме того, в нем много углеводов, микроэлементов, в частности - калия, марганца, ценного фосфора и железа. Зеленых горошек, помимо этого, содержит витамины группы В, РР. Большое достоинство этой пищевой культуры - наличие в составе лизина. Эта редкая аминокислота необходима для людей, страдающих от сердечнососудистых заболеваний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Ябло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C:\Users\USER\Desktop\229-avatar.jpg"/>
          <p:cNvPicPr/>
          <p:nvPr/>
        </p:nvPicPr>
        <p:blipFill>
          <a:blip r:embed="rId1"/>
          <a:stretch/>
        </p:blipFill>
        <p:spPr>
          <a:xfrm>
            <a:off x="4599000" y="1357200"/>
            <a:ext cx="4178160" cy="242892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4"/>
          <p:cNvSpPr/>
          <p:nvPr/>
        </p:nvSpPr>
        <p:spPr>
          <a:xfrm>
            <a:off x="214200" y="500040"/>
            <a:ext cx="4500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ногие слышали, что яблоко очень часто называют плодом здоровья – это действительно так, они содержат большое количество витаминов таких как С, В1, В2, Р, Е, в том числе марганец и калий. Также это один из легко усваивающихся источников железа. Яблоки используют не только для профилактики простудных заболеваний, но и для лечения тяжелых недугов как злокачественные образования. Достаточное количество калия помогают стабилизировать кровяное давление, ну а кальций необходим для укрепления зубной эмали и костной ткани. Не стоит забывать, что яблоки почти гипоаллергенные и их можно употреблять почти вс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ртофельное пюр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C:\Users\USER\Desktop\pyure-quotvkusnoequot_6258.jpg"/>
          <p:cNvPicPr/>
          <p:nvPr/>
        </p:nvPicPr>
        <p:blipFill>
          <a:blip r:embed="rId1"/>
          <a:stretch/>
        </p:blipFill>
        <p:spPr>
          <a:xfrm>
            <a:off x="4929120" y="1428840"/>
            <a:ext cx="3754440" cy="312552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4"/>
          <p:cNvSpPr/>
          <p:nvPr/>
        </p:nvSpPr>
        <p:spPr>
          <a:xfrm>
            <a:off x="214200" y="2500200"/>
            <a:ext cx="4572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юре из картофеля полезно при гастритах, артритах, заболеваниях желчного пузыря и печени, сердца и сосудов. Растительные волокна выводят токсины, оказывают стимулирующее действие на работу органов пищеварения и желудочно-кишечного тракта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ыб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C:\Users\USER\Desktop\4.jpg"/>
          <p:cNvPicPr/>
          <p:nvPr/>
        </p:nvPicPr>
        <p:blipFill>
          <a:blip r:embed="rId1"/>
          <a:stretch/>
        </p:blipFill>
        <p:spPr>
          <a:xfrm>
            <a:off x="4572000" y="1571760"/>
            <a:ext cx="3776760" cy="275724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3"/>
          <p:cNvSpPr/>
          <p:nvPr/>
        </p:nvSpPr>
        <p:spPr>
          <a:xfrm>
            <a:off x="250920" y="189000"/>
            <a:ext cx="47527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гулярное употребление рыбы и рыбных продуктов в пищу способствует нормализации работы щитовидной железы и является отличной профилактикой гормональных нарушений. А, у тех, кто регулярно кушает рыбу, нет проблем со зрением, сном и памятью, эти люди не страдают от сбоев в работе нервной системы, живут дольше, а состояние их зубов, ногтей, костей и волос вызывает зависть и восхищение. К тому же, польза рыбы заключается ещё и в том, что она нормализует обменные процессы в организме человека, способствует профилактике сердечно-сосудистых заболев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вод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авильно приготовленная пища необходима для здорового роста ребен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школьной столовой готовят здоровую пищ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ню разработано с учетом необходимых продуктов для здорового роста учащих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сновополагающий вопрос</a:t>
            </a:r>
            <a:br>
              <a:rPr sz="28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ы – то, что мы еди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680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облемные вопрос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лагодаря чему мы растём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ткуда мы берём энергию для жизни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ся ли еда полезна для жизни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Есть для того, чтобы жить или жить, для того, чтобы есть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48320" y="4652640"/>
            <a:ext cx="403848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44"/>
          <p:cNvPicPr/>
          <p:nvPr/>
        </p:nvPicPr>
        <p:blipFill>
          <a:blip r:embed="rId1"/>
          <a:stretch/>
        </p:blipFill>
        <p:spPr>
          <a:xfrm>
            <a:off x="5580000" y="1700280"/>
            <a:ext cx="2448000" cy="2736720"/>
          </a:xfrm>
          <a:prstGeom prst="rect">
            <a:avLst/>
          </a:prstGeom>
          <a:ln w="9360">
            <a:solidFill>
              <a:srgbClr val="ffbf6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3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3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3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3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3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C:\Users\USER\Desktop\1280665432_app1.jpg"/>
          <p:cNvPicPr/>
          <p:nvPr/>
        </p:nvPicPr>
        <p:blipFill>
          <a:blip r:embed="rId1"/>
          <a:stretch/>
        </p:blipFill>
        <p:spPr>
          <a:xfrm>
            <a:off x="179280" y="476280"/>
            <a:ext cx="4464000" cy="3155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DSCN3111"/>
          <p:cNvPicPr/>
          <p:nvPr/>
        </p:nvPicPr>
        <p:blipFill>
          <a:blip r:embed="rId2"/>
          <a:stretch/>
        </p:blipFill>
        <p:spPr>
          <a:xfrm>
            <a:off x="4932360" y="476280"/>
            <a:ext cx="3600360" cy="2700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DSCN3113"/>
          <p:cNvPicPr/>
          <p:nvPr/>
        </p:nvPicPr>
        <p:blipFill>
          <a:blip r:embed="rId3"/>
          <a:stretch/>
        </p:blipFill>
        <p:spPr>
          <a:xfrm>
            <a:off x="3492360" y="3573360"/>
            <a:ext cx="388800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Цели проек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ировать умение самостоятельно находить нужную информацию в разных источниках, анализировать её и делать выв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ировать представление школьников о рациональном питании как составной части здорового образа жиз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9" descr="AG00030_"/>
          <p:cNvPicPr/>
          <p:nvPr/>
        </p:nvPicPr>
        <p:blipFill>
          <a:blip r:embed="rId1"/>
          <a:stretch/>
        </p:blipFill>
        <p:spPr>
          <a:xfrm>
            <a:off x="6732720" y="549360"/>
            <a:ext cx="2016000" cy="16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3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3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3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3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Задачи проек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45352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воить представление о понятиях: питательные вещества, режим питания, правила пи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вать умение устно и письменно кратко излагать свои мыс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85928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2" descr="AG00317_"/>
          <p:cNvPicPr/>
          <p:nvPr/>
        </p:nvPicPr>
        <p:blipFill>
          <a:blip r:embed="rId1"/>
          <a:stretch/>
        </p:blipFill>
        <p:spPr>
          <a:xfrm>
            <a:off x="6084720" y="620640"/>
            <a:ext cx="1470240" cy="1621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DSCN3112"/>
          <p:cNvPicPr/>
          <p:nvPr/>
        </p:nvPicPr>
        <p:blipFill>
          <a:blip r:embed="rId2"/>
          <a:stretch/>
        </p:blipFill>
        <p:spPr>
          <a:xfrm>
            <a:off x="4716360" y="2708280"/>
            <a:ext cx="442764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3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3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3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3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1211957572_25c8fd61c1ad4555434832d2bd8b27cc"/>
          <p:cNvPicPr/>
          <p:nvPr/>
        </p:nvPicPr>
        <p:blipFill>
          <a:blip r:embed="rId1"/>
          <a:stretch/>
        </p:blipFill>
        <p:spPr>
          <a:xfrm rot="413400">
            <a:off x="5508720" y="2997000"/>
            <a:ext cx="3384360" cy="30956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Темы самостоятельных исследований учащих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8218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е питательные вещества человек получает с пище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 чего ещё состоит пищ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чему меню школьной столовой составлено именно и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их продукт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7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2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7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2" dur="2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Этапы и сроки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проведения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57200" y="1700280"/>
          <a:ext cx="7043760" cy="4627440"/>
        </p:xfrm>
        <a:graphic>
          <a:graphicData uri="http://schemas.openxmlformats.org/drawingml/2006/table">
            <a:tbl>
              <a:tblPr/>
              <a:tblGrid>
                <a:gridCol w="7043760"/>
              </a:tblGrid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Обсуждение темы исследования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Формирование групп для проведения исследования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Работа в группах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V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Подготовка материала для демонстрации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Защита полученных результатов и выводов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4" name="Picture 33" descr="AG00011_"/>
          <p:cNvPicPr/>
          <p:nvPr/>
        </p:nvPicPr>
        <p:blipFill>
          <a:blip r:embed="rId1"/>
          <a:stretch/>
        </p:blipFill>
        <p:spPr>
          <a:xfrm>
            <a:off x="7308720" y="189000"/>
            <a:ext cx="124776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4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Результаты представления исследов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работы над проектом было создано 3 групп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ая группа работает над своей те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езультате работы будут создан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зентация «Мы – то, что мы едим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ню на неделю, правила пит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дет проведена практическая рабо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Состав пищ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AG00315_"/>
          <p:cNvPicPr/>
          <p:nvPr/>
        </p:nvPicPr>
        <p:blipFill>
          <a:blip r:embed="rId1"/>
          <a:stretch/>
        </p:blipFill>
        <p:spPr>
          <a:xfrm>
            <a:off x="7451640" y="260280"/>
            <a:ext cx="1254240" cy="11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чему в школьной столовой такое меню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онедельник: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лат из свежей капусты, сосиски отварные, каша гречневая с масл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Вторник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исовая каша с маслом, сы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реда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кароны отварные, котлеты говяжь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Четверг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блоки свежие,  суп горохов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ятница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ртофельное пюре, рыба тушеная с овощ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алат из свежей капуст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C:\Users\USER\Desktop\1_5338ffc362bb75338ffc362bf2.jpg"/>
          <p:cNvPicPr/>
          <p:nvPr/>
        </p:nvPicPr>
        <p:blipFill>
          <a:blip r:embed="rId1"/>
          <a:stretch/>
        </p:blipFill>
        <p:spPr>
          <a:xfrm>
            <a:off x="4929120" y="1643040"/>
            <a:ext cx="3776760" cy="287820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5"/>
          <p:cNvSpPr/>
          <p:nvPr/>
        </p:nvSpPr>
        <p:spPr>
          <a:xfrm>
            <a:off x="357120" y="214308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 много в капусте витамина С, бета-каротина, витаминов группы В, но кроме этого, в ней присутствует и редкий витамин U, оказывающий лечебное действие на язвенную болезнь желудка и кишечника, гастрит, язвенный колит, стимулирующий перистальтику и активизирующий работу кишечника. Способствует ускорению обмена веществ и большое количество клетчатки, которая содержится в капустных листь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08:09:13Z</dcterms:created>
  <dc:creator>Zver</dc:creator>
  <dc:description/>
  <dc:language>en-US</dc:language>
  <cp:lastModifiedBy>USER</cp:lastModifiedBy>
  <dcterms:modified xsi:type="dcterms:W3CDTF">2015-03-15T09:08:26Z</dcterms:modified>
  <cp:revision>22</cp:revision>
  <dc:subject/>
  <dc:title>Тема проекта: «Влияние продуктов питания на жизнедеятельность организма»</dc:title>
</cp:coreProperties>
</file>