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F8D0-5BC4-495F-A64A-6FAC5D42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871A-9092-4AE9-806F-248B1773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025B-C13E-446E-A8CE-FE471E36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BEA-D8FB-4112-8F4C-DF20E128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BBBE-DB25-4709-8E59-ED624CC7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0985-5EF7-42F6-9100-4DD94010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67D7-D5DE-4776-ACF6-9630956F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9A9B-4874-43C3-BA32-F1EF2208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3FEC-6C30-4C5B-BC2E-5BFF6D66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F166-1FDA-411C-89A9-9429A3C6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7E6D-3022-40BA-BC19-7ED72EF1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5ADA-64BB-444D-B75B-177CEDC1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64C9-DC2A-491D-895F-83389D4E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21D6-D5AF-4538-B659-22E8F80A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3D32-C0A4-4CD0-A7A4-B0C5725A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23D6-FE82-4B50-A821-3B5BB290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565A-DDD6-4009-B3BD-C8AB54A8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33BF-9EA9-4C9D-BC5E-C66A4F38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A8B2-0BC1-417E-8934-880241FF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6153-2473-4D35-872C-7B59C0DE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8E0-D105-4495-9357-CE8F11E3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8228-DF42-48D6-B8DD-BAD5EC91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62BE-D182-4E0A-B4D2-8B03201D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6B7D-F089-4B50-B299-65E8438C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1A0D-C219-4EF9-848C-87DA9317B3F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9DF5-E9D1-4014-A525-EC7C2E3A598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анятие №6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мешарики в театр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ДЕКОРА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9" name="Picture 13" descr=""/>
          <p:cNvPicPr/>
          <p:nvPr/>
        </p:nvPicPr>
        <p:blipFill>
          <a:blip r:embed="rId1"/>
          <a:srcRect l="0" t="0" r="1138" b="1857"/>
          <a:stretch/>
        </p:blipFill>
        <p:spPr>
          <a:xfrm>
            <a:off x="1116000" y="1341360"/>
            <a:ext cx="720108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УКОЛЬНЫЙ ТЕАТ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Picture 5" descr="shat"/>
          <p:cNvPicPr/>
          <p:nvPr/>
        </p:nvPicPr>
        <p:blipFill>
          <a:blip r:embed="rId1"/>
          <a:stretch/>
        </p:blipFill>
        <p:spPr>
          <a:xfrm>
            <a:off x="900000" y="1639800"/>
            <a:ext cx="734400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УКЛЫ-ПЕРЧАТ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4248360" cy="4537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508720" y="1557360"/>
            <a:ext cx="302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УКЛЫ-МАРИОНЕТ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064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208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РАВИЛА ПОВЕДЕНИЯ В ТЕАТР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)Привести одежду в порядок. И чистым и опрятным прийти в театр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)Говорить тише, смеяться вполголос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) В театр или кино приходить за 15-20 минут до начала спектакл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ЗАНАВЕ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993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ПЛОДИСМЕН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4" name="Picture 5" descr="Applause"/>
          <p:cNvPicPr/>
          <p:nvPr/>
        </p:nvPicPr>
        <p:blipFill>
          <a:blip r:embed="rId1"/>
          <a:stretch/>
        </p:blipFill>
        <p:spPr>
          <a:xfrm>
            <a:off x="900000" y="1413000"/>
            <a:ext cx="7559640" cy="4537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12380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848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Что такое театр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Театр в переводе с греческого- место для зрелища, да и само зрелищ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32720" y="3933720"/>
            <a:ext cx="14475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Verdana"/>
              </a:rPr>
              <a:t>Диктант по клеточкам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380360" y="4221000"/>
            <a:ext cx="942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АКИЕ БЫВАЮТ ТЕАТРЫ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Verdana"/>
              </a:rPr>
              <a:t>Театр оперы и балет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Verdana"/>
              </a:rPr>
              <a:t>Драматический театр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Verdana"/>
              </a:rPr>
              <a:t>Театр зверей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Verdana"/>
              </a:rPr>
              <a:t>Театр теней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Verdana"/>
              </a:rPr>
              <a:t>Кукольный театр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948360" y="47242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8064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ФОЙ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064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ЗРИТЕЛЬНЫЙ ЗА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Picture 19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80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ОРКЕСТРОВАЯ Я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10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416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3T14:36:01Z</dcterms:created>
  <dc:creator>Анютка</dc:creator>
  <dc:description/>
  <dc:language>en-US</dc:language>
  <cp:lastModifiedBy>Анютка</cp:lastModifiedBy>
  <dcterms:modified xsi:type="dcterms:W3CDTF">2014-03-23T16:50:46Z</dcterms:modified>
  <cp:revision>2</cp:revision>
  <dc:subject/>
  <dc:title>Занятие №6 Смешарики в театре</dc:title>
</cp:coreProperties>
</file>