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B198-C580-4487-8476-F8177DC5C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0080-6FDE-4E2C-8B0E-9B3E3532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6561-8E35-46A0-971E-04411EB32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8A7F-7E6D-4C23-B311-F39DDB40B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C94B-D382-4713-A618-73F862E1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3AC9-3A97-421F-B385-7799D0DE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37A5-AFF0-4768-A9A9-C334BE05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301F-AF24-45F2-B1F6-37F135E2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C8A2-2EE3-4540-AA02-6F628A46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7E0A-13E2-4758-BD1E-F98278D8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BFD7-E4CA-4ABA-BF8E-FA8871B3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24B6-F583-4A70-8A70-94FA02D7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2C28-94CF-4609-9ED2-7C4EDFCAE79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-243000"/>
            <a:ext cx="7772400" cy="341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Защита Отечества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436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Урок обществозн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В 7 класс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3392640" y="2492280"/>
            <a:ext cx="2358720" cy="23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8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блемное задание на урок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58920" y="2852280"/>
            <a:ext cx="6400800" cy="22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99694"/>
                </a:solidFill>
                <a:latin typeface="Calibri"/>
              </a:rPr>
              <a:t>Почему защита Отечества – это и долг,  и обязанность; Какие угрозы возникают для нашей страны в 21 век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Calibri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2420640"/>
            <a:ext cx="6400800" cy="25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ctr">
              <a:spcBef>
                <a:spcPts val="575"/>
              </a:spcBef>
              <a:buClr>
                <a:srgbClr val="95373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3735"/>
                </a:solidFill>
                <a:latin typeface="Calibri"/>
              </a:rPr>
              <a:t>Защита Отечества – это и обязанность граждан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575"/>
              </a:spcBef>
              <a:buClr>
                <a:srgbClr val="95373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3735"/>
                </a:solidFill>
                <a:latin typeface="Calibri"/>
              </a:rPr>
              <a:t>Служба в армии – это и долг, и обязанност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7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7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77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77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Arial Black"/>
              </a:rPr>
              <a:t>Внешние угрозы для нашей стран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хема 2" descr=""/>
          <p:cNvPicPr/>
          <p:nvPr/>
        </p:nvPicPr>
        <p:blipFill>
          <a:blip r:embed="rId1"/>
          <a:stretch/>
        </p:blipFill>
        <p:spPr>
          <a:xfrm>
            <a:off x="1152360" y="1785960"/>
            <a:ext cx="6473880" cy="4365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t0.gstatic.com/images?q=tbn:ANd9GcSOh266__IwiLgrGf4yPNr0G3K_YSHtQhToxkxkkVdZv2sOCzAK"/>
          <p:cNvPicPr/>
          <p:nvPr/>
        </p:nvPicPr>
        <p:blipFill>
          <a:blip r:embed="rId2"/>
          <a:stretch/>
        </p:blipFill>
        <p:spPr>
          <a:xfrm>
            <a:off x="428760" y="1700280"/>
            <a:ext cx="2243160" cy="2728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t3.gstatic.com/images?q=tbn:ANd9GcSlPd2KTRfJZlzaNt6qMAvp1_2DEHlqTItEWmusoJzvHbD_UwzAFA"/>
          <p:cNvPicPr/>
          <p:nvPr/>
        </p:nvPicPr>
        <p:blipFill>
          <a:blip r:embed="rId3"/>
          <a:stretch/>
        </p:blipFill>
        <p:spPr>
          <a:xfrm>
            <a:off x="5951520" y="1844640"/>
            <a:ext cx="221472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Arial Black"/>
              </a:rPr>
              <a:t>Внутренние угроз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хема 3" descr=""/>
          <p:cNvPicPr/>
          <p:nvPr/>
        </p:nvPicPr>
        <p:blipFill>
          <a:blip r:embed="rId1"/>
          <a:stretch/>
        </p:blipFill>
        <p:spPr>
          <a:xfrm>
            <a:off x="658800" y="1341360"/>
            <a:ext cx="7515360" cy="4803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://t0.gstatic.com/images?q=tbn:ANd9GcQEUVmBdWDSYLtvv6BDBzzvDy9dGvBPDa8hjU2YT-GW47L4k-h-5w"/>
          <p:cNvPicPr/>
          <p:nvPr/>
        </p:nvPicPr>
        <p:blipFill>
          <a:blip r:embed="rId2"/>
          <a:stretch/>
        </p:blipFill>
        <p:spPr>
          <a:xfrm>
            <a:off x="6784920" y="2786040"/>
            <a:ext cx="1925640" cy="1500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t1.gstatic.com/images?q=tbn:ANd9GcRkC6TZHGSBKA24YiB0Zciw-LBVu-DIwZ8-_DlH35lSQGJNnq6f"/>
          <p:cNvPicPr/>
          <p:nvPr/>
        </p:nvPicPr>
        <p:blipFill>
          <a:blip r:embed="rId3"/>
          <a:stretch/>
        </p:blipFill>
        <p:spPr>
          <a:xfrm>
            <a:off x="249120" y="5284800"/>
            <a:ext cx="2859120" cy="1360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t0.gstatic.com/images?q=tbn:ANd9GcRTAJswzbrlGXbkmV3spqRElwZy2gIffvRxPHyHJRxXH10C8zGn"/>
          <p:cNvPicPr/>
          <p:nvPr/>
        </p:nvPicPr>
        <p:blipFill>
          <a:blip r:embed="rId4"/>
          <a:stretch/>
        </p:blipFill>
        <p:spPr>
          <a:xfrm>
            <a:off x="6572160" y="5376960"/>
            <a:ext cx="23526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33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1.В ЧЁМ СОСТОИТ ОБЯЗАТЕЛЬНАЯ ПОДГОТОВКА К ВОЕННОЙ СЛУЖБЕ В АРМИИ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6920" y="980640"/>
            <a:ext cx="6418080" cy="482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alibri"/>
              </a:rPr>
              <a:t>2.Почему  многие  граждане  нашей  страны  поступают  на  военную  службу  по  контракту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alibri"/>
              </a:rPr>
              <a:t>3.Какие  существуют  воинские  обязанност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748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53735"/>
                </a:solidFill>
                <a:latin typeface="Calibri"/>
              </a:rPr>
              <a:t>Общие  обязанности  военнослужащего:</a:t>
            </a:r>
            <a:r>
              <a:rPr b="1" lang="ru-RU" sz="4000" spc="-1" strike="noStrike">
                <a:solidFill>
                  <a:srgbClr val="953735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t3.gstatic.com/images?q=tbn:ANd9GcR75jcduCmW3DS9hMlqRuSS11JWQw2hUMJpUHOJj720n0dxnI26Hw"/>
          <p:cNvPicPr/>
          <p:nvPr/>
        </p:nvPicPr>
        <p:blipFill>
          <a:blip r:embed="rId1"/>
          <a:stretch/>
        </p:blipFill>
        <p:spPr>
          <a:xfrm>
            <a:off x="214200" y="214200"/>
            <a:ext cx="1428840" cy="2143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://t3.gstatic.com/images?q=tbn:ANd9GcSJ2wwU6YVxNbod8l7LCTxxMYjmFvbPa7wjyt8Q1Efzh-suq5V4"/>
          <p:cNvPicPr/>
          <p:nvPr/>
        </p:nvPicPr>
        <p:blipFill>
          <a:blip r:embed="rId2"/>
          <a:stretch/>
        </p:blipFill>
        <p:spPr>
          <a:xfrm>
            <a:off x="428760" y="2000160"/>
            <a:ext cx="1771560" cy="2581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http://t1.gstatic.com/images?q=tbn:ANd9GcSQLXEsIDbCqlVVXcnjTPwXozMDjwJUe6Jlc4eSMgfUi-FsKcll0xTcWhizoQ"/>
          <p:cNvPicPr/>
          <p:nvPr/>
        </p:nvPicPr>
        <p:blipFill>
          <a:blip r:embed="rId3"/>
          <a:stretch/>
        </p:blipFill>
        <p:spPr>
          <a:xfrm>
            <a:off x="642960" y="4429080"/>
            <a:ext cx="2428920" cy="200016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3071880" y="1285920"/>
            <a:ext cx="5286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 Black"/>
                <a:ea typeface="Times New Roman"/>
              </a:rPr>
              <a:t>Быть  верным  Военной  присяге, беззаветно  служить  своему  народ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 Black"/>
                <a:ea typeface="Times New Roman"/>
              </a:rPr>
              <a:t>Дорожить  честью  и  боевой  славой  защитников  своего  народа, честью  </a:t>
            </a:r>
            <a:r>
              <a:rPr b="1" lang="en-US" sz="1800" spc="-1" strike="noStrike">
                <a:solidFill>
                  <a:srgbClr val="7030a0"/>
                </a:solidFill>
                <a:latin typeface="Arial Black"/>
                <a:ea typeface="Times New Roman"/>
              </a:rPr>
              <a:t>воинского  звания  и  войсковым  товариществ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 Black"/>
                <a:ea typeface="Times New Roman"/>
              </a:rPr>
              <a:t>Совершенствовать  воинское  мастерство, содержать  в  постоянной  готовности  к  применению  </a:t>
            </a:r>
            <a:r>
              <a:rPr b="1" lang="en-US" sz="1800" spc="-1" strike="noStrike">
                <a:solidFill>
                  <a:srgbClr val="7030a0"/>
                </a:solidFill>
                <a:latin typeface="Arial Black"/>
                <a:ea typeface="Times New Roman"/>
              </a:rPr>
              <a:t>вооружение  и  военную  технику, беречь  военное  имуществ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 Black"/>
                <a:ea typeface="Times New Roman"/>
              </a:rPr>
              <a:t>Быть  дисциплинированным, бдительным, хранить  государственную  и  военную  </a:t>
            </a:r>
            <a:r>
              <a:rPr b="1" lang="en-US" sz="1800" spc="-1" strike="noStrike">
                <a:solidFill>
                  <a:srgbClr val="7030a0"/>
                </a:solidFill>
                <a:latin typeface="Arial Black"/>
                <a:ea typeface="Times New Roman"/>
              </a:rPr>
              <a:t>тай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7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770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2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4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77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770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3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Calibri"/>
              </a:rPr>
              <a:t>Закрепл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4"/>
          <p:cNvSpPr/>
          <p:nvPr/>
        </p:nvSpPr>
        <p:spPr>
          <a:xfrm>
            <a:off x="785880" y="1571760"/>
            <a:ext cx="7286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2217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742217"/>
                </a:solidFill>
                <a:latin typeface="Times New Roman"/>
                <a:ea typeface="Times New Roman"/>
              </a:rPr>
              <a:t>-  Какие  функции  выполняет  военкома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2217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742217"/>
                </a:solidFill>
                <a:latin typeface="Times New Roman"/>
                <a:ea typeface="Times New Roman"/>
              </a:rPr>
              <a:t>-  В  чём  состоит  обязательная  подготовка  к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2217"/>
                </a:solidFill>
                <a:latin typeface="Times New Roman"/>
                <a:ea typeface="Times New Roman"/>
              </a:rPr>
              <a:t>военной  служб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2217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742217"/>
                </a:solidFill>
                <a:latin typeface="Times New Roman"/>
                <a:ea typeface="Times New Roman"/>
              </a:rPr>
              <a:t>-  Граждане  какого  возраста  подлежат  призыву  на  военную  служб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2217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742217"/>
                </a:solidFill>
                <a:latin typeface="Times New Roman"/>
                <a:ea typeface="Times New Roman"/>
              </a:rPr>
              <a:t>-  Каков  срок  военной  служб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2217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742217"/>
                </a:solidFill>
                <a:latin typeface="Times New Roman"/>
                <a:ea typeface="Times New Roman"/>
              </a:rPr>
              <a:t>-  Что  такое  повест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2217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742217"/>
                </a:solidFill>
                <a:latin typeface="Times New Roman"/>
                <a:ea typeface="Times New Roman"/>
              </a:rPr>
              <a:t>-  Каковы  особенности  службы  для  граждан, проходящих  военную  службу  по  контракт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2217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742217"/>
                </a:solidFill>
                <a:latin typeface="Times New Roman"/>
                <a:ea typeface="Times New Roman"/>
              </a:rPr>
              <a:t>-  Что  включает  в  себя  военная  присяг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2217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742217"/>
                </a:solidFill>
                <a:latin typeface="Times New Roman"/>
                <a:ea typeface="Times New Roman"/>
              </a:rPr>
              <a:t>-  Что  понимается  под  понятием  </a:t>
            </a:r>
            <a:r>
              <a:rPr b="1" lang="ru-RU" sz="2000" spc="-1" strike="noStrike">
                <a:solidFill>
                  <a:srgbClr val="742217"/>
                </a:solidFill>
                <a:latin typeface="Calibri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742217"/>
                </a:solidFill>
                <a:latin typeface="Times New Roman"/>
                <a:ea typeface="Times New Roman"/>
              </a:rPr>
              <a:t> военная  служба</a:t>
            </a:r>
            <a:r>
              <a:rPr b="1" lang="ru-RU" sz="2000" spc="-1" strike="noStrike">
                <a:solidFill>
                  <a:srgbClr val="742217"/>
                </a:solidFill>
                <a:latin typeface="Calibri"/>
                <a:ea typeface="Times New Roman"/>
              </a:rPr>
              <a:t>»</a:t>
            </a:r>
            <a:r>
              <a:rPr b="1" lang="ru-RU" sz="2000" spc="-1" strike="noStrike">
                <a:solidFill>
                  <a:srgbClr val="742217"/>
                </a:solidFill>
                <a:latin typeface="Times New Roman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2217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742217"/>
                </a:solidFill>
                <a:latin typeface="Times New Roman"/>
                <a:ea typeface="Times New Roman"/>
              </a:rPr>
              <a:t>-  Каковы  общие  обязанности  военнослужащи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2217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742217"/>
                </a:solidFill>
                <a:latin typeface="Times New Roman"/>
                <a:ea typeface="Times New Roman"/>
              </a:rPr>
              <a:t>-  Готовитесь  ли  вы  к  исполнению  воинского  долг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5-03-15T18:53:17Z</dcterms:modified>
  <cp:revision>7</cp:revision>
  <dc:subject/>
  <dc:title>Защита Отечества</dc:title>
</cp:coreProperties>
</file>