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DBA-9BB9-46F1-B85C-3681B1B3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249-608A-420E-AFD7-36F98950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A11-72E8-4D77-9F7A-D2FE6CCF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BB8-AEFE-401A-A4F9-0C22503F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3CB-2BE3-4581-96B4-52617AB4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DE7-C74E-40D9-A829-BD0F12EB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236-085A-4CE3-9021-BF087BB1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C23-8757-4CDA-AA7C-8841BD22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919-E2BA-4B01-8B26-E77CC84F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795-FBC9-4DE3-8B71-95A53AAB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984-E692-4C4B-9AE1-A8500831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1E7-FD63-4CFE-8EEC-7B1C242D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67E3-F72D-4644-BFD5-CFF2552A1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133360"/>
            <a:ext cx="6629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роектная деятельность школьник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724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лгоритм написания научно-исследовательских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екомендации по оформлению работ для НОУ «Авро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ды прое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391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 доминирующей деятельности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ционные, исследовательские, творческие, прикладные или практико-ориентиров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 предметно-содержательной области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редметные, межпредметные и надпредме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 продолжительност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кратковременных, когда планирование, реализация и рефлексия проекта осуществляются непосредственно на уроке или на спаренном учебном занятии, до длительных — продолжительностью от месяца и бо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 количеству участников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ивидуальные, групповые, коллектив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лгоритм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йти проблему – что надо изуч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ма – как это наз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ктуальность – почему эту проблему нужно изуч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ъект – кто или что изучается, исслед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дмет – область изучения относительно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ель исследования – какой результат предполагается получ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и исследования – что делать – теоретически и эксперимент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потеза – что не очевидно в объек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овизна – что нового обнаружено в ходе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итературный обзор – что уже известно по этой пробл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тодика исследования – как и что исследов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зультаты исследования – собственные д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воды – краткие ответы на поставленны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начимость – как влияют результаты на прак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Общие требования и правила оформления текстов исследовательски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7315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ичество страниц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ащихся 2-4 классов – 6-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ащихся 5-6 классов – 10-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ащихся 7-8 классов – 15-2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ащихся 9-11 классов – 25-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мер шрифта 12-14, Times New Roman, обычный; интервал между строк – 1,5-2; размер полей: левого – 30 мм., правого – 10 мм., верхнего – 20 мм., нижнего – 20 м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кст печатается на одной стороне страниц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страницы нумеруются, начиная с титульного листа; на титульном листе номер страницы не ставится. Каждый новый раздел (введение, главы, параграфы, заключение, список источников, приложения) начинается с новой стра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тояние между названием раздела (заголовками главы или параграфа) и последующим текстом должно быть равно трем интервалам. Заголовок располагается посередине строки, точку в конце заголовка не став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труктур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73915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итульный лис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главл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ледует за титульным лис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Введение должно включать в себя: актуальность исследования; проблему исследования; формулировку темы; объект, предмет; цель, гипотезу; задачи; методы исследования; его практическую значимость и научную новизну исслед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сновная (содержательная) ча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боты может содержать 2-3 гла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исок литерат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492480"/>
            <a:ext cx="6248160" cy="28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32 с углубленным изучением отдельных предме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ция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екц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3886200"/>
            <a:ext cx="304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втор: (Ф.И.О. автора, клас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уководитель:(Ф.И.О. руководителя,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олжност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57913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бережные Челны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1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06080" y="1599840"/>
            <a:ext cx="4732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мер оформления огл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ведение…………………………………. стр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Глава …………………………………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. ……………………………………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………………………………………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………………………………………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Глава……………………………………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1………………………………………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………………………………………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………………………………………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лючение………………………………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исок литературы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ожение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520"/>
            <a:ext cx="754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цы библиографических описаний для кн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ахомова Н.Ю. Метод учебного проекта в образовательном учреждении: Пособие для учителей и студентов педагогических вузов. - М.: АРКТИ, 2003. – 57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Савенков А.И. Методика исследовательского обучения младших школьников. – 2-е изд., - Самара: Издательство «Учебная литература», 2007. – 208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цы библиографических описаний для статей в периодических изд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Волжина И.А. Формирование экологических знаний школьников через предметно-практическую деятельность. //Школа и производство, 2006, №8, с.18-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Гильмеева Р.Х. Роль исследовательской деятельности учителя начальных классов в реализации идей развивающего обучения / Р. Х. Гильмеева // Начальная школа: плюс до и после. - 2006. - № 4. - С. 58-6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блиографическая ссылка на электронные док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URL: http://www.researcher.ru/methodi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UR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idos.ru/journal/2002/0419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019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готовка к защ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238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клад по защите работы, как правило, следует рассчитать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7 минут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Составьте краткую, но емкую речь: Актуальность проблемы, цели и задачи, предмет, объект, новизна, знач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держание рабо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Главы работ 1-3. Расскажите о сущности, методике и результатах вашего исследования. Постарайтесь изложить свои мысли простым, четким, ясным, точным и популярным язык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Дайте в сокращенном виде выводы и рекомендации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5-02-21T04:17:0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