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3.wmf" ContentType="image/x-wmf"/>
  <Override PartName="/ppt/media/image40.jpeg" ContentType="image/jpeg"/>
  <Override PartName="/ppt/media/image13.jpeg" ContentType="image/jpeg"/>
  <Override PartName="/ppt/media/image44.wmf" ContentType="image/x-wmf"/>
  <Override PartName="/ppt/media/image45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188-C3DE-4489-B984-35C10D29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A30-7627-4D7B-9D0A-C3AFAB50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46F-3DDB-474D-9BBB-2913315B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183-DB30-4974-8912-D91CDC49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36A9-3B77-42F3-825A-0819D4BA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DE3A-675C-40F9-B162-315F8844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F30B-00AC-4C23-944C-530E3940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F369-F61F-407F-BAF4-8BDA7124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6A49-60DE-4AD6-96DA-E8096513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D9FD-1504-4FDC-884E-FD2E7EEA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951-759C-4C4F-8FF3-CFB1AC1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F10-3AD3-4F68-B92A-5A8EB35D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CD2B-F75B-4B37-A36D-4C3F032F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C268-F1FD-434D-B375-A29D6425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503A-EB2B-4D54-AA06-9CC24C66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1B4E-3297-45C3-9A4F-BEF8A6CA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68D6-1B15-4C55-B46B-04907631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FF8-1B68-4FA7-B0C3-70A83872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862-5453-4C1D-A568-39B4A9F4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744-3C36-44A5-B37F-2383523E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644-43DF-4D23-80F0-2D2F1D0F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3F8-62A6-41B9-BA21-8C7527C1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DDA-3FBB-4C56-A612-01F47F2B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13F-C431-4851-ADD7-2D09708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84FE-F53E-4E6A-9C18-FEA1D10788F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E8C7-1899-4FDB-8EAD-BCB6BE4533F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prb.ru/firms/polyglot/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hyperlink" Target="http://www.dprb.ru/firms/senator/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www.dprb.ru/firms/buryatsigns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dprb.ru/firms/comphelp/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www.dprb.ru/firms/diva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dprb.ru/firms/vitacosmetology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dprb.ru/firms/citrusbeauty/" TargetMode="External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hyperlink" Target="http://www.dprb.ru/firms/relax/" TargetMode="External"/><Relationship Id="rId18" Type="http://schemas.openxmlformats.org/officeDocument/2006/relationships/image" Target="../media/image20.jpeg"/><Relationship Id="rId19" Type="http://schemas.openxmlformats.org/officeDocument/2006/relationships/hyperlink" Target="http://www.dprb.ru/firms/hotelconsultant/" TargetMode="External"/><Relationship Id="rId20" Type="http://schemas.openxmlformats.org/officeDocument/2006/relationships/image" Target="../media/image21.jpeg"/><Relationship Id="rId21" Type="http://schemas.openxmlformats.org/officeDocument/2006/relationships/hyperlink" Target="http://www.dprb.ru/firms/Next/" TargetMode="External"/><Relationship Id="rId22" Type="http://schemas.openxmlformats.org/officeDocument/2006/relationships/image" Target="../media/image22.jpeg"/><Relationship Id="rId23" Type="http://schemas.openxmlformats.org/officeDocument/2006/relationships/hyperlink" Target="http://www.dprb.ru/firms/euroday/" TargetMode="External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dprb.ru/firms/ochir/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uumoda.ru/bitrix/rk.php?id=89&amp;event1=banner&amp;event2=click&amp;event3=1+/+[89]+[RIGHT_7]+TANGO&amp;goto=http://www.tango-irk.ru/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hyperlink" Target="http://www.dprb.ru/catalog/1195/146584.php" TargetMode="External"/><Relationship Id="rId9" Type="http://schemas.openxmlformats.org/officeDocument/2006/relationships/image" Target="../media/image29.jpeg"/><Relationship Id="rId10" Type="http://schemas.openxmlformats.org/officeDocument/2006/relationships/hyperlink" Target="http://www.dprb.ru/firms/artgroup/" TargetMode="External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hyperlink" Target="http://www.dprb.ru/firms/hotelbaikalplaza/" TargetMode="External"/><Relationship Id="rId14" Type="http://schemas.openxmlformats.org/officeDocument/2006/relationships/image" Target="../media/image32.jpeg"/><Relationship Id="rId15" Type="http://schemas.openxmlformats.org/officeDocument/2006/relationships/hyperlink" Target="http://www.dprb.ru/firms/matrix/" TargetMode="External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hyperlink" Target="http://www.dprb.ru/firms/creativeline/" TargetMode="External"/><Relationship Id="rId19" Type="http://schemas.openxmlformats.org/officeDocument/2006/relationships/image" Target="../media/image35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prb.ru/firms/Dacha/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dprb.ru/firms/cvetochnyiBAZAR/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www.dprb.ru/firms/imidzhSPA/" TargetMode="External"/><Relationship Id="rId6" Type="http://schemas.openxmlformats.org/officeDocument/2006/relationships/image" Target="../media/image38.jpeg"/><Relationship Id="rId7" Type="http://schemas.openxmlformats.org/officeDocument/2006/relationships/hyperlink" Target="http://www.dprb.ru/firms/avangardfitness/" TargetMode="External"/><Relationship Id="rId8" Type="http://schemas.openxmlformats.org/officeDocument/2006/relationships/image" Target="../media/image39.jpeg"/><Relationship Id="rId9" Type="http://schemas.openxmlformats.org/officeDocument/2006/relationships/hyperlink" Target="http://www.dprb.ru/firms/sharcentr/" TargetMode="External"/><Relationship Id="rId10" Type="http://schemas.openxmlformats.org/officeDocument/2006/relationships/image" Target="../media/image40.jpeg"/><Relationship Id="rId11" Type="http://schemas.openxmlformats.org/officeDocument/2006/relationships/hyperlink" Target="http://www.dprb.ru/firms/FabrikaGrill/" TargetMode="External"/><Relationship Id="rId12" Type="http://schemas.openxmlformats.org/officeDocument/2006/relationships/image" Target="../media/image41.jpeg"/><Relationship Id="rId13" Type="http://schemas.openxmlformats.org/officeDocument/2006/relationships/hyperlink" Target="http://www.dprb.ru/firms/creativeline/" TargetMode="External"/><Relationship Id="rId14" Type="http://schemas.openxmlformats.org/officeDocument/2006/relationships/image" Target="../media/image35.jpeg"/><Relationship Id="rId15" Type="http://schemas.openxmlformats.org/officeDocument/2006/relationships/hyperlink" Target="http://www.dprb.ru/firms/tutor/" TargetMode="External"/><Relationship Id="rId16" Type="http://schemas.openxmlformats.org/officeDocument/2006/relationships/image" Target="../media/image42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" TargetMode="External"/><Relationship Id="rId2" Type="http://schemas.openxmlformats.org/officeDocument/2006/relationships/hyperlink" Target="http://www.krugosvet.ru/" TargetMode="External"/><Relationship Id="rId3" Type="http://schemas.openxmlformats.org/officeDocument/2006/relationships/hyperlink" Target="http://www.krugosvet.ru/" TargetMode="External"/><Relationship Id="rId4" Type="http://schemas.openxmlformats.org/officeDocument/2006/relationships/hyperlink" Target="http://www.philology.ru/linguistics2/dyakov-03.htm" TargetMode="External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skater.kiev.ua/uploads/posts/1203004597_haz_general_warning.gif&amp;pageurl=http://skater.kiev.ua%2Fnews%2Fsite%2F&amp;id=52743142&amp;iid=2&amp;imgwidth=274&amp;imgheight=231&amp;imgsize=2645&amp;images_links=b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dkvartal.ru/images/photos/1/1/11327_cel.jpg&amp;pageurl=http://www.dkvartal.ru%2Fantistress%2F2008%2F11&amp;id=28174284&amp;iid=8&amp;imgwidth=99&amp;imgheight=97&amp;imgsize=19011&amp;images_links=b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modnovse.ru/products_pictures/2730218_med.JPG&amp;pageurl=http://www.modnovse.ru%2Findex.php%3FproductID%3D691%26PHPSESSID%3D5b1346cb4ae975bc07b2329e10e0b571&amp;id=54015681&amp;iid=5&amp;imgwidth=359&amp;imgheight=523&amp;imgsize=17392&amp;images_links=b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go.mail.ru/frame.html?imgurl=http://alnoor.ru/uploads/posts/2008-05/1211912435_1211891471_intro.jpg&amp;pageurl=http://www.artgide.com%2F2746-.html&amp;id=29776708&amp;iid=4&amp;imgwidth=400&amp;imgheight=376&amp;imgsize=123988&amp;images_links=b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go.mail.ru/frame.html?imgurl=http://susvet.info/files/images/Radar_Sector_at_Piarco_Center.preview.jpg&amp;pageurl=http://susvet.info%2Fzeljaneishija%3Fpage%3D9&amp;id=22047314&amp;iid=7&amp;imgwidth=450&amp;imgheight=338&amp;imgsize=28979&amp;images_links=b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go.mail.ru/frame.html?imgurl=http://www.bankir.md/news_photo/small_mea4.jpg&amp;pageurl=http://www.fifthavenue.ru%2Farticles%2Farticle11-1334.html&amp;id=13021249&amp;iid=7&amp;imgwidth=147&amp;imgheight=150&amp;imgsize=10966&amp;images_links=b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go.mail.ru/frame.html?imgurl=http://www.lanck.ru/imgmain/BenQ_A51E.jpg&amp;pageurl=http://www.stolica.ru%2Fcgi-bin%2Fprop%2Fprop.pl%3Fname%3Dphoto%26node%3Dmodel%26node_name%3DBenQ%252FJoybook%2520R56%26parent_name%3Dnb%2FBenQ&amp;id=18602857&amp;iid=2&amp;imgwidth=300&amp;imgheight=259&amp;imgsize=42318&amp;images_links=b" TargetMode="Externa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48240" y="1194480"/>
            <a:ext cx="770472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лияние английских заимствований на лексику русского языка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мусор» или инструме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7960" y="4876560"/>
            <a:ext cx="4012920" cy="17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ыбикова Юмжина, ученица 9 а к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MCj04348020000[1]"/>
          <p:cNvPicPr/>
          <p:nvPr/>
        </p:nvPicPr>
        <p:blipFill>
          <a:blip r:embed="rId1"/>
          <a:stretch/>
        </p:blipFill>
        <p:spPr>
          <a:xfrm>
            <a:off x="2895480" y="2133720"/>
            <a:ext cx="3084480" cy="265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j0252349"/>
          <p:cNvPicPr/>
          <p:nvPr/>
        </p:nvPicPr>
        <p:blipFill>
          <a:blip r:embed="rId2"/>
          <a:stretch/>
        </p:blipFill>
        <p:spPr>
          <a:xfrm>
            <a:off x="4876920" y="3200400"/>
            <a:ext cx="1147680" cy="7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Mj02836230000[1]"/>
          <p:cNvPicPr/>
          <p:nvPr/>
        </p:nvPicPr>
        <p:blipFill>
          <a:blip r:embed="rId3"/>
          <a:stretch/>
        </p:blipFill>
        <p:spPr>
          <a:xfrm>
            <a:off x="3048120" y="2971800"/>
            <a:ext cx="7887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5" descr="http://www.dprb.ru/upload/iblock/6d8/detailphrwdgl9poliglo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638680"/>
            <a:ext cx="182880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95800" y="443520"/>
            <a:ext cx="83329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учаи использования английских заимствований в названиях Улан – Удэнских предприятий и учреждений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ыре групп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– полностью английское сло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4" descr="logo_hc_newsite"/>
          <p:cNvPicPr/>
          <p:nvPr/>
        </p:nvPicPr>
        <p:blipFill>
          <a:blip r:embed="rId3"/>
          <a:stretch/>
        </p:blipFill>
        <p:spPr>
          <a:xfrm>
            <a:off x="6553080" y="4952880"/>
            <a:ext cx="2376720" cy="16210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1" descr="http://www.dprb.ru/upload/iblock/46e/detailptqrqykwz1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2133720"/>
            <a:ext cx="2024280" cy="7617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2" descr="http://www.dprb.ru/upload/iblock/fce/buryatsign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00400" y="21337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3" descr="http://www.dprb.ru/upload/iblock/07d/bylp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29718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4" descr="http://www.dprb.ru/upload/iblock/bc0/detailplr1r5fut1am1j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29200" y="21337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5" descr="http://www.dprb.ru/upload/iblock/d50/detailpdhxmfpwv1h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62320" y="3733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6" descr="http://www.dprb.ru/upload/iblock/43c/citrus_w300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495680" y="3733920"/>
            <a:ext cx="2428920" cy="971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7" descr="http://www.dprb.ru/upload/iblock/32c/iwnyvdz%20giz%20logo85x85.jpg"/>
          <p:cNvPicPr/>
          <p:nvPr/>
        </p:nvPicPr>
        <p:blipFill>
          <a:blip r:embed="rId16"/>
          <a:stretch/>
        </p:blipFill>
        <p:spPr>
          <a:xfrm>
            <a:off x="304920" y="5029200"/>
            <a:ext cx="1933560" cy="1171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8" descr="http://www.dprb.ru/upload/iblock/ac0/detailpwxdzaoas1v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238880" y="373392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9" descr="http://www.dprb.ru/upload/iblock/10e/otelq_konsulqtant_logo_w85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543800" y="2133720"/>
            <a:ext cx="809640" cy="7999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0" descr="http://www.dprb.ru/upload/iblock/224/next_new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600200" y="6019920"/>
            <a:ext cx="167652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1" descr="http://www.dprb.ru/upload/iblock/fca/everyday%20logo3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52880" y="4876920"/>
            <a:ext cx="114300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звание – различные сочетания английского слова (заимствования) с рус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http://www.dprb.ru/upload/iblock/f20/jaxaps%20btl.jpg"/>
          <p:cNvPicPr/>
          <p:nvPr/>
        </p:nvPicPr>
        <p:blipFill>
          <a:blip r:embed="rId1"/>
          <a:stretch/>
        </p:blipFill>
        <p:spPr>
          <a:xfrm>
            <a:off x="1295280" y="2514600"/>
            <a:ext cx="152424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http://www.dprb.ru/upload/iblock/042/ochir_lo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05740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http://www.dprb.ru/upload/iblock/e2d/red%20box%20400.jpg"/>
          <p:cNvPicPr/>
          <p:nvPr/>
        </p:nvPicPr>
        <p:blipFill>
          <a:blip r:embed="rId4"/>
          <a:stretch/>
        </p:blipFill>
        <p:spPr>
          <a:xfrm>
            <a:off x="3505320" y="3505320"/>
            <a:ext cx="175248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http://uumoda.ru/upload/rk/a9f/Tango_picture_w24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3352680"/>
            <a:ext cx="2209680" cy="23623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9" descr="http://www.dprb.ru/upload/iblock/8ca/logo_INDIGO_w300.jpg"/>
          <p:cNvPicPr/>
          <p:nvPr/>
        </p:nvPicPr>
        <p:blipFill>
          <a:blip r:embed="rId7"/>
          <a:stretch/>
        </p:blipFill>
        <p:spPr>
          <a:xfrm>
            <a:off x="6019920" y="4952880"/>
            <a:ext cx="2857320" cy="11908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0" descr="http://www.dprb.ru/upload/iblock/b33/TriKita_image001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720" y="586728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1" descr="http://www.dprb.ru/upload/iblock/867/logo_art_group_w300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4648320"/>
            <a:ext cx="1676520" cy="990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" descr="http://www.dprb.ru/upload/iblock/70a/ULAN%20logo%20250.jpg"/>
          <p:cNvPicPr/>
          <p:nvPr/>
        </p:nvPicPr>
        <p:blipFill>
          <a:blip r:embed="rId12"/>
          <a:stretch/>
        </p:blipFill>
        <p:spPr>
          <a:xfrm>
            <a:off x="5638680" y="3276720"/>
            <a:ext cx="141948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3" descr="http://www.dprb.ru/upload/iblock/905/detailprtwruwl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29200" y="2133720"/>
            <a:ext cx="2209680" cy="7617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4" descr="http://www.dprb.ru/upload/iblock/9c1/1ava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696080" y="1523880"/>
            <a:ext cx="111456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5" descr="http://www.dprb.ru/upload/iblock/eab/buoaktg%20logo%2085x85.jpg"/>
          <p:cNvPicPr/>
          <p:nvPr/>
        </p:nvPicPr>
        <p:blipFill>
          <a:blip r:embed="rId17"/>
          <a:stretch/>
        </p:blipFill>
        <p:spPr>
          <a:xfrm>
            <a:off x="7543800" y="36576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6" descr="http://www.dprb.ru/upload/iblock/189/kreativeline_logo85.jp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3809880" y="5867280"/>
            <a:ext cx="1752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звание – запись русского слова английскими бук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– запись английского слова русскими бук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6" descr="http://www.dprb.ru/upload/iblock/543/Dach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219320"/>
            <a:ext cx="2209680" cy="7524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7" descr="http://www.dprb.ru/upload/iblock/c58/detailpfgpb5xx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914400"/>
            <a:ext cx="2133720" cy="9144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9" descr="http://www.dprb.ru/upload/iblock/ec7/imidzhspa_logo_w8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3733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0" descr="http://www.dprb.ru/upload/iblock/a9f/detailpuxdz5zvf1mc1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3352680"/>
            <a:ext cx="24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1" descr="http://www.dprb.ru/upload/iblock/9b2/hfat%20yesq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0400" y="5257800"/>
            <a:ext cx="1600200" cy="990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http://www.dprb.ru/upload/iblock/813/logo_Fabrika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990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http://www.dprb.ru/upload/iblock/189/kreativeline_logo85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172200" y="3200400"/>
            <a:ext cx="164772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5" descr="http://www.dprb.ru/upload/iblock/4f4/nvx%20atp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095880" y="4876920"/>
            <a:ext cx="175284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6840" y="23619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им ваше внимание на то, что в первую очередь, подростки используют заимствования, потому что это модно. Они хотят следовать американскому образу жизни, а также считают, что заимствованное слово является более компактным, четким, логичным, следовательно, незаменимым(по данным социологического опро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пользование лексики английского происхождени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обыденной  жизни 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трелка вниз 3"/>
          <p:cNvSpPr/>
          <p:nvPr/>
        </p:nvSpPr>
        <p:spPr>
          <a:xfrm>
            <a:off x="3886200" y="4800600"/>
            <a:ext cx="990720" cy="12826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384800" y="2590920"/>
            <a:ext cx="4759200" cy="4114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80760" y="376200"/>
            <a:ext cx="808704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ы опрос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0" y="1371600"/>
            <a:ext cx="502920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5"/>
          <p:cNvSpPr/>
          <p:nvPr/>
        </p:nvSpPr>
        <p:spPr>
          <a:xfrm>
            <a:off x="5181480" y="2362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равн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2"/>
          <p:cNvSpPr/>
          <p:nvPr/>
        </p:nvSpPr>
        <p:spPr>
          <a:xfrm>
            <a:off x="4648320" y="914400"/>
            <a:ext cx="4190760" cy="3733920"/>
          </a:xfrm>
          <a:prstGeom prst="downArrowCallout">
            <a:avLst>
              <a:gd name="adj1" fmla="val 28061"/>
              <a:gd name="adj2" fmla="val 28059"/>
              <a:gd name="adj3" fmla="val 16667"/>
              <a:gd name="adj4" fmla="val 6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1"/>
          <p:cNvSpPr/>
          <p:nvPr/>
        </p:nvSpPr>
        <p:spPr>
          <a:xfrm>
            <a:off x="762120" y="914400"/>
            <a:ext cx="3809880" cy="3733920"/>
          </a:xfrm>
          <a:prstGeom prst="downArrowCallout">
            <a:avLst>
              <a:gd name="adj1" fmla="val 25511"/>
              <a:gd name="adj2" fmla="val 25509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39621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нельзя заменить на русск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употребляется в специальной области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отражает более точный смысл по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можно заменить на русское слово и смысл не измен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не имеет определенной сферы у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знаете точного смысла с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838080" y="4952880"/>
            <a:ext cx="35816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5029200" y="4952880"/>
            <a:ext cx="358128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у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75780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данному исследованию мы пришли к выводу, что процесс заимствования из английского языка в русский усиливается в настоящее время, поскольку английский язык является основой многих профессиональных языков, широко используется в молодёжном сленге. С одной стороны, этот процесс неизбежен, но с другой, должна сохранятся культурная основа языка. Отсюда, мы полагаем, что англицизмы должны соответствовать следующим требован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любое заимствование должно быть необходимо, без него нельзя обойтись в русском язы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иноязычное слово должно употребляться правильно и точно в том значении, которое оно имеет в языковом источни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оно должно быть понятно тем, кто его употребля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сурсы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http://ru.wikipedia.org/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2800" spc="-1" strike="noStrike" u="sng">
                <a:solidFill>
                  <a:srgbClr val="336600"/>
                </a:solidFill>
                <a:uFillTx/>
                <a:latin typeface="Arial"/>
                <a:hlinkClick r:id="rId3"/>
              </a:rPr>
              <a:t>www.krugosve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33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ww.philology.ru/linguistics2/dyakov-03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ww.durov.com/linguistics2/dyakov-03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i?id=36279288&amp;tov=2"/>
          <p:cNvPicPr/>
          <p:nvPr/>
        </p:nvPicPr>
        <p:blipFill>
          <a:blip r:embed="rId5"/>
          <a:stretch/>
        </p:blipFill>
        <p:spPr>
          <a:xfrm>
            <a:off x="7010280" y="228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Улыбающееся лицо 5"/>
          <p:cNvSpPr/>
          <p:nvPr/>
        </p:nvSpPr>
        <p:spPr>
          <a:xfrm>
            <a:off x="2895480" y="4191120"/>
            <a:ext cx="3200400" cy="1904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ом языке есть слова, заимствованные из других языков. Что касается русского языка, в нем таких слов около 1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ую часть которых составляют имена существите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большое внимание в исследовании состояния русского языка уделяется английскому и американскому лингвокультурному влия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кажется нам интересным для исследования  по той причине, что наглядно отражает связь языка с общественной жизнью, с культурой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десятилетия наблюдается процесс интенсивного заимствования англицизмов в русский язык. Иногда СМИ так «пестрят» английскими словами, что непонятно, о чем идет речь. Возникает вопрос: Нужно ли такое количество английских слов, может быть некоторые из них совершенно бесполезны и даже вредны для русской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?id=52743142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33520"/>
            <a:ext cx="1523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ктуальность, предмет, объект и цель нашей работы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ся значимостью английского языка в жизни русск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мет работ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следование заимствованных англицизмов в современном русском языке последних десятиле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ъект исследова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ксические единицы английского происхождения и их производ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явление степени влияния английского языка на русский язык, частотности использования заимствований английской лексики в современном русск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?id=28174284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75248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чины заимствова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й речи основательно укоренились слова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эдж, ноутбук, таймер, сканер». При всей своей «иностранности» их невозможно удалить из русского языка, так как их просто нечем замен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 «Инвестор» в русском языке имеет синоним вкладчик, однако «инвестор» - это более узкое, специализированное  понятие - лицо или организация, совершающее вложения капитала, связанное с рис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кже нецелесообразно иногда заменять «имидж» на «образ», так как «имидж» указывает на область своего употребления  (это искусственный образ, формируемый в общественном или индивидуальном сознании средствами массовой коммуникации. Имидж создается с целью формирования в массовом сознании определённого отношения к объекту. Реклама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Прямые заимствов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ово встречается в русском языке приблизительно в том же виде и в том же значении, что и в языке – оригинале. Это такие слова, как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ик-эн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выходные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э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гр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ень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Гибри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нные слова образованы присоединением к иностранному корню русского суффикса, приставки и окончания, например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ска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s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сить)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з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беспокойный, суетливый)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нектить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единяться, связыватьс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Каль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ова, иноязычного происхождения, употребляемые с сохранением их фонетического и графического облика. Это такие слова, как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еджер, стандарт, комф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838080" y="76212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особы образования англицизмов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олукаль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которые при грамматическом освоении подчиняются правилам русской грамматики  (прибавляются суффиксы).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райв – драй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апал, энергетика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й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 game – иг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Экзотизм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которые характеризуют специфические  национальные обычаи других народов и употребляются при описании нерусской действительности. они не имеют русских синонимов. Например: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от-д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,  ке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Иноязычные вкрап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слова или сочетания слов, передаваемые на письме и в устной речи графическими и фонетическими средствами языка – источника .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ппи-энд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appy 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омпозит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состоящие из двух английских слов,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конд-хен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агазин, торгующий одеждой, бывшей в употреблении;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ит – пара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писок наиболее популярных медиа-проду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Жаргонизм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появившиеся вследствие искажения каких-либо звуков,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занут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z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шизанутый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ренс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838080" y="76212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особы образования англицизмов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23619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Три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1.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ова – термины, не имеющие синонимов в русском язы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фис, спидометр, интервью, бизнес, лидер, чемпион, фермер,тренажер, маркетинг, дисплей, спонсор, бартер, сленг, болт, лорд, гольф, вокзал, ваучер, пикник, блюз, дилер, брокер, холдинг, автокар, парковка, трамвай, кроссвор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ова, имеющие синонимы в русском язы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ик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)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тупающий с реч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тн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стройный, здоров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ейн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анг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er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а, ёмк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зай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рисунок, уз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нэйдж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ag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подрос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ова, напечатанные в газетах на английском языке, английскими бук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пример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bes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циальная значимость английских заимствований в СМИ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1760" y="761760"/>
            <a:ext cx="76928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всего заимствований из английского языка мы встречаем в статьях 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1981080" y="2971800"/>
            <a:ext cx="1828800" cy="1752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2438280" y="4952880"/>
            <a:ext cx="1828800" cy="1752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5410080" y="3124080"/>
            <a:ext cx="1828800" cy="1752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зн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733920" y="1905120"/>
            <a:ext cx="1828800" cy="1752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4876920" y="4952880"/>
            <a:ext cx="1828800" cy="1752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3657600" y="3657600"/>
            <a:ext cx="1828800" cy="1752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2" descr="i?id=54015681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952880"/>
            <a:ext cx="1149480" cy="1676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i?id=2977670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2514600"/>
            <a:ext cx="1371600" cy="129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i?id=2204731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4038480"/>
            <a:ext cx="133380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i?id=13021249&amp;tov=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19080" y="5257800"/>
            <a:ext cx="1366920" cy="139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i?id=1860285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90720" y="1905120"/>
            <a:ext cx="137160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3-14T13:51:3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