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55.wmf" ContentType="image/x-wmf"/>
  <Override PartName="/ppt/media/image17.jpeg" ContentType="image/jpeg"/>
  <Override PartName="/ppt/media/image45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50.wmf" ContentType="image/x-wmf"/>
  <Override PartName="/ppt/media/image23.jpeg" ContentType="image/jpeg"/>
  <Override PartName="/ppt/media/image52.wmf" ContentType="image/x-wmf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49.wmf" ContentType="image/x-wmf"/>
  <Override PartName="/ppt/media/image51.wmf" ContentType="image/x-wmf"/>
  <Override PartName="/ppt/media/image9.jpeg" ContentType="image/jpeg"/>
  <Override PartName="/ppt/media/image11.jpeg" ContentType="image/jpeg"/>
  <Override PartName="/ppt/media/image30.jpeg" ContentType="image/jpeg"/>
  <Override PartName="/ppt/media/image32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53.wmf" ContentType="image/x-wmf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4.wmf" ContentType="image/x-wmf"/>
  <Override PartName="/ppt/media/image10.jpeg" ContentType="image/jpeg"/>
  <Override PartName="/ppt/media/image29.jpeg" ContentType="image/jpeg"/>
  <Override PartName="/ppt/media/image5.jpeg" ContentType="image/jpeg"/>
  <Override PartName="/ppt/media/image48.wmf" ContentType="image/x-wmf"/>
  <Override PartName="/ppt/media/image1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DAB-A8A2-4B21-A761-9473BF9E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3B0-439A-4FED-91E8-393BBAC5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03F-5199-4D6A-BE0B-60DABEA9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B391-3BB3-4681-AF12-8909CA98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3BD-D0A0-422A-912F-1BF06C11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B28-F3F5-4DE4-A890-B473AC23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638-A6DA-45D5-A65B-3CEE5481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537-D3A9-49C4-9E72-4C5ECFA5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B1D-5235-45B5-ACE6-C1846C5A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32A-8DB2-4710-92C4-51143D77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E04-1931-4B22-8D0B-5843A1FF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58D-5725-465D-B02E-7C6FD034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546B-7CC1-4B0C-9207-F49BE70198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0" y="357120"/>
            <a:ext cx="9144000" cy="1857600"/>
          </a:xfrm>
          <a:prstGeom prst="rect">
            <a:avLst/>
          </a:prstGeom>
          <a:solidFill>
            <a:srgbClr val="fcd5b5">
              <a:alpha val="27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сследовательская работа по тем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«Почему болят зубы? Влияет ли зубная паста на прочность зубов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8"/>
          <p:cNvSpPr/>
          <p:nvPr/>
        </p:nvSpPr>
        <p:spPr>
          <a:xfrm>
            <a:off x="3500280" y="4641840"/>
            <a:ext cx="3286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боту  выполнила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еницы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9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емлякова Мария, Дудникова Крис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уководитель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Землякова Г.М.,2015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6" descr="IMG_0555.JPG"/>
          <p:cNvPicPr/>
          <p:nvPr/>
        </p:nvPicPr>
        <p:blipFill>
          <a:blip r:embed="rId1"/>
          <a:stretch/>
        </p:blipFill>
        <p:spPr>
          <a:xfrm>
            <a:off x="3435480" y="2428920"/>
            <a:ext cx="5251320" cy="3500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ктическая работа № 1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Эксперимент по оценке качества чистки зубов с помощью специальных красящих растворов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д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ачале я ознакомилась с оборудованием стоматологического кабинета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тем врач-стоматолог провёл осмотр моей полости рта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алее доктор с помощью аппликатора нанёс на мои зубы специальное красящее вещество-кариес-маркер, которое затем смыл водой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частки эмали, покрытые мягким налётом, оставались окрашенными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говорит о высоком риске возникновения карие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5840" y="18568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орудование: зубоврачебное кресло, кариес-маркер зубная щётка, па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6" descr="IMG_0554.JPG"/>
          <p:cNvPicPr/>
          <p:nvPr/>
        </p:nvPicPr>
        <p:blipFill>
          <a:blip r:embed="rId1"/>
          <a:stretch/>
        </p:blipFill>
        <p:spPr>
          <a:xfrm>
            <a:off x="457200" y="2803680"/>
            <a:ext cx="4040280" cy="2693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429080" y="1142640"/>
            <a:ext cx="4214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ющим этапом было тщательное полоскание полости рта антисептиком хлоргекседином и повторная оценка присутствия на эмали зубов мягкого налёта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последнем этапе опыта я провела чистку зубов с помощью зубной щётки и пасты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сле чего стоматолог опять нанёс мне на эмаль зубов кариес-маркер, смыл водой и оценил результа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6" descr="IMG_0549.JPG"/>
          <p:cNvPicPr/>
          <p:nvPr/>
        </p:nvPicPr>
        <p:blipFill>
          <a:blip r:embed="rId1"/>
          <a:stretch/>
        </p:blipFill>
        <p:spPr>
          <a:xfrm>
            <a:off x="3654360" y="2143080"/>
            <a:ext cx="5032440" cy="3354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135720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нечищенных зубах скапливается большое количество мягкого налёта, что значительно повышает риск развития кариеса; тщательное полоскание полости рта антисептиком несколько улучшает ситуацию, но полностью налёт не убирает и лишь добросовестная чистка зубов не менее 3-4 минут полностью убирает мягкий налёт с зуб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7"/>
          <p:cNvSpPr/>
          <p:nvPr/>
        </p:nvSpPr>
        <p:spPr>
          <a:xfrm>
            <a:off x="142920" y="2500200"/>
            <a:ext cx="71280" cy="43578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0" y="285840"/>
            <a:ext cx="9144000" cy="1214280"/>
          </a:xfrm>
          <a:prstGeom prst="rect">
            <a:avLst/>
          </a:prstGeom>
          <a:solidFill>
            <a:srgbClr val="fcd5b5">
              <a:alpha val="27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троение зуб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4" descr="stroenie_zuba[1]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14200" y="1714680"/>
            <a:ext cx="3571920" cy="491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Box 5"/>
          <p:cNvSpPr/>
          <p:nvPr/>
        </p:nvSpPr>
        <p:spPr>
          <a:xfrm>
            <a:off x="3929040" y="2428920"/>
            <a:ext cx="52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сновную массу зуба составляет дентин – вещество похожее на кость, но более тверд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Дентин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– первичная ткань зуба. Видимая часть зуба называ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коронкой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Она покрыта эмал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Эмаль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– самое твердое вещество и состоит из каль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крытая часть зуба называ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кор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0" y="1714680"/>
            <a:ext cx="46080" cy="514332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чины, вызывающие повреждение эма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ет немало причин, приводящих к истончению, стиранию и повреждению эмали. Среди ни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етическая предрасположеннос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ологическое состояние организма (некоторые заболевания внутренних органов приводят к разрушению зубной эмали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томические особенности строения зуб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фтора в ее соста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чественный состав и количество слюн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сткость зубной щет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резмерное употребление цитрусовых, особенно лимонов и апельсинов (сок этих фруктов растворяет зубную эмал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>
            <a:off x="0" y="285840"/>
            <a:ext cx="9144000" cy="1214280"/>
          </a:xfrm>
          <a:prstGeom prst="rect">
            <a:avLst/>
          </a:prstGeom>
          <a:solidFill>
            <a:srgbClr val="fcd5b5">
              <a:alpha val="27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Эксперимент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Группа 9"/>
          <p:cNvGrpSpPr/>
          <p:nvPr/>
        </p:nvGrpSpPr>
        <p:grpSpPr>
          <a:xfrm>
            <a:off x="0" y="1714680"/>
            <a:ext cx="214200" cy="5143320"/>
            <a:chOff x="0" y="1714680"/>
            <a:chExt cx="214200" cy="5143320"/>
          </a:xfrm>
        </p:grpSpPr>
        <p:sp>
          <p:nvSpPr>
            <p:cNvPr id="110" name="Прямоугольник 4"/>
            <p:cNvSpPr/>
            <p:nvPr/>
          </p:nvSpPr>
          <p:spPr>
            <a:xfrm>
              <a:off x="0" y="1714680"/>
              <a:ext cx="46080" cy="514332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оугольник 5"/>
            <p:cNvSpPr/>
            <p:nvPr/>
          </p:nvSpPr>
          <p:spPr>
            <a:xfrm>
              <a:off x="142920" y="2500200"/>
              <a:ext cx="71280" cy="435780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Прямоугольник 6"/>
          <p:cNvSpPr/>
          <p:nvPr/>
        </p:nvSpPr>
        <p:spPr>
          <a:xfrm>
            <a:off x="357120" y="3133800"/>
            <a:ext cx="61920" cy="37242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928800" y="1714680"/>
            <a:ext cx="792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Оборудование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: 2 куриных яйца, лимонная кислота, уксусная кислота, 2 химических стак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Порядок выполнения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: сначала приготовила 9% растворы уксусной и лимонной кислоты. Затем на дно каждой банки положила сырое яйцо, в одну банку налила уксус, а в другую лимонную кислоту. Процесс контролировала каждые два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ерез 4 часа скорлупа яйца в растворе лимонной кислоты стала мягкой, а через  10 часов растворилась. Содержимое осталось покрытым тончайшей мембраной, которую можно проткнуть. В растворе уксусной кислоты реакция шла медленнее, но с тем же результ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3"/>
          <p:cNvSpPr/>
          <p:nvPr/>
        </p:nvSpPr>
        <p:spPr>
          <a:xfrm>
            <a:off x="0" y="214200"/>
            <a:ext cx="9144000" cy="1214640"/>
          </a:xfrm>
          <a:prstGeom prst="rect">
            <a:avLst/>
          </a:prstGeom>
          <a:solidFill>
            <a:srgbClr val="fcd5b5">
              <a:alpha val="27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Эксперимент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4"/>
          <p:cNvGrpSpPr/>
          <p:nvPr/>
        </p:nvGrpSpPr>
        <p:grpSpPr>
          <a:xfrm>
            <a:off x="0" y="1714680"/>
            <a:ext cx="214200" cy="5143320"/>
            <a:chOff x="0" y="1714680"/>
            <a:chExt cx="214200" cy="5143320"/>
          </a:xfrm>
        </p:grpSpPr>
        <p:sp>
          <p:nvSpPr>
            <p:cNvPr id="116" name="Прямоугольник 5"/>
            <p:cNvSpPr/>
            <p:nvPr/>
          </p:nvSpPr>
          <p:spPr>
            <a:xfrm>
              <a:off x="0" y="1714680"/>
              <a:ext cx="46080" cy="514332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оугольник 6"/>
            <p:cNvSpPr/>
            <p:nvPr/>
          </p:nvSpPr>
          <p:spPr>
            <a:xfrm>
              <a:off x="142920" y="2500200"/>
              <a:ext cx="71280" cy="435780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Прямоугольник 7"/>
          <p:cNvSpPr/>
          <p:nvPr/>
        </p:nvSpPr>
        <p:spPr>
          <a:xfrm>
            <a:off x="357120" y="3133800"/>
            <a:ext cx="61920" cy="37242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4714920" y="1571760"/>
            <a:ext cx="142920" cy="5286240"/>
          </a:xfrm>
          <a:prstGeom prst="rect">
            <a:avLst/>
          </a:prstGeom>
          <a:solidFill>
            <a:srgbClr val="fcd5b5">
              <a:alpha val="45000"/>
            </a:srgbClr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Группа 18"/>
          <p:cNvGrpSpPr/>
          <p:nvPr/>
        </p:nvGrpSpPr>
        <p:grpSpPr>
          <a:xfrm>
            <a:off x="571680" y="1000080"/>
            <a:ext cx="3500280" cy="5407200"/>
            <a:chOff x="571680" y="1000080"/>
            <a:chExt cx="3500280" cy="5407200"/>
          </a:xfrm>
        </p:grpSpPr>
        <p:pic>
          <p:nvPicPr>
            <p:cNvPr id="121" name="Рисунок 10" descr="PIC_1390.JPG"/>
            <p:cNvPicPr/>
            <p:nvPr/>
          </p:nvPicPr>
          <p:blipFill>
            <a:blip r:embed="rId1"/>
            <a:srcRect l="0" t="-2936" r="0" b="0"/>
            <a:stretch/>
          </p:blipFill>
          <p:spPr>
            <a:xfrm>
              <a:off x="571680" y="1500120"/>
              <a:ext cx="1612800" cy="1928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22" name="Рисунок 12" descr="PIC_1391.JPG"/>
            <p:cNvPicPr/>
            <p:nvPr/>
          </p:nvPicPr>
          <p:blipFill>
            <a:blip r:embed="rId2"/>
            <a:srcRect l="0" t="-2355" r="0" b="0"/>
            <a:stretch/>
          </p:blipFill>
          <p:spPr>
            <a:xfrm>
              <a:off x="2428920" y="1500120"/>
              <a:ext cx="1643040" cy="1941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23" name="Рисунок 14" descr="PIC_1404.JPG"/>
            <p:cNvPicPr/>
            <p:nvPr/>
          </p:nvPicPr>
          <p:blipFill>
            <a:blip r:embed="rId3"/>
            <a:stretch/>
          </p:blipFill>
          <p:spPr>
            <a:xfrm>
              <a:off x="571680" y="3714840"/>
              <a:ext cx="1643040" cy="2692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24" name="Рисунок 15" descr="PIC_1431.JPG"/>
            <p:cNvPicPr/>
            <p:nvPr/>
          </p:nvPicPr>
          <p:blipFill>
            <a:blip r:embed="rId4"/>
            <a:stretch/>
          </p:blipFill>
          <p:spPr>
            <a:xfrm>
              <a:off x="2500560" y="5143680"/>
              <a:ext cx="1428480" cy="1258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25" name="Рисунок 16" descr="PIC_1418.JPG"/>
            <p:cNvPicPr/>
            <p:nvPr/>
          </p:nvPicPr>
          <p:blipFill>
            <a:blip r:embed="rId5"/>
            <a:stretch/>
          </p:blipFill>
          <p:spPr>
            <a:xfrm>
              <a:off x="2500560" y="3714840"/>
              <a:ext cx="1446120" cy="1285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26" name="TextBox 17"/>
            <p:cNvSpPr/>
            <p:nvPr/>
          </p:nvSpPr>
          <p:spPr>
            <a:xfrm>
              <a:off x="1000080" y="1000080"/>
              <a:ext cx="257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Monotype Corsiva"/>
                </a:rPr>
                <a:t>Лимонная кисл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Группа 22"/>
          <p:cNvGrpSpPr/>
          <p:nvPr/>
        </p:nvGrpSpPr>
        <p:grpSpPr>
          <a:xfrm>
            <a:off x="5572080" y="1000080"/>
            <a:ext cx="3214800" cy="5430960"/>
            <a:chOff x="5572080" y="1000080"/>
            <a:chExt cx="3214800" cy="5430960"/>
          </a:xfrm>
        </p:grpSpPr>
        <p:pic>
          <p:nvPicPr>
            <p:cNvPr id="128" name="Рисунок 9" descr="PIC_1390.JPG"/>
            <p:cNvPicPr/>
            <p:nvPr/>
          </p:nvPicPr>
          <p:blipFill>
            <a:blip r:embed="rId6"/>
            <a:srcRect l="0" t="-2594" r="0" b="0"/>
            <a:stretch/>
          </p:blipFill>
          <p:spPr>
            <a:xfrm>
              <a:off x="5572080" y="1571400"/>
              <a:ext cx="1428840" cy="1806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29" name="TextBox 18"/>
            <p:cNvSpPr/>
            <p:nvPr/>
          </p:nvSpPr>
          <p:spPr>
            <a:xfrm>
              <a:off x="5929200" y="1000080"/>
              <a:ext cx="235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Monotype Corsiva"/>
                </a:rPr>
                <a:t>Уксусная кисл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Рисунок 19" descr="PIC_1391.JPG"/>
            <p:cNvPicPr/>
            <p:nvPr/>
          </p:nvPicPr>
          <p:blipFill>
            <a:blip r:embed="rId7"/>
            <a:stretch/>
          </p:blipFill>
          <p:spPr>
            <a:xfrm>
              <a:off x="7358040" y="1643040"/>
              <a:ext cx="1357200" cy="16970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31" name="Рисунок 20" descr="PIC_1404.JPG"/>
            <p:cNvPicPr/>
            <p:nvPr/>
          </p:nvPicPr>
          <p:blipFill>
            <a:blip r:embed="rId8"/>
            <a:stretch/>
          </p:blipFill>
          <p:spPr>
            <a:xfrm>
              <a:off x="7358040" y="3571920"/>
              <a:ext cx="1428840" cy="28576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32" name="Рисунок 21" descr="PIC_1389.JPG"/>
            <p:cNvPicPr/>
            <p:nvPr/>
          </p:nvPicPr>
          <p:blipFill>
            <a:blip r:embed="rId9"/>
            <a:stretch/>
          </p:blipFill>
          <p:spPr>
            <a:xfrm>
              <a:off x="5580000" y="3573360"/>
              <a:ext cx="1488960" cy="28576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8" descr="IMG_0106.JPG"/>
          <p:cNvPicPr/>
          <p:nvPr/>
        </p:nvPicPr>
        <p:blipFill>
          <a:blip r:embed="rId1"/>
          <a:stretch/>
        </p:blipFill>
        <p:spPr>
          <a:xfrm>
            <a:off x="0" y="214200"/>
            <a:ext cx="3279600" cy="218628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9" descr="IMG_0108.JPG"/>
          <p:cNvPicPr/>
          <p:nvPr/>
        </p:nvPicPr>
        <p:blipFill>
          <a:blip r:embed="rId2"/>
          <a:stretch/>
        </p:blipFill>
        <p:spPr>
          <a:xfrm>
            <a:off x="5429160" y="-20520"/>
            <a:ext cx="3500640" cy="5249880"/>
          </a:xfrm>
          <a:prstGeom prst="rect">
            <a:avLst/>
          </a:prstGeom>
          <a:ln w="0">
            <a:noFill/>
          </a:ln>
        </p:spPr>
      </p:pic>
      <p:pic>
        <p:nvPicPr>
          <p:cNvPr id="136" name="Содержимое 10" descr="IMG_0126.JPG"/>
          <p:cNvPicPr/>
          <p:nvPr/>
        </p:nvPicPr>
        <p:blipFill>
          <a:blip r:embed="rId3"/>
          <a:stretch/>
        </p:blipFill>
        <p:spPr>
          <a:xfrm>
            <a:off x="2000160" y="2214720"/>
            <a:ext cx="3318120" cy="4976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блюд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6 часов  скорлупа яйца в растворе с лимонной кислотой стала мягкой, через 15 часов растворилась. Содержимое осталось покрытым тончайшей мембраной, которую можно легко проткнуть. В растворе 9% уксусной кислоты реакция шла медленнее, но с тем, же результа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3"/>
          <p:cNvSpPr/>
          <p:nvPr/>
        </p:nvSpPr>
        <p:spPr>
          <a:xfrm>
            <a:off x="285840" y="0"/>
            <a:ext cx="9144000" cy="1214280"/>
          </a:xfrm>
          <a:prstGeom prst="rect">
            <a:avLst/>
          </a:prstGeom>
          <a:solidFill>
            <a:srgbClr val="fcd5b5">
              <a:alpha val="27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Эксперимент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0" y="1714680"/>
            <a:ext cx="46080" cy="514332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142920" y="2500200"/>
            <a:ext cx="71280" cy="43578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357120" y="3133800"/>
            <a:ext cx="61920" cy="37242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714240" y="1928880"/>
            <a:ext cx="8143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Оборудование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: 2 куриных яйца, лимонная кислота, уксусная кислота, 2 химических стак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Порядок выполнения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: я нанесла зубную пасту, содержащую фтор, на скорлупу яйца и вновь поместила в раствор кислоты. Через 6 часов извлекла это яйц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: скорлупа, на которую была нанесена зубная паста, стала тоньше, но осталась твердой на ощуп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155232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того, чтобы определить как влияет зубная паста на прочность зубов, проведём экспериме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 эксперимен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изучение влияния зубной пасты на прочность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IMG_0139.JPG"/>
          <p:cNvPicPr/>
          <p:nvPr/>
        </p:nvPicPr>
        <p:blipFill>
          <a:blip r:embed="rId1"/>
          <a:stretch/>
        </p:blipFill>
        <p:spPr>
          <a:xfrm>
            <a:off x="0" y="0"/>
            <a:ext cx="918828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Содержимое 6" descr="IMG_0144.JPG"/>
          <p:cNvPicPr/>
          <p:nvPr/>
        </p:nvPicPr>
        <p:blipFill>
          <a:blip r:embed="rId1"/>
          <a:stretch/>
        </p:blipFill>
        <p:spPr>
          <a:xfrm>
            <a:off x="83664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49" name="Содержимое 7" descr="IMG_0145.JPG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11" descr="IMG_0150.JPG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Содержимое 4" descr="IMG_0155.JPG"/>
          <p:cNvPicPr/>
          <p:nvPr/>
        </p:nvPicPr>
        <p:blipFill>
          <a:blip r:embed="rId1"/>
          <a:stretch/>
        </p:blipFill>
        <p:spPr>
          <a:xfrm>
            <a:off x="-438120" y="0"/>
            <a:ext cx="95821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Содержимое 6" descr="IMG_0201.JPG"/>
          <p:cNvPicPr/>
          <p:nvPr/>
        </p:nvPicPr>
        <p:blipFill>
          <a:blip r:embed="rId1"/>
          <a:stretch/>
        </p:blipFill>
        <p:spPr>
          <a:xfrm>
            <a:off x="457200" y="992160"/>
            <a:ext cx="8043840" cy="53625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Содержимое 12" descr="IMG_0152.JPG"/>
          <p:cNvPicPr/>
          <p:nvPr/>
        </p:nvPicPr>
        <p:blipFill>
          <a:blip r:embed="rId1"/>
          <a:stretch/>
        </p:blipFill>
        <p:spPr>
          <a:xfrm>
            <a:off x="4143240" y="50004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Содержимое 11" descr="IMG_0151.JPG"/>
          <p:cNvPicPr/>
          <p:nvPr/>
        </p:nvPicPr>
        <p:blipFill>
          <a:blip r:embed="rId2"/>
          <a:stretch/>
        </p:blipFill>
        <p:spPr>
          <a:xfrm>
            <a:off x="428760" y="1143000"/>
            <a:ext cx="3278160" cy="2185920"/>
          </a:xfrm>
          <a:prstGeom prst="rect">
            <a:avLst/>
          </a:prstGeom>
          <a:ln w="0">
            <a:noFill/>
          </a:ln>
        </p:spPr>
      </p:pic>
      <p:pic>
        <p:nvPicPr>
          <p:cNvPr id="163" name="Содержимое 15" descr="IMG_0156.JPG"/>
          <p:cNvPicPr/>
          <p:nvPr/>
        </p:nvPicPr>
        <p:blipFill>
          <a:blip r:embed="rId3"/>
          <a:stretch/>
        </p:blipFill>
        <p:spPr>
          <a:xfrm>
            <a:off x="3357720" y="571680"/>
            <a:ext cx="1895400" cy="2842920"/>
          </a:xfrm>
          <a:prstGeom prst="rect">
            <a:avLst/>
          </a:prstGeom>
          <a:ln w="0">
            <a:noFill/>
          </a:ln>
        </p:spPr>
      </p:pic>
      <p:pic>
        <p:nvPicPr>
          <p:cNvPr id="164" name="Содержимое 18" descr="IMG_0169.JPG"/>
          <p:cNvPicPr/>
          <p:nvPr/>
        </p:nvPicPr>
        <p:blipFill>
          <a:blip r:embed="rId4"/>
          <a:stretch/>
        </p:blipFill>
        <p:spPr>
          <a:xfrm>
            <a:off x="5072040" y="3429000"/>
            <a:ext cx="3808440" cy="25383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20"/>
          <p:cNvSpPr/>
          <p:nvPr/>
        </p:nvSpPr>
        <p:spPr>
          <a:xfrm>
            <a:off x="0" y="3571920"/>
            <a:ext cx="5143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блюдение через 24 часа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створе лимонной кислоты на одном яйце ( без зубной пасты) скорлупа растворилась полностью, на другом яйце( с зубной пастой) скорлупа стала мягкой. В 9% растворе уксусной кислоты скорлупа без зубной пасты растворилась, а то, яйцо, на которм была нанесена зубная паста, стала тоньше, но осталась твёрдой на ощуп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0040" y="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возьмём 4 части фосфата натрия (Na3PO4) и растворим его в 2 мл. воды в пробир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в другой пробирке растворим 4 части хлорида кальция (CaCI2) в 2 мл. воды. 3) выльем раствор хлорида кальция в раствор фосфата натр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Содержимое 6" descr="IMG_0143.JPG"/>
          <p:cNvPicPr/>
          <p:nvPr/>
        </p:nvPicPr>
        <p:blipFill>
          <a:blip r:embed="rId1"/>
          <a:stretch/>
        </p:blipFill>
        <p:spPr>
          <a:xfrm>
            <a:off x="5000760" y="714240"/>
            <a:ext cx="3279600" cy="2186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928760" y="-360"/>
            <a:ext cx="40388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перимен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Содержимое 10" descr="IMG_0141.JPG"/>
          <p:cNvPicPr/>
          <p:nvPr/>
        </p:nvPicPr>
        <p:blipFill>
          <a:blip r:embed="rId2"/>
          <a:stretch/>
        </p:blipFill>
        <p:spPr>
          <a:xfrm>
            <a:off x="5025960" y="3938760"/>
            <a:ext cx="3281400" cy="21873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1"/>
          <p:cNvSpPr/>
          <p:nvPr/>
        </p:nvSpPr>
        <p:spPr>
          <a:xfrm>
            <a:off x="6082560" y="564372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зубной эм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Эксперимент 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7" descr="IMG_0162.JPG"/>
          <p:cNvPicPr/>
          <p:nvPr/>
        </p:nvPicPr>
        <p:blipFill>
          <a:blip r:embed="rId1"/>
          <a:stretch/>
        </p:blipFill>
        <p:spPr>
          <a:xfrm>
            <a:off x="428760" y="928800"/>
            <a:ext cx="4020840" cy="267948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8" descr="IMG_0164.JPG"/>
          <p:cNvPicPr/>
          <p:nvPr/>
        </p:nvPicPr>
        <p:blipFill>
          <a:blip r:embed="rId2"/>
          <a:stretch/>
        </p:blipFill>
        <p:spPr>
          <a:xfrm>
            <a:off x="5500800" y="11430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75" name="Содержимое 10" descr="IMG_0167.JPG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176" name="Содержимое 9" descr="IMG_0168.JPG"/>
          <p:cNvPicPr/>
          <p:nvPr/>
        </p:nvPicPr>
        <p:blipFill>
          <a:blip r:embed="rId4"/>
          <a:stretch/>
        </p:blipFill>
        <p:spPr>
          <a:xfrm>
            <a:off x="5643720" y="3497400"/>
            <a:ext cx="1752480" cy="2628720"/>
          </a:xfrm>
          <a:prstGeom prst="rect">
            <a:avLst/>
          </a:prstGeom>
          <a:ln w="0">
            <a:noFill/>
          </a:ln>
        </p:spPr>
      </p:pic>
      <p:pic>
        <p:nvPicPr>
          <p:cNvPr id="177" name="Содержимое 7" descr="IMG_0162.JPG"/>
          <p:cNvPicPr/>
          <p:nvPr/>
        </p:nvPicPr>
        <p:blipFill>
          <a:blip r:embed="rId5"/>
          <a:stretch/>
        </p:blipFill>
        <p:spPr>
          <a:xfrm>
            <a:off x="428760" y="928800"/>
            <a:ext cx="402084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Содержимое 6" descr="IMG_0175.JPG"/>
          <p:cNvPicPr/>
          <p:nvPr/>
        </p:nvPicPr>
        <p:blipFill>
          <a:blip r:embed="rId1"/>
          <a:stretch/>
        </p:blipFill>
        <p:spPr>
          <a:xfrm>
            <a:off x="428760" y="1714680"/>
            <a:ext cx="4039920" cy="26938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3280" y="1071360"/>
            <a:ext cx="40420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 у нас выпадет осадок апатита (именно из апатита преимущественно состоит зубная эмаль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) дадим отстояться осадку в течение 15 минут, после чего аккуратн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льём раствор, оставив осад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Содержимое 6" descr="IMG_0171.JPG"/>
          <p:cNvPicPr/>
          <p:nvPr/>
        </p:nvPicPr>
        <p:blipFill>
          <a:blip r:embed="rId1"/>
          <a:stretch/>
        </p:blipFill>
        <p:spPr>
          <a:xfrm>
            <a:off x="857160" y="428760"/>
            <a:ext cx="3878280" cy="2585880"/>
          </a:xfrm>
          <a:prstGeom prst="rect">
            <a:avLst/>
          </a:prstGeom>
          <a:ln w="0">
            <a:noFill/>
          </a:ln>
        </p:spPr>
      </p:pic>
      <p:pic>
        <p:nvPicPr>
          <p:cNvPr id="185" name="Содержимое 7" descr="IMG_0175.JPG"/>
          <p:cNvPicPr/>
          <p:nvPr/>
        </p:nvPicPr>
        <p:blipFill>
          <a:blip r:embed="rId2"/>
          <a:stretch/>
        </p:blipFill>
        <p:spPr>
          <a:xfrm>
            <a:off x="5214960" y="128592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11" descr="IMG_0186.JPG"/>
          <p:cNvPicPr/>
          <p:nvPr/>
        </p:nvPicPr>
        <p:blipFill>
          <a:blip r:embed="rId3"/>
          <a:stretch/>
        </p:blipFill>
        <p:spPr>
          <a:xfrm>
            <a:off x="5025960" y="393876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10" descr="IMG_0181.JPG"/>
          <p:cNvPicPr/>
          <p:nvPr/>
        </p:nvPicPr>
        <p:blipFill>
          <a:blip r:embed="rId4"/>
          <a:stretch/>
        </p:blipFill>
        <p:spPr>
          <a:xfrm>
            <a:off x="1500120" y="3357720"/>
            <a:ext cx="235764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Содержимое 6" descr="IMG_0190.JPG"/>
          <p:cNvPicPr/>
          <p:nvPr/>
        </p:nvPicPr>
        <p:blipFill>
          <a:blip r:embed="rId1"/>
          <a:stretch/>
        </p:blipFill>
        <p:spPr>
          <a:xfrm>
            <a:off x="357120" y="3000240"/>
            <a:ext cx="4021200" cy="268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прильём к осадку 2-3 мл. 10 % соляной кислоты(HCL). Мы увидим, что осадок растворился. ( то есть растворился апатит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Содержимое 6" descr="IMG_0177.JPG"/>
          <p:cNvPicPr/>
          <p:nvPr/>
        </p:nvPicPr>
        <p:blipFill>
          <a:blip r:embed="rId2"/>
          <a:stretch/>
        </p:blipFill>
        <p:spPr>
          <a:xfrm>
            <a:off x="214200" y="285840"/>
            <a:ext cx="3281400" cy="2187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Содержимое 6" descr="IMG_0213.JPG"/>
          <p:cNvPicPr/>
          <p:nvPr/>
        </p:nvPicPr>
        <p:blipFill>
          <a:blip r:embed="rId1"/>
          <a:stretch/>
        </p:blipFill>
        <p:spPr>
          <a:xfrm>
            <a:off x="-214200" y="-214200"/>
            <a:ext cx="9966240" cy="70722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суж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3360" y="60717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убная паста, содержащая фтор укрепляет зубную эмаль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6"/>
          <p:cNvSpPr/>
          <p:nvPr/>
        </p:nvSpPr>
        <p:spPr>
          <a:xfrm>
            <a:off x="357120" y="399564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ислоты разрушают зубную эмал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убная эмаль представляет собой смесь различных гидроксиапатитов, которые легко разрушаются практически любой кислотой. Именно поэтому так важно знать, какие именно продукты способствуют разрушению и без того хрупкой эмали зуб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10" descr="IMG_0157.JPG"/>
          <p:cNvPicPr/>
          <p:nvPr/>
        </p:nvPicPr>
        <p:blipFill>
          <a:blip r:embed="rId1"/>
          <a:stretch/>
        </p:blipFill>
        <p:spPr>
          <a:xfrm>
            <a:off x="-100080" y="0"/>
            <a:ext cx="95360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0" y="1714680"/>
            <a:ext cx="46080" cy="514332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142920" y="2500200"/>
            <a:ext cx="71280" cy="43578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357120" y="3133800"/>
            <a:ext cx="61920" cy="37242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-2928960" y="0"/>
            <a:ext cx="9144000" cy="1214280"/>
          </a:xfrm>
          <a:prstGeom prst="rect">
            <a:avLst/>
          </a:prstGeom>
          <a:solidFill>
            <a:srgbClr val="fcd5b5">
              <a:alpha val="27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Цель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4785480"/>
            <a:ext cx="70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зучение влияния зубной па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а прочность зу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9" descr="UPiCTOaKZcv8a9mdJsipgoVY_400.jpg"/>
          <p:cNvPicPr/>
          <p:nvPr/>
        </p:nvPicPr>
        <p:blipFill>
          <a:blip r:embed="rId2"/>
          <a:stretch/>
        </p:blipFill>
        <p:spPr>
          <a:xfrm>
            <a:off x="6429240" y="4849920"/>
            <a:ext cx="2714760" cy="2008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3"/>
          <p:cNvSpPr/>
          <p:nvPr/>
        </p:nvSpPr>
        <p:spPr>
          <a:xfrm>
            <a:off x="0" y="5643720"/>
            <a:ext cx="9144000" cy="1214280"/>
          </a:xfrm>
          <a:prstGeom prst="rect">
            <a:avLst/>
          </a:prstGeom>
          <a:solidFill>
            <a:srgbClr val="fcd5b5">
              <a:alpha val="27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актическая работа № 2 « Социологическое исслед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Группа 16"/>
          <p:cNvGrpSpPr/>
          <p:nvPr/>
        </p:nvGrpSpPr>
        <p:grpSpPr>
          <a:xfrm>
            <a:off x="0" y="1714680"/>
            <a:ext cx="419040" cy="5143320"/>
            <a:chOff x="0" y="1714680"/>
            <a:chExt cx="419040" cy="5143320"/>
          </a:xfrm>
        </p:grpSpPr>
        <p:sp>
          <p:nvSpPr>
            <p:cNvPr id="201" name="Прямоугольник 4"/>
            <p:cNvSpPr/>
            <p:nvPr/>
          </p:nvSpPr>
          <p:spPr>
            <a:xfrm>
              <a:off x="0" y="1714680"/>
              <a:ext cx="45720" cy="514332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оугольник 5"/>
            <p:cNvSpPr/>
            <p:nvPr/>
          </p:nvSpPr>
          <p:spPr>
            <a:xfrm>
              <a:off x="142920" y="2500200"/>
              <a:ext cx="71280" cy="435780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ольник 6"/>
            <p:cNvSpPr/>
            <p:nvPr/>
          </p:nvSpPr>
          <p:spPr>
            <a:xfrm>
              <a:off x="357120" y="3133800"/>
              <a:ext cx="61920" cy="372420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Прямоугольник 7"/>
          <p:cNvSpPr/>
          <p:nvPr/>
        </p:nvSpPr>
        <p:spPr>
          <a:xfrm>
            <a:off x="4714920" y="1571760"/>
            <a:ext cx="142920" cy="1571400"/>
          </a:xfrm>
          <a:prstGeom prst="rect">
            <a:avLst/>
          </a:prstGeom>
          <a:solidFill>
            <a:srgbClr val="fcd5b5">
              <a:alpha val="45000"/>
            </a:srgbClr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8" descr=""/>
          <p:cNvPicPr/>
          <p:nvPr/>
        </p:nvPicPr>
        <p:blipFill>
          <a:blip r:embed="rId1"/>
          <a:stretch/>
        </p:blipFill>
        <p:spPr>
          <a:xfrm>
            <a:off x="2214720" y="1643040"/>
            <a:ext cx="5475240" cy="35006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9"/>
          <p:cNvSpPr/>
          <p:nvPr/>
        </p:nvSpPr>
        <p:spPr>
          <a:xfrm>
            <a:off x="0" y="788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диаграммы видно, что учащиеся выбирают  ту зубную паст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торая наиболее эффективно чистит зубы (30%) и имеет приятный вкус ( 29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0"/>
          <p:cNvSpPr/>
          <p:nvPr/>
        </p:nvSpPr>
        <p:spPr>
          <a:xfrm>
            <a:off x="502560" y="-1440"/>
            <a:ext cx="81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ы анкетирования учащихся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0"/>
          <p:cNvSpPr/>
          <p:nvPr/>
        </p:nvSpPr>
        <p:spPr>
          <a:xfrm>
            <a:off x="1428840" y="585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ктическая работа №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 Социологическое исследов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5880" y="5495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 ДИАГРАММЫ ВИДНО, ЧТО НАИБОЛЕЕ ПРЕДПОЧТИТЕЛЬНЫМИ ЯВЛЯЮТСЯ СЛЕДУЮЩИЕ ЗУБНЫЕ ПАСТЫ: 1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LGATE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50% УЧАЩИХСЯ; 2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RAL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6% УЧАЩИХСЯ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127240" y="138240"/>
            <a:ext cx="530244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диаграммы видно, что по мнению учащихся начальной школы  нужно чистить зубы, чтобы сохранить их здоровье ( 41%) и  приобрести свежесть дыхания (11%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884160" y="1928880"/>
            <a:ext cx="65088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3"/>
          <p:cNvSpPr/>
          <p:nvPr/>
        </p:nvSpPr>
        <p:spPr>
          <a:xfrm>
            <a:off x="0" y="285840"/>
            <a:ext cx="9144000" cy="1214280"/>
          </a:xfrm>
          <a:prstGeom prst="rect">
            <a:avLst/>
          </a:prstGeom>
          <a:solidFill>
            <a:srgbClr val="fcd5b5">
              <a:alpha val="27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езультаты анкетирования (9-11 классы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Группа 4"/>
          <p:cNvGrpSpPr/>
          <p:nvPr/>
        </p:nvGrpSpPr>
        <p:grpSpPr>
          <a:xfrm>
            <a:off x="0" y="1714680"/>
            <a:ext cx="419040" cy="5143320"/>
            <a:chOff x="0" y="1714680"/>
            <a:chExt cx="419040" cy="5143320"/>
          </a:xfrm>
        </p:grpSpPr>
        <p:sp>
          <p:nvSpPr>
            <p:cNvPr id="216" name="Прямоугольник 5"/>
            <p:cNvSpPr/>
            <p:nvPr/>
          </p:nvSpPr>
          <p:spPr>
            <a:xfrm>
              <a:off x="0" y="1714680"/>
              <a:ext cx="45720" cy="514332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рямоугольник 6"/>
            <p:cNvSpPr/>
            <p:nvPr/>
          </p:nvSpPr>
          <p:spPr>
            <a:xfrm>
              <a:off x="142920" y="2500200"/>
              <a:ext cx="71280" cy="435780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рямоугольник 7"/>
            <p:cNvSpPr/>
            <p:nvPr/>
          </p:nvSpPr>
          <p:spPr>
            <a:xfrm>
              <a:off x="357120" y="3133800"/>
              <a:ext cx="61920" cy="372420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9" name="Object 10"/>
          <p:cNvGraphicFramePr/>
          <p:nvPr/>
        </p:nvGraphicFramePr>
        <p:xfrm>
          <a:off x="684360" y="1773360"/>
          <a:ext cx="374328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374328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11"/>
          <p:cNvGraphicFramePr/>
          <p:nvPr/>
        </p:nvGraphicFramePr>
        <p:xfrm>
          <a:off x="5003640" y="1773360"/>
          <a:ext cx="3600720" cy="24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773360"/>
                    <a:ext cx="360072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2"/>
          <p:cNvGraphicFramePr/>
          <p:nvPr/>
        </p:nvGraphicFramePr>
        <p:xfrm>
          <a:off x="684360" y="4292640"/>
          <a:ext cx="3600360" cy="241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292640"/>
                    <a:ext cx="360036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13"/>
          <p:cNvGraphicFramePr/>
          <p:nvPr/>
        </p:nvGraphicFramePr>
        <p:xfrm>
          <a:off x="5076720" y="4071960"/>
          <a:ext cx="3573720" cy="280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4071960"/>
                    <a:ext cx="3573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0" y="285840"/>
            <a:ext cx="9144000" cy="1214280"/>
          </a:xfrm>
          <a:prstGeom prst="rect">
            <a:avLst/>
          </a:prstGeom>
          <a:solidFill>
            <a:srgbClr val="fcd5b5">
              <a:alpha val="27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езультаты анкетирования (9-11 классы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Группа 4"/>
          <p:cNvGrpSpPr/>
          <p:nvPr/>
        </p:nvGrpSpPr>
        <p:grpSpPr>
          <a:xfrm>
            <a:off x="0" y="1714680"/>
            <a:ext cx="419040" cy="5143320"/>
            <a:chOff x="0" y="1714680"/>
            <a:chExt cx="419040" cy="5143320"/>
          </a:xfrm>
        </p:grpSpPr>
        <p:sp>
          <p:nvSpPr>
            <p:cNvPr id="229" name="Прямоугольник 5"/>
            <p:cNvSpPr/>
            <p:nvPr/>
          </p:nvSpPr>
          <p:spPr>
            <a:xfrm>
              <a:off x="0" y="1714680"/>
              <a:ext cx="45720" cy="514332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оугольник 6"/>
            <p:cNvSpPr/>
            <p:nvPr/>
          </p:nvSpPr>
          <p:spPr>
            <a:xfrm>
              <a:off x="142920" y="2500200"/>
              <a:ext cx="71280" cy="435780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оугольник 7"/>
            <p:cNvSpPr/>
            <p:nvPr/>
          </p:nvSpPr>
          <p:spPr>
            <a:xfrm>
              <a:off x="357120" y="3133800"/>
              <a:ext cx="61920" cy="372420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2" name="Object 9"/>
          <p:cNvGraphicFramePr/>
          <p:nvPr/>
        </p:nvGraphicFramePr>
        <p:xfrm>
          <a:off x="849240" y="1600200"/>
          <a:ext cx="325296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1600200"/>
                    <a:ext cx="32529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11"/>
          <p:cNvGraphicFramePr/>
          <p:nvPr/>
        </p:nvGraphicFramePr>
        <p:xfrm>
          <a:off x="5038560" y="1600200"/>
          <a:ext cx="3565800" cy="23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8560" y="1600200"/>
                    <a:ext cx="356580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14"/>
          <p:cNvGraphicFramePr/>
          <p:nvPr/>
        </p:nvGraphicFramePr>
        <p:xfrm>
          <a:off x="755640" y="4086360"/>
          <a:ext cx="3456000" cy="23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4086360"/>
                    <a:ext cx="345600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7"/>
          <p:cNvGraphicFramePr/>
          <p:nvPr/>
        </p:nvGraphicFramePr>
        <p:xfrm>
          <a:off x="5292720" y="4076640"/>
          <a:ext cx="3494160" cy="234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4076640"/>
                    <a:ext cx="3494160" cy="23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"/>
          <p:cNvSpPr/>
          <p:nvPr/>
        </p:nvSpPr>
        <p:spPr>
          <a:xfrm>
            <a:off x="0" y="285840"/>
            <a:ext cx="9144000" cy="1214280"/>
          </a:xfrm>
          <a:prstGeom prst="rect">
            <a:avLst/>
          </a:prstGeom>
          <a:solidFill>
            <a:srgbClr val="fcd5b5">
              <a:alpha val="27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езультаты эксперимент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468360" y="1380240"/>
            <a:ext cx="70722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ислоты разрушают зубную эма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убная паста, содержащая фтор, укрепляет зубную эма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жедневные гигиенические процедуры предупреждают возникновение и препятствуют развитию стоматологических заболе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Основная причина заболеваний полости рта – бактериальный зубной на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Группа 16"/>
          <p:cNvGrpSpPr/>
          <p:nvPr/>
        </p:nvGrpSpPr>
        <p:grpSpPr>
          <a:xfrm>
            <a:off x="0" y="1714680"/>
            <a:ext cx="419040" cy="5143320"/>
            <a:chOff x="0" y="1714680"/>
            <a:chExt cx="419040" cy="5143320"/>
          </a:xfrm>
        </p:grpSpPr>
        <p:sp>
          <p:nvSpPr>
            <p:cNvPr id="243" name="Прямоугольник 17"/>
            <p:cNvSpPr/>
            <p:nvPr/>
          </p:nvSpPr>
          <p:spPr>
            <a:xfrm>
              <a:off x="0" y="1714680"/>
              <a:ext cx="45720" cy="514332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Прямоугольник 18"/>
            <p:cNvSpPr/>
            <p:nvPr/>
          </p:nvSpPr>
          <p:spPr>
            <a:xfrm>
              <a:off x="142920" y="2500200"/>
              <a:ext cx="71280" cy="435780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Прямоугольник 19"/>
            <p:cNvSpPr/>
            <p:nvPr/>
          </p:nvSpPr>
          <p:spPr>
            <a:xfrm>
              <a:off x="357120" y="3133800"/>
              <a:ext cx="61920" cy="372420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9" descr="UPiCTOaKZcv8a9mdJsipgoVY_400.jpg"/>
          <p:cNvPicPr/>
          <p:nvPr/>
        </p:nvPicPr>
        <p:blipFill>
          <a:blip r:embed="rId1"/>
          <a:stretch/>
        </p:blipFill>
        <p:spPr>
          <a:xfrm>
            <a:off x="6429240" y="4849920"/>
            <a:ext cx="2714760" cy="20080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0" y="285840"/>
            <a:ext cx="9144000" cy="1214280"/>
          </a:xfrm>
          <a:prstGeom prst="rect">
            <a:avLst/>
          </a:prstGeom>
          <a:solidFill>
            <a:srgbClr val="fcd5b5">
              <a:alpha val="27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екомендации по сохранению зуб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Группа 4"/>
          <p:cNvGrpSpPr/>
          <p:nvPr/>
        </p:nvGrpSpPr>
        <p:grpSpPr>
          <a:xfrm>
            <a:off x="0" y="1714680"/>
            <a:ext cx="419040" cy="5143320"/>
            <a:chOff x="0" y="1714680"/>
            <a:chExt cx="419040" cy="5143320"/>
          </a:xfrm>
        </p:grpSpPr>
        <p:sp>
          <p:nvSpPr>
            <p:cNvPr id="249" name="Прямоугольник 5"/>
            <p:cNvSpPr/>
            <p:nvPr/>
          </p:nvSpPr>
          <p:spPr>
            <a:xfrm>
              <a:off x="0" y="1714680"/>
              <a:ext cx="45720" cy="514332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Прямоугольник 6"/>
            <p:cNvSpPr/>
            <p:nvPr/>
          </p:nvSpPr>
          <p:spPr>
            <a:xfrm>
              <a:off x="142920" y="2500200"/>
              <a:ext cx="71280" cy="435780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Прямоугольник 7"/>
            <p:cNvSpPr/>
            <p:nvPr/>
          </p:nvSpPr>
          <p:spPr>
            <a:xfrm>
              <a:off x="357120" y="3133800"/>
              <a:ext cx="61920" cy="3724200"/>
            </a:xfrm>
            <a:prstGeom prst="rect">
              <a:avLst/>
            </a:prstGeom>
            <a:solidFill>
              <a:srgbClr val="fac090">
                <a:alpha val="48000"/>
              </a:srgbClr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1"/>
          <p:cNvSpPr/>
          <p:nvPr/>
        </p:nvSpPr>
        <p:spPr>
          <a:xfrm>
            <a:off x="642960" y="1020600"/>
            <a:ext cx="8286840" cy="64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ля поддержания здоровых зубов необходима тщательная гигиена ротовой пол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всегда начинать чистку с одного и того же зубного ря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придерживаться определенной последовательности очищения зубов, чтобы не пропустить какого-либо участ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чистку проводить в одном темпе, чтобы выдержать необходимую длительность очи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чистить зубы в трёх направлениях: снаружи, изнутри и по жевательной поверх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ак можно меньше употребляйте сладкого, перед едой чистите зубы, а после еды прополощите р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ва раза в год посещайте стоматолога, даже если не болят з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0" y="285840"/>
            <a:ext cx="9144000" cy="1214280"/>
          </a:xfrm>
          <a:prstGeom prst="rect">
            <a:avLst/>
          </a:prstGeom>
          <a:solidFill>
            <a:srgbClr val="fcd5b5">
              <a:alpha val="27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чи исследо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0" y="1714680"/>
            <a:ext cx="46080" cy="514332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142920" y="2500200"/>
            <a:ext cx="71280" cy="43578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357120" y="3133800"/>
            <a:ext cx="61920" cy="37242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428760" y="1825200"/>
            <a:ext cx="89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овести эксперимен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елать вывод о результате химического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заимодействия кислот и соединений каль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3. Изучить литературу по проблемам заболевания зуб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4. Довести результаты до заинтересованных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0" y="214200"/>
            <a:ext cx="9144000" cy="1214640"/>
          </a:xfrm>
          <a:prstGeom prst="rect">
            <a:avLst/>
          </a:prstGeom>
          <a:solidFill>
            <a:srgbClr val="fcd5b5">
              <a:alpha val="27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лан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0" y="1714680"/>
            <a:ext cx="46080" cy="514332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142920" y="2500200"/>
            <a:ext cx="71280" cy="43578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357120" y="3133800"/>
            <a:ext cx="61920" cy="37242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428840" y="2571840"/>
            <a:ext cx="707220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учение строения зуб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нформация о болезнях зуб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3.Информация о зубной па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ведение экспери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ведение анкетирования в 2-11 клас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ключение по исслед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0" y="285840"/>
            <a:ext cx="9144000" cy="1214280"/>
          </a:xfrm>
          <a:prstGeom prst="rect">
            <a:avLst/>
          </a:prstGeom>
          <a:solidFill>
            <a:srgbClr val="fcd5b5">
              <a:alpha val="27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ктуальность исследо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0" y="1714680"/>
            <a:ext cx="46080" cy="514332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142920" y="2500200"/>
            <a:ext cx="71280" cy="43578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357120" y="3133800"/>
            <a:ext cx="61920" cy="37242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714240" y="2571840"/>
            <a:ext cx="8429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ольные зубы не угрожают жизни. Однако их лечение - хлопотное дело, да и стоит дорого. Поэтому надо учиться беречь зубы смолоду. Стоматологические заболевания чаще всего начинаются ещё в детстве. Затем неуклонно прогрессируют и со временем приводят к необратимому поражению зубов, боли и дискомфорту. Если процесс не остановить, зуб разрушается окончат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0" y="285840"/>
            <a:ext cx="9144000" cy="1214280"/>
          </a:xfrm>
          <a:prstGeom prst="rect">
            <a:avLst/>
          </a:prstGeom>
          <a:solidFill>
            <a:srgbClr val="fcd5b5">
              <a:alpha val="27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ипотеза исследо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1094040" y="3076200"/>
            <a:ext cx="71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пособна ли зубная паста оказ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лияние на прочность зуб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5" descr="UPiCTOaKZcv8a9mdJsipgoVY_400.jpg"/>
          <p:cNvPicPr/>
          <p:nvPr/>
        </p:nvPicPr>
        <p:blipFill>
          <a:blip r:embed="rId1"/>
          <a:stretch/>
        </p:blipFill>
        <p:spPr>
          <a:xfrm>
            <a:off x="6429240" y="4849920"/>
            <a:ext cx="2714760" cy="20080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0" y="1714680"/>
            <a:ext cx="46080" cy="514332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142920" y="2500200"/>
            <a:ext cx="71280" cy="43578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357120" y="3133800"/>
            <a:ext cx="61920" cy="37242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0" y="285840"/>
            <a:ext cx="9144000" cy="1214280"/>
          </a:xfrm>
          <a:prstGeom prst="rect">
            <a:avLst/>
          </a:prstGeom>
          <a:solidFill>
            <a:srgbClr val="fcd5b5">
              <a:alpha val="27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ак что же происходит с нашим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убами, и почему они начинают боле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0" y="1714680"/>
            <a:ext cx="46080" cy="514332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142920" y="2500200"/>
            <a:ext cx="71280" cy="43578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357120" y="3133800"/>
            <a:ext cx="61920" cy="3724200"/>
          </a:xfrm>
          <a:prstGeom prst="rect">
            <a:avLst/>
          </a:prstGeom>
          <a:solidFill>
            <a:srgbClr val="fac090">
              <a:alpha val="48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4572000" y="164304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тветом на этот вопрос я обратился к врачу – стоматологу  Ключенко Елене Владимировне. И вот, что она мне рассказ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мы едим, на зубах и между ними застревают кусочки пищи, которыми питаю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ходящиеся в ротовой полости каждого человека. Среда, образующаяся во рту после принятия пищи, особенно благоприятна для бактерий, и они начинают быстро размножаться. В процессе своей жизни эти бактерии вырабатывают кислоту, разъедающую эмаль зуба. Так начин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6" descr="IMG_0545.JPG"/>
          <p:cNvPicPr/>
          <p:nvPr/>
        </p:nvPicPr>
        <p:blipFill>
          <a:blip r:embed="rId1"/>
          <a:stretch/>
        </p:blipFill>
        <p:spPr>
          <a:xfrm>
            <a:off x="-79056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286200" y="10000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вовремя не обратится к врачу, то, разрушив эмаль, кислота начнёт разъедать дентин и достигнет пульпы. Нервные окончания оголятся, и зуб начнёт болеть. Если и в этом случае вы не обратитесь к врачу, бактерии по образовавшейся полости легко проникнут в полость пульпы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зовут заражение корня. Это может привести к гнойному воспалению, щеку может раздуть, образуется флюс, который сложно лечить. Нередко такое воспаление можно ликвидировать, только удалив зу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5:03:02Z</dcterms:created>
  <dc:creator>SamLab.ws</dc:creator>
  <dc:description/>
  <dc:language>en-US</dc:language>
  <cp:lastModifiedBy>User</cp:lastModifiedBy>
  <dcterms:modified xsi:type="dcterms:W3CDTF">2015-03-16T20:13:24Z</dcterms:modified>
  <cp:revision>7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D0D43D2C9BF8E4CAE1D43C677D78588</vt:lpwstr>
  </property>
</Properties>
</file>