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33E4-B1C1-4446-991B-CBA374CC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BDD-132C-4EAB-BFC7-A8748193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445-D832-4B93-868C-68D137BB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D8B9-2540-4118-B54D-6606D26C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94DA-67FB-47CB-B90E-B6415C51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56C0-FC68-47AE-A75D-B05B1271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B515-690E-4043-ACF8-047B35B2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DB3B-2AEB-4AA0-A38D-75C6D6FB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0601-0C50-4543-A08D-065234E9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FBC2-B4C0-433B-A03D-73F3F920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0C96-B7E4-4C92-B6C7-1DCFCDBD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2808-72D9-41AB-B6A5-48074AD7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1CC0-6864-4CBD-A38D-6EDB8687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F2AC-D0B9-4D0A-A8A4-641233E2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5297-6B17-4B3F-86DD-D203988A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79F3-2272-46FE-B4C2-C7320FA7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D2DC-6CBF-4FAA-952B-F1F026DF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4656-3D8C-4FF9-A0A9-64E04C60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10ED-A469-4611-A716-6861B894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A465-45C4-4368-A41B-0DD7DB71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481-2336-46B9-BEFF-917F21A6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715-7DDB-48F5-B0C4-6D896A28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D63A-426A-4A2E-99C2-B8C89491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5A13-706B-4E2C-B90F-A69AF850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5ACC-3396-4049-9EF7-B9575EB6013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590F-5A3D-4C1E-AF7A-4D93F4F1282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77240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Дзержинск в годы Великой Отечественной Войны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866920" y="58669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лоусова Юлия 9 «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На заводе ядохимикатов № 365 «Ока», основанном в 1937 году, в военное лихолетье действовала установка для получения наркозного эфира, в 1943 году освоен выпуск стрептоцида и сульфидина, в 1944 получен сахарин, создано новое производство полихлорвиниловой смолы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8534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Рост выпуска продукции для фронта происходил как за счет постройки, пуска и освоения новых цехов и установки дополнительного оборудования, так и за счет совершенствования организации труда, интенсификации производства и повышения производительности труда. В годы войны на дзержинских предприятиях трудилось 15474 стахановца, 4412 ударников, 386 комсомольско-молодежных бригад и смен, основу которых составляли подростки, девушки, молодые женщины, заменившие в цехах мужчин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3505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Росло число передовиков, в том числе женщин и подростков, освоивших работу на двух, трех и более станках. Некоторым из них удавалось выполнять норму на 220 - 240 процентов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401508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Труд на химических предприятиях был тяжелым, опасным для здоровья. Зачастую выпуск смертельной для человека продукции протекал с нарушениями технологического режима, без соблюдения необходимых правил безопасности. Самым трудным по числу происшествий на производстве выдался 1943 год. В цехах произошло 179 аварий, 1710 несчастных случаев. На заводах N 80, "Оргстекло», «Ява» - с многочисленными человеческими жертвам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3657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Несмотря на трудности, дзержинцы работали «на химии» не щадя ни сил, ни здоровья - во имя победы над грозным врагом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95680" y="457200"/>
            <a:ext cx="3684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5410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 первых дней войны перестраивались на жесткий режим военного времени дзержинские предприятия. Перед коллективами стояла сложная задача - в самые кратчайшие сроки увеличить мощности существующих цехов, построить новые производства, освоить передовые технологи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Химические заводы Дзержинска стали единственными поставщиками уникальной продукции. Уже в июне 1941 года на Чернореченском химзаводе начала действовать установка по производству самовоспламеняющейся жидкости «КС», сыгравшей важную роль в борьбе с вражескими танками в первоначальный период войны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40080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4114800" cy="57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Завод N 80 в 1941 году производил до 50 процентов всех взрывчатых веществ, выпускаемых в стране. Ежемесячно в его цехах снаряжалось свыше трех миллионов снарядов, мин, авиабомб. В 1942 году здесь заработал крупнейший в стране цех по производству взрывчатки, позволивший увеличить мощности завода на 210 процентов по сравнению с довоенным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4257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начале войны было закончено строительство и пущен цех N 8а по производству гексогена. В снаряжательных цехах путем внедрения поточного метода удалось добиться увеличения выпуска боеприпасов на 81 процент, уменьшив количество рабочей силы на 16,4 процента. При этом длительность технологического цикла обработки изделия сократилась с пяти часов до пятидесяти минут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76520" y="1959120"/>
            <a:ext cx="579096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На заводе N 148 («Оргстекло»), вступившем в строй в 1939 году, была разработана технология и запущено производство секретнейшего продукта - органического стекла. Не простого, а «прозрачной брони» для самолетов - штурмовиков «Ил-2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о время войны завод выпускал танковые смотровые стекла и призмы, металлические детали к противогазам. Здесь производили головакс, синтетический ацетон. В цехе N 3 снаряжались химические мины, снаряды разных марок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2895480"/>
            <a:ext cx="3809880" cy="2625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19720" y="2590920"/>
            <a:ext cx="43052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«Капролактам» начинал свою историю в 1939 году. Его основное производство было рассчитано на выпуск отравляющего вещества нового вида на базе отходящих газов пиролиза нефти. На новом заводе производился целый ряд отравляющих веществ: иприт, люизит, хлор, а также этиловая жидкость, служившая антидетонатором для авиамоторов с высокой степенью сжат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2616120"/>
            <a:ext cx="518184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4267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годы войны здесь был пущен цех по производству полихлорвиниловой смолы, изопропилового спирта, тройного сплава, хлорэтила, три цеха по снаряжению снарядов бомб дымовыми, химическими веществами, освоено производство толуола. В 1941 году мощное производство по выпуску отравляющих веществ было выделено в самостоятельный завод № 506 «Ява»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76920" y="457200"/>
            <a:ext cx="371160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3:09:58Z</dcterms:created>
  <dc:creator>Admin</dc:creator>
  <dc:description/>
  <dc:language>en-US</dc:language>
  <cp:lastModifiedBy>Admin</cp:lastModifiedBy>
  <dcterms:modified xsi:type="dcterms:W3CDTF">2013-01-27T17:15:4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