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8690A-4399-43E2-87FD-B0FE1A1E2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8650E-042A-43FC-959B-6E80E482A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4C24C-77FB-4CE0-80C1-AB24ED8FB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64F63-A9D5-44F0-A87F-DEBC95531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C4B2A-070E-4719-885C-60AC5C6F5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EBF7B-460C-4E8C-BBC8-0CD747AA3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687B8-E0B3-4ADC-BF01-ACD6C1DA4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FA18C-97FC-4DD9-98B8-CA5FA3324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14DD6-084A-4F9B-8990-5F94929FF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D418E-481B-4BA2-B227-5BAFBE9A5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C3621-0A91-40E6-A74C-B29CF3051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C6A74-D77E-4A7C-B28D-786A96608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ADD44-545F-4283-A284-422E318C50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освещенный абсолютизм Екатерины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16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орозова Ксения 10 кл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990360"/>
            <a:ext cx="91440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Екатерина составила следующую эпитафию для своего будущего надгробия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88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«Здесь покоится Екатерина Вторая. Она прибыла в Россию в 1744 году, чтобы выйти замуж за Петра III. В четырнадцать лет она приняла троякое решение: понравиться своему супругу, Елизавете и народу. Она не упустила ничего, чтобы добиться в этом отношении успеха. Восемнадцать лет, исполненных скуки и одиночества, побудили ее прочесть много книг. Взойдя на российский престол, она приложила все старания к тому, чтобы дать своим подданным счастье, свободу и материальное благополучие. Она легко прощала и никого не ненавидела. Она была снисходительна, любила жизнь, отличалась веселостью нрава, была истинной республиканкой по своим убеждениям и обладала добрым сердцем. Она имела друзей. Работа давалась ей легко. Ей нравились светские развлечения и искусства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Екатерина II Великая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(1762-1796)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952880" y="1600200"/>
            <a:ext cx="3919680" cy="49528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09480" y="1676520"/>
            <a:ext cx="374976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0" y="2438280"/>
            <a:ext cx="4495680" cy="27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1 августа 1745 года в шестнадцатилетнем возрасте Екатерина была обвенчана с Петром Фёдоровичем, которому исполнилось 17 лет и который приходился ей троюродным брато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572000" y="914400"/>
            <a:ext cx="4286160" cy="54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04920" y="9144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 сентября 1754 году Екатерина родила сына Пав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28600" y="2666880"/>
            <a:ext cx="5181480" cy="39610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5638680" y="2666880"/>
            <a:ext cx="30718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61718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2 сентября1762 года Екатерина Алексеевна была коронована в Москве и стала императрицей всероссийской с именем Екатерина 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17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мператрица так сформулировала задачи, стоящие перед российским монархом: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ужно просвещать нацию, которой должно управлять.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ужно ввести добрый порядок в государстве, поддержива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бщество и заставить его соблюдать зако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ужно учредить в государстве хорошую и точную полицию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ужно способствовать расцвету государства и сделать его изобильны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ужно сделать государство грозным в самом себе и внушающим уважение соседя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533520" y="3246480"/>
            <a:ext cx="8229600" cy="36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росвещенный абсолютизм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– политика второй половины XVIII века, проводимая правителями ряда европейских государств. Для нее было характерно применение на практике некоторых идей французского Просвещени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914400" y="380880"/>
            <a:ext cx="1941480" cy="2438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3809880" y="152280"/>
            <a:ext cx="2422800" cy="28767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6705720" y="152280"/>
            <a:ext cx="205740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380880" y="1523880"/>
            <a:ext cx="8229600" cy="51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 1763 г. последовало разделение Сената на 6 департаменто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 1764 было отменено гетманство на Украин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 1764 г. проведена секуляризация церковных имущест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 1773 г. был введен принцип веротерпим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 1765 г. в стране приступили к межеванию земел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title"/>
          </p:nvPr>
        </p:nvSpPr>
        <p:spPr>
          <a:xfrm>
            <a:off x="3049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нутренняя полит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Внешняя полити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371600" y="1171440"/>
            <a:ext cx="6124680" cy="568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30T13:58:12Z</dcterms:created>
  <dc:creator>Смауг Всемогущий</dc:creator>
  <dc:description/>
  <dc:language>en-US</dc:language>
  <cp:lastModifiedBy>Наталья</cp:lastModifiedBy>
  <dcterms:modified xsi:type="dcterms:W3CDTF">2014-03-31T02:30:34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