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7E2-8808-478E-A5DD-A9868D26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E13-026A-4357-95B0-747059CF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385-8653-42F3-9A82-5DF7F6C8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FD4-FFC4-4508-9A0D-FE950C8B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DC29-79F6-41D3-8F14-FF110408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65C0-1C23-40CA-9BA6-E84C5BB9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D7D1-065D-40AF-B793-F1F766E2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A11B-458B-4C2F-AD3C-DDC20C47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A40B-36C7-4F61-89E4-4E53FED2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7FB2-DE02-4BF6-B113-CA981403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49C9-41DD-4F0E-8300-7EB55E6B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A2C-8F3A-4D67-907B-1130E0DB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66EE-D9AB-4FE2-99F4-29832366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B467-8F0F-48ED-A8D5-C0F29B2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6A0E-643E-45E0-AF69-87B4E85A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D8E5-F0DE-4D5D-B4CC-85276E3B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D2B5-8D45-4E81-ABE7-3308A814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43F-53C4-4AB1-AD5D-3DF4E70E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B76-B45B-4E4B-929E-630C65BC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E6E-35EE-4B8F-9061-BEB42343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ADE-B72F-41DC-8BF4-E0D6A4B0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78D-3BC9-45A4-8B1D-FA623B9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F4A-6802-4696-8666-9A7E8B7F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A4D-BCB5-4F19-AB47-3E4DA49E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DD7B-F820-4AE1-AA1A-A88E142859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7D10-68E4-4E1F-81A3-EF38C286C7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Игровые методы и приемы на уроках окружающего мир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328428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р: Пахаренко Лариса Александровна, учитель начальных классов ГКС(К)ОУ «Каргапольская школа – интерна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ид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Обсуждение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962160" cy="3054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0244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440" y="333000"/>
            <a:ext cx="7864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ревновательность в работе, возможность посовещаться – все эти игровые элементы способствуют активизации учебной деятельности учащихся, формирует интерес к предмету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6000" y="981000"/>
            <a:ext cx="8298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Игра является средством интеллектуального развития, так как в процессе игры активизируются разнообразные умственные процессы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2924280"/>
            <a:ext cx="793584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"Игра - это огромное светлое окно, через которое в духовный мир ребёнка вливается живительный поток представлений, понятий об окружающем мире. Игра - это искра, зажигающая огонёк пытливости и любознательности."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                  Сухомлинский В.А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пользование игр в учебном процессе помогает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ктивизировать деятельность ребенк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вивает познавательную активность, наблюдательность, внимание, память, мышлени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держивает интерес к изучаемому материалу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вивает творческое воображение, образное мышление, снимает утомление у детей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лает процесс обучения занимательным для ребен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05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Игра предполагает участие всех учеников в той мере, на какую они способны. Учебный материал в игре усваивается через все органы приема информации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932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На уроках Окружающий мир применяю такие игровые метод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63700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ображаемая ситу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идактическая иг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вижные иг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гры - инсценировки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пользую игровые приём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езапное появление объектов, игруше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гадывание загадо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ведение элементов соревновани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здание игровой ситу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 своих уроках использую следующие иг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1337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Что изменилось?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Когда это бывает?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Третий лишни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Составь слов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Чудесный мешоч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Зоологическое лот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Продолжи рассказ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айди маму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Кто это?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Кто как подает голос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Что? Где? Когда?» 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еловая игра «Что? Где? Когда?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ема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Сезонные  изменения  в  природе  зим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Обобщение   знаний  о  зи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Закрепить  знания  о  признаках,  приметах  зимы, уметь  правильно  отвечать  на  вопросы (высказывать  свою  точку  зрени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Развивать  наблюдательность, зрительное  слуховое  восприятие,   мышление, внимание, речь, обогащать  словарный  запас  сл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Воспитывать  умение  дружно  работать  в  группе, приходить  к  единому  мнени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лушают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8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03:02:12Z</dcterms:created>
  <dc:creator>user</dc:creator>
  <dc:description/>
  <dc:language>en-US</dc:language>
  <cp:lastModifiedBy>user</cp:lastModifiedBy>
  <dcterms:modified xsi:type="dcterms:W3CDTF">2015-02-23T15:49:57Z</dcterms:modified>
  <cp:revision>5</cp:revision>
  <dc:subject/>
  <dc:title>"Игра - это огромное светлое окно, через которое в духовный мир ребёнка вливается живительный поток представлений, понятий об окружающем мире. Игра - это искра, зажигающая огонёк пытливости и любознательности."                     Сухомлинский В.А. </dc:title>
</cp:coreProperties>
</file>