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6832-FFE6-4629-AAB8-9A5F9B83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9813-D3A8-4CD7-B658-E222F5D8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316-29C5-4E99-A40D-13E9AA0F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E5B6-A4FE-4302-AB2A-F6E47E03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117A-55B2-4A2F-8B53-E682AA98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74A5-9BCE-49E8-BDF9-ADAB1039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D7A7-58B0-4D87-98A3-A84A0351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D793-4A44-481E-9886-07A6FD71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0F85-38C1-4CA1-A5E6-5E90EAA6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1890-C4E1-40B3-A0A7-7809765A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1792-965A-463F-9C38-3881798D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EE3E-E42F-4B2D-BFAE-AC9909C3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8191-3321-41A4-ADBA-4153C425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CA95-84F1-4D14-B4D0-03E32DA1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2E7A-150A-40F4-9F04-A3C00C1C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0ACB-0372-4388-8F2F-3F6DBFB0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6D74-8A2A-4019-967E-C4C08B049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BF12-1EDE-4329-9499-DC423E16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3E0E-A2D1-4C55-A893-2D084975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B7A3-294B-4E65-AB22-2DA28CED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92DD-8D75-4F77-95A5-006A86F6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EAAD-F685-4359-8424-E21BE0CC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940B-17A9-4692-90FF-B3D4E83A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488D-6D82-49F9-B24B-6AF4A97D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ABB8-DA6A-49C7-A87A-3A8A1E8A910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FD2F-9F68-4184-9D26-1D13982242D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Конкурс чтецов</a:t>
            </a:r>
            <a:br>
              <a:rPr sz="57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английский язык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962520" y="4038480"/>
            <a:ext cx="48765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оставила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Яковлева Ирина Геннадьевна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Учитель английского языка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МБОУ «Среднекибечская СОШ»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2015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Sylvia Plath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Journal - Musings and Scribbles"/>
          <p:cNvPicPr/>
          <p:nvPr/>
        </p:nvPicPr>
        <p:blipFill>
          <a:blip r:embed="rId1"/>
          <a:stretch/>
        </p:blipFill>
        <p:spPr>
          <a:xfrm>
            <a:off x="1752480" y="1676520"/>
            <a:ext cx="4741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792468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HE EVERLASTING MONDA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ou shalt have an everlasting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onday and stand in the mo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moon's man stands in his shell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ent under a bund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f sticks. The light falls chalk and col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pon our bedsprea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is teeth are chattering among the leprou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eaks and craters of those extinct volcanoe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e also against black fros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ould pick sticks, would not res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ntil his own lit room outshon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unday's ghost of sun; Now works his hell of Mondays in the moon's ball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reless, seven chill seas chained to his ankle.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77724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ВЕЧНЫЙ ПОНЕДЕЛЬНИК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ВЕЧНЫЙ ПОНЕДЕЛЬНИК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Ты будешь жить в вечный понедельник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И стоять в лунном свете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Лунный человек стоит в раковине своей,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Согнувшийся под вязанкой Прутьев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Падает свет — холод и мел —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На нашу постель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Зубы его дребезжат среди прокаженных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Пиков и кратеров тех вулканов потухших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Он тоже против черного мороза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Прутья мог бы собирать, не отдыхал бы,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Пока его светлая комната затмевала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Воскресный призрак солнца;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А сейчас труды его понедельничного ада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на лунном шаре, Лишенные огня,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семь бесчувственных морей сковали его лодыжк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eaeaea"/>
                </a:solidFill>
                <a:latin typeface="Verdana"/>
              </a:rPr>
              <a:t>Перевод А. Уланова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773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Arial"/>
              </a:rPr>
              <a:t>Elisabeth Bisho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4956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784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ONE ART</a:t>
            </a:r>
            <a:br>
              <a:rPr sz="4000"/>
            </a:br>
            <a:r>
              <a:rPr b="1" i="1" lang="en-US" sz="4000" spc="-1" strike="noStrike">
                <a:solidFill>
                  <a:srgbClr val="ffffcc"/>
                </a:solidFill>
                <a:latin typeface="Arial"/>
              </a:rPr>
              <a:t>by Elisabeth Bishop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en-US" sz="1600" spc="-1" strike="noStrike">
                <a:solidFill>
                  <a:srgbClr val="eaeaea"/>
                </a:solidFill>
                <a:latin typeface="Verdana"/>
              </a:rPr>
              <a:t>The art of losing isn’t hard to master;</a:t>
            </a:r>
            <a:br>
              <a:rPr sz="1600"/>
            </a:br>
            <a:r>
              <a:rPr b="0" i="1" lang="en-US" sz="1600" spc="-1" strike="noStrike">
                <a:solidFill>
                  <a:srgbClr val="eaeaea"/>
                </a:solidFill>
                <a:latin typeface="Verdana"/>
              </a:rPr>
              <a:t>so many things seem filled with the intent</a:t>
            </a:r>
            <a:br>
              <a:rPr sz="1600"/>
            </a:br>
            <a:r>
              <a:rPr b="0" i="1" lang="en-US" sz="1600" spc="-1" strike="noStrike">
                <a:solidFill>
                  <a:srgbClr val="eaeaea"/>
                </a:solidFill>
                <a:latin typeface="Verdana"/>
              </a:rPr>
              <a:t>to be lost that their loss is no disaster,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Verdana"/>
              </a:rPr>
              <a:t>Lose something every day. Accept the fluster</a:t>
            </a:r>
            <a:br>
              <a:rPr sz="1600"/>
            </a:br>
            <a:r>
              <a:rPr b="0" i="1" lang="en-US" sz="1600" spc="-1" strike="noStrike">
                <a:solidFill>
                  <a:srgbClr val="eaeaea"/>
                </a:solidFill>
                <a:latin typeface="Verdana"/>
              </a:rPr>
              <a:t>of lost door keys, the hour badly spent.</a:t>
            </a:r>
            <a:br>
              <a:rPr sz="1600"/>
            </a:br>
            <a:r>
              <a:rPr b="0" i="1" lang="en-US" sz="1600" spc="-1" strike="noStrike">
                <a:solidFill>
                  <a:srgbClr val="eaeaea"/>
                </a:solidFill>
                <a:latin typeface="Verdana"/>
              </a:rPr>
              <a:t>The art of losing isn’t hard to master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Verdana"/>
              </a:rPr>
              <a:t>Then practice losing farther, losing faster:</a:t>
            </a:r>
            <a:br>
              <a:rPr sz="1600"/>
            </a:br>
            <a:r>
              <a:rPr b="0" i="1" lang="en-US" sz="1600" spc="-1" strike="noStrike">
                <a:solidFill>
                  <a:srgbClr val="eaeaea"/>
                </a:solidFill>
                <a:latin typeface="Verdana"/>
              </a:rPr>
              <a:t>places, and names, and where it was you meant</a:t>
            </a:r>
            <a:br>
              <a:rPr sz="1600"/>
            </a:br>
            <a:r>
              <a:rPr b="0" i="1" lang="en-US" sz="1600" spc="-1" strike="noStrike">
                <a:solidFill>
                  <a:srgbClr val="eaeaea"/>
                </a:solidFill>
                <a:latin typeface="Verdana"/>
              </a:rPr>
              <a:t>to travel. </a:t>
            </a:r>
            <a:r>
              <a:rPr b="0" i="1" lang="ru-RU" sz="1600" spc="-1" strike="noStrike">
                <a:solidFill>
                  <a:srgbClr val="eaeaea"/>
                </a:solidFill>
                <a:latin typeface="Verdana"/>
              </a:rPr>
              <a:t>None of these will bring disaster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Verdana"/>
              </a:rPr>
              <a:t>I lost my mother’s watch. And look! my last, or</a:t>
            </a:r>
            <a:br>
              <a:rPr sz="1600"/>
            </a:br>
            <a:r>
              <a:rPr b="0" i="1" lang="en-US" sz="1600" spc="-1" strike="noStrike">
                <a:solidFill>
                  <a:srgbClr val="eaeaea"/>
                </a:solidFill>
                <a:latin typeface="Verdana"/>
              </a:rPr>
              <a:t>next-to-last, of three beloved houses went.</a:t>
            </a:r>
            <a:br>
              <a:rPr sz="1600"/>
            </a:br>
            <a:r>
              <a:rPr b="0" i="1" lang="en-US" sz="1600" spc="-1" strike="noStrike">
                <a:solidFill>
                  <a:srgbClr val="eaeaea"/>
                </a:solidFill>
                <a:latin typeface="Verdana"/>
              </a:rPr>
              <a:t>The art of losing isn’t hard to master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Verdana"/>
              </a:rPr>
              <a:t>I lost two cities, lovely ones. And, vaster,</a:t>
            </a:r>
            <a:br>
              <a:rPr sz="1600"/>
            </a:br>
            <a:r>
              <a:rPr b="0" i="1" lang="en-US" sz="1600" spc="-1" strike="noStrike">
                <a:solidFill>
                  <a:srgbClr val="eaeaea"/>
                </a:solidFill>
                <a:latin typeface="Verdana"/>
              </a:rPr>
              <a:t>some realms I owned, two rivers, a continent.</a:t>
            </a:r>
            <a:br>
              <a:rPr sz="1600"/>
            </a:br>
            <a:r>
              <a:rPr b="0" i="1" lang="en-US" sz="1600" spc="-1" strike="noStrike">
                <a:solidFill>
                  <a:srgbClr val="eaeaea"/>
                </a:solidFill>
                <a:latin typeface="Verdana"/>
              </a:rPr>
              <a:t>I miss them, but it wasn’t a disaster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Verdana"/>
              </a:rPr>
              <a:t>— </a:t>
            </a:r>
            <a:r>
              <a:rPr b="0" i="1" lang="en-US" sz="1600" spc="-1" strike="noStrike">
                <a:solidFill>
                  <a:srgbClr val="eaeaea"/>
                </a:solidFill>
                <a:latin typeface="Verdana"/>
              </a:rPr>
              <a:t>Even losing you (the joking voice, a gesture</a:t>
            </a:r>
            <a:br>
              <a:rPr sz="1600"/>
            </a:br>
            <a:r>
              <a:rPr b="0" i="1" lang="en-US" sz="1600" spc="-1" strike="noStrike">
                <a:solidFill>
                  <a:srgbClr val="eaeaea"/>
                </a:solidFill>
                <a:latin typeface="Verdana"/>
              </a:rPr>
              <a:t>I love) I shan’t have lied. It’s evident</a:t>
            </a:r>
            <a:br>
              <a:rPr sz="1600"/>
            </a:br>
            <a:r>
              <a:rPr b="0" i="1" lang="en-US" sz="1600" spc="-1" strike="noStrike">
                <a:solidFill>
                  <a:srgbClr val="eaeaea"/>
                </a:solidFill>
                <a:latin typeface="Verdana"/>
              </a:rPr>
              <a:t>the art of losing’s not too hard to master</a:t>
            </a:r>
            <a:br>
              <a:rPr sz="1600"/>
            </a:br>
            <a:r>
              <a:rPr b="0" i="1" lang="en-US" sz="1600" spc="-1" strike="noStrike">
                <a:solidFill>
                  <a:srgbClr val="eaeaea"/>
                </a:solidFill>
                <a:latin typeface="Verdana"/>
              </a:rPr>
              <a:t>though it may look like (Write it!) like disaster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Цель и задачи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овершенствование навыков выразительного рассказывания стихотворений; актуализация лексического и грамматического материала; развитие интереса к поэтическим произведениям стран изучаемого язык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are these people?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" descr="В США выпустят марку с Иосифом Бродским Лови Момент!"/>
          <p:cNvPicPr/>
          <p:nvPr/>
        </p:nvPicPr>
        <p:blipFill>
          <a:blip r:embed="rId1"/>
          <a:stretch/>
        </p:blipFill>
        <p:spPr>
          <a:xfrm>
            <a:off x="457200" y="1689120"/>
            <a:ext cx="82296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Joseph Brodsky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 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" descr="Joseph Brodsky 1988.jpg"/>
          <p:cNvPicPr/>
          <p:nvPr/>
        </p:nvPicPr>
        <p:blipFill>
          <a:blip r:embed="rId1"/>
          <a:stretch/>
        </p:blipFill>
        <p:spPr>
          <a:xfrm>
            <a:off x="2057400" y="1731960"/>
            <a:ext cx="403848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769608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Bosnia Tune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As you pour yourself a scotch,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crush a roach, or check your watch,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as your hand adjusts your tie,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people di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In the towns with funny names,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hit by bullets, cought in flames,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by and large not knowing why,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people di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In small places you don't know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of, yet big for having no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chance to scream or say good-bye,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people di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People die as you elect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new apostles of neglect,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self-restraint, etc. — whereby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people di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Too far off to practice love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for thy neighbor/brother Slav,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where your cherubds dread to fly,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people di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While the statues disagree,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Cain's version, history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for its fuel tends to buy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those who di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As you watch the athletes score,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check your latest statement, or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sing your child a lullaby,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people di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Timee, whose sharp blood-thirsty quill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parts the killed from those who kill,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will pronounce the latter tribe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as your trib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	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William Carlos William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" descr="Уильям Карлос Уильямс / William Carlos Williams // биография"/>
          <p:cNvPicPr/>
          <p:nvPr/>
        </p:nvPicPr>
        <p:blipFill>
          <a:blip r:embed="rId1"/>
          <a:stretch/>
        </p:blipFill>
        <p:spPr>
          <a:xfrm>
            <a:off x="2529000" y="1600200"/>
            <a:ext cx="40845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010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SPRING AND ALL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y the road to the contagiou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spitalunder the surge of the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luemottled clouds driven from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northeast — a cold wind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eyond, thewaste of broad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uddy fieldsbrown with dried weeds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anding and fallenpatches of stand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aterthe scattering of tall tre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ll along the road the reddishpurplish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orked, upstanding, twiggystuff of bushes and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mall treeswith dead, brown leaves under themleafless vines —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80880" y="91440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ifeless in appearance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luggishdazed spring approaches —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y enter the new world naked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ld, uncertain of allsave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at they enter. All about themthe cold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amiliar wind —Now the grass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omorrowthe stiff curl of wildcarrot leaf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ne by one objects are defined —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t quickens: clarity, outline of leaf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ut now the stark dignity ofentrance —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ill, the profound changehas come upon them: rooted the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rip down and begin to awaken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3-16T16:32:2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