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090-B2BB-4708-8544-4B25B1A4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18F-06CB-4472-9B30-54CF1C6F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F67-1F26-4E8E-A9CF-683AAC5F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C41-1170-4CAE-B992-204ADDC8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7F6-9FBE-4D65-B0BA-8B0F17AE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BCB-442E-47BE-AE3A-831963EF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846-3364-4C4B-A2A2-87C70C7A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04A-E301-42FE-9B02-5D154974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8E9-CFAC-4D30-BE27-CE0B1113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861-1E92-4A48-AF91-F77F1042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A0E-B33C-454E-8FCB-C00B482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937-3D3E-46BE-AA65-1AF578B1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1D76-80A2-4C07-862C-276BA88EBE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imes New Roman"/>
              </a:rPr>
              <a:t>ПРОБЛЕМА СНИЖЕНИЯ МОТИВАЦИИ К УЧЕНИЮ И ПУТИ ЕЁ РЕШЕНИЯ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281916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ь английского языка МОУ СОШ №16 Зайкова Галина 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6" descr="trouble-00"/>
          <p:cNvPicPr/>
          <p:nvPr/>
        </p:nvPicPr>
        <p:blipFill>
          <a:blip r:embed="rId1"/>
          <a:stretch/>
        </p:blipFill>
        <p:spPr>
          <a:xfrm>
            <a:off x="0" y="1371600"/>
            <a:ext cx="5029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войка? За что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илактическая двой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 отказ ученика отвеч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за повед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 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ДЕЛ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 СТАВИТЬ такие двойки. ОНИ формируют в личностном плане ученика новое качество - состояние неуверенности или безразличия к отметке. Ведь рано или поздно такие школьники, сдав долги, заработают итоговую тройку. Но четверку им получить уже просто невозможно, хотя многие из них этого заслуживают.  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20472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итель ставит НЕСПРАВЕДЛИВУЮ двой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alternativa"/>
          <p:cNvPicPr/>
          <p:nvPr/>
        </p:nvPicPr>
        <p:blipFill>
          <a:blip r:embed="rId1"/>
          <a:stretch/>
        </p:blipFill>
        <p:spPr>
          <a:xfrm>
            <a:off x="5410080" y="1143000"/>
            <a:ext cx="3733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Если учитель в работе постоянно ругает детей и стыдит при всем классе, часто вызывает родителей, которые их наказывают, то результаты будут минимальными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ТО ДЕЛА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ыт работы с такими учениками показывает, что если для них найти посильную и интересную работу как на уроке, так и вне его, то они постепенно исправляются.  Лучше привлекать таких ребят к помощи в предметном кабинете, вовлекать их во внеурочную работу и т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«Стимулировать внутренние стимулы к учебе, КАК?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     Предоставление свободы выбора. Ученик, а также его родители  должны иметь возможность выбора школы, учителя, программы обучения, видов занятий, форм контроля. Свобода выбора дает ситуацию, где ученик испытывает чувство самодетерминации, чувство хозяина. А выбрав действие, человек испытывает большую ответственность за его результа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     Максимально возможное снятие внешнего контроля. Минимизация применения   наград и наказаний за результаты обучения. Так как это ослабляет внутреннюю мотиваци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     Задачи обучения должны исходить из запросов, интересов и устремлений ученика. Результаты обучения должны соответствовать потребностям ребенка и быть значимыми для не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532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Условия развития учебной мотивации современного школьника: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     Урок следует организовать так, чтобы ученику было интересно от самого процесса учения и радостно от общения с учителем, одноклассниками в атмосфере сотрудничества, доверия и   взаимного уваж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     Значимым условием развития учебной мотивации является личность учителя и характер его отношения к ученик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     Одним из эффективных средств, способствующих познавательной мотивации, является проблемное обуч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.      Формирование обобщенных методов работы   с   базовыми знания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.      Процесс обучения построен так, что ребенок усваивает знания и умения через их примен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70000"/>
              </a:lnSpc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Развитие внутренней мотивации учения - это движение вверх.</a:t>
            </a: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внутренней мотивации учения обусловливает ориентацию ученика на мотивы самосохранения, материального благополучия и комфор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ДНАКО приводят к регрессу мотивации учения у школьников: чрезмерное внимание и неискренние похвалы, неоправданно завышенные оценки, материальное поощрение, а также жесткие наказания, принижающая критика или полное игнорирование, неоправданно заниженные оцен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532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«В основе нашего поведения лежат сокровенные желания». (Г.Оверстрит)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, поставленная учителем, должна стать целью ученика. Между мотивами и целями существуют весьма сложные отношения. Наилучший путь движения - от мотива к цели, т.е. когда ученик уже имеет мотив, побуждающий его стремиться к заданной учителем цел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вод: Опирайтесь на желания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его хочет ученик- главный вопрос для учите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o good luck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601992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076960" y="6552720"/>
            <a:ext cx="533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3" descr="i[25]"/>
          <p:cNvPicPr/>
          <p:nvPr/>
        </p:nvPicPr>
        <p:blipFill>
          <a:blip r:embed="rId1"/>
          <a:stretch/>
        </p:blipFill>
        <p:spPr>
          <a:xfrm>
            <a:off x="2514600" y="3809880"/>
            <a:ext cx="396252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0" y="1066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'll be happy  if our work proves helpful to you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044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Что такое мотиваци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тивация – общее название для процессов, методов, средств побуждения ученика к активной познавательной деятель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abr_51"/>
          <p:cNvPicPr/>
          <p:nvPr/>
        </p:nvPicPr>
        <p:blipFill>
          <a:blip r:embed="rId1"/>
          <a:stretch/>
        </p:blipFill>
        <p:spPr>
          <a:xfrm>
            <a:off x="0" y="4038480"/>
            <a:ext cx="365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Мотивация учения может быть положительная, нейтральная, негативна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Положительная мотивация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стремление к знаниям, желание получить хорошую отметку, заслужить благодарность, подражание положительным идеалам и т. 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ейтральные  мотив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желание получить одобрение или обещанный подарок родителями...) Задача учителя заключается в том,   чтобы знать эти мотивы, воздействовать на них, стремясь сделать положительными, помогающими учебной деятель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егативные мотив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тсутствие желания учиться, неумение учиться, неумение организовывать свой учебный труд, недостаточные знания, недисциплинированность, отрицательное влияние товарищей, неблагополучная семейная обстанов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Четвертый уровень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изкая школьная мотивация. Эти дети посещаю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колу неохотно, предпочитают пропускать занят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уроках часто занимаются  посторонними делами, игра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пытывают серьезные затруднения в учебной  деятель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ятый уровень 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гативно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ношение к школе. Такие дети испытывают серьезные трудности в обучении: они не справляются с учебной деятельностью, испытывают проблемы в общении с одноклассниками, во взаимоотношениях с учителем. Школа воспринимается ими как враждебная среда, пребывание в ней для них невыносимо. В других случаях ученики могут проявлять агрессию, отказываться выполнять задания, следовать тем или иным нормам и правилам. Часто у подобных школьников отмечаются нервно - психические нару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причины школьной неуспешнос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лабая концентрация внимания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изкий уровень развития познавательных способност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сприятие, мышление, память, речь; несформированность рефлексивных способ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сутствие учебной мотивации; неадекватность самооценк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еделенные черты характера, например, чрезмерная импульсивность; отрицательные психические состояния; негативные факторы окружающей среды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empus Sans ITC"/>
              </a:rPr>
              <a:t>Задача учи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ча учителя – создать у неуспевающих школьников устойчивую мотивацию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стижения успех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(у них, как правило, вырабатывается мотивация избегания неудачи); размыть “позицию неуспевающего”; повысить самооцен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спитанию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ложительной мотиваци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учения способствуют общая атмосфера в школе и классе, установление отношений сотрудничества между учителем и ученик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Объективной </a:t>
            </a:r>
            <a:r>
              <a:rPr b="0" lang="ru-RU" sz="3600" spc="-1" strike="noStrike">
                <a:solidFill>
                  <a:srgbClr val="e5ffff"/>
                </a:solidFill>
                <a:latin typeface="Times New Roman"/>
              </a:rPr>
              <a:t>причиной неуспешности</a:t>
            </a: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 является отсутствие у школьников способностей к конкретному предмету.  Старательные, успешно занимающиеся по многим предметам, но неуспевающие, например, по математике или английскому языку.</a:t>
            </a: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ТО ДЕЛА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34563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ким ученикам бессмысленно постоянно ставить плохие отметки. Они и без запугивания или наказания двойкой много работают. Для таких учеников целесообразна строго индивидуальная  программа, предусматривающая посильные, постепенно усложняющиеся задани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пространенная причина неуспешности - нежелание ребенка учиться из-за отсутствия положительных стимулов к самому процессу учения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ДЕЛАТ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еми доступными средствами учителю следует стимулировать его, показывать ему радостную сторону познания и преодоления трудностей, внутреннюю красоту предмета, развивать интерес к нему. Нотации, наказания, жалобы родителям зачастую лишь осложняют создавшееся положение.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99</cp:lastModifiedBy>
  <dcterms:modified xsi:type="dcterms:W3CDTF">2015-03-16T08:27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