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9AD-308C-452F-9661-E30259BF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E41-9CAD-47A6-B12B-0432BEFA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DD7-C74B-49AA-B32E-10646790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16C-BDB4-4B11-8C05-0EB9B53B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DD2BB-0C5F-4CBB-9676-1B1D18CA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E5872-5ABB-4842-B6AA-E6E8704F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68357-A6E3-4B4A-A553-DE3F133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193D-5B20-413C-9B68-39E17F6B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38281-07FE-4F07-85D8-93E8B809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E814-7C77-4607-BD1F-1B5C0E98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835D6-E419-491D-875A-86677C5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D08-3DBC-41D7-993E-6F473CED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7FFDD-1F2A-46B5-A110-BC34429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67A2E-10DE-4C6F-96E1-5D0E0E6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EA94-CAC4-447B-B682-4B23DB94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C538-52F5-44C3-B5E9-05464455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FEFF0-C63C-4BCA-9EC6-8CB17CCA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5EAF-2491-4904-AFFC-89AD138C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B2FB-DBDD-4A73-8AE4-A55E40E0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9487-7027-4DD9-B851-A9CD434F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00EC-53ED-4D3F-A9DF-D085530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ADB8-E392-4531-9690-0842068D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990-4C7E-4A34-A2EA-403D97DE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F907-F0D3-4A00-BFD7-70AB3208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61B7-96B4-4AB5-9B25-3F019C2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A0BB-96ED-4446-9D00-55714B9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4318-81A4-42E3-8A29-9AEE315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3ED0-D5AA-4723-9A6A-2A4A265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8416-2B20-4A53-B62B-46BD0E13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8641-2E68-4943-A17E-09D328ED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6A232-20C5-4EC2-B7D6-C86BF32A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7DC02-952C-4D33-9A66-D3009B31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488D1-1216-48A3-AAC1-802F451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1D3-A3B5-4F24-A040-18E6806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B84AC-4C36-4DBB-9F52-0B28ACA6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7A9D1-59C0-4E13-AC77-4C30FD71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3A5EA-C312-4DA0-A8A2-F5E77B3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01C50-6F5A-4378-8020-D61ACA9F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E209B-4003-4D3E-AF9E-A97F1E3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4DFA2-B985-483F-AAE8-EEA9974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127AB-FA99-4F15-A1C3-55DF5D0F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D9A03-59FE-40BF-B014-28CBE5A0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F61EC-2F3B-4CD6-9DFC-56156514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682-2409-4E71-A0A4-3BB153E8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F00-F2EA-4656-9252-12B5C3C3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A50-D38F-4763-AD2F-D538811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62C-1DC4-42B8-BBB8-158EC60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DEB-8BFE-44DF-AE7B-FAADB25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a4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B1E7-E502-4273-947E-28213953DA58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a4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99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5B5C-EFA7-4D82-BB18-1426D0F3C5D9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a4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54D-F97B-45B7-81B3-527271DFEBE5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a4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24A4-2A1C-4584-A9E1-06684E07ED75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20640"/>
            <a:ext cx="83059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0076"/>
                </a:solidFill>
                <a:latin typeface="Century Gothic"/>
              </a:rPr>
              <a:t>Цель:</a:t>
            </a:r>
            <a:endParaRPr b="0" lang="en-US" sz="3600" spc="-1" strike="noStrike">
              <a:solidFill>
                <a:srgbClr val="6b3d8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0076"/>
                </a:solidFill>
                <a:latin typeface="Century Gothic"/>
              </a:rPr>
              <a:t>повышение интереса учеников к  предмету, формирование  познавательной активности, кругозора</a:t>
            </a:r>
            <a:endParaRPr b="0" lang="en-US" sz="3600" spc="-1" strike="noStrike">
              <a:solidFill>
                <a:srgbClr val="6b3d8c"/>
              </a:solidFill>
              <a:latin typeface="Century Gothic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457200" y="622440"/>
            <a:ext cx="83088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5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3d8c"/>
                </a:solidFill>
                <a:latin typeface="Century Gothic"/>
              </a:rPr>
              <a:t>1 день – Решаем сказочные задачи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3d8c"/>
                </a:solidFill>
                <a:latin typeface="Century Gothic"/>
              </a:rPr>
              <a:t>2 день – Разгадываем математические ребусы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3d8c"/>
                </a:solidFill>
                <a:latin typeface="Century Gothic"/>
              </a:rPr>
              <a:t>3 день – Решаем веселые задачи на сообразительность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3d8c"/>
                </a:solidFill>
                <a:latin typeface="Century Gothic"/>
              </a:rPr>
              <a:t>4 день – Разгадываем математические кроссворды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3d8c"/>
                </a:solidFill>
                <a:latin typeface="Century Gothic"/>
              </a:rPr>
              <a:t>5 день – Проведение школьного тура Олимпиады по математике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b3d8c"/>
                </a:solidFill>
                <a:latin typeface="Century Gothic"/>
              </a:rPr>
              <a:t>6 день – Участие в Окружной Олимпиаде по математике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740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92280"/>
          </a:xfrm>
          <a:prstGeom prst="rect">
            <a:avLst/>
          </a:prstGeom>
          <a:ln w="0">
            <a:noFill/>
          </a:ln>
        </p:spPr>
      </p:pic>
      <p:pic>
        <p:nvPicPr>
          <p:cNvPr id="177" name="Объект 9" descr=""/>
          <p:cNvPicPr/>
          <p:nvPr/>
        </p:nvPicPr>
        <p:blipFill>
          <a:blip r:embed="rId2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10" descr=""/>
          <p:cNvPicPr/>
          <p:nvPr/>
        </p:nvPicPr>
        <p:blipFill>
          <a:blip r:embed="rId3"/>
          <a:stretch/>
        </p:blipFill>
        <p:spPr>
          <a:xfrm>
            <a:off x="4648320" y="2287440"/>
            <a:ext cx="405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262080" y="19080"/>
            <a:ext cx="8424720" cy="1590480"/>
          </a:xfrm>
          <a:prstGeom prst="rect">
            <a:avLst/>
          </a:prstGeom>
          <a:ln w="0">
            <a:noFill/>
          </a:ln>
        </p:spPr>
      </p:pic>
      <p:pic>
        <p:nvPicPr>
          <p:cNvPr id="180" name="Объект 4" descr=""/>
          <p:cNvPicPr/>
          <p:nvPr/>
        </p:nvPicPr>
        <p:blipFill>
          <a:blip r:embed="rId2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Объект 5" descr=""/>
          <p:cNvPicPr/>
          <p:nvPr/>
        </p:nvPicPr>
        <p:blipFill>
          <a:blip r:embed="rId3"/>
          <a:stretch/>
        </p:blipFill>
        <p:spPr>
          <a:xfrm>
            <a:off x="4648320" y="2287440"/>
            <a:ext cx="405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590480"/>
          </a:xfrm>
          <a:prstGeom prst="rect">
            <a:avLst/>
          </a:prstGeom>
          <a:ln w="0">
            <a:noFill/>
          </a:ln>
        </p:spPr>
      </p:pic>
      <p:pic>
        <p:nvPicPr>
          <p:cNvPr id="183" name="Объект 4" descr=""/>
          <p:cNvPicPr/>
          <p:nvPr/>
        </p:nvPicPr>
        <p:blipFill>
          <a:blip r:embed="rId2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4" name="Объект 5" descr=""/>
          <p:cNvPicPr/>
          <p:nvPr/>
        </p:nvPicPr>
        <p:blipFill>
          <a:blip r:embed="rId3"/>
          <a:stretch/>
        </p:blipFill>
        <p:spPr>
          <a:xfrm>
            <a:off x="4648320" y="2287440"/>
            <a:ext cx="405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4" descr=""/>
          <p:cNvPicPr/>
          <p:nvPr/>
        </p:nvPicPr>
        <p:blipFill>
          <a:blip r:embed="rId2"/>
          <a:stretch/>
        </p:blipFill>
        <p:spPr>
          <a:xfrm>
            <a:off x="262080" y="19080"/>
            <a:ext cx="8424720" cy="159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Объект 1"/>
          <p:cNvGraphicFramePr/>
          <p:nvPr/>
        </p:nvGraphicFramePr>
        <p:xfrm>
          <a:off x="1908000" y="1484280"/>
          <a:ext cx="3942000" cy="518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484280"/>
                    <a:ext cx="3942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262080" y="19080"/>
            <a:ext cx="84247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8:32:29Z</dcterms:created>
  <dc:creator>Марина</dc:creator>
  <dc:description/>
  <dc:language>en-US</dc:language>
  <cp:lastModifiedBy>user</cp:lastModifiedBy>
  <dcterms:modified xsi:type="dcterms:W3CDTF">2015-03-14T22:31:37Z</dcterms:modified>
  <cp:revision>17</cp:revision>
  <dc:subject/>
  <dc:title>Экологическая конференция  «Я люблю свою Москву»</dc:title>
</cp:coreProperties>
</file>