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4F04-57CA-4861-ADAF-3D36C515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9EC-4223-4FCD-A329-0BE5F616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788-4D2F-4B09-90E1-A221A800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95A-4A37-4898-8EDE-0856FD06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D87B-779A-4D89-B1A9-FF75C474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3184-9411-4B5A-8BAC-8EA16410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22D8-E2EA-42DD-9FC0-ADB86F8F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1D2D-997E-4365-8459-A861EDFC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7212-E743-4F75-A2E0-6C3D31EF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E449-25E1-415E-8989-36EBE91D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6805-C2C4-4831-8385-17637674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992-7B77-4CD4-94FA-81C28892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6165-94CB-4607-8878-44328561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ADB5-F9F1-4CED-8013-04FA8CCD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B91C-FEAB-4AED-9321-C681F0C8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C489-4BD5-4A25-A5E3-4F3DC0CB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CB55-E648-4F8D-BCBA-A0461B95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978-2872-43A0-8342-8BAD6EC3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5472-1D4F-4540-A86A-8515B05B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C9C-FA29-4113-92ED-9F823488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706-D9A6-4DA4-99BF-55036DAF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B73-96DD-46AA-9AFF-22A04698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2AC8-A264-49D8-A24A-5DBB5A35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398-85E0-4837-B7CC-DCFF8FA4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75F1-6C25-437C-9AEC-A54F9FF6E4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7562-A823-4900-BFF0-519329BF27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Отмена крепостного права в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едина И.А., учитель истор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ление Александр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I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(1855-1881 гг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2205000"/>
            <a:ext cx="4249800" cy="64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Основные направления внутрен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ли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3141720"/>
            <a:ext cx="2376360" cy="718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«Великие реформ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3933720"/>
            <a:ext cx="1079640" cy="129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тмена кре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ст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861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640" y="4149720"/>
            <a:ext cx="1368360" cy="1224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удеб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86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4292640"/>
            <a:ext cx="1297080" cy="1152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Зем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ефор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864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32720" y="3213000"/>
            <a:ext cx="1800000" cy="936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е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арод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бразован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863-1864 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00720" y="4508640"/>
            <a:ext cx="935280" cy="14414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Город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реформ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870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4508640"/>
            <a:ext cx="936720" cy="14414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форм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87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0364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56000" y="3500280"/>
            <a:ext cx="1295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9564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27640" y="3573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7640" y="3860640"/>
            <a:ext cx="1584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3860640"/>
            <a:ext cx="3589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чины отмены крепостного пра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ризис феодально-крепостнической системы хозяйствования (сокращение экспорта хлеба за границу, барщина и оброк достигли наивысшего предела, кризис дворянства, как сословия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циальная напряженность в стране и массовые крестьянские восстания за отмену крепостного прав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ражение России в Крымской войне, вызванное её военно-экономической отсталостью и общественное осознание необходимости реформ в стран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одготовка отмены крепостного пра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82600" y="2017800"/>
          <a:ext cx="7772400" cy="4235400"/>
        </p:xfrm>
        <a:graphic>
          <a:graphicData uri="http://schemas.openxmlformats.org/drawingml/2006/table">
            <a:tbl>
              <a:tblPr/>
              <a:tblGrid>
                <a:gridCol w="1517760"/>
                <a:gridCol w="625464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здан Секретный коми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скрипт Назимову об учреждении губернских комитетов для подготовки проектов крестьянской рефо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скрипт Игнатову об учреждении губернских комитетов для подготовки проектов крестьянской рефо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образование Секретного комитета в Главный комит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здание Редакционных комиссий при Главном комитете (Я.И. Ростовцев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суждение проекта в Главном комитете, затем в Государственном совет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02.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дписание «Манифеста» и «Положения о крестьянах, вышедших из крепостной зависимости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сновные положения крестьянской рефор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естьяне получили личную свободу и наделялись общегражданскими правам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естьяне освобождались с землей, размер которого зависел от региона России (черноземье, нечерноземье, степные губернии) был разный и колебался от 3 до 12 десяти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сновные положения крестьянской рефор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естьяне получали землю не безвозмезно, а должны были её выкупать у помещика. До совершения выкупной сделки крестьяне считались «временнообязанными» (нести барщину и оброк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0% выкупной суммы крестьянин должен был самостоятельно выплатить помещику единовременно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80% выкупной суммы давало в долгосрочный кредит государство на 49 лет под 6% годовы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естьяне в течение 9 лет (до 1870 г.) не могли отказаться от своего земельного надела и покинуть сельскую общину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уговая порук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Отрезки», «прирезки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еханизм реализации крестьянской рефор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реждался специальный институт мировых посредников, назначавшихся из дворян, которые в течение 2-х лет совместно с сельскими старостами составляли уставные грамоты, где определялись условия освобождения каждой конкретной крестьянской семь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8T18:00:01Z</dcterms:created>
  <dc:creator>user</dc:creator>
  <dc:description/>
  <dc:language>en-US</dc:language>
  <cp:lastModifiedBy>Федина </cp:lastModifiedBy>
  <dcterms:modified xsi:type="dcterms:W3CDTF">2015-03-16T07:33:53Z</dcterms:modified>
  <cp:revision>4</cp:revision>
  <dc:subject/>
  <dc:title>Отмена крепостного права в России</dc:title>
</cp:coreProperties>
</file>