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12D-2DBD-42DB-989C-030EB221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833-88F6-4E53-841F-51384B32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BAC-AB7E-40A0-8D27-8741171B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FFD-A228-4B55-B470-6CD50321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DB5-B17C-4AC6-AAE7-BBDA74FC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4CBC-B0B9-496D-90BE-7A77F10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897E-9A21-4139-820C-ED7030B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A45B-155D-4E88-B1E7-1619E223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1D3-15FF-4F6F-B809-9FBFC12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B25A-B308-49A4-9352-B90CC25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F3E1-B49B-4BAC-8B4F-6C13DBD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8AE-E0EC-4741-AA0D-A73C442B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C24D-FFF6-4DE7-9ED3-0104C4B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A40-9540-4D07-8CB2-B268093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5D6D-59BE-4834-BBB2-B9D02745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1169-D934-42D0-B487-D7E41A74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881C-DD8E-4958-8947-B36ED2F7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6B96-EE67-4752-9478-F27DD253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AFB2-F259-422F-B32C-423C834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C45D-3446-4FB7-81D6-D2DC4442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773F-CE40-4891-BC18-4A04C94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1595-BEFA-4A4E-BC3C-DCB367F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08B-0AA3-4629-8802-9627F054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2A37-A30A-437F-9142-451CE34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0A03-9B75-453E-9C89-2765D8E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3C46-9F8D-4663-B695-DE2E853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66F7-AF97-4BA1-A492-F905C11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BF8F-4B6E-448D-B936-2C569C5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A95A-6859-4DE4-9373-DEF4547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4F52-D292-47A9-8B9C-4BA7DD3A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2CE3-8DE3-4E9F-824F-B69FE7CF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662C-F935-4D44-AD03-2B4EE49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DE16-4CF2-4008-A618-17049F44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221-E9C3-4F5E-A84D-486EB8C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61EE-05A2-44EF-931B-2553BEE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7C91-E903-478E-939D-B81777D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EDED-060B-40D6-ACF5-39E548CB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95AD-AEAE-40F6-ABED-AB36875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F4DF-B9BD-448D-9DD2-3D39C537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C34C-C591-4CD5-83D4-0967BEF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1911-13A0-4F8E-88D5-E5823A07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C58F-0CB6-4F06-863B-52AECD52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73BC-4C90-4C0C-911A-9E394255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95CE4-B560-4C14-A9E6-4F54E563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E58-318A-459B-B73F-91C99628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0A4F-A65F-4C0D-80F0-F49759B4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77DD-B19B-471B-8E11-9BFC03AF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3D06-49E7-4A3A-A630-8C58370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DDB0-2F3E-49BF-A893-E6EE7E95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53A9-AAAB-4A01-B556-2AFF16C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B28A-C4A6-491F-8517-97AD629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7E64-B2EE-4943-8055-A9EC1F1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51F4-667E-402C-8005-A0EDA3C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613C-97FE-476A-90A7-276291F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F69AD-3F02-4652-9562-FC016220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122-828F-4CE6-90B8-D91A11D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7160-CE81-408C-8346-6D60C710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FF172-F9DD-4E1A-AC15-A160DF79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2802-CA55-4C4C-A4A0-55A6A3B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054B6-484C-403F-9F8F-704C0F50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7BBA-3FD4-4BAC-9FB1-2530394C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3902-6DC6-4FFE-BA0D-6BC9602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1925-EC3D-40AA-A3C2-FE478B4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E748-927D-4424-8B98-38E75CA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025D-DE27-4B36-8637-A885A055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0523-11FD-4C36-9E95-0509423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77E-F0B3-4529-B007-131D339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5CAF-335A-4582-89A7-25ABC49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CF22-544D-4F1F-9135-4CD087F2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9D87-7D46-485F-8FEC-B9DD0CF8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59D4-2961-4783-9361-B23F8DB2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01C9-83DD-44A9-8A6D-B4813BED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3B36-E7C0-421D-80B8-60704C8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289E-7665-4601-8E48-01BAF62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9A72-F15F-4A4B-AEA9-2106AE1B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8CB9-5ECC-48BB-8BD6-D149CFF3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D67F-F2C9-42FE-BC20-E69515F2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29A-6693-4DA9-B64E-2C7228E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A5F6A-3B8A-4951-956A-28E010A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6E73-B651-4019-999C-7290E98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8E566-EE95-4DA8-9D03-81ADD294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F608-5515-498A-830D-88A375AF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09F3-AF96-4FC6-BCA9-2C3A3E84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A9C-9A15-4476-B5FC-6EC224E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B93B-E7F7-4B8D-B5C5-9693346E9C2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33C-FA54-49E7-B058-3F1CC2E96C9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4748-EB3A-4732-94A3-6951DB37634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7705-A064-4C47-AA73-B1F9EFFAF5D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B9B3-DCE9-4837-8286-62B7F8E8BE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F0CA-D301-45B7-8DD1-F709927625A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E54-5E8C-47E4-90AC-E95CACD2352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одительское собра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ff"/>
                </a:solidFill>
                <a:latin typeface="Candara"/>
              </a:rPr>
              <a:t>Первая оценка и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ff"/>
                </a:solidFill>
                <a:latin typeface="Candara"/>
              </a:rPr>
              <a:t>как к ней относиться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ормы оцен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полугодие : 30 - 40 сл. в минут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полугодие: 40 -  50 сл. в минут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итературное чт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Как относиться к отметкам ребёнка?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Памятка для родителей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2d83f4"/>
                </a:solidFill>
                <a:latin typeface="Candara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83f4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2d83f4"/>
                </a:solidFill>
                <a:latin typeface="Candara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ndara"/>
              </a:rPr>
              <a:t>Как относиться к отметкам ребёнка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Как относиться к отметкам ребёнк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Как относиться к отметкам ребёнк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2d83f4"/>
                </a:solidFill>
                <a:latin typeface="Candara"/>
              </a:rPr>
              <a:t>Устраивайте праздники по случа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83f4"/>
                </a:solidFill>
                <a:latin typeface="Candara"/>
              </a:rPr>
              <a:t>     </a:t>
            </a:r>
            <a:r>
              <a:rPr b="0" i="1" lang="ru-RU" sz="2400" spc="-1" strike="noStrike">
                <a:solidFill>
                  <a:srgbClr val="2d83f4"/>
                </a:solidFill>
                <a:latin typeface="Candara"/>
              </a:rPr>
              <a:t>получения отличной отметк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83f4"/>
                </a:solidFill>
                <a:latin typeface="Candara"/>
              </a:rPr>
              <a:t>    </a:t>
            </a:r>
            <a:r>
              <a:rPr b="0" i="1" lang="ru-RU" sz="2400" spc="-1" strike="noStrike">
                <a:solidFill>
                  <a:srgbClr val="2d83f4"/>
                </a:solidFill>
                <a:latin typeface="Candara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ndara"/>
              </a:rPr>
              <a:t>Как относиться к отметкам ребёнк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Candara"/>
              </a:rPr>
              <a:t>Как помочь ребёнку                                                                  в выполнении  домашних заданий</a:t>
            </a: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80520" y="3802680"/>
            <a:ext cx="80010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Как правильно помогать ребёнку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37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38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38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40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40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ебенок должен готовить домашнее задание самостоятельно, но не бесконтрольно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итм выполнения домашнего задания  индивидуален для каждого ребенка.            Не следует ни торопиться, ни затягивать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«Как помочь ребенку                                           выполнить домашнее задание»</a:t>
            </a:r>
            <a:br>
              <a:rPr sz="49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ыполнение каждого задания необходимо мотивировать применением его в будущем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е следует отвлекать ребенка, умственный труд требует сосредоточенности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Диктан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1" lang="ru-RU" sz="3200" spc="-1" strike="noStrike">
                <a:solidFill>
                  <a:srgbClr val="2d83f4"/>
                </a:solidFill>
                <a:latin typeface="Candara"/>
              </a:rPr>
              <a:t>- нет ошибок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1" lang="ru-RU" sz="3200" spc="-1" strike="noStrike">
                <a:solidFill>
                  <a:srgbClr val="2d83f4"/>
                </a:solidFill>
                <a:latin typeface="Candara"/>
              </a:rPr>
              <a:t>- не более 2-х ошибок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3f4"/>
                </a:solidFill>
                <a:latin typeface="Candara"/>
              </a:rPr>
              <a:t>«3» - не более 4-х ошибок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3f4"/>
                </a:solidFill>
                <a:latin typeface="Candara"/>
              </a:rPr>
              <a:t>«2» - 5 и более ошибок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83f4"/>
                </a:solidFill>
                <a:latin typeface="Candara"/>
              </a:rPr>
              <a:t>Научить рёбёнка самостоятельно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83f4"/>
                </a:solidFill>
                <a:latin typeface="Candara"/>
              </a:rPr>
              <a:t>учитьс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83f4"/>
                </a:solidFill>
                <a:latin typeface="Candara"/>
              </a:rPr>
              <a:t>    </a:t>
            </a:r>
            <a:r>
              <a:rPr b="1" i="1" lang="ru-RU" sz="2400" spc="-1" strike="noStrike">
                <a:solidFill>
                  <a:srgbClr val="2d83f4"/>
                </a:solidFill>
                <a:latin typeface="Candara"/>
              </a:rPr>
              <a:t>научить добывать знания –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Ваша родительская обяза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8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ndara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ndara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Candara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6296"/>
                </a:solidFill>
                <a:latin typeface="Candara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ndara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ndara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Candara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ndara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ndara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ndara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3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4920" y="3931920"/>
            <a:ext cx="57913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73e87"/>
                    </a:gs>
                    <a:gs pos="100000">
                      <a:srgbClr val="31b6fd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73e87"/>
                  </a:gs>
                  <a:gs pos="100000">
                    <a:srgbClr val="31b6fd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ndara"/>
              </a:rPr>
              <a:t>Орфографическое задание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«5»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- задание выполнено без ошибок;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- задание выполнено полностью,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    </a:t>
            </a: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1 ошибка;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ndara"/>
              </a:rPr>
              <a:t>«3» </a:t>
            </a: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- не полостью выполнено задание или полностью выполнено, но 2 ошибки;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ndara"/>
              </a:rPr>
              <a:t>«2» </a:t>
            </a:r>
            <a:r>
              <a:rPr b="0" i="1" lang="ru-RU" sz="3000" spc="-1" strike="noStrike">
                <a:solidFill>
                  <a:srgbClr val="002060"/>
                </a:solidFill>
                <a:latin typeface="Candara"/>
              </a:rPr>
              <a:t>- невыполненное задание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Списывани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безукоризненно выполненная работа, в которой нет исправл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1-2 исправления или 1 ошибк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2-3 ошиб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4 ошибки и боле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Словарный диктан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работа без ошибок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1 ошибк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2 ошиб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- 3-5 ошиб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ЯЗЫ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Письменная работа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содержащая только приме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- вся работа выполнена безошибочно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и нет исправл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«3» - допущены 3-4 вычислительные ошиб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ndara"/>
              </a:rPr>
              <a:t>«2» - допущены 5 и более вычислительных ошиб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Письменная работа, содержащая только задач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все задачи решены и нет исправлений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нет ошибок в ходе решения задач, но допущены 1-2 вычислительные ошибк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ndara"/>
              </a:rPr>
              <a:t>«3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хотя бы одна ошибка в ходе решения задачи и 1 вычислительная ошибка </a:t>
            </a:r>
            <a:r>
              <a:rPr b="1" i="1" lang="ru-RU" sz="2200" spc="-1" strike="noStrike">
                <a:solidFill>
                  <a:srgbClr val="002060"/>
                </a:solidFill>
                <a:latin typeface="Candara"/>
              </a:rPr>
              <a:t>или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 если вычислительных ошибок нет, но не решена 1 задач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ndara"/>
              </a:rPr>
              <a:t>«2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допущена ошибка в ходе решения 2-х задач </a:t>
            </a:r>
            <a:r>
              <a:rPr b="1" i="1" lang="ru-RU" sz="2200" spc="-1" strike="noStrike">
                <a:solidFill>
                  <a:srgbClr val="002060"/>
                </a:solidFill>
                <a:latin typeface="Candara"/>
              </a:rPr>
              <a:t>или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допущена ошибка в ходе решения задачи и 2 вычислительные ошибк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Комбинированная работа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(1 задача, примеры и задание другого вида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вся работа выполнена безошибочно и нет исправлений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допущены 1-2 вычислительные ошибки, но не в задач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Candara"/>
              </a:rPr>
              <a:t>«3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допущены 3-4 вычислительные ошибки, но ход решения задачи верен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ndara"/>
              </a:rPr>
              <a:t>«2» 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200" spc="-1" strike="noStrike">
                <a:solidFill>
                  <a:srgbClr val="002060"/>
                </a:solidFill>
                <a:latin typeface="Candara"/>
              </a:rPr>
              <a:t>или</a:t>
            </a:r>
            <a:r>
              <a:rPr b="0" lang="ru-RU" sz="2200" spc="-1" strike="noStrike">
                <a:solidFill>
                  <a:srgbClr val="002060"/>
                </a:solidFill>
                <a:latin typeface="Candara"/>
              </a:rPr>
              <a:t> при решении задач и примеров допущено более 5 вычислительных ошибо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Математический  диктан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5» </a:t>
            </a: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«4» </a:t>
            </a: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 не выполнена 1/5 часть примеров от их общего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1b6fd"/>
                </a:solidFill>
                <a:latin typeface="Candara"/>
              </a:rPr>
              <a:t>«3» </a:t>
            </a: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 не выполнена 1/4 часть примеров от их общего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«2» - не выполнена 1/2 часть примеров от их общего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15-03-14T20:59:34Z</dcterms:modified>
  <cp:revision>58</cp:revision>
  <dc:subject/>
  <dc:title>PowerPoint Template</dc:title>
</cp:coreProperties>
</file>