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B481-5616-4A96-AC20-6FBAD1D6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4F41-74E6-4EB3-9C35-FAAF0AB6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030D-6C35-4AC8-BAFF-FB8782FB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98E3-9C7D-4557-802C-C828412C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37BF-A475-4529-89A0-1451CF59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5300-9DED-467C-AB58-A9FC9D3C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96B2-BA6F-465C-8347-A93685A8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4B8C-1180-4DE8-BFAD-9EFEEF1D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C549-0713-4400-935A-09373F3C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D038-3F61-4D49-A690-44F7EFBE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5296-E629-4CE4-B98A-172FFF0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ADDD-5CEC-4005-8992-0CFF9E68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9E2D-1210-4805-868E-9513FBA2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8815-23DF-43B9-B7CB-C3661BAD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BFB7-0707-4447-9084-F8BEFFF2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B4DD-397C-4732-A1E5-708BA159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562C-F9CD-4A5B-8ADE-768F208B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B633-5B0E-4DF4-A320-1C7F0777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D565-EE02-44AD-83D3-2ED088A2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F284-D301-4ACB-9ED3-B75B0803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7301-B000-4C4A-933A-901578A0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DA57-1CCF-4CA8-9838-CDF936F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DDD6-E658-42B5-8FEF-3484373F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AAD2-F529-4882-B037-65640FBD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E266-C906-4E6D-8746-70FA2900F4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56E3-3274-44DE-8E0A-A4231C54FF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2130480"/>
            <a:ext cx="845964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готовка к ОГЭ. Написание сочинения-рассуждения.  Часть 3.  15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492360" y="5734080"/>
            <a:ext cx="54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учитель русского языка и литературы МБОУ «СОШ № 12» г.Ноябрьск Фиалковская Вероник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ируем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Таким образом, одно из основных условий дружбы – отсутствие зависти и конкур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Таким образом,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одводя итог всему сказанному, хочется добавить, что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ледовательно, 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 – примерно  15  слов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Имейте в ви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ъясняя смысл слова, избегайте такой формулировки: Дружба – это когд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гументируя свой тезис, приведите 2 (два) примера-аргумента, подтверждающих Ваши рассуждения: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дин прим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аргумент приведите из прочитанного текста, 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тор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 Вашего жизненного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ъём сочинения не должен составлять менее 70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найте, что основные критерии оценивания Вашего сочинения таковы (по максимуму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3К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кование значения слова (дать определение и прокомментировать его) – 2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3К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примеров-аргументов (один – из текста, другой – из жизненного опыта) – 3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3К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ысловая цельность, речевая связность, последовательность (отсутствие логических ошибок, нарушений абзацного членения)  - 2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3К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зиционная стройность (нет ошибок в построении текста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ое количество баллов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ктическая грамотность письменной речи (изложение + сочинение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К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орфографических норм  (не более 1 ошибки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К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пунктуационных норм  (не более 2 ошибок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К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грамматических норм  (не более 1 ошибки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К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речевых норм  (не более 2 ошибок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К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ическая точность письменной речи (нет ошибок в изложении материала, в понимании и употреблении терминов)- 2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ое количество баллов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бщее количество баллов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ложение (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держание;  сжатие исходного текста несколькими способами (три способа: исключение, упрощение, обобщение);  смысловая цельность, речевая связность и последовательность изложени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)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ния 2-14 (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просы с вариантами ответов и д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):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  (по 1 баллу за каждое правильно выполненное зад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ь 3. Сочинение-рассуждение: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ческая грамотность письменной речи экзаменуемого и фактическая точность его письменной реч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тметка выставляется по пятибалльной шк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метка «2» -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 более 14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метка «3» -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 менее 15 и не более 24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метка «4» -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 менее 25 и не более 33 баллов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 этом за грамотность ученик должен набрать  не менее 4 баллов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метка «5» -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 менее 34 баллов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 этом за грамотность ученик должен набрать  не менее 6 баллов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учить структуру 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помнить речевые обороты (клиш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ить критерии оценивания работы (изложения, заданий второй части, сочине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ть определения слова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5e"/>
                </a:solidFill>
                <a:latin typeface="Arial"/>
              </a:rPr>
              <a:t>дружба, добро, человечность, самовоспитание, сострадание, сильный (человек), сила, красота, учитель, природа, смелый (человек), смелость, врач, отзывчивость, взаимопомощ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вести на каждое определение аргумент из собственного жизненного опы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мер задания. 15.3</a:t>
            </a:r>
            <a:br>
              <a:rPr sz="3200"/>
            </a:b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Вариант 1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(Типовые экзаменационные варианты. И.П. Цыбулько: стр. 5 -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50752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.3  Как вы понимаете значение слов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УЖБ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 Сформулируйте и прокомментируйте данное Вами определение. Напишите сочинение-рассуждение на тему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Что такое дружб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зяв в качестве тезиса данное Вами определение. Аргументируя свой тезис, приведите 2 (два) примера-аргумента, подтверждающих Ваши рассуждения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дин прим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ргумент приведите из прочитанного текста, 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тор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из Вашего жизнен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ём сочинения не должен составлять менее 7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зис. Даём определение сло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гумент 1: из прочитанного текста, подтверждающий расс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гумент 2: из собственного жизненного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те, в сочинении должно быть как минимум    3 (ТРИ) абзац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 – не менее 70 слов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 тезис. Даём определение слову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………………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. – это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……………. отношения, основанные прежде всего на ……………… и …………………..  . 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Докажу справедливость своих слов на конкретных примерах.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мерно 30-35 сл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!!! Объясняя смысл слова, избегайте такой формулировки: Дружба – это когд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 тезис. Даём определение слову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данном случае слову ДРУЖ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Дружба – это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близкие отношения, основанные прежде всего на взаимопонимании и искренности. Настоящий друг от души порадуется твоим успехам, и в его сердце никогда не будет зависти. 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Докажу справедливость своих слов на конкретных приме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мерно 30-35 сл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 тезис. Даём определение слову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 следующее нач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Что такое ……………? Отвечая на этот вопрос, невольно становишься перед выбором. С одной стороны – это ………. . С другой - ……………….. . Так и в этом тексте автор переносит нас в мир …………...   и …………… . Обратимся к текст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ть следующий абзац (приведение аргументов) можно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 первых же строчек начинаешь понимать, что писатель хочет поделиться с нами чем-то дорогим: « Цитата из текста» (предложение 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одим АРГУМЕНТ  из прочитанного текста, подтверждающий наши расс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ратимся к тексту……………………………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казываем ФИ автора текста).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нём повествуется о взаимоотношениях …………………………..  (предложения ……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казываем номера предлож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: 40-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одим аргумент (ПЕРВЫЙ АРГУМЕНТ)  из прочитанного текста, подтверждающий наши расс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ратимся к тексту Ю. Олеши. В нём повествуется о взаимоотношениях двух лицеистов – Пушкина и Кухельбекера. Вильгельм – настоящий друг, потому что он не только не обижается на адресованные ему строки, но и осознаёт гениальность юного поэта и не скрывает своего искреннего восхищения им (предложения 49-5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: 40-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одим ВТОРОЙ АРГУМЕНТ из собственного жизненного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У меня тоже есть друг. Его зовут Владимир. Он надёжный, понимающий, отзывчивый. Вот уже пять лет Владимир успешно занимается спортивной гимнастикой. Я всегда искренне радуюсь его победам и достижениям. Совсем недавно Владимир занял первое место в областных соревнованиях. Мне известно, каким трудом он добился этой победы. Я горжусь своим другом и дорожу нашими доверительными отно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:    примерно 55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7:25:01Z</dcterms:created>
  <dc:creator>Марийка</dc:creator>
  <dc:description/>
  <dc:language>en-US</dc:language>
  <cp:lastModifiedBy>Student</cp:lastModifiedBy>
  <dcterms:modified xsi:type="dcterms:W3CDTF">2014-12-04T03:14:23Z</dcterms:modified>
  <cp:revision>35</cp:revision>
  <dc:subject/>
  <dc:title>Составное глагольное сказуемое</dc:title>
</cp:coreProperties>
</file>