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559675" cy="106918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B48-4C24-4E22-9AF1-2022CBF9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DD3-6A9E-45B7-841E-0D15CB8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2CE-C264-4F07-B1F6-AB6BAFB1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9B8-90F2-4BB9-BA2C-F5692758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D3D-EEA2-49F7-AD6E-81F7CC1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5C1-1629-4D23-92E8-A56C29C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64E-6088-4447-93CD-0C0651C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084-E05C-4FF6-8D6F-1C57A02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1FC-AD83-441A-9BCD-48543B68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1EF-FB72-4075-8E01-8902167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F91-5C07-45DE-AB83-DA49A11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6FA-43DC-43E9-929B-556DB2B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5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A95C-8701-41FB-8E69-3E3509414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1601280"/>
            <a:ext cx="64087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Times New Roman"/>
              </a:rPr>
              <a:t>ПОРТФОЛИ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педагога-воспит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овиков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Ел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Викторов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5080" y="7434360"/>
            <a:ext cx="3753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6720" y="7651800"/>
            <a:ext cx="716472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овикова Елена Викторов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04.11.1975г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осковский Педагогический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Колледж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Стаж работы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  с 199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78000"/>
            <a:ext cx="5798880" cy="7056360"/>
          </a:xfrm>
          <a:prstGeom prst="rect">
            <a:avLst/>
          </a:prstGeom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5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Педагогическое кре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амое дорогое в жизни женщины это семья, очаровательные дети и любимая работ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А в совокупности это всё СЧАСТЬ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04:46Z</dcterms:created>
  <dc:creator>Еленка</dc:creator>
  <dc:description/>
  <dc:language>en-US</dc:language>
  <cp:lastModifiedBy>Еленка</cp:lastModifiedBy>
  <dcterms:modified xsi:type="dcterms:W3CDTF">2009-11-10T18:15:16Z</dcterms:modified>
  <cp:revision>6</cp:revision>
  <dc:subject/>
  <dc:title>Слайд 1</dc:title>
</cp:coreProperties>
</file>