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553-CC10-4BFB-AD69-7A3CD255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809-59C1-44E7-AABF-E1483143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668-FAEB-489C-9685-FE286F83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420-F523-409E-B19B-DD2B7893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82B-8C71-48ED-8676-40183741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A34-FB55-4A5D-81C2-75FCD9E0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662-77CA-415E-B6C4-41B7CD30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CFB-F043-42E4-8F92-2D0C34E6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735-4D02-47ED-A1B2-40405479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4C9-693E-4AFA-B35F-7D907AF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E4F-C3DA-4A8E-9C2C-CD24752D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B25-48CD-4641-9906-377C196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549-445D-4E62-B186-DD373A867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знавательный интерес учащихся МБОУ СОШ №6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-психолог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зьмина О.Е</a:t>
            </a: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944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425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77920" y="426960"/>
            <a:ext cx="4370400" cy="276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50920" y="3432240"/>
            <a:ext cx="4368600" cy="29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462560" y="2060640"/>
            <a:ext cx="4681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Классному руководителю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в классе определенную систему ценностных ориентаций, где приоритетным является достижения-образованности, здоровья, дружелюбия, ответств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ителям -предметни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снижать планку требований, тем самым помочь учащимся  повысить уровень мотивации, а также реально оценивать свои учебные возмож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ать мотивацию через использование  интерактивных  методов обучени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воей работе большей  частью  опираться на визуальное предоставления информац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иентировать учащихся на создание в классе повышенного интеллектуального фона; не отсекать тех, кто мешает учиться, а формировать в классе определенную систему ценностных ориентаций, где приоритетным является достижение образованности через мотивы содержания и мотив проце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ть психосберегающие технологии, учитывая  индивидуально-возрастные особенности детей, избегать чрезмерной нагруз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одить уроки с положительно-эмоциональным настроем. Состояние здоровья учителя во многом определяет эффективность их работы, если понижается способность к адекватному взаимодействию с детьми на эмоциональном уровне, то возникает эмоциональное отвержение со стороны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124000" y="549000"/>
            <a:ext cx="6562800" cy="557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. А. Сухомлинский говорил: «Страшная это опасность – безделье за партой; безделье шесть часов ежедневно, безделье месяцы и годы. Это развращает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. В. Остроградский пис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 …Скука является самой опасной отравой. Она действует беспрестанно; она растет, овладевает человеком и влечет его к наибольшим излишества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140004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08000" y="3519360"/>
            <a:ext cx="19429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едагогике наряду с термином «познавательный интерес» употребляется термин     «учебные интересы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96000" y="4292640"/>
            <a:ext cx="2982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ритерии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доминирующих  видов деятельности у 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ение интенсивности познавательного интер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ущие мотивы учащихся в процессе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иды деятельности школьни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смотреть телевизор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заниматься спорт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делать домашние зада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читать книг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ходить в школ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играть с ребятами на ул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решать разные задач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заниматься в кружк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ходить в ки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работать на урок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рисов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ездить за гор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играть в настольные игр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85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оявление интенсивности познавательного интере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6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оявление интенсивности познавательного интере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82436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едущие мотивы учащихся в процессе обу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ка «Изуче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учения 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ладш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М.Р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нзбург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ведущего мот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етодика изучени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учения». Методика 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укьянов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пределение мотивов учения у старшеклассников 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7:08:04Z</dcterms:created>
  <dc:creator>1</dc:creator>
  <dc:description/>
  <dc:language>en-US</dc:language>
  <cp:lastModifiedBy>1</cp:lastModifiedBy>
  <dcterms:modified xsi:type="dcterms:W3CDTF">2014-11-03T16:41:33Z</dcterms:modified>
  <cp:revision>4</cp:revision>
  <dc:subject/>
  <dc:title>Познавательный интерес учащихся МБОУ СОШ №69</dc:title>
</cp:coreProperties>
</file>