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wmf" ContentType="image/x-wmf"/>
  <Override PartName="/ppt/media/image3.wmf" ContentType="image/x-wmf"/>
  <Override PartName="/ppt/media/image9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DA1-3EB0-428C-A420-67256D05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17D-DE7E-4E6F-AB1C-7AFB3713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2EF19-D9F7-4751-BFC2-1A35F547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DE7C2-D693-44DB-AE7E-9E20BB7C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4E7C9-7F09-48A6-BD99-CABDBEA5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FCEF0-9A74-4399-867B-CBC7B290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FBEFD-882A-45D4-AF45-593FE7FB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1F5F8-ADC5-4920-90BA-40E9F9BA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0C14C-4215-4739-B200-25EEF35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86F00-8FF4-41BB-ACB3-88BF39EF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81534-9BA7-43D4-870A-CD7B83DC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5A0-E150-4C4C-9F51-179F596F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9E7-0B4B-46F2-8DE9-920356FF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42E6-A99C-4CF3-B3CE-6E6FB596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EB3C-ECC6-4E00-AFEF-163C70C9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DA43-849D-4BA1-9F87-1390FC83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8BD4-9BA1-4994-A4BD-73D82DB8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8597-79F2-4044-BE25-81C8DEE2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6B24-B5FF-4F99-98F7-BFF0ABB2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7BF0-B928-42C2-B370-9B1345A9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3A5-41DD-451C-9014-72E9F280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A474-3CE7-459C-81FF-D04EBB1C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75C9-A57D-4678-BD9F-E241E9B9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BD96-D850-4084-8ACB-2D039B02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CBEF-40F9-44DE-8BA6-2C1B9575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2D7B-6C26-4F95-988D-5AAF8DB6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9CF0-0B66-4144-8938-6EBA739A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9FE2-49A0-4D43-94C4-3C4DC53F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F6E2F-4E17-4A19-9C04-6A6D7CE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011AD-9BB4-4F14-9487-A33631CB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057E-5588-4EF0-B2F5-5F78F2DA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C6E-8F03-4214-9ED5-65828DAF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AC85-319D-4B3A-A03D-94B6A05A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6179F-D642-484E-A89D-61E377F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E6F6-0565-45B7-8582-E8B7E0F4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3E07-53C4-4DB0-9023-E7BCD7ED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1648-CED3-4605-9B8E-1B421130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F3E6-55F4-4BB3-936B-AC0C2BEA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0ECE7-E19E-41B3-BE96-FF20F4A8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7B396-B49F-4481-BA8C-3C174913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96FE-8E93-4095-99E4-0EB9EF58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1EC3-1C4B-4551-85F9-5EDC3BF0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D2B-B553-4E9E-80EB-9917A57F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52D53-D87B-42D3-81A3-B0DBCAA3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73C13-B563-4C48-946A-12812CD7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2865-DDD1-40FF-B73E-232A9F06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F671-8D35-41C7-987D-DFB5078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67A8-FDC5-4986-B69D-6F21371B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5A5D6-6C7C-46DA-A637-2D4470FB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A33D8-89DC-4386-B22E-F80202AD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814C-D7BA-4CC9-82E3-A2DCFCD9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E69F-36B2-4DB4-B743-5EA6C6A6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EFB40-7456-46D9-9303-08C8E722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7DF-002D-4807-BED8-3E9D0E93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99CAF-D9BF-4154-95E9-E505F5D6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3BD7E-6902-49A0-805D-B16B5B9B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2A194-6BC2-4FDA-8469-3BEED8B2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98681-F82D-449A-B124-15B15F72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C8C6D-BB5C-4F38-BC2E-A7EE75C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0A5A-48BE-4DC0-B0D5-63A0EBD5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4E74-458B-40D1-B568-37F99FC8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1E78-9E2A-413F-AA7A-6CB9E54D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5EA7-033E-4D31-A1A3-522933BB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8B573-CE17-4935-9954-5DAE99B7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BDA-B3F5-49CC-B16C-9F204DE5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C9AD5-9AA8-41E8-A13C-071A6D39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AC9C0-0B15-4279-B851-B70562A2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4CA0A-BBDC-42DF-92D6-E8AE7807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A74A5-6D3F-4CD6-AFBB-2E76151B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1F6F5-D16F-4FA4-AFF2-1C001E27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597D3-F7C1-48D8-90FA-4DFF8DE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046BA-3937-4359-8785-18634EAB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D8FE6-3D7A-4E08-B80D-4811FD14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B2F47-E994-4965-B2DD-797CE52C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91811-B606-4CDA-927F-F2CE2087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639-5E50-4AD8-86C1-816D0EBE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1A36D-AE03-49FE-ABF1-27E82F92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7C909-4DE3-4C27-9678-0B5A6081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03EA4-10CC-4F8B-863F-8ADC9134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9D484-85C5-4E35-B859-BC59A32F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0D56B-4DE5-471A-A8DE-449E8957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D8362-33E1-4318-A3A0-83993BDB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02539-227C-44E1-B6D6-8808147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ADEC3-10AF-44D0-9115-F777362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82BFC-0487-44CB-8586-1749E49C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967DD-7FBD-4E4A-8695-92082CB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3CC-7414-48C6-A036-17778D5C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9A1B0-D5A8-40A5-819E-6A57F5D5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3E885-3A84-459C-8960-CAB93F49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8C327-9F58-4D05-B700-716C9E75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8B537-86E0-47E3-B3B2-F8D788ED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FD7DD-AE96-4846-A90C-F0BEEAD6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1B310-67D0-4F34-9008-21CD5158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25455-9322-45EF-ACF9-DC02D03C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A665E-0591-4131-BBBB-DAC199E0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4C297-DC3E-44CD-81AA-EF1B5ECC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A0E92-4B6B-4A2A-8175-0E1D12F7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3B5-5086-49C9-8050-9052492B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8614-B2CE-4DFE-AEDA-DEDFB64A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F1E79-F728-4A6F-824F-2B47C4A8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B70F8-F6ED-40B6-A466-66B14CD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D1549-8B40-490A-A82E-B1FC7D0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7A1A5-DFD6-415D-BEC5-AB5AA1BA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4777F-F185-45B9-A781-BCD28EC2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94BD4-E69E-4841-8B4B-FDDA53BA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881D8-F83B-46E3-9436-BBB2EB48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BE3FE-F2AA-4386-B73A-6FBDB103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61D21-4E5C-47D6-AB5B-8EFFE2B9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66ff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37B2-17BF-4AE0-AAB9-7DB9DB6CB5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66ff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7F82-931B-483F-A51D-1DD30328FEEC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66ff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83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Arc 4"/>
            <p:cNvSpPr/>
            <p:nvPr/>
          </p:nvSpPr>
          <p:spPr>
            <a:xfrm>
              <a:off x="914400" y="539640"/>
              <a:ext cx="7391520" cy="1292400"/>
            </a:xfrm>
            <a:custGeom>
              <a:avLst/>
              <a:gdLst/>
              <a:ahLst/>
              <a:rect l="l" t="t" r="r" b="b"/>
              <a:pathLst>
                <a:path fill="none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</a:path>
                <a:path stroke="0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  <a:lnTo>
                    <a:pt x="21600" y="21600"/>
                  </a:lnTo>
                  <a:lnTo>
                    <a:pt x="0" y="21679"/>
                  </a:lnTo>
                  <a:close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0" y="1752480"/>
              <a:ext cx="9142560" cy="51040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0" y="1752480"/>
              <a:ext cx="9142560" cy="228600"/>
            </a:xfrm>
            <a:prstGeom prst="rect">
              <a:avLst/>
            </a:prstGeom>
            <a:solidFill>
              <a:srgbClr val="fcc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685656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fccea7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ccea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FC30-19BF-4E9D-9C3C-2024C837C6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66ff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A504-3E8A-4835-B3F0-9BD2A43F63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66ff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6278-567C-4E13-9D0F-713E50F5FBB9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66ff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59E9-2439-43B2-BBF6-F618857B59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66ff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E9F4-A032-4675-AAD9-A581842EF2BD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66ff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1752480"/>
            <a:ext cx="9142560" cy="1981440"/>
            <a:chOff x="0" y="1752480"/>
            <a:chExt cx="9142560" cy="1981440"/>
          </a:xfrm>
        </p:grpSpPr>
        <p:pic>
          <p:nvPicPr>
            <p:cNvPr id="295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Arc 4"/>
            <p:cNvSpPr/>
            <p:nvPr/>
          </p:nvSpPr>
          <p:spPr>
            <a:xfrm>
              <a:off x="914400" y="2292480"/>
              <a:ext cx="7391520" cy="1292040"/>
            </a:xfrm>
            <a:custGeom>
              <a:avLst/>
              <a:gdLst/>
              <a:ahLst/>
              <a:rect l="l" t="t" r="r" b="b"/>
              <a:pathLst>
                <a:path fill="none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</a:path>
                <a:path stroke="0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  <a:lnTo>
                    <a:pt x="21600" y="21600"/>
                  </a:lnTo>
                  <a:lnTo>
                    <a:pt x="0" y="21679"/>
                  </a:lnTo>
                  <a:close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5"/>
            <p:cNvGrpSpPr/>
            <p:nvPr/>
          </p:nvGrpSpPr>
          <p:grpSpPr>
            <a:xfrm>
              <a:off x="0" y="3505320"/>
              <a:ext cx="9142560" cy="228600"/>
              <a:chOff x="0" y="3505320"/>
              <a:chExt cx="9142560" cy="228600"/>
            </a:xfrm>
          </p:grpSpPr>
          <p:sp>
            <p:nvSpPr>
              <p:cNvPr id="298" name="Rectangle 6"/>
              <p:cNvSpPr/>
              <p:nvPr/>
            </p:nvSpPr>
            <p:spPr>
              <a:xfrm>
                <a:off x="0" y="3505320"/>
                <a:ext cx="9142560" cy="228600"/>
              </a:xfrm>
              <a:prstGeom prst="rect">
                <a:avLst/>
              </a:prstGeom>
              <a:solidFill>
                <a:srgbClr val="fcce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7"/>
              <p:cNvSpPr/>
              <p:nvPr/>
            </p:nvSpPr>
            <p:spPr>
              <a:xfrm>
                <a:off x="685656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fccea7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8"/>
              <p:cNvSpPr/>
              <p:nvPr/>
            </p:nvSpPr>
            <p:spPr>
              <a:xfrm>
                <a:off x="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ccea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69A1-AD32-46C1-93E0-76A8B3B02E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66ff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4050-77D1-4690-8B86-738905747866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5" descr="j0201746[1]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0099"/>
            </a:outerShdw>
          </a:effectLst>
        </p:spPr>
      </p:pic>
      <p:sp>
        <p:nvSpPr>
          <p:cNvPr id="384" name="WordArt 4"/>
          <p:cNvSpPr txBox="1"/>
          <p:nvPr/>
        </p:nvSpPr>
        <p:spPr>
          <a:xfrm>
            <a:off x="0" y="404640"/>
            <a:ext cx="874872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1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330099"/>
                  </a:outerShdw>
                </a:effectLst>
                <a:latin typeface="Bookman Old Style"/>
              </a:rPr>
              <a:t>Семинар-</a:t>
            </a:r>
            <a:endParaRPr b="1" i="1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330099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330099"/>
                  </a:outerShdw>
                </a:effectLst>
                <a:latin typeface="Bookman Old Style"/>
              </a:rPr>
              <a:t>Практикум</a:t>
            </a:r>
            <a:endParaRPr b="1" i="1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330099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330099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330099"/>
                  </a:outerShdw>
                </a:effectLst>
                <a:latin typeface="Bookman Old Style"/>
              </a:rPr>
              <a:t>«Психологические механизмы </a:t>
            </a:r>
            <a:endParaRPr b="1" i="1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330099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330099"/>
                  </a:outerShdw>
                </a:effectLst>
                <a:latin typeface="Bookman Old Style"/>
              </a:rPr>
              <a:t>        </a:t>
            </a:r>
            <a:r>
              <a:rPr b="1" i="1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330099"/>
                  </a:outerShdw>
                </a:effectLst>
                <a:latin typeface="Bookman Old Style"/>
              </a:rPr>
              <a:t>формирования ценностного отношения</a:t>
            </a:r>
            <a:endParaRPr b="1" i="1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330099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330099"/>
                  </a:outerShdw>
                </a:effectLst>
                <a:latin typeface="Bookman Old Style"/>
              </a:rPr>
              <a:t>детей и педагогов к здоровью  "</a:t>
            </a:r>
            <a:endParaRPr b="1" i="1" lang="en-US" sz="1800" spc="1" strike="noStrike">
              <a:ln w="2844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330099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2411280" y="404640"/>
            <a:ext cx="4824720" cy="2276640"/>
          </a:xfrm>
          <a:prstGeom prst="rect">
            <a:avLst/>
          </a:prstGeom>
          <a:noFill/>
          <a:ln w="0">
            <a:noFill/>
          </a:ln>
          <a:effectLst>
            <a:outerShdw dist="28496" dir="12374481" blurRad="0" rotWithShape="0">
              <a:srgbClr val="ffffff"/>
            </a:outerShdw>
          </a:effectLst>
        </p:spPr>
        <p:txBody>
          <a:bodyPr anchor="t">
            <a:normAutofit fontScale="72000"/>
          </a:bodyPr>
          <a:p>
            <a:pPr marL="4384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Bookman Old Style"/>
              </a:rPr>
              <a:t>-Болезни сердечно-сосудистой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384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Bookman Old Style"/>
              </a:rPr>
              <a:t>системы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384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Bookman Old Style"/>
              </a:rPr>
              <a:t>-Заболевания неврогенного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384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Bookman Old Style"/>
              </a:rPr>
              <a:t>характера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384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Bookman Old Style"/>
              </a:rPr>
              <a:t>-Нервные истощения, неврозы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384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Bookman Old Style"/>
              </a:rPr>
              <a:t>-«педагогические кризы»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384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Bookman Old Style"/>
              </a:rPr>
              <a:t>-«истощение»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4384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Bookman Old Style"/>
              </a:rPr>
              <a:t>-«сгорание»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WordArt 7"/>
          <p:cNvSpPr txBox="1"/>
          <p:nvPr/>
        </p:nvSpPr>
        <p:spPr>
          <a:xfrm>
            <a:off x="900000" y="5300640"/>
            <a:ext cx="763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73964" dir="12663565" blurRad="0" rotWithShape="0">
                    <a:srgbClr val="000000"/>
                  </a:outerShdw>
                </a:effectLst>
                <a:latin typeface="Arial"/>
              </a:rPr>
              <a:t>Истощение жизненных сил!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73964" dir="12663565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6" name="Picture 9" descr="j0432728[1]"/>
          <p:cNvPicPr/>
          <p:nvPr/>
        </p:nvPicPr>
        <p:blipFill>
          <a:blip r:embed="rId1"/>
          <a:stretch/>
        </p:blipFill>
        <p:spPr>
          <a:xfrm>
            <a:off x="3203640" y="3584520"/>
            <a:ext cx="2952720" cy="19684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47" name="Picture 10" descr="j0409694"/>
          <p:cNvPicPr/>
          <p:nvPr/>
        </p:nvPicPr>
        <p:blipFill>
          <a:blip r:embed="rId2"/>
          <a:stretch/>
        </p:blipFill>
        <p:spPr>
          <a:xfrm>
            <a:off x="7104240" y="260280"/>
            <a:ext cx="2039760" cy="306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48" name="Picture 11" descr="j0431223"/>
          <p:cNvPicPr/>
          <p:nvPr/>
        </p:nvPicPr>
        <p:blipFill>
          <a:blip r:embed="rId3">
            <a:lum bright="18000"/>
          </a:blip>
          <a:srcRect l="33825" t="9257" r="6171" b="7665"/>
          <a:stretch/>
        </p:blipFill>
        <p:spPr>
          <a:xfrm>
            <a:off x="0" y="260280"/>
            <a:ext cx="2216160" cy="306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7"/>
          <p:cNvSpPr txBox="1"/>
          <p:nvPr/>
        </p:nvSpPr>
        <p:spPr>
          <a:xfrm>
            <a:off x="558720" y="106200"/>
            <a:ext cx="8137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Прямоугольник 1"/>
          <p:cNvSpPr/>
          <p:nvPr/>
        </p:nvSpPr>
        <p:spPr>
          <a:xfrm>
            <a:off x="250920" y="24368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"/>
          <p:cNvSpPr/>
          <p:nvPr/>
        </p:nvSpPr>
        <p:spPr>
          <a:xfrm>
            <a:off x="250920" y="333360"/>
            <a:ext cx="88930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ченик – основной объект заботы каждого учите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оспитание и обучение без уважения к ученику – есть подавление. Школа хороша если в ней хорошо каждому ученику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 этом заключается основной принцип нашей педагогической деятельн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7"/>
          <p:cNvSpPr txBox="1"/>
          <p:nvPr/>
        </p:nvSpPr>
        <p:spPr>
          <a:xfrm>
            <a:off x="84240" y="1989000"/>
            <a:ext cx="8758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7"/>
          <p:cNvSpPr txBox="1"/>
          <p:nvPr/>
        </p:nvSpPr>
        <p:spPr>
          <a:xfrm>
            <a:off x="558720" y="106200"/>
            <a:ext cx="8137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Прямоугольник 1"/>
          <p:cNvSpPr/>
          <p:nvPr/>
        </p:nvSpPr>
        <p:spPr>
          <a:xfrm>
            <a:off x="165240" y="24494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WordArt 7"/>
          <p:cNvSpPr txBox="1"/>
          <p:nvPr/>
        </p:nvSpPr>
        <p:spPr>
          <a:xfrm>
            <a:off x="84240" y="333360"/>
            <a:ext cx="8758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Факторы воздействия учителя 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на психологическое состояние и здоровье детей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WordArt 207"/>
          <p:cNvSpPr txBox="1"/>
          <p:nvPr/>
        </p:nvSpPr>
        <p:spPr>
          <a:xfrm>
            <a:off x="324000" y="1628640"/>
            <a:ext cx="763092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Качества учителя, оказывающие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негативное влияние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(авторитарность, категоричность)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7" name="WordArt 207"/>
          <p:cNvSpPr txBox="1"/>
          <p:nvPr/>
        </p:nvSpPr>
        <p:spPr>
          <a:xfrm>
            <a:off x="309600" y="4149720"/>
            <a:ext cx="838656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Качества учителя, оказывающие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позитивное влияние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(эмпатия, умение слушать, толерантность)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7"/>
          <p:cNvSpPr txBox="1"/>
          <p:nvPr/>
        </p:nvSpPr>
        <p:spPr>
          <a:xfrm>
            <a:off x="558720" y="106200"/>
            <a:ext cx="8137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Прямоугольник 1"/>
          <p:cNvSpPr/>
          <p:nvPr/>
        </p:nvSpPr>
        <p:spPr>
          <a:xfrm>
            <a:off x="165240" y="24494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"/>
          <p:cNvSpPr/>
          <p:nvPr/>
        </p:nvSpPr>
        <p:spPr>
          <a:xfrm>
            <a:off x="558720" y="476280"/>
            <a:ext cx="756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эффективное использование учителем педагогических приемов и способов воздействия негативно влияет на психологическое здоровье ученика разными путя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повышенную утомляем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состояний стрес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восприят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худшения запомин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егативного отношения к обучен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дисципл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7"/>
          <p:cNvSpPr txBox="1"/>
          <p:nvPr/>
        </p:nvSpPr>
        <p:spPr>
          <a:xfrm>
            <a:off x="558720" y="106200"/>
            <a:ext cx="8137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Прямоугольник 1"/>
          <p:cNvSpPr/>
          <p:nvPr/>
        </p:nvSpPr>
        <p:spPr>
          <a:xfrm>
            <a:off x="165240" y="24494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2"/>
          <p:cNvSpPr/>
          <p:nvPr/>
        </p:nvSpPr>
        <p:spPr>
          <a:xfrm>
            <a:off x="468360" y="509760"/>
            <a:ext cx="80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дивидуализация  педагогических воздействий учителя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"/>
          <p:cNvSpPr/>
          <p:nvPr/>
        </p:nvSpPr>
        <p:spPr>
          <a:xfrm>
            <a:off x="558720" y="1863720"/>
            <a:ext cx="7829640" cy="39344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забывать об индивидуальном подходе к обучающимся. Грамотные педагоги при построении урока  всегда используют психолого-педагогические характеристики дет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j0408892"/>
          <p:cNvPicPr/>
          <p:nvPr/>
        </p:nvPicPr>
        <p:blipFill>
          <a:blip r:embed="rId1"/>
          <a:stretch/>
        </p:blipFill>
        <p:spPr>
          <a:xfrm>
            <a:off x="324000" y="2060640"/>
            <a:ext cx="148896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ff3300"/>
            </a:outerShdw>
          </a:effectLst>
        </p:spPr>
      </p:pic>
      <p:pic>
        <p:nvPicPr>
          <p:cNvPr id="466" name="Picture 6" descr="j0426540[1]"/>
          <p:cNvPicPr/>
          <p:nvPr/>
        </p:nvPicPr>
        <p:blipFill>
          <a:blip r:embed="rId2"/>
          <a:srcRect l="0" t="21131" r="0" b="0"/>
          <a:stretch/>
        </p:blipFill>
        <p:spPr>
          <a:xfrm>
            <a:off x="179280" y="260280"/>
            <a:ext cx="1800360" cy="141912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ff3300"/>
            </a:outerShdw>
          </a:effectLst>
        </p:spPr>
      </p:pic>
      <p:pic>
        <p:nvPicPr>
          <p:cNvPr id="467" name="Picture 9" descr="j0409045"/>
          <p:cNvPicPr/>
          <p:nvPr/>
        </p:nvPicPr>
        <p:blipFill>
          <a:blip r:embed="rId3"/>
          <a:srcRect l="6669" t="0" r="11082" b="0"/>
          <a:stretch/>
        </p:blipFill>
        <p:spPr>
          <a:xfrm>
            <a:off x="179280" y="4724280"/>
            <a:ext cx="1800360" cy="17496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ff3300"/>
            </a:outerShdw>
          </a:effectLst>
        </p:spPr>
      </p:pic>
      <p:sp>
        <p:nvSpPr>
          <p:cNvPr id="468" name="WordArt 10"/>
          <p:cNvSpPr txBox="1"/>
          <p:nvPr/>
        </p:nvSpPr>
        <p:spPr>
          <a:xfrm>
            <a:off x="3995640" y="1844640"/>
            <a:ext cx="3600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4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45929" dir="12828878" blurRad="0" rotWithShape="0">
                    <a:srgbClr val="ff3300">
                      <a:alpha val="80000"/>
                    </a:srgbClr>
                  </a:outerShdw>
                </a:effectLst>
                <a:latin typeface="Bookman Old Style"/>
              </a:rPr>
              <a:t>Учительское</a:t>
            </a:r>
            <a:endParaRPr b="1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45929" dir="12828878" blurRad="0" rotWithShape="0">
                  <a:srgbClr val="ff330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45929" dir="12828878" blurRad="0" rotWithShape="0">
                    <a:srgbClr val="ff3300">
                      <a:alpha val="80000"/>
                    </a:srgbClr>
                  </a:outerShdw>
                </a:effectLst>
                <a:latin typeface="Bookman Old Style"/>
              </a:rPr>
              <a:t>здоровье</a:t>
            </a:r>
            <a:endParaRPr b="1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45929" dir="12828878" blurRad="0" rotWithShape="0">
                  <a:srgbClr val="ff330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69" name="WordArt 11"/>
          <p:cNvSpPr txBox="1"/>
          <p:nvPr/>
        </p:nvSpPr>
        <p:spPr>
          <a:xfrm rot="1520400">
            <a:off x="1618920" y="981000"/>
            <a:ext cx="19447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4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Охрана</a:t>
            </a:r>
            <a:endParaRPr b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0" name="WordArt 12"/>
          <p:cNvSpPr txBox="1"/>
          <p:nvPr/>
        </p:nvSpPr>
        <p:spPr>
          <a:xfrm>
            <a:off x="1619280" y="2708280"/>
            <a:ext cx="1905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7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омощь</a:t>
            </a:r>
            <a:endParaRPr b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1" name="WordArt 13"/>
          <p:cNvSpPr txBox="1"/>
          <p:nvPr/>
        </p:nvSpPr>
        <p:spPr>
          <a:xfrm rot="20793000">
            <a:off x="1908000" y="4508640"/>
            <a:ext cx="19051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оддержка</a:t>
            </a:r>
            <a:endParaRPr b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BD17226_"/>
          <p:cNvPicPr/>
          <p:nvPr/>
        </p:nvPicPr>
        <p:blipFill>
          <a:blip r:embed="rId1"/>
          <a:srcRect l="0" t="0" r="25168" b="0"/>
          <a:stretch/>
        </p:blipFill>
        <p:spPr>
          <a:xfrm flipH="1">
            <a:off x="4858920" y="1844640"/>
            <a:ext cx="3816360" cy="4753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33399">
                <a:alpha val="50000"/>
              </a:srgbClr>
            </a:outerShdw>
          </a:effectLst>
        </p:spPr>
      </p:pic>
      <p:pic>
        <p:nvPicPr>
          <p:cNvPr id="473" name="Picture 4" descr="BD17226_"/>
          <p:cNvPicPr/>
          <p:nvPr/>
        </p:nvPicPr>
        <p:blipFill>
          <a:blip r:embed="rId2"/>
          <a:srcRect l="5269" t="0" r="0" b="0"/>
          <a:stretch/>
        </p:blipFill>
        <p:spPr>
          <a:xfrm flipH="1">
            <a:off x="324000" y="1844640"/>
            <a:ext cx="4968720" cy="4753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474" name="AutoShape 7"/>
          <p:cNvSpPr/>
          <p:nvPr/>
        </p:nvSpPr>
        <p:spPr>
          <a:xfrm>
            <a:off x="468360" y="549360"/>
            <a:ext cx="1079280" cy="280836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497160 h 2808360"/>
              <a:gd name="textAreaBottom" fmla="*/ 2006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52" stAng="-5400000" swAng="-5400000"/>
                <a:lnTo>
                  <a:pt x="0" y="11606"/>
                </a:lnTo>
                <a:arcTo wR="21600" hR="7652" stAng="10800000" swAng="-2703316"/>
                <a:lnTo>
                  <a:pt x="14400" y="21162"/>
                </a:lnTo>
                <a:lnTo>
                  <a:pt x="21600" y="17280"/>
                </a:lnTo>
                <a:lnTo>
                  <a:pt x="14400" y="12522"/>
                </a:lnTo>
                <a:lnTo>
                  <a:pt x="14400" y="14865"/>
                </a:lnTo>
                <a:arcTo wR="21600" hR="7652" stAng="8096684" swAng="2378576"/>
                <a:lnTo>
                  <a:pt x="733" y="9629"/>
                </a:lnTo>
                <a:arcTo wR="21600" hR="7652" stAng="-10475260" swAng="5075260"/>
                <a:close/>
              </a:path>
              <a:path fill="darkenLess" w="21600" h="21600">
                <a:moveTo>
                  <a:pt x="21600" y="0"/>
                </a:moveTo>
                <a:arcTo wR="21600" hR="7652" stAng="-5400000" swAng="-5400000"/>
                <a:lnTo>
                  <a:pt x="0" y="7652"/>
                </a:lnTo>
                <a:arcTo wR="21600" hR="7652" stAng="10800000" swAng="-324740"/>
                <a:lnTo>
                  <a:pt x="733" y="9629"/>
                </a:lnTo>
                <a:arcTo wR="21600" hR="7652" stAng="-10475260" swAng="507526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ff9900"/>
              </a:gs>
              <a:gs pos="100000">
                <a:srgbClr val="33cc33"/>
              </a:gs>
            </a:gsLst>
            <a:lin ang="189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8028000" y="476280"/>
            <a:ext cx="865080" cy="2736720"/>
          </a:xfrm>
          <a:custGeom>
            <a:avLst/>
            <a:gdLst>
              <a:gd name="textAreaLeft" fmla="*/ 115920 w 865080"/>
              <a:gd name="textAreaRight" fmla="*/ 749160 w 865080"/>
              <a:gd name="textAreaTop" fmla="*/ 478800 h 2736720"/>
              <a:gd name="textAreaBottom" fmla="*/ 19843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ff9900"/>
              </a:gs>
              <a:gs pos="100000">
                <a:srgbClr val="33cc33"/>
              </a:gs>
            </a:gsLst>
            <a:lin ang="189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WordArt 9"/>
          <p:cNvSpPr txBox="1"/>
          <p:nvPr/>
        </p:nvSpPr>
        <p:spPr>
          <a:xfrm>
            <a:off x="1187280" y="260280"/>
            <a:ext cx="7417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7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63504" dir="13983909" blurRad="0" rotWithShape="0">
                    <a:srgbClr val="ffffff"/>
                  </a:outerShdw>
                </a:effectLst>
                <a:latin typeface="Arial Black"/>
              </a:rPr>
              <a:t>Практикум</a:t>
            </a:r>
            <a:endParaRPr b="1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63504" dir="13983909" blurRad="0" rotWithShape="0">
                  <a:srgbClr val="ffff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1547640" y="2565360"/>
            <a:ext cx="684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Приемы релакс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Дыхатель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Психотехники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еодоление стрессов, усталости, напря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хранение психологического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99"/>
                </a:solidFill>
                <a:latin typeface="Arial"/>
              </a:rPr>
              <a:t>Опрос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WordArt 7"/>
          <p:cNvSpPr txBox="1"/>
          <p:nvPr/>
        </p:nvSpPr>
        <p:spPr>
          <a:xfrm>
            <a:off x="558720" y="106200"/>
            <a:ext cx="8137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Прямоугольник 1"/>
          <p:cNvSpPr/>
          <p:nvPr/>
        </p:nvSpPr>
        <p:spPr>
          <a:xfrm>
            <a:off x="165240" y="24494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"/>
          <p:cNvSpPr/>
          <p:nvPr/>
        </p:nvSpPr>
        <p:spPr>
          <a:xfrm>
            <a:off x="558720" y="62064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стирование «В какой мере вы подвержены стрессам?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Обобщаются результаты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3"/>
          <p:cNvSpPr/>
          <p:nvPr/>
        </p:nvSpPr>
        <p:spPr>
          <a:xfrm>
            <a:off x="558720" y="228132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ветьте на вопросы. За каждый утвердительный ответ начислите себе 1 балл, за каждый отрицательный – 5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"/>
          <p:cNvSpPr/>
          <p:nvPr/>
        </p:nvSpPr>
        <p:spPr>
          <a:xfrm>
            <a:off x="487440" y="414972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е 30 оч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ообще не поддаетесь стресс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–49 оч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егко относитесь к стрессовым ситуация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–74 оч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 трудом справляетесь с ним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75 оч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чтобы выйти из стресса, вам требуется помощь друзей или медиц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WordArt 7"/>
          <p:cNvSpPr txBox="1"/>
          <p:nvPr/>
        </p:nvSpPr>
        <p:spPr>
          <a:xfrm>
            <a:off x="558720" y="106200"/>
            <a:ext cx="8137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Прямоугольник 1"/>
          <p:cNvSpPr/>
          <p:nvPr/>
        </p:nvSpPr>
        <p:spPr>
          <a:xfrm>
            <a:off x="165240" y="24494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"/>
          <p:cNvSpPr/>
          <p:nvPr/>
        </p:nvSpPr>
        <p:spPr>
          <a:xfrm>
            <a:off x="558720" y="620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"/>
          <p:cNvSpPr/>
          <p:nvPr/>
        </p:nvSpPr>
        <p:spPr>
          <a:xfrm>
            <a:off x="615960" y="120024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м работу в группах. Вам необходимо разработать и записа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Правила здорового педагога»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, дорогие коллеги, вам было проще, предлагае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Советы в помощь педагогу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5"/>
          <p:cNvSpPr/>
          <p:nvPr/>
        </p:nvSpPr>
        <p:spPr>
          <a:xfrm>
            <a:off x="684360" y="4724280"/>
            <a:ext cx="77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аждой группе раздаются листы бумаги и маркеры, «Советы в помощь педагогу». Время работы – 1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755280" y="836280"/>
            <a:ext cx="7777080" cy="5545080"/>
          </a:xfrm>
          <a:prstGeom prst="rect">
            <a:avLst/>
          </a:prstGeom>
          <a:noFill/>
          <a:ln w="0">
            <a:noFill/>
          </a:ln>
          <a:effectLst>
            <a:outerShdw dist="52300" dir="11636436" blurRad="0" rotWithShape="0">
              <a:srgbClr val="ffff99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Bookman Old Style"/>
              </a:rPr>
              <a:t>Саморегуляция -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Bookman Old Style"/>
              </a:rPr>
              <a:t>управление свои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Bookman Old Style"/>
              </a:rPr>
              <a:t>психоэмоциональны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Bookman Old Style"/>
              </a:rPr>
              <a:t>состоянием, путе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Bookman Old Style"/>
              </a:rPr>
              <a:t>воздействия человека н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Bookman Old Style"/>
              </a:rPr>
              <a:t>самого себя с помощью сл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Bookman Old Style"/>
              </a:rPr>
              <a:t>мысленных образ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Bookman Old Style"/>
              </a:rPr>
              <a:t>управления мышечным тонусом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Bookman Old Style"/>
              </a:rPr>
              <a:t>дыханием.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Bookman Old Style"/>
              </a:rPr>
              <a:t>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" descr="j039921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43640" y="765000"/>
            <a:ext cx="2160720" cy="216072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53753" dir="2700000" blurRad="0" rotWithShape="0">
              <a:srgbClr val="0066ff"/>
            </a:outerShdw>
          </a:effectLst>
        </p:spPr>
      </p:pic>
    </p:spTree>
  </p:cSld>
  <p:transition>
    <p:comb dir="horz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3"/>
          <p:cNvSpPr/>
          <p:nvPr/>
        </p:nvSpPr>
        <p:spPr>
          <a:xfrm>
            <a:off x="539640" y="183816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путей и способов формирования культуры здоровья школьников, резервов и возможностей совершенствования работы в данн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ся с факторами воздействия учителя на психологическое состояние и здоровье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вать у педагогов чувство коллективизма, чувство единства, сплоч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читься технике релакс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WordArt 16"/>
          <p:cNvSpPr txBox="1"/>
          <p:nvPr/>
        </p:nvSpPr>
        <p:spPr>
          <a:xfrm>
            <a:off x="1728720" y="466560"/>
            <a:ext cx="594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+mj-lt"/>
              </a:rPr>
              <a:t>Цели семинар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Trebuchet MS"/>
              </a:rPr>
              <a:t>Естественные способы регуляции организм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79640" y="1773360"/>
            <a:ext cx="61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rebuchet MS"/>
              </a:rPr>
              <a:t>Длительный сон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Trebuchet MS"/>
              </a:rPr>
              <a:t>Вкусная ед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rebuchet MS"/>
              </a:rPr>
              <a:t>Общение с природой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1" i="1" lang="ru-RU" sz="2800" spc="-1" strike="noStrike">
                <a:solidFill>
                  <a:srgbClr val="000066"/>
                </a:solidFill>
                <a:latin typeface="Trebuchet MS"/>
              </a:rPr>
              <a:t>и животны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spcBef>
                <a:spcPts val="700"/>
              </a:spcBef>
              <a:buClr>
                <a:srgbClr val="6600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rebuchet MS"/>
              </a:rPr>
              <a:t>Бан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rebuchet MS"/>
              </a:rPr>
              <a:t>Массаж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spcBef>
                <a:spcPts val="700"/>
              </a:spcBef>
              <a:buClr>
                <a:srgbClr val="6600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rebuchet MS"/>
              </a:rPr>
              <a:t>Движение, танцы, музыка</a:t>
            </a:r>
            <a:r>
              <a:rPr b="1" i="1" lang="ru-RU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rebuchet MS"/>
              </a:rPr>
              <a:t>и многое друго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0000"/>
                </a:solidFill>
                <a:uFillTx/>
                <a:latin typeface="Arial Black"/>
              </a:rPr>
              <a:t>   </a:t>
            </a:r>
            <a:r>
              <a:rPr b="0" lang="ru-RU" sz="3600" spc="-1" strike="noStrike" u="sng">
                <a:solidFill>
                  <a:srgbClr val="cc0000"/>
                </a:solidFill>
                <a:uFillTx/>
                <a:latin typeface="Arial Black"/>
              </a:rPr>
              <a:t>Приемы саморегуляции </a:t>
            </a:r>
            <a:r>
              <a:rPr b="0" lang="ru-RU" sz="3800" spc="-1" strike="noStrike" u="sng">
                <a:solidFill>
                  <a:srgbClr val="cc0000"/>
                </a:solidFill>
                <a:uFillTx/>
                <a:latin typeface="Arial Black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81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66"/>
                </a:solidFill>
                <a:latin typeface="Bookman Old Style"/>
              </a:rPr>
              <a:t>смех, улыбка, юмор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00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0033"/>
                </a:solidFill>
                <a:latin typeface="Bookman Old Style"/>
              </a:rPr>
              <a:t>размышления о хорошем, приятном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66"/>
                </a:solidFill>
                <a:latin typeface="Bookman Old Style"/>
              </a:rPr>
              <a:t>различные движения типа потягивания, расслабления мышц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00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0033"/>
                </a:solidFill>
                <a:latin typeface="Bookman Old Style"/>
              </a:rPr>
              <a:t>наблюдение за пейзажем за окном; вдыхание свежего воздуха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66"/>
                </a:solidFill>
                <a:latin typeface="Bookman Old Style"/>
              </a:rPr>
              <a:t>рассматривание цветов в помещении, фотографий, других приятных или дорогих для человека вещей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00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0033"/>
                </a:solidFill>
                <a:latin typeface="Bookman Old Style"/>
              </a:rPr>
              <a:t>мысленное обращение к высшим силам (Богу, Вселенной, великой идее)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66"/>
                </a:solidFill>
                <a:latin typeface="Bookman Old Style"/>
              </a:rPr>
              <a:t>«купание» (реальное или мысленное) в солнечных лучах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00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0033"/>
                </a:solidFill>
                <a:latin typeface="Bookman Old Style"/>
              </a:rPr>
              <a:t>чтение стихов; афоризмов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66"/>
                </a:solidFill>
                <a:latin typeface="Bookman Old Style"/>
              </a:rPr>
              <a:t>высказывание похвалы, комплиментов кому-либо просто так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mb dir="horz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0000"/>
                </a:solidFill>
                <a:uFillTx/>
                <a:latin typeface="Arial Black"/>
              </a:rPr>
              <a:t>   </a:t>
            </a:r>
            <a:r>
              <a:rPr b="0" lang="ru-RU" sz="4000" spc="-1" strike="noStrike" u="sng">
                <a:solidFill>
                  <a:srgbClr val="cc0000"/>
                </a:solidFill>
                <a:uFillTx/>
                <a:latin typeface="Arial Black"/>
              </a:rPr>
              <a:t>Управление дыханием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0000"/>
                </a:solidFill>
                <a:latin typeface="Bookman Old Style"/>
              </a:rPr>
              <a:t>«Передышка»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Вдох – 5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Пауза (1 сек)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Выдох – 7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Пауза (1 сек)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 u="sng">
                <a:solidFill>
                  <a:srgbClr val="ff0000"/>
                </a:solidFill>
                <a:uFillTx/>
                <a:latin typeface="Bookman Old Style"/>
              </a:rPr>
              <a:t>5 минут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 u="sng">
                <a:solidFill>
                  <a:srgbClr val="ff0000"/>
                </a:solidFill>
                <a:uFillTx/>
                <a:latin typeface="Bookman Old Style"/>
              </a:rPr>
              <a:t>Дыхание 7-11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Вдох – 7 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Пауза (1 сек)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Выдох – 11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Пауза (1 сек)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7" name="02 Piano Sonata No. 14 in C Minor Op. 27 No. 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0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1" dur="34322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066920" y="259920"/>
            <a:ext cx="482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0000"/>
                </a:solidFill>
                <a:uFillTx/>
                <a:latin typeface="Arial Black"/>
              </a:rPr>
              <a:t>   </a:t>
            </a:r>
            <a:r>
              <a:rPr b="0" lang="ru-RU" sz="3600" spc="-1" strike="noStrike" u="sng">
                <a:solidFill>
                  <a:srgbClr val="cc0000"/>
                </a:solidFill>
                <a:uFillTx/>
                <a:latin typeface="Arial Black"/>
              </a:rPr>
              <a:t>Саморегуляция </a:t>
            </a:r>
            <a:br>
              <a:rPr sz="3600"/>
            </a:br>
            <a:r>
              <a:rPr b="0" lang="ru-RU" sz="3600" spc="-1" strike="noStrike" u="sng">
                <a:solidFill>
                  <a:srgbClr val="cc0000"/>
                </a:solidFill>
                <a:uFillTx/>
                <a:latin typeface="Arial Black"/>
              </a:rPr>
              <a:t>при помощи слов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681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0000"/>
                </a:solidFill>
                <a:latin typeface="Bookman Old Style"/>
              </a:rPr>
              <a:t>«Простые утверждения»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«Я образец выдержки и самообладания!»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16000" y="2565360"/>
            <a:ext cx="403884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0000"/>
                </a:solidFill>
                <a:latin typeface="Bookman Old Style"/>
              </a:rPr>
              <a:t>«Похвала»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«Молодец!»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«Умница!»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66"/>
                </a:solidFill>
                <a:latin typeface="Bookman Old Style"/>
              </a:rPr>
              <a:t>«Здорово получилось!»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mb dir="horz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Прямоугольник 1" descr=""/>
          <p:cNvPicPr/>
          <p:nvPr/>
        </p:nvPicPr>
        <p:blipFill>
          <a:blip r:embed="rId1"/>
          <a:stretch/>
        </p:blipFill>
        <p:spPr>
          <a:xfrm>
            <a:off x="384120" y="255600"/>
            <a:ext cx="8680680" cy="7742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0000"/>
                </a:solidFill>
                <a:uFillTx/>
                <a:latin typeface="Arial Black"/>
              </a:rPr>
              <a:t>Отвлечение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Bookman Old Style"/>
              </a:rPr>
              <a:t>Записать 10 наименований предметов или вещей, о которых вы мечтает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33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33"/>
                </a:solidFill>
                <a:latin typeface="Bookman Old Style"/>
              </a:rPr>
              <a:t>Можно медленно сосчитать предметы, эмоционально окрашенные нейтрально, например, листья на цветке, буквы на странице и т. д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1" i="1" lang="ru-RU" sz="2600" spc="-1" strike="noStrike">
                <a:solidFill>
                  <a:srgbClr val="000066"/>
                </a:solidFill>
                <a:latin typeface="Bookman Old Style"/>
              </a:rPr>
              <a:t>Потренировать свою память и вспомните 20 осуществленных вами вчера де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4. </a:t>
            </a:r>
            <a:r>
              <a:rPr b="1" i="1" lang="ru-RU" sz="2600" spc="-1" strike="noStrike">
                <a:solidFill>
                  <a:srgbClr val="660033"/>
                </a:solidFill>
                <a:latin typeface="Bookman Old Style"/>
              </a:rPr>
              <a:t>В течение 2 минут займитесь перечислением качеств, которые вам в себе нравят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mb dir="horz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j0322776[1]"/>
          <p:cNvPicPr/>
          <p:nvPr/>
        </p:nvPicPr>
        <p:blipFill>
          <a:blip r:embed="rId1"/>
          <a:stretch/>
        </p:blipFill>
        <p:spPr>
          <a:xfrm>
            <a:off x="2843280" y="1484280"/>
            <a:ext cx="3133800" cy="4751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cccff"/>
            </a:outerShdw>
          </a:effectLst>
        </p:spPr>
      </p:pic>
      <p:pic>
        <p:nvPicPr>
          <p:cNvPr id="505" name="Picture 5" descr="j0428257[1]"/>
          <p:cNvPicPr/>
          <p:nvPr/>
        </p:nvPicPr>
        <p:blipFill>
          <a:blip r:embed="rId2"/>
          <a:stretch/>
        </p:blipFill>
        <p:spPr>
          <a:xfrm>
            <a:off x="539640" y="3716280"/>
            <a:ext cx="2035440" cy="1843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ff00"/>
            </a:outerShdw>
          </a:effectLst>
        </p:spPr>
      </p:pic>
      <p:pic>
        <p:nvPicPr>
          <p:cNvPr id="506" name="Picture 6" descr="j0428257[1]"/>
          <p:cNvPicPr/>
          <p:nvPr/>
        </p:nvPicPr>
        <p:blipFill>
          <a:blip r:embed="rId3"/>
          <a:stretch/>
        </p:blipFill>
        <p:spPr>
          <a:xfrm flipH="1">
            <a:off x="6516720" y="3716280"/>
            <a:ext cx="2303280" cy="2086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3399ff"/>
            </a:outerShdw>
          </a:effectLst>
        </p:spPr>
      </p:pic>
      <p:pic>
        <p:nvPicPr>
          <p:cNvPr id="507" name="Picture 7" descr="j0428257[1]"/>
          <p:cNvPicPr/>
          <p:nvPr/>
        </p:nvPicPr>
        <p:blipFill>
          <a:blip r:embed="rId4"/>
          <a:stretch/>
        </p:blipFill>
        <p:spPr>
          <a:xfrm flipH="1">
            <a:off x="6587640" y="476280"/>
            <a:ext cx="2087640" cy="1890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ff00"/>
            </a:outerShdw>
          </a:effectLst>
        </p:spPr>
      </p:pic>
      <p:pic>
        <p:nvPicPr>
          <p:cNvPr id="508" name="Picture 9" descr="j0428257[1]"/>
          <p:cNvPicPr/>
          <p:nvPr/>
        </p:nvPicPr>
        <p:blipFill>
          <a:blip r:embed="rId5"/>
          <a:stretch/>
        </p:blipFill>
        <p:spPr>
          <a:xfrm>
            <a:off x="684360" y="476280"/>
            <a:ext cx="2035080" cy="1843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33cc">
                <a:alpha val="50000"/>
              </a:srgbClr>
            </a:outerShdw>
          </a:effectLst>
        </p:spPr>
      </p:pic>
      <p:sp>
        <p:nvSpPr>
          <p:cNvPr id="509" name="WordArt 11"/>
          <p:cNvSpPr txBox="1"/>
          <p:nvPr/>
        </p:nvSpPr>
        <p:spPr>
          <a:xfrm>
            <a:off x="3059280" y="33336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Музык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10" name="641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5" dur="170058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MIL65050"/>
          <p:cNvPicPr/>
          <p:nvPr/>
        </p:nvPicPr>
        <p:blipFill>
          <a:blip r:embed="rId1"/>
          <a:stretch/>
        </p:blipFill>
        <p:spPr>
          <a:xfrm>
            <a:off x="0" y="0"/>
            <a:ext cx="4859280" cy="38894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MIL65041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MIL65038"/>
          <p:cNvPicPr/>
          <p:nvPr/>
        </p:nvPicPr>
        <p:blipFill>
          <a:blip r:embed="rId3"/>
          <a:stretch/>
        </p:blipFill>
        <p:spPr>
          <a:xfrm>
            <a:off x="3059280" y="0"/>
            <a:ext cx="3457440" cy="3645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MIL65043"/>
          <p:cNvPicPr/>
          <p:nvPr/>
        </p:nvPicPr>
        <p:blipFill>
          <a:blip r:embed="rId4"/>
          <a:stretch/>
        </p:blipFill>
        <p:spPr>
          <a:xfrm>
            <a:off x="5580000" y="3645000"/>
            <a:ext cx="3564000" cy="3222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MIL65027"/>
          <p:cNvPicPr/>
          <p:nvPr/>
        </p:nvPicPr>
        <p:blipFill>
          <a:blip r:embed="rId5"/>
          <a:stretch/>
        </p:blipFill>
        <p:spPr>
          <a:xfrm>
            <a:off x="3059280" y="3630600"/>
            <a:ext cx="3530520" cy="3227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MIL65063"/>
          <p:cNvPicPr/>
          <p:nvPr/>
        </p:nvPicPr>
        <p:blipFill>
          <a:blip r:embed="rId6"/>
          <a:stretch/>
        </p:blipFill>
        <p:spPr>
          <a:xfrm>
            <a:off x="0" y="3645000"/>
            <a:ext cx="3132000" cy="321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201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Рефлексия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Прямоугольник 1"/>
          <p:cNvSpPr/>
          <p:nvPr/>
        </p:nvSpPr>
        <p:spPr>
          <a:xfrm>
            <a:off x="663480" y="3213000"/>
            <a:ext cx="69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кое, душевно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тся, поддерживается, нарушает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любого живого организм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WordArt 52"/>
          <p:cNvSpPr txBox="1"/>
          <p:nvPr/>
        </p:nvSpPr>
        <p:spPr>
          <a:xfrm>
            <a:off x="971640" y="2097000"/>
            <a:ext cx="51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75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63504" dir="13983909" blurRad="0" rotWithShape="0">
                    <a:srgbClr val="ffffff"/>
                  </a:outerShdw>
                </a:effectLst>
                <a:latin typeface="Bookman Old Style"/>
              </a:rPr>
              <a:t>ЗДОРОВЬЕ</a:t>
            </a:r>
            <a:endParaRPr b="1" lang="en-US" sz="1800" spc="1" strike="noStrike">
              <a:ln w="4752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63504" dir="13983909" blurRad="0" rotWithShape="0">
                  <a:srgbClr val="ffffff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>
    <p:comb dir="horz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6" descr="111"/>
          <p:cNvPicPr/>
          <p:nvPr/>
        </p:nvPicPr>
        <p:blipFill>
          <a:blip r:embed="rId1"/>
          <a:stretch/>
        </p:blipFill>
        <p:spPr>
          <a:xfrm>
            <a:off x="539640" y="404640"/>
            <a:ext cx="4033800" cy="3027600"/>
          </a:xfrm>
          <a:prstGeom prst="rect">
            <a:avLst/>
          </a:prstGeom>
          <a:ln w="38160">
            <a:solidFill>
              <a:srgbClr val="3399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</p:pic>
      <p:pic>
        <p:nvPicPr>
          <p:cNvPr id="521" name="Picture 17" descr="1111"/>
          <p:cNvPicPr/>
          <p:nvPr/>
        </p:nvPicPr>
        <p:blipFill>
          <a:blip r:embed="rId2"/>
          <a:stretch/>
        </p:blipFill>
        <p:spPr>
          <a:xfrm>
            <a:off x="5148360" y="2852640"/>
            <a:ext cx="3487680" cy="3571920"/>
          </a:xfrm>
          <a:prstGeom prst="rect">
            <a:avLst/>
          </a:prstGeom>
          <a:ln w="38160">
            <a:solidFill>
              <a:srgbClr val="3399ff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</p:pic>
      <p:sp>
        <p:nvSpPr>
          <p:cNvPr id="522" name="WordArt 18"/>
          <p:cNvSpPr txBox="1"/>
          <p:nvPr/>
        </p:nvSpPr>
        <p:spPr>
          <a:xfrm>
            <a:off x="1908000" y="2205000"/>
            <a:ext cx="626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ffffff"/>
                  </a:outerShdw>
                </a:effectLst>
                <a:latin typeface="Impact"/>
              </a:rPr>
              <a:t>Преподносите себя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3"/>
          <p:cNvSpPr/>
          <p:nvPr/>
        </p:nvSpPr>
        <p:spPr>
          <a:xfrm>
            <a:off x="539640" y="213372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составляющих культуры здоровья и ее влияния на образовательный проц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и обобщение опыта работы педагогов по формированию культуры здоровья у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 педагогов потребности в сохранении собственного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с приемами, позволяющими обеспечить психологическое здоровье учителям и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WordArt 16"/>
          <p:cNvSpPr txBox="1"/>
          <p:nvPr/>
        </p:nvSpPr>
        <p:spPr>
          <a:xfrm>
            <a:off x="1116000" y="466560"/>
            <a:ext cx="705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+mj-lt"/>
              </a:rPr>
              <a:t>Задачи семинар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4"/>
          <p:cNvSpPr txBox="1"/>
          <p:nvPr/>
        </p:nvSpPr>
        <p:spPr>
          <a:xfrm>
            <a:off x="826920" y="333360"/>
            <a:ext cx="7777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ff6699">
                      <a:alpha val="50000"/>
                    </a:srgbClr>
                  </a:outerShdw>
                </a:effectLst>
                <a:latin typeface="Arial"/>
              </a:rPr>
              <a:t>Благодарю за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ff6699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ff6699">
                      <a:alpha val="50000"/>
                    </a:srgbClr>
                  </a:outerShdw>
                </a:effectLst>
                <a:latin typeface="Arial"/>
              </a:rPr>
              <a:t>внимание!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ff669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4" name="Picture 4" descr="F:\семинар\images.jpeg"/>
          <p:cNvPicPr/>
          <p:nvPr/>
        </p:nvPicPr>
        <p:blipFill>
          <a:blip r:embed="rId1"/>
          <a:stretch/>
        </p:blipFill>
        <p:spPr>
          <a:xfrm>
            <a:off x="1763640" y="3500280"/>
            <a:ext cx="4896000" cy="302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12"/>
          <p:cNvSpPr/>
          <p:nvPr/>
        </p:nvSpPr>
        <p:spPr>
          <a:xfrm>
            <a:off x="420840" y="1989000"/>
            <a:ext cx="2832120" cy="100836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13"/>
          <p:cNvSpPr/>
          <p:nvPr/>
        </p:nvSpPr>
        <p:spPr>
          <a:xfrm>
            <a:off x="324000" y="3279600"/>
            <a:ext cx="2916000" cy="101304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WordArt 52"/>
          <p:cNvSpPr txBox="1"/>
          <p:nvPr/>
        </p:nvSpPr>
        <p:spPr>
          <a:xfrm>
            <a:off x="2050920" y="549360"/>
            <a:ext cx="51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75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63504" dir="13983909" blurRad="0" rotWithShape="0">
                    <a:srgbClr val="ffffff"/>
                  </a:outerShdw>
                </a:effectLst>
                <a:latin typeface="Bookman Old Style"/>
              </a:rPr>
              <a:t>ЗДОРОВЬЕ</a:t>
            </a:r>
            <a:endParaRPr b="1" lang="en-US" sz="1800" spc="1" strike="noStrike">
              <a:ln w="4752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63504" dir="13983909" blurRad="0" rotWithShape="0">
                  <a:srgbClr val="ffff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92" name="WordArt 206"/>
          <p:cNvSpPr txBox="1"/>
          <p:nvPr/>
        </p:nvSpPr>
        <p:spPr>
          <a:xfrm>
            <a:off x="647640" y="3279600"/>
            <a:ext cx="24494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Психическо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3" name="WordArt 207"/>
          <p:cNvSpPr txBox="1"/>
          <p:nvPr/>
        </p:nvSpPr>
        <p:spPr>
          <a:xfrm>
            <a:off x="719280" y="218592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Физическое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94" name="Picture 53" descr="j0186002"/>
          <p:cNvPicPr/>
          <p:nvPr/>
        </p:nvPicPr>
        <p:blipFill>
          <a:blip r:embed="rId1"/>
          <a:stretch/>
        </p:blipFill>
        <p:spPr>
          <a:xfrm>
            <a:off x="7402680" y="223920"/>
            <a:ext cx="1496880" cy="1539720"/>
          </a:xfrm>
          <a:prstGeom prst="rect">
            <a:avLst/>
          </a:prstGeom>
          <a:ln w="0">
            <a:noFill/>
          </a:ln>
          <a:effectLst>
            <a:outerShdw dist="68321" dir="12118176" blurRad="0" rotWithShape="0">
              <a:srgbClr val="0066ff"/>
            </a:outerShdw>
          </a:effectLst>
        </p:spPr>
      </p:pic>
      <p:sp>
        <p:nvSpPr>
          <p:cNvPr id="395" name="WordArt 208"/>
          <p:cNvSpPr txBox="1"/>
          <p:nvPr/>
        </p:nvSpPr>
        <p:spPr>
          <a:xfrm>
            <a:off x="3613320" y="238428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1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3300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28496" dir="9225519" blurRad="0" rotWithShape="0">
                    <a:srgbClr val="ffffff"/>
                  </a:outerShdw>
                </a:effectLst>
                <a:latin typeface="Arial Black"/>
              </a:rPr>
              <a:t>Предел всегда есть!</a:t>
            </a:r>
            <a:endParaRPr b="1" lang="en-US" sz="1800" spc="1" strike="noStrike">
              <a:ln w="2232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3300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28496" dir="9225519" blurRad="0" rotWithShape="0">
                  <a:srgbClr val="ffff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96" name="Picture 215" descr="j0186002"/>
          <p:cNvPicPr/>
          <p:nvPr/>
        </p:nvPicPr>
        <p:blipFill>
          <a:blip r:embed="rId2"/>
          <a:stretch/>
        </p:blipFill>
        <p:spPr>
          <a:xfrm>
            <a:off x="324000" y="260280"/>
            <a:ext cx="1428480" cy="1467000"/>
          </a:xfrm>
          <a:prstGeom prst="rect">
            <a:avLst/>
          </a:prstGeom>
          <a:ln w="0">
            <a:noFill/>
          </a:ln>
          <a:effectLst>
            <a:outerShdw dist="68321" dir="12118176" blurRad="0" rotWithShape="0">
              <a:srgbClr val="0066ff"/>
            </a:outerShdw>
          </a:effectLst>
        </p:spPr>
      </p:pic>
      <p:pic>
        <p:nvPicPr>
          <p:cNvPr id="397" name="Picture 219" descr="j0078625"/>
          <p:cNvPicPr/>
          <p:nvPr/>
        </p:nvPicPr>
        <p:blipFill>
          <a:blip r:embed="rId3"/>
          <a:stretch/>
        </p:blipFill>
        <p:spPr>
          <a:xfrm flipH="1">
            <a:off x="7907400" y="2646360"/>
            <a:ext cx="922320" cy="2278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ff99"/>
            </a:outerShdw>
          </a:effectLst>
        </p:spPr>
      </p:pic>
      <p:sp>
        <p:nvSpPr>
          <p:cNvPr id="398" name="AutoShape 212"/>
          <p:cNvSpPr/>
          <p:nvPr/>
        </p:nvSpPr>
        <p:spPr>
          <a:xfrm>
            <a:off x="252360" y="4387680"/>
            <a:ext cx="3000600" cy="100836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WordArt 206"/>
          <p:cNvSpPr txBox="1"/>
          <p:nvPr/>
        </p:nvSpPr>
        <p:spPr>
          <a:xfrm>
            <a:off x="420840" y="4530600"/>
            <a:ext cx="283212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Соматическо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0" name="AutoShape 212"/>
          <p:cNvSpPr/>
          <p:nvPr/>
        </p:nvSpPr>
        <p:spPr>
          <a:xfrm flipV="1">
            <a:off x="241200" y="5589000"/>
            <a:ext cx="2998800" cy="86364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WordArt 206"/>
          <p:cNvSpPr txBox="1"/>
          <p:nvPr/>
        </p:nvSpPr>
        <p:spPr>
          <a:xfrm>
            <a:off x="353880" y="5659560"/>
            <a:ext cx="283068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Нравственно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2" name="AutoShape 212"/>
          <p:cNvSpPr/>
          <p:nvPr/>
        </p:nvSpPr>
        <p:spPr>
          <a:xfrm>
            <a:off x="3846600" y="5396040"/>
            <a:ext cx="3987720" cy="100800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206"/>
          <p:cNvSpPr txBox="1"/>
          <p:nvPr/>
        </p:nvSpPr>
        <p:spPr>
          <a:xfrm>
            <a:off x="4052880" y="5375160"/>
            <a:ext cx="3471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Социальное благополучи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12"/>
          <p:cNvSpPr/>
          <p:nvPr/>
        </p:nvSpPr>
        <p:spPr>
          <a:xfrm>
            <a:off x="241200" y="2271600"/>
            <a:ext cx="3425760" cy="100800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13"/>
          <p:cNvSpPr/>
          <p:nvPr/>
        </p:nvSpPr>
        <p:spPr>
          <a:xfrm>
            <a:off x="5473800" y="3133800"/>
            <a:ext cx="3425760" cy="101448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WordArt 52"/>
          <p:cNvSpPr txBox="1"/>
          <p:nvPr/>
        </p:nvSpPr>
        <p:spPr>
          <a:xfrm>
            <a:off x="2050920" y="417600"/>
            <a:ext cx="518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75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63504" dir="13983909" blurRad="0" rotWithShape="0">
                    <a:srgbClr val="ffffff"/>
                  </a:outerShdw>
                </a:effectLst>
                <a:latin typeface="Bookman Old Style"/>
              </a:rPr>
              <a:t>Факторы, влияющие </a:t>
            </a:r>
            <a:endParaRPr b="1" lang="en-US" sz="1800" spc="1" strike="noStrike">
              <a:ln w="4752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63504" dir="13983909" blurRad="0" rotWithShape="0">
                  <a:srgbClr val="ffffff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75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63504" dir="13983909" blurRad="0" rotWithShape="0">
                    <a:srgbClr val="ffffff"/>
                  </a:outerShdw>
                </a:effectLst>
                <a:latin typeface="Bookman Old Style"/>
              </a:rPr>
              <a:t>на здоровье</a:t>
            </a:r>
            <a:endParaRPr b="1" lang="en-US" sz="1800" spc="1" strike="noStrike">
              <a:ln w="4752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63504" dir="13983909" blurRad="0" rotWithShape="0">
                  <a:srgbClr val="ffff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07" name="WordArt 206"/>
          <p:cNvSpPr txBox="1"/>
          <p:nvPr/>
        </p:nvSpPr>
        <p:spPr>
          <a:xfrm>
            <a:off x="5853240" y="3279600"/>
            <a:ext cx="296676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Социокультурны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8" name="WordArt 207"/>
          <p:cNvSpPr txBox="1"/>
          <p:nvPr/>
        </p:nvSpPr>
        <p:spPr>
          <a:xfrm>
            <a:off x="345960" y="2330280"/>
            <a:ext cx="298764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   </a:t>
            </a: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Факторы внешней среды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09" name="Picture 53" descr="j0186002"/>
          <p:cNvPicPr/>
          <p:nvPr/>
        </p:nvPicPr>
        <p:blipFill>
          <a:blip r:embed="rId1"/>
          <a:stretch/>
        </p:blipFill>
        <p:spPr>
          <a:xfrm>
            <a:off x="7402680" y="223920"/>
            <a:ext cx="1496880" cy="1539720"/>
          </a:xfrm>
          <a:prstGeom prst="rect">
            <a:avLst/>
          </a:prstGeom>
          <a:ln w="0">
            <a:noFill/>
          </a:ln>
          <a:effectLst>
            <a:outerShdw dist="68321" dir="12118176" blurRad="0" rotWithShape="0">
              <a:srgbClr val="0066ff"/>
            </a:outerShdw>
          </a:effectLst>
        </p:spPr>
      </p:pic>
      <p:pic>
        <p:nvPicPr>
          <p:cNvPr id="410" name="Picture 215" descr="j0186002"/>
          <p:cNvPicPr/>
          <p:nvPr/>
        </p:nvPicPr>
        <p:blipFill>
          <a:blip r:embed="rId2"/>
          <a:stretch/>
        </p:blipFill>
        <p:spPr>
          <a:xfrm>
            <a:off x="324000" y="260280"/>
            <a:ext cx="1428480" cy="1467000"/>
          </a:xfrm>
          <a:prstGeom prst="rect">
            <a:avLst/>
          </a:prstGeom>
          <a:ln w="0">
            <a:noFill/>
          </a:ln>
          <a:effectLst>
            <a:outerShdw dist="68321" dir="12118176" blurRad="0" rotWithShape="0">
              <a:srgbClr val="0066ff"/>
            </a:outerShdw>
          </a:effectLst>
        </p:spPr>
      </p:pic>
      <p:sp>
        <p:nvSpPr>
          <p:cNvPr id="411" name="AutoShape 212"/>
          <p:cNvSpPr/>
          <p:nvPr/>
        </p:nvSpPr>
        <p:spPr>
          <a:xfrm>
            <a:off x="228600" y="3711600"/>
            <a:ext cx="3700440" cy="100800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206"/>
          <p:cNvSpPr txBox="1"/>
          <p:nvPr/>
        </p:nvSpPr>
        <p:spPr>
          <a:xfrm>
            <a:off x="324000" y="3782880"/>
            <a:ext cx="34081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Факторы школьной среды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3" name="AutoShape 212"/>
          <p:cNvSpPr/>
          <p:nvPr/>
        </p:nvSpPr>
        <p:spPr>
          <a:xfrm>
            <a:off x="4970520" y="4794120"/>
            <a:ext cx="3987720" cy="100836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206"/>
          <p:cNvSpPr txBox="1"/>
          <p:nvPr/>
        </p:nvSpPr>
        <p:spPr>
          <a:xfrm>
            <a:off x="5091120" y="4788000"/>
            <a:ext cx="34704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Педагогические 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415" name="Прямая со стрелкой 2"/>
          <p:cNvCxnSpPr/>
          <p:nvPr/>
        </p:nvCxnSpPr>
        <p:spPr>
          <a:xfrm>
            <a:off x="3666600" y="2295360"/>
            <a:ext cx="1807560" cy="48024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416" name="AutoShape 212"/>
          <p:cNvSpPr/>
          <p:nvPr/>
        </p:nvSpPr>
        <p:spPr>
          <a:xfrm>
            <a:off x="5473800" y="2025720"/>
            <a:ext cx="3425760" cy="100800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206"/>
          <p:cNvSpPr txBox="1"/>
          <p:nvPr/>
        </p:nvSpPr>
        <p:spPr>
          <a:xfrm>
            <a:off x="5700600" y="2155680"/>
            <a:ext cx="2449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Экологически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418" name="Прямая со стрелкой 4"/>
          <p:cNvCxnSpPr/>
          <p:nvPr/>
        </p:nvCxnSpPr>
        <p:spPr>
          <a:xfrm>
            <a:off x="3666960" y="3220920"/>
            <a:ext cx="1697760" cy="41976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419" name="Прямая со стрелкой 24"/>
          <p:cNvCxnSpPr/>
          <p:nvPr/>
        </p:nvCxnSpPr>
        <p:spPr>
          <a:xfrm>
            <a:off x="3928680" y="4562640"/>
            <a:ext cx="903960" cy="61344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arrow" w="med"/>
          </a:ln>
        </p:spPr>
      </p:cxn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WordArt 7"/>
          <p:cNvSpPr txBox="1"/>
          <p:nvPr/>
        </p:nvSpPr>
        <p:spPr>
          <a:xfrm>
            <a:off x="1116000" y="260280"/>
            <a:ext cx="741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Понятие «образ жизни»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Прямоугольник 1"/>
          <p:cNvSpPr/>
          <p:nvPr/>
        </p:nvSpPr>
        <p:spPr>
          <a:xfrm>
            <a:off x="250920" y="241308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лючает следующие составляющие: рациональное питание, физическую активность, личную гигиену, отношение к вредным привычкам, здоровый психологический микроклимат, ответственность за сохранение собственного здоров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7"/>
          <p:cNvSpPr txBox="1"/>
          <p:nvPr/>
        </p:nvSpPr>
        <p:spPr>
          <a:xfrm>
            <a:off x="826920" y="620640"/>
            <a:ext cx="7417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«Культура  здоровья»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Прямоугольник 1"/>
          <p:cNvSpPr/>
          <p:nvPr/>
        </p:nvSpPr>
        <p:spPr>
          <a:xfrm>
            <a:off x="250920" y="24130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468360" y="2136600"/>
            <a:ext cx="5742000" cy="1068840"/>
          </a:xfrm>
          <a:prstGeom prst="rect">
            <a:avLst/>
          </a:prstGeom>
          <a:gradFill rotWithShape="0">
            <a:gsLst>
              <a:gs pos="0">
                <a:srgbClr val="a5d8ff"/>
              </a:gs>
              <a:gs pos="100000">
                <a:srgbClr val="e4f3ff"/>
              </a:gs>
            </a:gsLst>
            <a:lin ang="16200000"/>
          </a:gradFill>
          <a:ln w="9360">
            <a:solidFill>
              <a:srgbClr val="79af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Об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Работа в групп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3"/>
          <p:cNvSpPr/>
          <p:nvPr/>
        </p:nvSpPr>
        <p:spPr>
          <a:xfrm>
            <a:off x="482760" y="3892680"/>
            <a:ext cx="732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4 самые важные, на ваш взгляд, составляющие культуры здоров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время работы 5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WordArt 7"/>
          <p:cNvSpPr txBox="1"/>
          <p:nvPr/>
        </p:nvSpPr>
        <p:spPr>
          <a:xfrm>
            <a:off x="755640" y="595440"/>
            <a:ext cx="8137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«Банк педагогических находок»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«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Прямоугольник 1"/>
          <p:cNvSpPr/>
          <p:nvPr/>
        </p:nvSpPr>
        <p:spPr>
          <a:xfrm>
            <a:off x="250920" y="24130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82760" y="1739880"/>
            <a:ext cx="5742000" cy="581400"/>
          </a:xfrm>
          <a:prstGeom prst="rect">
            <a:avLst/>
          </a:prstGeom>
          <a:gradFill rotWithShape="0">
            <a:gsLst>
              <a:gs pos="0">
                <a:srgbClr val="a5d8ff"/>
              </a:gs>
              <a:gs pos="100000">
                <a:srgbClr val="e4f3ff"/>
              </a:gs>
            </a:gsLst>
            <a:lin ang="16200000"/>
          </a:gradFill>
          <a:ln w="9360">
            <a:solidFill>
              <a:srgbClr val="79af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Работа в групп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482760" y="2676600"/>
            <a:ext cx="8192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группа выберет 1 составляющую культуры здоровья, лист бумаги, маркеры и подготовит презентацию выбранной темы. Во время подготовки презентации учитывайте два момент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ите значимость и пользу составляющей культуры здоровь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 познакомьте нас с приемами, методами, играми и пр., позволяющими ее формировать на практике (эту информацию оформите, пожалуйста, на бумаг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7"/>
          <p:cNvSpPr txBox="1"/>
          <p:nvPr/>
        </p:nvSpPr>
        <p:spPr>
          <a:xfrm>
            <a:off x="558720" y="106200"/>
            <a:ext cx="8137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63504" dir="13016092" blurRad="0" rotWithShape="0">
                    <a:srgbClr val="ffffff"/>
                  </a:outerShdw>
                </a:effectLst>
                <a:latin typeface="Impact"/>
              </a:rPr>
              <a:t>Школьные стрессы»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63504" dir="13016092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Прямоугольник 1"/>
          <p:cNvSpPr/>
          <p:nvPr/>
        </p:nvSpPr>
        <p:spPr>
          <a:xfrm>
            <a:off x="250920" y="24368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12"/>
          <p:cNvSpPr/>
          <p:nvPr/>
        </p:nvSpPr>
        <p:spPr>
          <a:xfrm>
            <a:off x="160200" y="1235160"/>
            <a:ext cx="3683160" cy="158436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207"/>
          <p:cNvSpPr txBox="1"/>
          <p:nvPr/>
        </p:nvSpPr>
        <p:spPr>
          <a:xfrm>
            <a:off x="260280" y="1254240"/>
            <a:ext cx="348300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Стресс оценивания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(экзаменационный)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4" name="AutoShape 212"/>
          <p:cNvSpPr/>
          <p:nvPr/>
        </p:nvSpPr>
        <p:spPr>
          <a:xfrm>
            <a:off x="4605480" y="1254240"/>
            <a:ext cx="3682800" cy="138420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WordArt 207"/>
          <p:cNvSpPr txBox="1"/>
          <p:nvPr/>
        </p:nvSpPr>
        <p:spPr>
          <a:xfrm>
            <a:off x="4718160" y="1279440"/>
            <a:ext cx="348300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Стресс ограничения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времени (сочинения)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6" name="AutoShape 212"/>
          <p:cNvSpPr/>
          <p:nvPr/>
        </p:nvSpPr>
        <p:spPr>
          <a:xfrm>
            <a:off x="217440" y="2997360"/>
            <a:ext cx="3683160" cy="158400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207"/>
          <p:cNvSpPr txBox="1"/>
          <p:nvPr/>
        </p:nvSpPr>
        <p:spPr>
          <a:xfrm>
            <a:off x="209520" y="3206880"/>
            <a:ext cx="358308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Экспектационная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фрустрация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(оценка - похвала)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8" name="AutoShape 212"/>
          <p:cNvSpPr/>
          <p:nvPr/>
        </p:nvSpPr>
        <p:spPr>
          <a:xfrm>
            <a:off x="4618080" y="2930400"/>
            <a:ext cx="3682800" cy="158436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WordArt 207"/>
          <p:cNvSpPr txBox="1"/>
          <p:nvPr/>
        </p:nvSpPr>
        <p:spPr>
          <a:xfrm>
            <a:off x="4656240" y="3263760"/>
            <a:ext cx="358272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Переутомление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0" name="AutoShape 212"/>
          <p:cNvSpPr/>
          <p:nvPr/>
        </p:nvSpPr>
        <p:spPr>
          <a:xfrm>
            <a:off x="284040" y="4883040"/>
            <a:ext cx="3781440" cy="158436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207"/>
          <p:cNvSpPr txBox="1"/>
          <p:nvPr/>
        </p:nvSpPr>
        <p:spPr>
          <a:xfrm>
            <a:off x="360360" y="4986360"/>
            <a:ext cx="358308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Стресс психологического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давления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2" name="AutoShape 212"/>
          <p:cNvSpPr/>
          <p:nvPr/>
        </p:nvSpPr>
        <p:spPr>
          <a:xfrm>
            <a:off x="4656240" y="4799160"/>
            <a:ext cx="3779640" cy="1584000"/>
          </a:xfrm>
          <a:prstGeom prst="flowChartAlternateProcess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WordArt 207"/>
          <p:cNvSpPr txBox="1"/>
          <p:nvPr/>
        </p:nvSpPr>
        <p:spPr>
          <a:xfrm>
            <a:off x="4718160" y="5122800"/>
            <a:ext cx="358272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Коммуникативные стрессы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2:40:38Z</dcterms:created>
  <dc:creator>User</dc:creator>
  <dc:description/>
  <dc:language>en-US</dc:language>
  <cp:lastModifiedBy>User</cp:lastModifiedBy>
  <dcterms:modified xsi:type="dcterms:W3CDTF">2015-01-30T15:18:48Z</dcterms:modified>
  <cp:revision>114</cp:revision>
  <dc:subject/>
  <dc:title>В жизни человека есть то, без чего не бывает ничего?</dc:title>
</cp:coreProperties>
</file>