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6.wmf" ContentType="image/x-wmf"/>
  <Override PartName="/ppt/media/image4.gif" ContentType="image/gif"/>
  <Override PartName="/ppt/media/image7.wmf" ContentType="image/x-wmf"/>
  <Override PartName="/ppt/media/image5.gif" ContentType="image/gi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C53F-E871-459A-A703-B9748DA69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D0C7-48D0-4D2E-BFB9-1FB544D3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B2DE-0A41-4D99-847D-B18D05E9F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2E1C-D2B2-4A1C-89D3-01FDC92D5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BD69-25E0-48F4-A639-DDAFE64C9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6F9D-0653-490B-BB95-0B3A4D9D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505A-29D6-4E9D-B851-045BF062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A621-F971-40CC-9C8C-E80DD9C5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A3CB-EB57-4226-B835-6D3F5252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C998-DDDE-4254-9EAA-8AF4D00D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5229-1AAB-4E2B-AD2B-B1442E58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9C66-F803-47BF-8B44-922361D7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5212-B0BF-4031-A912-2B448D42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F6C9-64BD-4F86-9F25-97C017B8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2454-A309-481A-92B7-6C56DB2D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A4CB5-C20E-4C16-9EA8-5A84C1B53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5461-DCF1-4CE8-AABA-E557394C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A98F-7F04-4C27-A225-194364FE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D2A3-04E8-41F1-AAED-2661160B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552A-F74A-40DB-BB81-D4C4FC55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3E5D-9456-4D28-9E92-AB330FF7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2423-83D5-4F04-8963-D99ED3CF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882A-E71E-4A2E-9B5F-B5D73711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656E-3761-47B2-BF57-36A8E9EC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74A6-E7DA-4CE3-9197-CE809AB674B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38C0-465D-4916-B330-CD2A80BE2CB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Презентация из опыта работы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6666"/>
                </a:solidFill>
                <a:uFillTx/>
                <a:latin typeface="Times New Roman"/>
              </a:rPr>
              <a:t>«Эффективность использования современных педагогических технологий на уроках русского языка и литературы»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292720" y="2332080"/>
            <a:ext cx="324000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Подготовил: учитель русского языка и литературы МБОУ «Благодарновская СОШ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Кластеры (гроздья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28" name="Group 5"/>
          <p:cNvGrpSpPr/>
          <p:nvPr/>
        </p:nvGrpSpPr>
        <p:grpSpPr>
          <a:xfrm>
            <a:off x="1332000" y="1413000"/>
            <a:ext cx="7272360" cy="5256000"/>
            <a:chOff x="1332000" y="1413000"/>
            <a:chExt cx="7272360" cy="5256000"/>
          </a:xfrm>
        </p:grpSpPr>
        <p:sp>
          <p:nvSpPr>
            <p:cNvPr id="129" name="Oval 6"/>
            <p:cNvSpPr/>
            <p:nvPr/>
          </p:nvSpPr>
          <p:spPr>
            <a:xfrm>
              <a:off x="4037760" y="3530520"/>
              <a:ext cx="1690920" cy="90612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  <a:ea typeface="Arial"/>
                </a:rPr>
                <a:t>Ключевое слово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Oval 7"/>
            <p:cNvSpPr/>
            <p:nvPr/>
          </p:nvSpPr>
          <p:spPr>
            <a:xfrm>
              <a:off x="1839240" y="2261880"/>
              <a:ext cx="2029320" cy="543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  <a:ea typeface="Arial"/>
                </a:rPr>
                <a:t>Категория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Oval 8"/>
            <p:cNvSpPr/>
            <p:nvPr/>
          </p:nvSpPr>
          <p:spPr>
            <a:xfrm>
              <a:off x="1839240" y="5161680"/>
              <a:ext cx="2029320" cy="543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  <a:ea typeface="Arial"/>
                </a:rPr>
                <a:t>Категория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Oval 9"/>
            <p:cNvSpPr/>
            <p:nvPr/>
          </p:nvSpPr>
          <p:spPr>
            <a:xfrm>
              <a:off x="5898240" y="5161680"/>
              <a:ext cx="2029320" cy="543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  <a:ea typeface="Arial"/>
                </a:rPr>
                <a:t>Категория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Oval 10"/>
            <p:cNvSpPr/>
            <p:nvPr/>
          </p:nvSpPr>
          <p:spPr>
            <a:xfrm>
              <a:off x="5559840" y="2261880"/>
              <a:ext cx="2029320" cy="543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  <a:ea typeface="Arial"/>
                </a:rPr>
                <a:t>Категория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Oval 11"/>
            <p:cNvSpPr/>
            <p:nvPr/>
          </p:nvSpPr>
          <p:spPr>
            <a:xfrm>
              <a:off x="1670040" y="3044160"/>
              <a:ext cx="507240" cy="543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Oval 12"/>
            <p:cNvSpPr/>
            <p:nvPr/>
          </p:nvSpPr>
          <p:spPr>
            <a:xfrm>
              <a:off x="1332000" y="3769200"/>
              <a:ext cx="507240" cy="543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Oval 13"/>
            <p:cNvSpPr/>
            <p:nvPr/>
          </p:nvSpPr>
          <p:spPr>
            <a:xfrm>
              <a:off x="3347280" y="6034680"/>
              <a:ext cx="507240" cy="543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Oval 14"/>
            <p:cNvSpPr/>
            <p:nvPr/>
          </p:nvSpPr>
          <p:spPr>
            <a:xfrm>
              <a:off x="1839240" y="5943960"/>
              <a:ext cx="507240" cy="543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Oval 15"/>
            <p:cNvSpPr/>
            <p:nvPr/>
          </p:nvSpPr>
          <p:spPr>
            <a:xfrm>
              <a:off x="4883400" y="6125400"/>
              <a:ext cx="507240" cy="543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Oval 16"/>
            <p:cNvSpPr/>
            <p:nvPr/>
          </p:nvSpPr>
          <p:spPr>
            <a:xfrm>
              <a:off x="5221800" y="5400360"/>
              <a:ext cx="507240" cy="543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Oval 17"/>
            <p:cNvSpPr/>
            <p:nvPr/>
          </p:nvSpPr>
          <p:spPr>
            <a:xfrm>
              <a:off x="6913080" y="6125400"/>
              <a:ext cx="507240" cy="543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Oval 18"/>
            <p:cNvSpPr/>
            <p:nvPr/>
          </p:nvSpPr>
          <p:spPr>
            <a:xfrm>
              <a:off x="8097120" y="2681640"/>
              <a:ext cx="507240" cy="543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Oval 19"/>
            <p:cNvSpPr/>
            <p:nvPr/>
          </p:nvSpPr>
          <p:spPr>
            <a:xfrm>
              <a:off x="4376160" y="2500560"/>
              <a:ext cx="507240" cy="543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Oval 20"/>
            <p:cNvSpPr/>
            <p:nvPr/>
          </p:nvSpPr>
          <p:spPr>
            <a:xfrm>
              <a:off x="4883400" y="1775520"/>
              <a:ext cx="507240" cy="543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Oval 21"/>
            <p:cNvSpPr/>
            <p:nvPr/>
          </p:nvSpPr>
          <p:spPr>
            <a:xfrm>
              <a:off x="7251120" y="1413000"/>
              <a:ext cx="507240" cy="543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Oval 22"/>
            <p:cNvSpPr/>
            <p:nvPr/>
          </p:nvSpPr>
          <p:spPr>
            <a:xfrm>
              <a:off x="4037760" y="1956600"/>
              <a:ext cx="507240" cy="543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Line 23"/>
            <p:cNvSpPr/>
            <p:nvPr/>
          </p:nvSpPr>
          <p:spPr>
            <a:xfrm>
              <a:off x="3699360" y="2681640"/>
              <a:ext cx="845640" cy="90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Line 24"/>
            <p:cNvSpPr/>
            <p:nvPr/>
          </p:nvSpPr>
          <p:spPr>
            <a:xfrm flipH="1">
              <a:off x="5221440" y="2681640"/>
              <a:ext cx="507240" cy="90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Line 25"/>
            <p:cNvSpPr/>
            <p:nvPr/>
          </p:nvSpPr>
          <p:spPr>
            <a:xfrm>
              <a:off x="5559840" y="4312800"/>
              <a:ext cx="1014840" cy="90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Line 26"/>
            <p:cNvSpPr/>
            <p:nvPr/>
          </p:nvSpPr>
          <p:spPr>
            <a:xfrm flipH="1">
              <a:off x="3361320" y="4312800"/>
              <a:ext cx="1014480" cy="90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008080" y="2681640"/>
              <a:ext cx="16884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Line 28"/>
            <p:cNvSpPr/>
            <p:nvPr/>
          </p:nvSpPr>
          <p:spPr>
            <a:xfrm flipH="1">
              <a:off x="1669680" y="3587760"/>
              <a:ext cx="16884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Line 29"/>
            <p:cNvSpPr/>
            <p:nvPr/>
          </p:nvSpPr>
          <p:spPr>
            <a:xfrm flipV="1">
              <a:off x="3699360" y="2137320"/>
              <a:ext cx="33804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Line 30"/>
            <p:cNvSpPr/>
            <p:nvPr/>
          </p:nvSpPr>
          <p:spPr>
            <a:xfrm>
              <a:off x="3868560" y="2500560"/>
              <a:ext cx="50724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Line 31"/>
            <p:cNvSpPr/>
            <p:nvPr/>
          </p:nvSpPr>
          <p:spPr>
            <a:xfrm>
              <a:off x="5391000" y="2137680"/>
              <a:ext cx="33804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Line 32"/>
            <p:cNvSpPr/>
            <p:nvPr/>
          </p:nvSpPr>
          <p:spPr>
            <a:xfrm flipH="1">
              <a:off x="7250760" y="1956600"/>
              <a:ext cx="16884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" name="Line 33"/>
            <p:cNvSpPr/>
            <p:nvPr/>
          </p:nvSpPr>
          <p:spPr>
            <a:xfrm flipH="1" flipV="1">
              <a:off x="7589160" y="2681640"/>
              <a:ext cx="5072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" name="Line 34"/>
            <p:cNvSpPr/>
            <p:nvPr/>
          </p:nvSpPr>
          <p:spPr>
            <a:xfrm flipH="1">
              <a:off x="1979640" y="5611680"/>
              <a:ext cx="16884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Line 35"/>
            <p:cNvSpPr/>
            <p:nvPr/>
          </p:nvSpPr>
          <p:spPr>
            <a:xfrm flipV="1">
              <a:off x="5729040" y="5400000"/>
              <a:ext cx="16884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Line 36"/>
            <p:cNvSpPr/>
            <p:nvPr/>
          </p:nvSpPr>
          <p:spPr>
            <a:xfrm flipV="1">
              <a:off x="5221800" y="5943600"/>
              <a:ext cx="16884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Line 37"/>
            <p:cNvSpPr/>
            <p:nvPr/>
          </p:nvSpPr>
          <p:spPr>
            <a:xfrm>
              <a:off x="7166880" y="5747760"/>
              <a:ext cx="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Line 38"/>
            <p:cNvSpPr/>
            <p:nvPr/>
          </p:nvSpPr>
          <p:spPr>
            <a:xfrm>
              <a:off x="3361320" y="5694480"/>
              <a:ext cx="16884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«Знаю – хочу узнать – узнал»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.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052640" y="2548080"/>
          <a:ext cx="7194600" cy="3522600"/>
        </p:xfrm>
        <a:graphic>
          <a:graphicData uri="http://schemas.openxmlformats.org/drawingml/2006/table">
            <a:tbl>
              <a:tblPr/>
              <a:tblGrid>
                <a:gridCol w="2397960"/>
                <a:gridCol w="2395080"/>
                <a:gridCol w="2401560"/>
              </a:tblGrid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то знаю о герое?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Хочу узнать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то нового узнал?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61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Печорин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Холодный светский молодой человек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Равнодушный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ысокомерный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мный смелый офицер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Живет для себ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е может любить (сомневаюсь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н всегда носит маску равнодушия (сомневаюсь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ожет ли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ечорин испытывать страсть и другие сильные чувства?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ожет в глубине души Печорин совсем другой человек? И др.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Сказка А. Погорельского  «Черная курица, или подземные жители»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6" name="" descr="Сказка А. Погорельского &quot;Черная курица или Подземные жители&quot;…"/>
          <p:cNvPicPr/>
          <p:nvPr/>
        </p:nvPicPr>
        <p:blipFill>
          <a:blip r:embed="rId1"/>
          <a:stretch/>
        </p:blipFill>
        <p:spPr>
          <a:xfrm>
            <a:off x="1403280" y="2421000"/>
            <a:ext cx="648180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Фаза вызова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Учащиеся формулируют вопросы, комментируя их.  Учитель фиксирует их на доск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озможные варианты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Какие сказки Вы любили в детстве? Кто вам их рассказывал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Когда вы научились читать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Какие книги вы читали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А в детстве вы сочиняли сказки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 Как вы придумали сказку  о  черной курице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Фаза осмысления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Какую из пословиц вы бы предложили в качестве эпиграфа к уроку?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Трудно найти,  легко потерять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 Только ума на деньги не купить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 Как прожил, так и прослы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 Сам погибай, а друзей выруча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. Дал слово – сдержи его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6. Что посеешь, то и пожнешь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7. Долг платежом красен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8. Учись на добро отвечать добро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9. Не имей сто рублей, а имей сто друзе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0. Добро век не забудетс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Составление кластера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АЛЕШ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3645000"/>
            <a:ext cx="172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87920" y="2637000"/>
            <a:ext cx="156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11280" y="4098960"/>
            <a:ext cx="20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59280" y="4971960"/>
            <a:ext cx="25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56360" y="4867200"/>
            <a:ext cx="26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00720" y="189864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40360" y="339732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92360" y="1341360"/>
            <a:ext cx="230364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Умеет дружить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43280" y="2852640"/>
            <a:ext cx="242712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совестливы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2852640"/>
            <a:ext cx="216072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мечтательны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63640" y="4149720"/>
            <a:ext cx="230364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одиноки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87640" y="5418000"/>
            <a:ext cx="2808360" cy="1106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«…мысленно переносился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в старинные, давно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прошедшие века…»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300720" y="4724280"/>
            <a:ext cx="237492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«Не приписывай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себе того, что тебе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не принадлежит»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64000" y="2924280"/>
            <a:ext cx="3456000" cy="12254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Смотрел в дырочку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ждал волшебницу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«юное воображение бродило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по страшным развалинам»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12000" y="1268280"/>
            <a:ext cx="2881080" cy="1224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Предательство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«Пороки обычно входят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в дверь, а выходят в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щелочку»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56000" y="1844640"/>
            <a:ext cx="863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68360" y="2060640"/>
            <a:ext cx="1151280" cy="863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403280" y="2133720"/>
            <a:ext cx="0" cy="718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08000" y="2060640"/>
            <a:ext cx="1151280" cy="2160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96000" y="1844640"/>
            <a:ext cx="216000" cy="71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92720" y="2133720"/>
            <a:ext cx="431640" cy="863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43280" y="3789360"/>
            <a:ext cx="1584360" cy="1295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635280" y="5013360"/>
            <a:ext cx="360360" cy="503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Фаза рефлексии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редставьте, что Алеша повзрослел. Напишите от его имени письмо близкому человеку.(Приём «Напиши письмо»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Шесть шляп мышл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1276200" y="2349360"/>
            <a:ext cx="7616880" cy="4411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4" descr="0f94a4ef70a1d04cae12a6bf4e462ccf"/>
          <p:cNvPicPr/>
          <p:nvPr/>
        </p:nvPicPr>
        <p:blipFill>
          <a:blip r:embed="rId2"/>
          <a:stretch/>
        </p:blipFill>
        <p:spPr>
          <a:xfrm rot="16200000">
            <a:off x="-2790720" y="2790720"/>
            <a:ext cx="68580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рием «Зигзаг» или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«Отсюда – сюда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Oval 4"/>
          <p:cNvSpPr/>
          <p:nvPr/>
        </p:nvSpPr>
        <p:spPr>
          <a:xfrm>
            <a:off x="1476360" y="1773360"/>
            <a:ext cx="2879640" cy="792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Группа получает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общее задание по теме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Oval 5"/>
          <p:cNvSpPr/>
          <p:nvPr/>
        </p:nvSpPr>
        <p:spPr>
          <a:xfrm>
            <a:off x="5292720" y="1989000"/>
            <a:ext cx="3166920" cy="1079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Каждый член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группы получае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«свой» объект исследовани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1332000" y="2781360"/>
            <a:ext cx="2879640" cy="865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Сбор информации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об объекте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5364000" y="3357720"/>
            <a:ext cx="3024360" cy="934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Обмен информацией в группе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Oval 8"/>
          <p:cNvSpPr/>
          <p:nvPr/>
        </p:nvSpPr>
        <p:spPr>
          <a:xfrm>
            <a:off x="1403280" y="3789360"/>
            <a:ext cx="280836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Выделение общего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для запоминания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основной части таблицы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Oval 9"/>
          <p:cNvSpPr/>
          <p:nvPr/>
        </p:nvSpPr>
        <p:spPr>
          <a:xfrm>
            <a:off x="5292720" y="4653000"/>
            <a:ext cx="3166920" cy="863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Заполнение таблицы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Oval 12"/>
          <p:cNvSpPr/>
          <p:nvPr/>
        </p:nvSpPr>
        <p:spPr>
          <a:xfrm>
            <a:off x="1476360" y="5013360"/>
            <a:ext cx="266400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Написание совместного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исследования по теме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Oval 13"/>
          <p:cNvSpPr/>
          <p:nvPr/>
        </p:nvSpPr>
        <p:spPr>
          <a:xfrm>
            <a:off x="5076720" y="5734080"/>
            <a:ext cx="3456000" cy="836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Презентация исследовани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Line 15"/>
          <p:cNvSpPr/>
          <p:nvPr/>
        </p:nvSpPr>
        <p:spPr>
          <a:xfrm>
            <a:off x="4284720" y="2205000"/>
            <a:ext cx="1008000" cy="287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Line 16"/>
          <p:cNvSpPr/>
          <p:nvPr/>
        </p:nvSpPr>
        <p:spPr>
          <a:xfrm flipH="1">
            <a:off x="4211280" y="2708280"/>
            <a:ext cx="1152360" cy="5047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Line 17"/>
          <p:cNvSpPr/>
          <p:nvPr/>
        </p:nvSpPr>
        <p:spPr>
          <a:xfrm>
            <a:off x="4211640" y="3284640"/>
            <a:ext cx="1152360" cy="5047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Line 18"/>
          <p:cNvSpPr/>
          <p:nvPr/>
        </p:nvSpPr>
        <p:spPr>
          <a:xfrm flipH="1">
            <a:off x="4140000" y="3933720"/>
            <a:ext cx="1223640" cy="358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Line 19"/>
          <p:cNvSpPr/>
          <p:nvPr/>
        </p:nvSpPr>
        <p:spPr>
          <a:xfrm>
            <a:off x="4140360" y="4437000"/>
            <a:ext cx="1223640" cy="5047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Line 20"/>
          <p:cNvSpPr/>
          <p:nvPr/>
        </p:nvSpPr>
        <p:spPr>
          <a:xfrm flipH="1">
            <a:off x="4140000" y="5157720"/>
            <a:ext cx="1152360" cy="358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Line 21"/>
          <p:cNvSpPr/>
          <p:nvPr/>
        </p:nvSpPr>
        <p:spPr>
          <a:xfrm>
            <a:off x="4140360" y="5589720"/>
            <a:ext cx="936360" cy="503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Text Box 23"/>
          <p:cNvSpPr/>
          <p:nvPr/>
        </p:nvSpPr>
        <p:spPr>
          <a:xfrm>
            <a:off x="1619280" y="1916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Text Box 24"/>
          <p:cNvSpPr/>
          <p:nvPr/>
        </p:nvSpPr>
        <p:spPr>
          <a:xfrm>
            <a:off x="1547640" y="29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Text Box 25"/>
          <p:cNvSpPr/>
          <p:nvPr/>
        </p:nvSpPr>
        <p:spPr>
          <a:xfrm>
            <a:off x="5364000" y="364500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4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Text Box 26"/>
          <p:cNvSpPr/>
          <p:nvPr/>
        </p:nvSpPr>
        <p:spPr>
          <a:xfrm>
            <a:off x="1619280" y="407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Text Box 27"/>
          <p:cNvSpPr/>
          <p:nvPr/>
        </p:nvSpPr>
        <p:spPr>
          <a:xfrm>
            <a:off x="5508720" y="486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Text Box 29"/>
          <p:cNvSpPr/>
          <p:nvPr/>
        </p:nvSpPr>
        <p:spPr>
          <a:xfrm>
            <a:off x="5364000" y="227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Text Box 31"/>
          <p:cNvSpPr/>
          <p:nvPr/>
        </p:nvSpPr>
        <p:spPr>
          <a:xfrm>
            <a:off x="1547640" y="530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Text Box 32"/>
          <p:cNvSpPr/>
          <p:nvPr/>
        </p:nvSpPr>
        <p:spPr>
          <a:xfrm>
            <a:off x="5292720" y="5950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5" name="Picture 24" descr="0f94a4ef70a1d04cae12a6bf4e462ccf"/>
          <p:cNvPicPr/>
          <p:nvPr/>
        </p:nvPicPr>
        <p:blipFill>
          <a:blip r:embed="rId1"/>
          <a:stretch/>
        </p:blipFill>
        <p:spPr>
          <a:xfrm rot="16200000">
            <a:off x="-2907360" y="2907360"/>
            <a:ext cx="6858000" cy="1042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Прием «Чтение с остановками».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Примерные вопросы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6560" y="2565360"/>
            <a:ext cx="82090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По названию предположите, о чем будет рассказ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Какие события могут произойти в описанной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обстановке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Какие ассоциации вызывают у вас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имена, фамилии героев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Что вы почувствовали, прочитав эту часть, какие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ощущения у вас возникли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Какие ваши ожидания подтвердились? Что было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неожиданным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Как вы думаете, чем закончится рассказ? Как вы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бы закончили его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Что будет с героем после событий рассказа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8" name="Picture 66" descr="3abb06005efec7e52781144d5fa3c012"/>
          <p:cNvPicPr/>
          <p:nvPr/>
        </p:nvPicPr>
        <p:blipFill>
          <a:blip r:embed="rId1"/>
          <a:stretch/>
        </p:blipFill>
        <p:spPr>
          <a:xfrm rot="16200000">
            <a:off x="-2952360" y="2952720"/>
            <a:ext cx="6858000" cy="9525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5" descr="c6ee0a6dc9fcb247a8c5e0d175431d11"/>
          <p:cNvPicPr/>
          <p:nvPr/>
        </p:nvPicPr>
        <p:blipFill>
          <a:blip r:embed="rId2"/>
          <a:stretch/>
        </p:blipFill>
        <p:spPr>
          <a:xfrm rot="10800000">
            <a:off x="611280" y="5905440"/>
            <a:ext cx="81374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Что же даёт школе внедрение современных 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образовательных технологий: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овышение качества знаний учащихся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изменение микроклимата в школе, уменьшение числа конфликтных ситуаций между участниками образовательного процесса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изменение профессиональной позиции педагогов – это творческий подход к организации учебно-воспитательного процесса в классе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активной жизненной позиции всех: и взрослых и детей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создание воспитательной системы в школе, способствующей повышению степени самостоятельности учащихся в образовательном процессе. Совершенствование качественных характеристик личности учащихс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«Бортовые журналы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117440" y="2382840"/>
          <a:ext cx="7264440" cy="2336400"/>
        </p:xfrm>
        <a:graphic>
          <a:graphicData uri="http://schemas.openxmlformats.org/drawingml/2006/table">
            <a:tbl>
              <a:tblPr/>
              <a:tblGrid>
                <a:gridCol w="3632760"/>
                <a:gridCol w="3631680"/>
              </a:tblGrid>
              <a:tr h="105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Что мне известно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по данной теме?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Что нового я узнал из текста?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8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Результаты учебных достижений обучающихся за последние три года</a:t>
            </a:r>
            <a:br>
              <a:rPr sz="1800"/>
            </a:b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Русский язык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838080" y="2362320"/>
          <a:ext cx="3770280" cy="3723840"/>
        </p:xfrm>
        <a:graphic>
          <a:graphicData uri="http://schemas.openxmlformats.org/drawingml/2006/table">
            <a:tbl>
              <a:tblPr/>
              <a:tblGrid>
                <a:gridCol w="1256760"/>
                <a:gridCol w="1256760"/>
                <a:gridCol w="1256760"/>
              </a:tblGrid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11-201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12-201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13-201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5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1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5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4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761000" y="2967120"/>
          <a:ext cx="376848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1000" y="2967120"/>
                    <a:ext cx="37684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Результаты учебных достижений обучающихся за последние три года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Литература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838080" y="2362320"/>
          <a:ext cx="3769920" cy="3723840"/>
        </p:xfrm>
        <a:graphic>
          <a:graphicData uri="http://schemas.openxmlformats.org/drawingml/2006/table">
            <a:tbl>
              <a:tblPr/>
              <a:tblGrid>
                <a:gridCol w="1254600"/>
                <a:gridCol w="1194840"/>
                <a:gridCol w="1320480"/>
              </a:tblGrid>
              <a:tr h="14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11-201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12-201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13-201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30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5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6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0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4761000" y="2565360"/>
          <a:ext cx="4132080" cy="36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1000" y="2565360"/>
                    <a:ext cx="413208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Качество знаний учащихся одного класса по русскому языку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187280" y="2708280"/>
          <a:ext cx="3421080" cy="2843280"/>
        </p:xfrm>
        <a:graphic>
          <a:graphicData uri="http://schemas.openxmlformats.org/drawingml/2006/table">
            <a:tbl>
              <a:tblPr/>
              <a:tblGrid>
                <a:gridCol w="908280"/>
                <a:gridCol w="1255680"/>
                <a:gridCol w="12571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11-201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12-201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13-201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6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1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1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0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4932360" y="2492280"/>
          <a:ext cx="3960720" cy="35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492280"/>
                    <a:ext cx="3960720" cy="35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Качество знаний учащихся одного класса по литератур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838080" y="2708280"/>
          <a:ext cx="3302280" cy="2263680"/>
        </p:xfrm>
        <a:graphic>
          <a:graphicData uri="http://schemas.openxmlformats.org/drawingml/2006/table">
            <a:tbl>
              <a:tblPr/>
              <a:tblGrid>
                <a:gridCol w="1100160"/>
                <a:gridCol w="1101960"/>
                <a:gridCol w="110016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11-20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12-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13-20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9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4356000" y="2492280"/>
          <a:ext cx="460872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2492280"/>
                    <a:ext cx="460872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Цель личностно-ориентированного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бучения: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    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оздание условий для познавательной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активности ученик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оздание положительной мотивации к уроку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Чтение стихотвор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рузья! Моя задача такова – 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ткрыть вам, как построены слова,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акие их морфемы составляют,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акую роль в словах они играют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ием перепутанной логической цепочки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87280" y="2565360"/>
          <a:ext cx="7561440" cy="3600360"/>
        </p:xfrm>
        <a:graphic>
          <a:graphicData uri="http://schemas.openxmlformats.org/drawingml/2006/table">
            <a:tbl>
              <a:tblPr/>
              <a:tblGrid>
                <a:gridCol w="3208680"/>
                <a:gridCol w="4352760"/>
              </a:tblGrid>
              <a:tr h="106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асти роман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жанры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53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3366"/>
                        </a:buClr>
                        <a:buSzPct val="75000"/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«Бэла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) «Максим Максимыч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) «Тамань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) «Княжна Мери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) «Фаталист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) романтическая повесть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) психологическая повесть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) путевые заметки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) философская повесть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) рассказ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иемы совместного целеполагания: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ешение проблемного вопроса или формирование проблемы на основе жизненного опыта учащихся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ование наглядного образа, объекта (незаконченная схема, таблиц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абота с материалом учебник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“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Ключевое слово”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тсроченная догадка”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дивительное рядом”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озговая атака”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ктуализация знаний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т рефлексии к целеполаганию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крытая ошибка”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Эпиграф”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1332000" y="1557360"/>
          <a:ext cx="7416720" cy="4562280"/>
        </p:xfrm>
        <a:graphic>
          <a:graphicData uri="http://schemas.openxmlformats.org/drawingml/2006/table">
            <a:tbl>
              <a:tblPr/>
              <a:tblGrid>
                <a:gridCol w="2473200"/>
                <a:gridCol w="2470320"/>
                <a:gridCol w="2473200"/>
              </a:tblGrid>
              <a:tr h="506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ехнологические этапы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r>
                        <a:rPr b="1" i="1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стадия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I</a:t>
                      </a:r>
                      <a:r>
                        <a:rPr b="1" i="1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стадия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II</a:t>
                      </a:r>
                      <a:r>
                        <a:rPr b="1" i="1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стадия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Вызов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смысление содержания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Рефлексия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9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ктуализация имеющихся знаний;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буждение интереса к получению новой информации;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становка учеником собственных целей обучения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лучение новой информации;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орректировка учеником поставленных целей обучения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размышление, рождение нового знания;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становка учеником новых целей обучения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755640" y="54144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Основа технологии развития критического мышл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Прием «ФИШБОУН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AutoShape 3"/>
          <p:cNvSpPr/>
          <p:nvPr/>
        </p:nvSpPr>
        <p:spPr>
          <a:xfrm rot="10800000">
            <a:off x="1403280" y="2781360"/>
            <a:ext cx="1944720" cy="201600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2016000"/>
              <a:gd name="textAreaBottom" fmla="*/ 201636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cc99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2843280" y="3716280"/>
            <a:ext cx="3889440" cy="144360"/>
          </a:xfrm>
          <a:prstGeom prst="flowChartTerminator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cc99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 rot="10800000">
            <a:off x="6659640" y="3357720"/>
            <a:ext cx="1295280" cy="863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cc99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3851280" y="1989000"/>
            <a:ext cx="576360" cy="360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cc99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5219640" y="1989000"/>
            <a:ext cx="576360" cy="360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cc99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1403280" y="3573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Проблем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348000" y="155736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Arial"/>
              </a:rPr>
              <a:t>Причин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5292720" y="162864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Arial"/>
              </a:rPr>
              <a:t>Причин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3132000" y="5300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Arial"/>
              </a:rPr>
              <a:t>Факт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5724360" y="5300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Arial"/>
              </a:rPr>
              <a:t>Факт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6588000" y="3573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Вывод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Oval 14"/>
          <p:cNvSpPr/>
          <p:nvPr/>
        </p:nvSpPr>
        <p:spPr>
          <a:xfrm>
            <a:off x="1908000" y="3141720"/>
            <a:ext cx="287640" cy="287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cc99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«Перекрестная дискуссия».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Татьян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 - решительная - у нее открытое, чистое сердце - искренняя, чувственная - не способна предать, - была бы верной женой… Онегин - эгоист, причиняет Татьяне боль - не желает понять душу влюбленной девушки - не дает шанс ни ей, ни себе - обрекает себя на одиночество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Онегин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 - честный, открытый, благородный человек - не способен лгать - не любит ее, ведь сердцу не прикажешь…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Татьяна - живет в своем придуманном мире - создала себе образ некого идеального мужчину - слишком откровенная, не способна сдерживать свои эмоции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7T17:35:20Z</dcterms:created>
  <dc:creator>User</dc:creator>
  <dc:description/>
  <dc:language>en-US</dc:language>
  <cp:lastModifiedBy>User</cp:lastModifiedBy>
  <dcterms:modified xsi:type="dcterms:W3CDTF">2015-03-16T16:46:13Z</dcterms:modified>
  <cp:revision>9</cp:revision>
  <dc:subject/>
  <dc:title>Слайд 1</dc:title>
</cp:coreProperties>
</file>