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0.png" ContentType="image/pn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2F1-0022-4671-B6C0-90529CB4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AA9-A572-4A41-96ED-F9021FE9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0E2-350F-4506-91D1-F4525399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A2A-0330-4E24-9D7B-C536E03A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65C-4F28-4AF7-8C6B-C26289A1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C41-49F7-459E-903E-62D9E15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1D6-6C18-4FEF-8383-067D9F3A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719-84C0-4FBF-9551-9165CE34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12F-BBEE-4B04-9918-D0CDB4D2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97C-F7AA-4B86-834C-5C6C2A2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6D6-F8E0-47A2-B304-0679B37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0F0-19C4-4263-BD45-8E8509D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02EF-5BA2-4B10-808A-3DBB2E383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8262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тский сад комбинированного вида «Золотой петушок» с. Добр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бровского муниципального района Лип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ИНТЕГРИРОВАННОМУ ЗАНЯТ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СТАРШЕ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ТЕМУ «ЦВ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6600cc"/>
                </a:solidFill>
                <a:latin typeface="Arial"/>
              </a:rPr>
              <a:t>Воспитател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6600cc"/>
                </a:solidFill>
                <a:latin typeface="Arial"/>
              </a:rPr>
              <a:t>1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6600cc"/>
                </a:solidFill>
                <a:latin typeface="Arial"/>
              </a:rPr>
              <a:t>Ломакина Елена Александровна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597672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975960" y="0"/>
            <a:ext cx="45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жит тропинка через л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ыряет влево, в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да ни глянь, цветы во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 по колено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4268520" y="82440"/>
            <a:ext cx="48578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Зелёный луг, как чудный с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Пахуч и свеж в часы рас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Красивых, радужных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На нём разбросаны бу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285920" y="2857680"/>
            <a:ext cx="62294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72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143000" y="5214960"/>
            <a:ext cx="62294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72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5" descr="D:\анимашки\анимашки\насекомые\butterfly44.gif"/>
          <p:cNvPicPr/>
          <p:nvPr/>
        </p:nvPicPr>
        <p:blipFill>
          <a:blip r:embed="rId2"/>
          <a:stretch/>
        </p:blipFill>
        <p:spPr>
          <a:xfrm rot="1945200">
            <a:off x="-12600" y="1793880"/>
            <a:ext cx="1057320" cy="79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:\анимашки\анимашки\насекомые\borb4.gif"/>
          <p:cNvPicPr/>
          <p:nvPr/>
        </p:nvPicPr>
        <p:blipFill>
          <a:blip r:embed="rId3"/>
          <a:stretch/>
        </p:blipFill>
        <p:spPr>
          <a:xfrm rot="2601600">
            <a:off x="952200" y="3115800"/>
            <a:ext cx="1125360" cy="93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:\анимашки\анимашки\насекомые\butterfly12.gif"/>
          <p:cNvPicPr/>
          <p:nvPr/>
        </p:nvPicPr>
        <p:blipFill>
          <a:blip r:embed="rId4"/>
          <a:stretch/>
        </p:blipFill>
        <p:spPr>
          <a:xfrm>
            <a:off x="778680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album_2511190642_p_2711133106_3945"/>
          <p:cNvPicPr/>
          <p:nvPr/>
        </p:nvPicPr>
        <p:blipFill>
          <a:blip r:embed="rId5"/>
          <a:stretch/>
        </p:blipFill>
        <p:spPr>
          <a:xfrm>
            <a:off x="214200" y="0"/>
            <a:ext cx="8891640" cy="50846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" descr=""/>
          <p:cNvPicPr/>
          <p:nvPr/>
        </p:nvPicPr>
        <p:blipFill>
          <a:blip r:embed="rId6"/>
          <a:stretch/>
        </p:blipFill>
        <p:spPr>
          <a:xfrm>
            <a:off x="-438120" y="-49320"/>
            <a:ext cx="8161200" cy="1854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07Z</dcterms:created>
  <dc:creator>Helen</dc:creator>
  <dc:description/>
  <dc:language>en-US</dc:language>
  <cp:lastModifiedBy>Admin</cp:lastModifiedBy>
  <dcterms:modified xsi:type="dcterms:W3CDTF">2014-09-28T07:48:08Z</dcterms:modified>
  <cp:revision>53</cp:revision>
  <dc:subject/>
  <dc:title>Слайд 1</dc:title>
</cp:coreProperties>
</file>