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9B8-6437-4E9B-B58B-C1269C06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1A4-FDA9-446A-AD77-E3EDED10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57C-5689-4D89-ACDF-92359E63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201-F2BC-4627-9E7F-380ADB4E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4F5D6-D775-4E86-BD01-FFC0495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18244-53EF-48E8-B8FF-165FE67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B09DB-454F-4D16-A681-6BC18024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6A5B-EA17-4B3B-8687-67DE29D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937BD-C012-4780-A9C2-2125833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6D5B1-0F57-488E-81EB-2376D62B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3D05-EB43-4069-B35D-76CC2A5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8EB-11CA-479C-800A-EDF6F85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591DA-1D53-49D7-A23D-74A33FB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25BAE-7CD9-4046-AE50-5D4B7AD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BC89E-D027-4AE1-8696-7292486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0C33B-DC84-440B-952F-98EB2B5D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EBFD6-2CAE-447D-BBEF-F94EF9B7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374-D729-4BB2-A3BD-CEEADFE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480-A42A-47E8-BEA8-50ACA063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A56-A7E0-48F3-A77D-9785D7A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B82-0952-42D1-8E60-FF8718C4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C5F-2C98-432A-AE35-658D193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2FE-631B-41FA-AE91-52FFDA6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DA0-9865-48E6-BB73-5F98C42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2c27"/>
            </a:gs>
            <a:gs pos="100000">
              <a:srgbClr val="775f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75f55"/>
                </a:gs>
                <a:gs pos="100000">
                  <a:srgbClr val="dd8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72c27"/>
                </a:gs>
                <a:gs pos="100000">
                  <a:srgbClr val="775f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75f55"/>
              </a:gs>
              <a:gs pos="100000">
                <a:srgbClr val="f7b6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3e3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356A-2596-4D80-876B-000665E409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2c27"/>
            </a:gs>
            <a:gs pos="100000">
              <a:srgbClr val="775f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75f55"/>
                </a:gs>
                <a:gs pos="100000">
                  <a:srgbClr val="dd8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72c27"/>
                </a:gs>
                <a:gs pos="100000">
                  <a:srgbClr val="775f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75f55"/>
              </a:gs>
              <a:gs pos="100000">
                <a:srgbClr val="f7b61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5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3e3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108E-0A7D-4AAA-BC30-F6ED9EB8C2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b615"/>
                </a:solidFill>
                <a:latin typeface="Arial"/>
              </a:rPr>
              <a:t>Система работы</a:t>
            </a:r>
            <a:br>
              <a:rPr sz="4800"/>
            </a:br>
            <a:r>
              <a:rPr b="1" i="1" lang="ru-RU" sz="4800" spc="-1" strike="noStrike">
                <a:solidFill>
                  <a:srgbClr val="f7b615"/>
                </a:solidFill>
                <a:latin typeface="Arial"/>
              </a:rPr>
              <a:t> по валеологическому воспитанию дошкольников</a:t>
            </a:r>
            <a:br>
              <a:rPr sz="4800"/>
            </a:br>
            <a:endParaRPr b="0" lang="en-US" sz="4800" spc="-1" strike="noStrike">
              <a:solidFill>
                <a:srgbClr val="ebddc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Содержание  работы:</a:t>
            </a:r>
            <a:endParaRPr b="0" lang="en-US" sz="2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 правилах  здоровья:  режим,  питание,  прогулка,  культурно-гигиенические  навыки,  самообслуживание,  занятия  физической  культурой  и  спортом,  профилактика  различных  заболе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ие  и  внутренние  особенности  строения 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 здоровом  взаимодействии  со  сверстниками  и 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 безопасном  поведении  дома  и  на  ули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 заболевании  человека  и  поведении  при  заболе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 полезных  и  вредных  привыч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Методическая  работа  с  педагогами:</a:t>
            </a:r>
            <a:endParaRPr b="0" lang="en-US" sz="2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цикла семинаров-практикумов для повы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ессиональной компетентности педагогов по валеологическому воспитан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 и  проведение  ежегодных  педсоветов  валеологической  направл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опосещения и просмотр открытых мероприят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работа с воспита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b615"/>
                </a:solidFill>
                <a:latin typeface="Arial"/>
              </a:rPr>
              <a:t>Модель предметно-развивающей среды групп</a:t>
            </a: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ebddc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Физкультурно – оздоровительная  з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 спортивные  игры  и  оборудование  (обручи,  скакалки,  кегли,  канат, султанчики,  кольцебросы,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шени, мешочки,  кольца,  косички, мячи, атрибуты  к  подвижным  играм и 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 оборудование  для  закаливающих процедур  ( пуговичные  дорожки,  дорожки,  валики,  бревнышки,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бристые  доски  и 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 оборудование  для  зрительной  гимнас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Познавательно – игровая  зон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сюжетно – ролевые  игры  «Больница»,  «Семья»  и 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дидактические  игры  с валеологическим  содержанием  («Наши  маленькие  помощники»,  «Зеленая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тека»,  «Больница»  и 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 Театральная  з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разнообразные  виды  театр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куклы – Крепыш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элементы  костюмов,  деко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Опытно – экспериментальная  з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модели,  макеты,  микроскопы,  лупы,  коллекции,  мини – музе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энциклопедии,  атласы,  карты  и 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Литературно – художественная  з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книги, соответствующие  возрасту  дет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иллюстрации, фотограф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выставки  рисунков,  подело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книжки – самоделк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 Природн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з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уголки  прир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оформление  участков  д/с  (экологические  тропы,  цветники,  деревья,  кустарник  и 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400" spc="-1" strike="noStrike">
                <a:solidFill>
                  <a:srgbClr val="f7b615"/>
                </a:solidFill>
                <a:latin typeface="Arial"/>
              </a:rPr>
              <a:t> Центр  сотворчества  «Родители  и  дет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фотовыставки  «Мама,  папа,  я – дружная  семья»,  «Мы  и лето»,  «Путешествие  в  царство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 выставки  совместных  рабо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Работа </a:t>
            </a:r>
            <a:br>
              <a:rPr sz="2400"/>
            </a:b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по  валеологическому  просвещению</a:t>
            </a:r>
            <a:br>
              <a:rPr sz="2400"/>
            </a:b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 родителей</a:t>
            </a:r>
            <a:r>
              <a:rPr b="0" lang="ru-RU" sz="4000" spc="-1" strike="noStrike">
                <a:solidFill>
                  <a:srgbClr val="ebddc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 работы  с  родителям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ьские собрания и конференц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ендовые консультации в групп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культурно-оздоровительный родительский клуб «Росток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выставки  «Папа,  мама,  я – спортивная  семья»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bdd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курсы предметно-развивающей среды в групп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b615"/>
                </a:solidFill>
                <a:latin typeface="Arial"/>
              </a:rPr>
              <a:t>Диагностика возрастной динамики формирования валеологических представлений дошкольников</a:t>
            </a:r>
            <a:endParaRPr b="0" lang="en-US" sz="20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bddc3"/>
                </a:solidFill>
                <a:uFillTx/>
                <a:latin typeface="Arial"/>
              </a:rPr>
              <a:t>Диагностический матери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ebddc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ля детей младшего и среднего дошкольного возраст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Строение тела человека», «Правила чистюл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ebddc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ля детей старшего дошкольного возрас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Неоконченные предложения», «Здоровый человек», «Организм челове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bddc3"/>
                </a:solidFill>
                <a:uFillTx/>
                <a:latin typeface="Arial"/>
              </a:rPr>
              <a:t>Методы диагнос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ebddc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е беседы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ebddc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bddc3"/>
                </a:solidFill>
                <a:uFillTx/>
                <a:latin typeface="Arial"/>
              </a:rPr>
              <a:t>Результаты диагнос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редний уровень развития валеологической культуры детей в ДОУ за период с 2011 по 2013 гг. возрос с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8, 6 %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до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5,1 %.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зрослым кажется,  что  дети  не  заботятся  о  своем  здоровье:  если  за  ними  не  смотреть.  Они  повыпадывали  бы  все  из  окон,  поутонули  бы,  попали  бы  под  машины, повыбили  бы  себе  глаза,  поломали  бы  ноги  и  позаболевали  бы  воспалением мозга  и  воспалением  легких – и  уж  сам  не знаю,  какими  еще  болезням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Нет.  Детям  совершенно  также,  как  и  взрослым,  хочется  быть  здоровыми  и  сильными,  только  дети  не  знают,  что  для  этого  надо  делать. О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сни  им,  и  они  будут  беречься»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Януш  Корчак</a:t>
            </a:r>
            <a:endParaRPr b="0" lang="en-US" sz="2000" spc="-1" strike="noStrike">
              <a:solidFill>
                <a:srgbClr val="ebddc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8200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7b615"/>
                </a:solidFill>
                <a:uFillTx/>
                <a:latin typeface="Arial"/>
              </a:rPr>
              <a:t>Пробл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ddc3"/>
                </a:solidFill>
                <a:latin typeface="Arial"/>
              </a:rPr>
              <a:t>Статистика свидетельству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Физиологически  зрелыми  сегодня  рождаются  не  более  14% 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К  первому  классу  25 – 35%  детей  имеют  физические  недостатки  или  хронические 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До  60%  детей  и  подростков  страдают  хроническими  болезн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79%  подростков  имеют  нервно – психические  нару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bddc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Прогнозируется,  что  лишь  54%  подростков,  которым  сейчас  16  лет,  доживут  до  пенсионного 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476360" y="3222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8047"/>
                </a:solidFill>
                <a:latin typeface="Arial"/>
              </a:rPr>
              <a:t>АКТУАЛЬНОСТЬ 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Diagram 6"/>
          <p:cNvGrpSpPr/>
          <p:nvPr/>
        </p:nvGrpSpPr>
        <p:grpSpPr>
          <a:xfrm>
            <a:off x="2489040" y="1339920"/>
            <a:ext cx="4094280" cy="3581280"/>
            <a:chOff x="2489040" y="1339920"/>
            <a:chExt cx="4094280" cy="3581280"/>
          </a:xfrm>
        </p:grpSpPr>
        <p:sp>
          <p:nvSpPr>
            <p:cNvPr id="127" name="_s1028"/>
            <p:cNvSpPr/>
            <p:nvPr/>
          </p:nvSpPr>
          <p:spPr>
            <a:xfrm>
              <a:off x="2489040" y="1854360"/>
              <a:ext cx="3067200" cy="3066840"/>
            </a:xfrm>
            <a:prstGeom prst="donut">
              <a:avLst>
                <a:gd name="adj" fmla="val 125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029"/>
            <p:cNvSpPr/>
            <p:nvPr/>
          </p:nvSpPr>
          <p:spPr>
            <a:xfrm>
              <a:off x="5969160" y="2568600"/>
              <a:ext cx="614160" cy="40968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Медицина -  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0"/>
            <p:cNvSpPr/>
            <p:nvPr/>
          </p:nvSpPr>
          <p:spPr>
            <a:xfrm>
              <a:off x="2873520" y="2238480"/>
              <a:ext cx="2300040" cy="2300040"/>
            </a:xfrm>
            <a:prstGeom prst="donut">
              <a:avLst>
                <a:gd name="adj" fmla="val 16666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5969160" y="2158920"/>
              <a:ext cx="614160" cy="40968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кология  -  15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3255840" y="2620800"/>
              <a:ext cx="1533600" cy="15336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5969160" y="1749600"/>
              <a:ext cx="614160" cy="409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аследственность  -  17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>
              <a:off x="3639960" y="3005280"/>
              <a:ext cx="766800" cy="7668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5969160" y="1339920"/>
              <a:ext cx="614160" cy="40968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браз  жизни  -  6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17"/>
          <p:cNvSpPr/>
          <p:nvPr/>
        </p:nvSpPr>
        <p:spPr>
          <a:xfrm>
            <a:off x="1403280" y="2509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8047"/>
                </a:solidFill>
                <a:latin typeface="Arial"/>
              </a:rPr>
              <a:t>АКТУАЛЬНОСТЬ ТЕМЫ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95280" y="1484280"/>
            <a:ext cx="431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1116000" y="2924280"/>
            <a:ext cx="1152360" cy="10094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252360 h 1009440"/>
              <a:gd name="textAreaBottom" fmla="*/ 757080 h 100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b615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ebddc3"/>
                </a:solidFill>
                <a:latin typeface="Arial"/>
              </a:rPr>
              <a:t>Одним из обязательных направлений деятельности по созданию здоровьесберегающей среды является система работы по валеологическому воспитанию до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344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39640" y="40356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7b615"/>
                </a:solidFill>
                <a:uFillTx/>
                <a:latin typeface="Arial"/>
              </a:rPr>
              <a:t>Цель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</a:rPr>
              <a:t>:</a:t>
            </a:r>
            <a:r>
              <a:rPr b="0" lang="ru-RU" sz="2000" spc="-1" strike="noStrike" u="sng">
                <a:solidFill>
                  <a:srgbClr val="ebddc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dc3"/>
                </a:solidFill>
                <a:latin typeface="Arial"/>
              </a:rPr>
              <a:t>Создание системы работы по формированию у дошкольников ценностей здоровья и здорового образа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74560" y="1565640"/>
            <a:ext cx="856944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7b615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бор и систематизация методического материала по валеологическо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нию  дошколь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аботка перспективного планирования и методических рекомендаций для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телей по проведению валеологических занятий во всех возрастн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уппах (с дифференциацией содержания и методов обучения в разн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растных группах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ация цикла семинаров-практикумов для повыш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фессиональной компетентности педагогов по валеологическо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н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заимопосещение и просмотр открытых мероприя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ая работа с воспитателя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аботка  модели предметно-развивающей среды групп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имулирующей развитие валеологической культуры воспитанников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по валеологическому просвещению родител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бор и апробация диагностического материала, позволяющего прослед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растную динамику формирования валеологических представлений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школьни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38512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dc3"/>
                </a:solidFill>
                <a:uFillTx/>
                <a:latin typeface="Arial"/>
              </a:rPr>
              <a:t>Цель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bddc3"/>
                </a:solidFill>
                <a:latin typeface="Arial"/>
              </a:rPr>
              <a:t>Формирование у дошкольников ценностей здоровья и здорового образа жизни.</a:t>
            </a:r>
            <a:r>
              <a:rPr b="0" lang="ru-RU" sz="4000" spc="-1" strike="noStrike">
                <a:solidFill>
                  <a:srgbClr val="ebddc3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ebddc3"/>
                </a:solidFill>
                <a:uFillTx/>
                <a:latin typeface="Arial"/>
              </a:rPr>
              <a:t>Задачи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1. Введение валеологического содержания в формирование: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 - познавательной  сферы;  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 - социально-нравственной  сферы ребенк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2.Формирование  культурно-гигиенических  навыков и навыков самообслужив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3. Формирование  мотивации на сохранение здоровья и   здоровый  образ  жизни.</a:t>
            </a:r>
            <a:endParaRPr b="0" lang="en-US" sz="20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9280" y="62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Методические  рекомендации  для  воспитателей  по  валеологическому воспитанию  дете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29920" y="2133720"/>
            <a:ext cx="8202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1. Специально  организуемые занятия: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 - познавательны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 по  продуктивной  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2. Игры (сюжетно-ролевые, подвижные, дидактические и 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3. Тематические прогулки и экскур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4.Свободная  самостоятельная  деятельность  в  течение  дня.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5. Домашние  задания детям  и  родителя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55640" y="692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b615"/>
                </a:solidFill>
                <a:latin typeface="Arial"/>
              </a:rPr>
              <a:t>Виды деятельности, через которые формиру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b615"/>
                </a:solidFill>
                <a:latin typeface="Arial"/>
              </a:rPr>
              <a:t>культура здоровья дошколь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28880" indent="-1028880">
              <a:buClr>
                <a:srgbClr val="ebddc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ddc3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7b615"/>
                </a:solidFill>
                <a:latin typeface="Arial"/>
              </a:rPr>
              <a:t>Методы  работы:</a:t>
            </a:r>
            <a:br>
              <a:rPr sz="2400"/>
            </a:br>
            <a:br>
              <a:rPr sz="28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наблюдение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рассказ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беседа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опыты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экспериментирование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различные  виды  игр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практическая  деятельность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самонаблюдение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моделирование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логические  рассуждения;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Arial"/>
              </a:rPr>
              <a:t>-самостоятельная  творческая  деятельность  детей.</a:t>
            </a:r>
            <a:endParaRPr b="0" lang="en-US" sz="2000" spc="-1" strike="noStrike">
              <a:solidFill>
                <a:srgbClr val="ebddc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2:22:16Z</dcterms:created>
  <dc:creator>Коля</dc:creator>
  <dc:description/>
  <dc:language>en-US</dc:language>
  <cp:lastModifiedBy>Зек Ирина Петровна</cp:lastModifiedBy>
  <dcterms:modified xsi:type="dcterms:W3CDTF">2015-03-16T10:17:59Z</dcterms:modified>
  <cp:revision>17</cp:revision>
  <dc:subject/>
  <dc:title>«Взрослым кажется,  что  дети  не  заботятся  о  своем  здоровье:  если  за  ними  не  смотреть.  Они  повыпадывали  бы  все  из  окон,  поутонули  бы,  попали  бы  под  машины, повыбили  бы  себе  глаза,  поломали  бы  ноги  и  позаболевали  бы  воспалением мозга  и  воспалением  легких – и  уж  сам  не знаю,  какими  еще  болезнями.   Нет.  Детям  совершенно  также,  как  и  вз </dc:title>
</cp:coreProperties>
</file>