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png" ContentType="image/pn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A06E-4D87-4F34-BA81-0E36F42010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.Г. Петерсон «Математика 4 класс»   Урок 24.    Сделайте клик по кнопке «Показать» ( 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.Г. Петерсон «Математика 4 класс»   Урок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   Сделайте клик по кнопке «Показать» ( 5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.Г. Петерсон «Математика 4 класс»   Урок 27.    Сделайте клик по кнопке «Показать» ( 5 раз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.Г. Петерсон «Математика 4 класс»   Урок 24.    Сделайте клик по кнопке «Показать» ( 2 раз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.Г. Петерсон «Математика 4 класс»   Урок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4A5-7F35-4DCF-8CDF-96B0FBC7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C6F-B75B-482E-96DD-F5359026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3D2-330C-4C00-9B7B-ACA3B383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68F-6A20-4289-BFCC-56DC4676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F3B1-5249-4AE4-8918-3B0BFBAC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6DE9-6F42-4B43-AE8B-B0AE82B6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4437-D4CC-4A0F-BB6B-24368A1E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058C-A75D-444A-86F3-316F34ED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4A29-2566-41FB-AB72-D2B541D2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1E67-A389-49E8-A95A-A0A57C87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1F63-8D5B-4A3E-ABD1-17641A38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443-88F3-4E82-9A9E-A05F15B8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FF60-42E3-4B5D-969E-E45F46D3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15E6-D260-4853-88EB-B599D0DC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EE0B-74D5-412E-BFF8-8464FF4D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0C47-3BA1-4C87-B5BA-7C7654F5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FF52-3625-4E14-B2AA-823269A9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B8A-3918-4D5C-A378-2EDE5F5F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EAB9-81DD-4294-BC0A-D4E078F5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0CE-9B2B-49A8-B0CC-0EA3BBC6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E7FC-37DF-471D-B4B6-2519F687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3D53-365D-421D-BD5D-37795459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BB4-FA52-4BC1-8EB7-9B7E1A93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BAF-5248-4AFB-A0C8-B574A4E7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C1DA-7FF6-4971-A9F8-A1787D4DAB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0899-6D86-4C4E-9268-8D76F2A33F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03640" y="2349360"/>
            <a:ext cx="3529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ремя</a:t>
            </a:r>
            <a:endParaRPr b="1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56000" y="549360"/>
            <a:ext cx="431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корость</a:t>
            </a:r>
            <a:endParaRPr b="1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411280" y="4005360"/>
            <a:ext cx="5256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сстояние</a:t>
            </a:r>
            <a:endParaRPr b="1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68360" y="1628640"/>
            <a:ext cx="4896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469800" cy="46800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468000"/>
              <a:gd name="textAreaBottom" fmla="*/ 437760 h 468000"/>
            </a:gdLst>
            <a:ahLst/>
            <a:rect l="textAreaLeft" t="textAreaTop" r="textAreaRight" b="textAreaBottom"/>
            <a:pathLst>
              <a:path w="21683" h="21600">
                <a:moveTo>
                  <a:pt x="0" y="0"/>
                </a:moveTo>
                <a:lnTo>
                  <a:pt x="21683" y="0"/>
                </a:lnTo>
                <a:lnTo>
                  <a:pt x="21683" y="21600"/>
                </a:lnTo>
                <a:lnTo>
                  <a:pt x="0" y="21600"/>
                </a:lnTo>
                <a:close/>
              </a:path>
              <a:path fill="lightenLess" w="21683" h="21600">
                <a:moveTo>
                  <a:pt x="0" y="0"/>
                </a:moveTo>
                <a:lnTo>
                  <a:pt x="21683" y="0"/>
                </a:lnTo>
                <a:lnTo>
                  <a:pt x="20283" y="1400"/>
                </a:lnTo>
                <a:lnTo>
                  <a:pt x="1400" y="1400"/>
                </a:lnTo>
                <a:close/>
              </a:path>
              <a:path fill="darken" w="21683" h="21600">
                <a:moveTo>
                  <a:pt x="21683" y="0"/>
                </a:moveTo>
                <a:lnTo>
                  <a:pt x="21683" y="21600"/>
                </a:lnTo>
                <a:lnTo>
                  <a:pt x="20283" y="20200"/>
                </a:lnTo>
                <a:lnTo>
                  <a:pt x="20283" y="1400"/>
                </a:lnTo>
                <a:close/>
              </a:path>
              <a:path fill="darkenLess" w="21683" h="21600">
                <a:moveTo>
                  <a:pt x="21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3" y="20200"/>
                </a:lnTo>
                <a:close/>
              </a:path>
              <a:path fill="lighten" w="21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3" h="21600">
                <a:moveTo>
                  <a:pt x="3835" y="3794"/>
                </a:moveTo>
                <a:lnTo>
                  <a:pt x="17848" y="10800"/>
                </a:lnTo>
                <a:lnTo>
                  <a:pt x="3835" y="1780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"/>
          <p:cNvSpPr/>
          <p:nvPr/>
        </p:nvSpPr>
        <p:spPr>
          <a:xfrm>
            <a:off x="324000" y="333360"/>
            <a:ext cx="828036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ончи пред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Чтобы найти расстояние, нужно ___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скорость умножить на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скорость разделить на 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от скорости  вычесть 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324000" y="333360"/>
            <a:ext cx="828036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ончи пред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Чтобы найти время, нужно _____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расстояние умножить на скор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к  расстоянию добавить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расстояние разделить на скор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"/>
          <p:cNvSpPr/>
          <p:nvPr/>
        </p:nvSpPr>
        <p:spPr>
          <a:xfrm>
            <a:off x="250920" y="260280"/>
            <a:ext cx="770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)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Чтобы найти скорость, нужно расстояние разделить на врем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611280" y="1916280"/>
            <a:ext cx="66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324000" y="263700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А)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Чтобы найти расстояние, нужно скорость умножить на врем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755640" y="386064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395280" y="4005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)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Чтобы найти время, нужно расстояние разделить на скор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4" name="" descr=""/>
          <p:cNvPicPr/>
          <p:nvPr/>
        </p:nvPicPr>
        <p:blipFill>
          <a:blip r:embed="rId1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1904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904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4745" fill="hold"/>
                                        <p:tgtEl>
                                          <p:spTgt spid="19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5" name="" descr=""/>
          <p:cNvPicPr/>
          <p:nvPr/>
        </p:nvPicPr>
        <p:blipFill>
          <a:blip r:embed="rId1"/>
          <a:stretch/>
        </p:blipFill>
        <p:spPr>
          <a:xfrm>
            <a:off x="5931000" y="0"/>
            <a:ext cx="3213000" cy="3600360"/>
          </a:xfrm>
          <a:prstGeom prst="rect">
            <a:avLst/>
          </a:prstGeom>
          <a:ln w="0">
            <a:noFill/>
          </a:ln>
        </p:spPr>
      </p:pic>
      <p:pic>
        <p:nvPicPr>
          <p:cNvPr id="1906" name="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5688000" cy="2824200"/>
          </a:xfrm>
          <a:prstGeom prst="rect">
            <a:avLst/>
          </a:prstGeom>
          <a:ln w="0">
            <a:noFill/>
          </a:ln>
        </p:spPr>
      </p:pic>
      <p:sp>
        <p:nvSpPr>
          <p:cNvPr id="1907" name=""/>
          <p:cNvSpPr/>
          <p:nvPr/>
        </p:nvSpPr>
        <p:spPr>
          <a:xfrm>
            <a:off x="539640" y="836640"/>
            <a:ext cx="49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ый паровоз развивал скорость 47 км/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5295240" y="3789360"/>
            <a:ext cx="37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ранцузский экспрес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чится со скорость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53 км/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9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103640" cy="2557800"/>
          </a:xfrm>
          <a:prstGeom prst="rect">
            <a:avLst/>
          </a:prstGeom>
          <a:ln w="0">
            <a:noFill/>
          </a:ln>
        </p:spPr>
      </p:pic>
      <p:pic>
        <p:nvPicPr>
          <p:cNvPr id="1910" name="" descr=""/>
          <p:cNvPicPr/>
          <p:nvPr/>
        </p:nvPicPr>
        <p:blipFill>
          <a:blip r:embed="rId2"/>
          <a:stretch/>
        </p:blipFill>
        <p:spPr>
          <a:xfrm rot="1959600">
            <a:off x="3708360" y="3789000"/>
            <a:ext cx="4464000" cy="3701880"/>
          </a:xfrm>
          <a:prstGeom prst="rect">
            <a:avLst/>
          </a:prstGeom>
          <a:ln w="0">
            <a:noFill/>
          </a:ln>
        </p:spPr>
      </p:pic>
      <p:sp>
        <p:nvSpPr>
          <p:cNvPr id="1911" name=""/>
          <p:cNvSpPr/>
          <p:nvPr/>
        </p:nvSpPr>
        <p:spPr>
          <a:xfrm>
            <a:off x="4067280" y="155736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ый автомоби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ивал скорость 15 км/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395280" y="3573360"/>
            <a:ext cx="574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ый быстрый автомобил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жет развивать скорость 1220 км/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Реши 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362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тер проплыл по реке в течении 4 часов со скоростью 3 км/час. Обратно он плыл на 2 часа больше? Найдите  скорость катера против течения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5" name=""/>
          <p:cNvGraphicFramePr/>
          <p:nvPr/>
        </p:nvGraphicFramePr>
        <p:xfrm>
          <a:off x="826920" y="4581360"/>
          <a:ext cx="7859880" cy="2087280"/>
        </p:xfrm>
        <a:graphic>
          <a:graphicData uri="http://schemas.openxmlformats.org/drawingml/2006/table">
            <a:tbl>
              <a:tblPr/>
              <a:tblGrid>
                <a:gridCol w="1965600"/>
                <a:gridCol w="1965240"/>
                <a:gridCol w="1963800"/>
                <a:gridCol w="1965240"/>
              </a:tblGrid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V</a:t>
                      </a:r>
                      <a:r>
                        <a:rPr b="0" lang="ru-RU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уда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Обратно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5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394920" y="2031840"/>
            <a:ext cx="843588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3 х 4 = 12 (км) – рас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4 + 2 = 6 (ч) - обратное 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12 : 6 = 2 (км/ч) – обратная скор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9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20" name="" descr=""/>
          <p:cNvPicPr/>
          <p:nvPr/>
        </p:nvPicPr>
        <p:blipFill>
          <a:blip r:embed="rId2"/>
          <a:stretch/>
        </p:blipFill>
        <p:spPr>
          <a:xfrm>
            <a:off x="6227640" y="0"/>
            <a:ext cx="2700360" cy="2055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1" name=""/>
          <p:cNvGraphicFramePr/>
          <p:nvPr/>
        </p:nvGraphicFramePr>
        <p:xfrm>
          <a:off x="468360" y="4260960"/>
          <a:ext cx="8002440" cy="2095560"/>
        </p:xfrm>
        <a:graphic>
          <a:graphicData uri="http://schemas.openxmlformats.org/drawingml/2006/table">
            <a:tbl>
              <a:tblPr/>
              <a:tblGrid>
                <a:gridCol w="2000160"/>
                <a:gridCol w="2001960"/>
                <a:gridCol w="2000160"/>
                <a:gridCol w="200016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V</a:t>
                      </a:r>
                      <a:r>
                        <a:rPr b="0" lang="ru-RU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Туда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3 км/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4 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?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Обратно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4+2 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919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919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4745" fill="hold"/>
                                        <p:tgtEl>
                                          <p:spTgt spid="19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Реши 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362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тер плыл против течения 12 часов со скоростью 2 км/час. Обратно он плыл на 8 часа меньше? Найдите  скорость катера по течению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4" name=""/>
          <p:cNvGraphicFramePr/>
          <p:nvPr/>
        </p:nvGraphicFramePr>
        <p:xfrm>
          <a:off x="826920" y="4581360"/>
          <a:ext cx="7859880" cy="2087640"/>
        </p:xfrm>
        <a:graphic>
          <a:graphicData uri="http://schemas.openxmlformats.org/drawingml/2006/table">
            <a:tbl>
              <a:tblPr/>
              <a:tblGrid>
                <a:gridCol w="2737080"/>
                <a:gridCol w="1871640"/>
                <a:gridCol w="1657440"/>
                <a:gridCol w="1593720"/>
              </a:tblGrid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V</a:t>
                      </a:r>
                      <a:r>
                        <a:rPr b="0" lang="ru-RU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ротив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о течению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5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250560" y="4220640"/>
            <a:ext cx="87138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2 х 12 = 24 (км) – рас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12 - 8 = 4 (ч) – время по теч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24 : 4 = 6 (км/ч) – скорость по теч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29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56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0" name=""/>
          <p:cNvGraphicFramePr/>
          <p:nvPr/>
        </p:nvGraphicFramePr>
        <p:xfrm>
          <a:off x="324000" y="1700280"/>
          <a:ext cx="8496000" cy="2306520"/>
        </p:xfrm>
        <a:graphic>
          <a:graphicData uri="http://schemas.openxmlformats.org/drawingml/2006/table">
            <a:tbl>
              <a:tblPr/>
              <a:tblGrid>
                <a:gridCol w="2952720"/>
                <a:gridCol w="1800000"/>
                <a:gridCol w="1800360"/>
                <a:gridCol w="19429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V</a:t>
                      </a:r>
                      <a:r>
                        <a:rPr b="0" lang="ru-RU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Против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2 км/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 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?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По течению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-8 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928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928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4745" fill="hold"/>
                                        <p:tgtEl>
                                          <p:spTgt spid="19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Найдите закономерность и продолжи ряд чисе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686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 2, 4, 5, 7, 8, …, …, ...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, 5, 4, 8, 6, 11, …, …, .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 2, 5, 14, …, …, ...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 3, 7, 13, 21, 31, …, …, …, ... 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, 61, 2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, …, ...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6228360" y="205740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(+1,+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3276720" y="299412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(+3,-1; +4,-2; +5,-3, +6,-4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5364000" y="378612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(х3,-1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0" y="50148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новое число = предыдущее число + ((n + 1) * 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где n - это порядковый номер предыд. числа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292720" y="6162840"/>
            <a:ext cx="23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(62, 36, 6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959120" y="1360440"/>
            <a:ext cx="52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020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4312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11280" y="765000"/>
          <a:ext cx="7921440" cy="4751640"/>
        </p:xfrm>
        <a:graphic>
          <a:graphicData uri="http://schemas.openxmlformats.org/drawingml/2006/table">
            <a:tbl>
              <a:tblPr/>
              <a:tblGrid>
                <a:gridCol w="2641680"/>
                <a:gridCol w="2638080"/>
                <a:gridCol w="2641680"/>
              </a:tblGrid>
              <a:tr h="87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кор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Врем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f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f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fe1ff"/>
                    </a:solidFill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6642360" y="200808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0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44720" y="191628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0 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68720" y="191628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17440" y="1989000"/>
            <a:ext cx="17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 км/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7280" y="1989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 : 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3284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 км/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44720" y="328464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0 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68720" y="321300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69080" y="321300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 : 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71640" y="4508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 км/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97440" y="450864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44720" y="443700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0 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18160" y="44370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9080" y="83664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Arial"/>
              </a:rPr>
              <a:t>×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10160" y="76500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470160" cy="468360"/>
          </a:xfrm>
          <a:custGeom>
            <a:avLst/>
            <a:gdLst>
              <a:gd name="textAreaLeft" fmla="*/ 30240 w 470160"/>
              <a:gd name="textAreaRight" fmla="*/ 439920 w 47016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83" h="21600">
                <a:moveTo>
                  <a:pt x="0" y="0"/>
                </a:moveTo>
                <a:lnTo>
                  <a:pt x="21683" y="0"/>
                </a:lnTo>
                <a:lnTo>
                  <a:pt x="21683" y="21600"/>
                </a:lnTo>
                <a:lnTo>
                  <a:pt x="0" y="21600"/>
                </a:lnTo>
                <a:close/>
              </a:path>
              <a:path fill="lightenLess" w="21683" h="21600">
                <a:moveTo>
                  <a:pt x="0" y="0"/>
                </a:moveTo>
                <a:lnTo>
                  <a:pt x="21683" y="0"/>
                </a:lnTo>
                <a:lnTo>
                  <a:pt x="20283" y="1400"/>
                </a:lnTo>
                <a:lnTo>
                  <a:pt x="1400" y="1400"/>
                </a:lnTo>
                <a:close/>
              </a:path>
              <a:path fill="darken" w="21683" h="21600">
                <a:moveTo>
                  <a:pt x="21683" y="0"/>
                </a:moveTo>
                <a:lnTo>
                  <a:pt x="21683" y="21600"/>
                </a:lnTo>
                <a:lnTo>
                  <a:pt x="20283" y="20200"/>
                </a:lnTo>
                <a:lnTo>
                  <a:pt x="20283" y="1400"/>
                </a:lnTo>
                <a:close/>
              </a:path>
              <a:path fill="darkenLess" w="21683" h="21600">
                <a:moveTo>
                  <a:pt x="21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3" y="20200"/>
                </a:lnTo>
                <a:close/>
              </a:path>
              <a:path fill="lighten" w="21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3" h="21600">
                <a:moveTo>
                  <a:pt x="3835" y="3794"/>
                </a:moveTo>
                <a:lnTo>
                  <a:pt x="17848" y="10800"/>
                </a:lnTo>
                <a:lnTo>
                  <a:pt x="3835" y="1780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РЕБУ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ТРИУМФ       получаем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М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x : 6 = 5 (ост. 1) </a:t>
            </a:r>
            <a:br>
              <a:rPr sz="3200"/>
            </a:b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КОЛЕСНИЦА        получаем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ЕС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                     y : 7 = 3 (ост. 3) </a:t>
            </a:r>
            <a:br>
              <a:rPr sz="3200"/>
            </a:b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ОГОРОД                получаем ?                       с : 4 = 2 (ост.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6733080" y="548784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двух коробках было 48 ракушек. Когда из одной коробки в другую переложили 4 ракушки, ракушек в коробках стало поровну. Сколько ракушек было в каждой коробке снача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1258920" y="4437000"/>
            <a:ext cx="352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Решен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1) 48 : 2 = 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2) 24 - 4 =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3) 48 - 20 = 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ff"/>
                </a:solidFill>
                <a:latin typeface="Arial"/>
              </a:rPr>
              <a:t>Ответ: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20, 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двух аквариумах было 36 рыбок. Когда из одного аквариума перенесли в другой 6 рыбок, то в каждом аквариуме рыбок стало поровну. Сколько рыбок было в каждом аквариуме снача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1258920" y="4437000"/>
            <a:ext cx="352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ешен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) 36 : 2 =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 18 - 6 = 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36 - 12 = 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твет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12, 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ff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-181080" y="4356360"/>
            <a:ext cx="9324720" cy="2500920"/>
            <a:chOff x="-181080" y="4356360"/>
            <a:chExt cx="9324720" cy="2500920"/>
          </a:xfrm>
        </p:grpSpPr>
        <p:grpSp>
          <p:nvGrpSpPr>
            <p:cNvPr id="243" name=""/>
            <p:cNvGrpSpPr/>
            <p:nvPr/>
          </p:nvGrpSpPr>
          <p:grpSpPr>
            <a:xfrm>
              <a:off x="-126360" y="4356360"/>
              <a:ext cx="9267840" cy="359640"/>
              <a:chOff x="-126360" y="4356360"/>
              <a:chExt cx="9267840" cy="359640"/>
            </a:xfrm>
          </p:grpSpPr>
          <p:sp>
            <p:nvSpPr>
              <p:cNvPr id="244" name=""/>
              <p:cNvSpPr/>
              <p:nvPr/>
            </p:nvSpPr>
            <p:spPr>
              <a:xfrm flipH="1" rot="27600">
                <a:off x="-125280" y="4365360"/>
                <a:ext cx="2336400" cy="2610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rot="27600">
                <a:off x="2188080" y="4391280"/>
                <a:ext cx="2336400" cy="2610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rot="27600">
                <a:off x="4489560" y="4419000"/>
                <a:ext cx="2336400" cy="26172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rot="27600">
                <a:off x="6803640" y="4445280"/>
                <a:ext cx="2336400" cy="2610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81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-181080" y="4591800"/>
              <a:ext cx="9324720" cy="226548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33ccff"/>
                </a:gs>
                <a:gs pos="100000">
                  <a:srgbClr val="66ffff"/>
                </a:gs>
              </a:gsLst>
              <a:lin ang="8100000"/>
            </a:grad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8459640" y="6389640"/>
            <a:ext cx="470160" cy="468360"/>
          </a:xfrm>
          <a:custGeom>
            <a:avLst/>
            <a:gdLst>
              <a:gd name="textAreaLeft" fmla="*/ 30240 w 470160"/>
              <a:gd name="textAreaRight" fmla="*/ 439920 w 47016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83" h="21600">
                <a:moveTo>
                  <a:pt x="0" y="0"/>
                </a:moveTo>
                <a:lnTo>
                  <a:pt x="21683" y="0"/>
                </a:lnTo>
                <a:lnTo>
                  <a:pt x="21683" y="21600"/>
                </a:lnTo>
                <a:lnTo>
                  <a:pt x="0" y="21600"/>
                </a:lnTo>
                <a:close/>
              </a:path>
              <a:path fill="lightenLess" w="21683" h="21600">
                <a:moveTo>
                  <a:pt x="0" y="0"/>
                </a:moveTo>
                <a:lnTo>
                  <a:pt x="21683" y="0"/>
                </a:lnTo>
                <a:lnTo>
                  <a:pt x="20283" y="1400"/>
                </a:lnTo>
                <a:lnTo>
                  <a:pt x="1400" y="1400"/>
                </a:lnTo>
                <a:close/>
              </a:path>
              <a:path fill="darken" w="21683" h="21600">
                <a:moveTo>
                  <a:pt x="21683" y="0"/>
                </a:moveTo>
                <a:lnTo>
                  <a:pt x="21683" y="21600"/>
                </a:lnTo>
                <a:lnTo>
                  <a:pt x="20283" y="20200"/>
                </a:lnTo>
                <a:lnTo>
                  <a:pt x="20283" y="1400"/>
                </a:lnTo>
                <a:close/>
              </a:path>
              <a:path fill="darkenLess" w="21683" h="21600">
                <a:moveTo>
                  <a:pt x="21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3" y="20200"/>
                </a:lnTo>
                <a:close/>
              </a:path>
              <a:path fill="lighten" w="21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3" h="21600">
                <a:moveTo>
                  <a:pt x="3835" y="3794"/>
                </a:moveTo>
                <a:lnTo>
                  <a:pt x="17848" y="10800"/>
                </a:lnTo>
                <a:lnTo>
                  <a:pt x="3835" y="1780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3573360"/>
            <a:ext cx="26654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9800" y="2637000"/>
            <a:ext cx="1457640" cy="703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Arial"/>
              </a:rPr>
              <a:t>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 км/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89760" y="260280"/>
            <a:ext cx="2154240" cy="676440"/>
          </a:xfrm>
          <a:prstGeom prst="cloudCallout">
            <a:avLst>
              <a:gd name="adj1" fmla="val -14703"/>
              <a:gd name="adj2" fmla="val 43425"/>
            </a:avLst>
          </a:prstGeom>
          <a:gradFill rotWithShape="0">
            <a:gsLst>
              <a:gs pos="0">
                <a:srgbClr val="0068ae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 flipH="1" rot="21552000">
            <a:off x="0" y="3645000"/>
            <a:ext cx="2808360" cy="18856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179280" y="5589720"/>
            <a:ext cx="8640720" cy="360360"/>
            <a:chOff x="179280" y="5589720"/>
            <a:chExt cx="8640720" cy="360360"/>
          </a:xfrm>
        </p:grpSpPr>
        <p:grpSp>
          <p:nvGrpSpPr>
            <p:cNvPr id="255" name=""/>
            <p:cNvGrpSpPr/>
            <p:nvPr/>
          </p:nvGrpSpPr>
          <p:grpSpPr>
            <a:xfrm>
              <a:off x="179280" y="5589720"/>
              <a:ext cx="8640720" cy="360360"/>
              <a:chOff x="179280" y="5589720"/>
              <a:chExt cx="8640720" cy="360360"/>
            </a:xfrm>
          </p:grpSpPr>
          <p:sp>
            <p:nvSpPr>
              <p:cNvPr id="256" name=""/>
              <p:cNvSpPr/>
              <p:nvPr/>
            </p:nvSpPr>
            <p:spPr>
              <a:xfrm>
                <a:off x="179280" y="5734080"/>
                <a:ext cx="8640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79280" y="5589720"/>
                <a:ext cx="0" cy="288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0000" y="5589720"/>
                <a:ext cx="0" cy="360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3058920" y="5589720"/>
              <a:ext cx="0" cy="288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04720" y="5589720"/>
              <a:ext cx="0" cy="215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06728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08000" y="5734080"/>
            <a:ext cx="8712000" cy="982080"/>
            <a:chOff x="108000" y="5734080"/>
            <a:chExt cx="8712000" cy="982080"/>
          </a:xfrm>
        </p:grpSpPr>
        <p:sp>
          <p:nvSpPr>
            <p:cNvPr id="263" name=""/>
            <p:cNvSpPr/>
            <p:nvPr/>
          </p:nvSpPr>
          <p:spPr>
            <a:xfrm>
              <a:off x="108000" y="5734080"/>
              <a:ext cx="8712000" cy="527040"/>
            </a:xfrm>
            <a:custGeom>
              <a:avLst/>
              <a:gdLst/>
              <a:ahLst/>
              <a:rect l="l" t="t" r="r" b="b"/>
              <a:pathLst>
                <a:path w="5489" h="332">
                  <a:moveTo>
                    <a:pt x="0" y="45"/>
                  </a:moveTo>
                  <a:cubicBezTo>
                    <a:pt x="367" y="136"/>
                    <a:pt x="734" y="227"/>
                    <a:pt x="1089" y="272"/>
                  </a:cubicBezTo>
                  <a:cubicBezTo>
                    <a:pt x="1444" y="317"/>
                    <a:pt x="1777" y="310"/>
                    <a:pt x="2132" y="317"/>
                  </a:cubicBezTo>
                  <a:cubicBezTo>
                    <a:pt x="2487" y="324"/>
                    <a:pt x="2941" y="317"/>
                    <a:pt x="3221" y="317"/>
                  </a:cubicBezTo>
                  <a:cubicBezTo>
                    <a:pt x="3501" y="317"/>
                    <a:pt x="3583" y="332"/>
                    <a:pt x="3810" y="317"/>
                  </a:cubicBezTo>
                  <a:cubicBezTo>
                    <a:pt x="4037" y="302"/>
                    <a:pt x="4369" y="256"/>
                    <a:pt x="4581" y="226"/>
                  </a:cubicBezTo>
                  <a:cubicBezTo>
                    <a:pt x="4793" y="196"/>
                    <a:pt x="4929" y="174"/>
                    <a:pt x="5080" y="136"/>
                  </a:cubicBezTo>
                  <a:cubicBezTo>
                    <a:pt x="5231" y="98"/>
                    <a:pt x="5429" y="23"/>
                    <a:pt x="5489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45680" y="6256440"/>
              <a:ext cx="140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6 км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11640" y="1197000"/>
            <a:ext cx="507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 3 часа катер проплыл 96 к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какой скоростью плыл кате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73800" y="58770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534880" y="58053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2160" y="58053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222 0.00324 L -0.89393 0.00324 E">
                                      <p:cBhvr>
                                        <p:cTn id="107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46 -0.00115 L 0.94115 0.00949 E">
                                      <p:cBhvr>
                                        <p:cTn id="109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 rot="21243600">
            <a:off x="-304560" y="5300640"/>
            <a:ext cx="9448920" cy="7412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b2b2b2"/>
              </a:gs>
              <a:gs pos="100000">
                <a:srgbClr val="eaeaea"/>
              </a:gs>
            </a:gsLst>
            <a:lin ang="84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-304920" y="5084280"/>
            <a:ext cx="9448920" cy="1143000"/>
          </a:xfrm>
          <a:prstGeom prst="line">
            <a:avLst/>
          </a:prstGeom>
          <a:ln w="38160">
            <a:solidFill>
              <a:srgbClr val="0068a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8920" y="3284640"/>
            <a:ext cx="9055080" cy="2641320"/>
          </a:xfrm>
          <a:custGeom>
            <a:avLst/>
            <a:gdLst/>
            <a:ahLst/>
            <a:rect l="l" t="t" r="r" b="b"/>
            <a:pathLst>
              <a:path w="5704" h="1664">
                <a:moveTo>
                  <a:pt x="0" y="768"/>
                </a:moveTo>
                <a:lnTo>
                  <a:pt x="0" y="784"/>
                </a:lnTo>
                <a:lnTo>
                  <a:pt x="112" y="1664"/>
                </a:lnTo>
                <a:lnTo>
                  <a:pt x="5704" y="1008"/>
                </a:lnTo>
                <a:lnTo>
                  <a:pt x="5560" y="0"/>
                </a:lnTo>
                <a:lnTo>
                  <a:pt x="5544" y="16"/>
                </a:lnTo>
              </a:path>
            </a:pathLst>
          </a:custGeom>
          <a:noFill/>
          <a:ln w="572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8458200" y="6184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68360" y="2458440"/>
            <a:ext cx="2844360" cy="1339560"/>
            <a:chOff x="468360" y="2458440"/>
            <a:chExt cx="2844360" cy="1339560"/>
          </a:xfrm>
        </p:grpSpPr>
        <p:sp>
          <p:nvSpPr>
            <p:cNvPr id="274" name=""/>
            <p:cNvSpPr/>
            <p:nvPr/>
          </p:nvSpPr>
          <p:spPr>
            <a:xfrm flipH="1" rot="21111000">
              <a:off x="696240" y="2637000"/>
              <a:ext cx="257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99"/>
                  </a:solidFill>
                  <a:latin typeface="Arial"/>
                  <a:ea typeface="Arial"/>
                </a:rPr>
                <a:t>40км/ч</a:t>
              </a:r>
              <a:r>
                <a:rPr b="1" lang="en-US" sz="44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rot="20687400">
              <a:off x="468000" y="3398760"/>
              <a:ext cx="1522080" cy="203040"/>
            </a:xfrm>
            <a:custGeom>
              <a:avLst/>
              <a:gdLst/>
              <a:ahLst/>
              <a:rect l="l" t="t" r="r" b="b"/>
              <a:pathLst>
                <a:path w="888" h="128">
                  <a:moveTo>
                    <a:pt x="888" y="0"/>
                  </a:moveTo>
                  <a:lnTo>
                    <a:pt x="0" y="128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26028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втобус едет со скоростью 40 км/ч. Какое расстояние он пройдёт за 3 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-1468080" y="4764960"/>
            <a:ext cx="2448360" cy="1367640"/>
            <a:chOff x="-1468080" y="4764960"/>
            <a:chExt cx="2448360" cy="1367640"/>
          </a:xfrm>
        </p:grpSpPr>
        <p:grpSp>
          <p:nvGrpSpPr>
            <p:cNvPr id="278" name=""/>
            <p:cNvGrpSpPr/>
            <p:nvPr/>
          </p:nvGrpSpPr>
          <p:grpSpPr>
            <a:xfrm>
              <a:off x="-1468080" y="4764960"/>
              <a:ext cx="2448360" cy="1367640"/>
              <a:chOff x="-1468080" y="4764960"/>
              <a:chExt cx="2448360" cy="1367640"/>
            </a:xfrm>
          </p:grpSpPr>
          <p:sp>
            <p:nvSpPr>
              <p:cNvPr id="279" name=""/>
              <p:cNvSpPr/>
              <p:nvPr/>
            </p:nvSpPr>
            <p:spPr>
              <a:xfrm flipH="1" rot="21052200">
                <a:off x="-1402560" y="4942080"/>
                <a:ext cx="2316960" cy="1013040"/>
              </a:xfrm>
              <a:custGeom>
                <a:avLst/>
                <a:gdLst/>
                <a:ahLst/>
                <a:rect l="l" t="t" r="r" b="b"/>
                <a:pathLst>
                  <a:path w="3416" h="1511">
                    <a:moveTo>
                      <a:pt x="3173" y="85"/>
                    </a:moveTo>
                    <a:cubicBezTo>
                      <a:pt x="3109" y="74"/>
                      <a:pt x="3240" y="98"/>
                      <a:pt x="2965" y="85"/>
                    </a:cubicBezTo>
                    <a:cubicBezTo>
                      <a:pt x="2690" y="72"/>
                      <a:pt x="1941" y="0"/>
                      <a:pt x="1525" y="5"/>
                    </a:cubicBezTo>
                    <a:cubicBezTo>
                      <a:pt x="1109" y="10"/>
                      <a:pt x="664" y="96"/>
                      <a:pt x="469" y="117"/>
                    </a:cubicBezTo>
                    <a:cubicBezTo>
                      <a:pt x="274" y="138"/>
                      <a:pt x="381" y="112"/>
                      <a:pt x="357" y="133"/>
                    </a:cubicBezTo>
                    <a:cubicBezTo>
                      <a:pt x="333" y="154"/>
                      <a:pt x="336" y="165"/>
                      <a:pt x="325" y="245"/>
                    </a:cubicBezTo>
                    <a:cubicBezTo>
                      <a:pt x="314" y="325"/>
                      <a:pt x="298" y="525"/>
                      <a:pt x="293" y="613"/>
                    </a:cubicBezTo>
                    <a:cubicBezTo>
                      <a:pt x="288" y="701"/>
                      <a:pt x="304" y="730"/>
                      <a:pt x="293" y="773"/>
                    </a:cubicBezTo>
                    <a:cubicBezTo>
                      <a:pt x="282" y="816"/>
                      <a:pt x="269" y="842"/>
                      <a:pt x="229" y="869"/>
                    </a:cubicBezTo>
                    <a:cubicBezTo>
                      <a:pt x="189" y="896"/>
                      <a:pt x="90" y="882"/>
                      <a:pt x="53" y="933"/>
                    </a:cubicBezTo>
                    <a:cubicBezTo>
                      <a:pt x="16" y="984"/>
                      <a:pt x="10" y="1096"/>
                      <a:pt x="5" y="1173"/>
                    </a:cubicBezTo>
                    <a:cubicBezTo>
                      <a:pt x="0" y="1250"/>
                      <a:pt x="5" y="1344"/>
                      <a:pt x="21" y="1397"/>
                    </a:cubicBezTo>
                    <a:cubicBezTo>
                      <a:pt x="37" y="1450"/>
                      <a:pt x="37" y="1477"/>
                      <a:pt x="101" y="1493"/>
                    </a:cubicBezTo>
                    <a:cubicBezTo>
                      <a:pt x="165" y="1509"/>
                      <a:pt x="342" y="1495"/>
                      <a:pt x="405" y="1493"/>
                    </a:cubicBezTo>
                    <a:cubicBezTo>
                      <a:pt x="468" y="1491"/>
                      <a:pt x="463" y="1511"/>
                      <a:pt x="481" y="1481"/>
                    </a:cubicBezTo>
                    <a:cubicBezTo>
                      <a:pt x="499" y="1451"/>
                      <a:pt x="490" y="1354"/>
                      <a:pt x="511" y="1313"/>
                    </a:cubicBezTo>
                    <a:cubicBezTo>
                      <a:pt x="532" y="1272"/>
                      <a:pt x="569" y="1254"/>
                      <a:pt x="607" y="1235"/>
                    </a:cubicBezTo>
                    <a:cubicBezTo>
                      <a:pt x="645" y="1216"/>
                      <a:pt x="695" y="1199"/>
                      <a:pt x="739" y="1199"/>
                    </a:cubicBezTo>
                    <a:cubicBezTo>
                      <a:pt x="783" y="1199"/>
                      <a:pt x="836" y="1218"/>
                      <a:pt x="871" y="1235"/>
                    </a:cubicBezTo>
                    <a:cubicBezTo>
                      <a:pt x="906" y="1252"/>
                      <a:pt x="923" y="1267"/>
                      <a:pt x="949" y="1301"/>
                    </a:cubicBezTo>
                    <a:cubicBezTo>
                      <a:pt x="975" y="1335"/>
                      <a:pt x="1010" y="1414"/>
                      <a:pt x="1027" y="1439"/>
                    </a:cubicBezTo>
                    <a:cubicBezTo>
                      <a:pt x="1044" y="1464"/>
                      <a:pt x="936" y="1450"/>
                      <a:pt x="1051" y="1451"/>
                    </a:cubicBezTo>
                    <a:cubicBezTo>
                      <a:pt x="1166" y="1452"/>
                      <a:pt x="1497" y="1447"/>
                      <a:pt x="1717" y="1445"/>
                    </a:cubicBezTo>
                    <a:cubicBezTo>
                      <a:pt x="1937" y="1443"/>
                      <a:pt x="2259" y="1441"/>
                      <a:pt x="2374" y="1436"/>
                    </a:cubicBezTo>
                    <a:cubicBezTo>
                      <a:pt x="2489" y="1431"/>
                      <a:pt x="2398" y="1426"/>
                      <a:pt x="2404" y="1412"/>
                    </a:cubicBezTo>
                    <a:cubicBezTo>
                      <a:pt x="2410" y="1398"/>
                      <a:pt x="2397" y="1383"/>
                      <a:pt x="2410" y="1352"/>
                    </a:cubicBezTo>
                    <a:cubicBezTo>
                      <a:pt x="2423" y="1321"/>
                      <a:pt x="2442" y="1259"/>
                      <a:pt x="2482" y="1226"/>
                    </a:cubicBezTo>
                    <a:cubicBezTo>
                      <a:pt x="2522" y="1193"/>
                      <a:pt x="2598" y="1161"/>
                      <a:pt x="2650" y="1154"/>
                    </a:cubicBezTo>
                    <a:cubicBezTo>
                      <a:pt x="2702" y="1147"/>
                      <a:pt x="2754" y="1163"/>
                      <a:pt x="2794" y="1184"/>
                    </a:cubicBezTo>
                    <a:cubicBezTo>
                      <a:pt x="2834" y="1205"/>
                      <a:pt x="2868" y="1246"/>
                      <a:pt x="2890" y="1280"/>
                    </a:cubicBezTo>
                    <a:cubicBezTo>
                      <a:pt x="2912" y="1314"/>
                      <a:pt x="2917" y="1367"/>
                      <a:pt x="2926" y="1388"/>
                    </a:cubicBezTo>
                    <a:cubicBezTo>
                      <a:pt x="2935" y="1409"/>
                      <a:pt x="2895" y="1405"/>
                      <a:pt x="2944" y="1406"/>
                    </a:cubicBezTo>
                    <a:cubicBezTo>
                      <a:pt x="2993" y="1407"/>
                      <a:pt x="3151" y="1412"/>
                      <a:pt x="3221" y="1397"/>
                    </a:cubicBezTo>
                    <a:cubicBezTo>
                      <a:pt x="3291" y="1382"/>
                      <a:pt x="3333" y="1421"/>
                      <a:pt x="3365" y="1317"/>
                    </a:cubicBezTo>
                    <a:cubicBezTo>
                      <a:pt x="3397" y="1213"/>
                      <a:pt x="3416" y="968"/>
                      <a:pt x="3413" y="773"/>
                    </a:cubicBezTo>
                    <a:cubicBezTo>
                      <a:pt x="3410" y="578"/>
                      <a:pt x="3384" y="266"/>
                      <a:pt x="3349" y="149"/>
                    </a:cubicBezTo>
                    <a:cubicBezTo>
                      <a:pt x="3314" y="32"/>
                      <a:pt x="3237" y="96"/>
                      <a:pt x="3173" y="8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prstDash val="sysDot"/>
                <a:round/>
              </a:ln>
              <a:effectLst>
                <a:outerShdw dist="63504" dir="19383909" blurRad="0" rotWithShape="0">
                  <a:srgbClr val="0088e4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-512280" y="5125680"/>
                <a:ext cx="490680" cy="390240"/>
                <a:chOff x="-512280" y="5125680"/>
                <a:chExt cx="490680" cy="390240"/>
              </a:xfrm>
            </p:grpSpPr>
            <p:sp>
              <p:nvSpPr>
                <p:cNvPr id="281" name=""/>
                <p:cNvSpPr/>
                <p:nvPr/>
              </p:nvSpPr>
              <p:spPr>
                <a:xfrm flipH="1" rot="21052200">
                  <a:off x="-489600" y="5158800"/>
                  <a:ext cx="444960" cy="323640"/>
                </a:xfrm>
                <a:custGeom>
                  <a:avLst/>
                  <a:gdLst/>
                  <a:ahLst/>
                  <a:rect l="l" t="t" r="r" b="b"/>
                  <a:pathLst>
                    <a:path w="336" h="562">
                      <a:moveTo>
                        <a:pt x="117" y="5"/>
                      </a:moveTo>
                      <a:cubicBezTo>
                        <a:pt x="171" y="2"/>
                        <a:pt x="226" y="0"/>
                        <a:pt x="261" y="5"/>
                      </a:cubicBezTo>
                      <a:cubicBezTo>
                        <a:pt x="296" y="10"/>
                        <a:pt x="314" y="13"/>
                        <a:pt x="325" y="37"/>
                      </a:cubicBezTo>
                      <a:cubicBezTo>
                        <a:pt x="336" y="61"/>
                        <a:pt x="325" y="77"/>
                        <a:pt x="325" y="149"/>
                      </a:cubicBezTo>
                      <a:cubicBezTo>
                        <a:pt x="325" y="221"/>
                        <a:pt x="333" y="402"/>
                        <a:pt x="325" y="469"/>
                      </a:cubicBezTo>
                      <a:cubicBezTo>
                        <a:pt x="317" y="536"/>
                        <a:pt x="304" y="536"/>
                        <a:pt x="277" y="549"/>
                      </a:cubicBezTo>
                      <a:cubicBezTo>
                        <a:pt x="250" y="562"/>
                        <a:pt x="192" y="549"/>
                        <a:pt x="165" y="549"/>
                      </a:cubicBezTo>
                      <a:cubicBezTo>
                        <a:pt x="138" y="549"/>
                        <a:pt x="138" y="549"/>
                        <a:pt x="117" y="549"/>
                      </a:cubicBezTo>
                      <a:cubicBezTo>
                        <a:pt x="96" y="549"/>
                        <a:pt x="56" y="562"/>
                        <a:pt x="37" y="549"/>
                      </a:cubicBezTo>
                      <a:cubicBezTo>
                        <a:pt x="18" y="536"/>
                        <a:pt x="10" y="509"/>
                        <a:pt x="5" y="469"/>
                      </a:cubicBezTo>
                      <a:cubicBezTo>
                        <a:pt x="0" y="429"/>
                        <a:pt x="5" y="373"/>
                        <a:pt x="5" y="309"/>
                      </a:cubicBezTo>
                      <a:cubicBezTo>
                        <a:pt x="5" y="245"/>
                        <a:pt x="2" y="133"/>
                        <a:pt x="5" y="85"/>
                      </a:cubicBezTo>
                      <a:cubicBezTo>
                        <a:pt x="8" y="37"/>
                        <a:pt x="10" y="34"/>
                        <a:pt x="21" y="21"/>
                      </a:cubicBezTo>
                      <a:cubicBezTo>
                        <a:pt x="32" y="8"/>
                        <a:pt x="40" y="8"/>
                        <a:pt x="69" y="5"/>
                      </a:cubicBezTo>
                      <a:cubicBezTo>
                        <a:pt x="98" y="2"/>
                        <a:pt x="147" y="3"/>
                        <a:pt x="197" y="5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0068ae"/>
                    </a:gs>
                    <a:gs pos="100000">
                      <a:srgbClr val="cc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prstDash val="sysDot"/>
                  <a:round/>
                </a:ln>
                <a:effectLst>
                  <a:outerShdw dist="38160" dir="16200000" blurRad="0" rotWithShape="0">
                    <a:srgbClr val="008ae8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 rot="21052200">
                  <a:off x="-277560" y="5160600"/>
                  <a:ext cx="32400" cy="311760"/>
                </a:xfrm>
                <a:custGeom>
                  <a:avLst/>
                  <a:gdLst/>
                  <a:ahLst/>
                  <a:rect l="l" t="t" r="r" b="b"/>
                  <a:pathLst>
                    <a:path w="48" h="464">
                      <a:moveTo>
                        <a:pt x="32" y="0"/>
                      </a:moveTo>
                      <a:lnTo>
                        <a:pt x="48" y="464"/>
                      </a:lnTo>
                      <a:lnTo>
                        <a:pt x="0" y="464"/>
                      </a:lnTo>
                      <a:lnTo>
                        <a:pt x="0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9360">
                  <a:solidFill>
                    <a:srgbClr val="ffffff"/>
                  </a:solidFill>
                  <a:prstDash val="sysDot"/>
                  <a:round/>
                </a:ln>
                <a:effectLst>
                  <a:outerShdw dist="38160" dir="16200000" blurRad="0" rotWithShape="0">
                    <a:srgbClr val="008ae8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-973440" y="5199840"/>
                <a:ext cx="490320" cy="390240"/>
                <a:chOff x="-973440" y="5199840"/>
                <a:chExt cx="490320" cy="390240"/>
              </a:xfrm>
            </p:grpSpPr>
            <p:sp>
              <p:nvSpPr>
                <p:cNvPr id="284" name=""/>
                <p:cNvSpPr/>
                <p:nvPr/>
              </p:nvSpPr>
              <p:spPr>
                <a:xfrm flipH="1" rot="21052200">
                  <a:off x="-950400" y="5232960"/>
                  <a:ext cx="444600" cy="323640"/>
                </a:xfrm>
                <a:custGeom>
                  <a:avLst/>
                  <a:gdLst/>
                  <a:ahLst/>
                  <a:rect l="l" t="t" r="r" b="b"/>
                  <a:pathLst>
                    <a:path w="336" h="562">
                      <a:moveTo>
                        <a:pt x="117" y="5"/>
                      </a:moveTo>
                      <a:cubicBezTo>
                        <a:pt x="171" y="2"/>
                        <a:pt x="226" y="0"/>
                        <a:pt x="261" y="5"/>
                      </a:cubicBezTo>
                      <a:cubicBezTo>
                        <a:pt x="296" y="10"/>
                        <a:pt x="314" y="13"/>
                        <a:pt x="325" y="37"/>
                      </a:cubicBezTo>
                      <a:cubicBezTo>
                        <a:pt x="336" y="61"/>
                        <a:pt x="325" y="77"/>
                        <a:pt x="325" y="149"/>
                      </a:cubicBezTo>
                      <a:cubicBezTo>
                        <a:pt x="325" y="221"/>
                        <a:pt x="333" y="402"/>
                        <a:pt x="325" y="469"/>
                      </a:cubicBezTo>
                      <a:cubicBezTo>
                        <a:pt x="317" y="536"/>
                        <a:pt x="304" y="536"/>
                        <a:pt x="277" y="549"/>
                      </a:cubicBezTo>
                      <a:cubicBezTo>
                        <a:pt x="250" y="562"/>
                        <a:pt x="192" y="549"/>
                        <a:pt x="165" y="549"/>
                      </a:cubicBezTo>
                      <a:cubicBezTo>
                        <a:pt x="138" y="549"/>
                        <a:pt x="138" y="549"/>
                        <a:pt x="117" y="549"/>
                      </a:cubicBezTo>
                      <a:cubicBezTo>
                        <a:pt x="96" y="549"/>
                        <a:pt x="56" y="562"/>
                        <a:pt x="37" y="549"/>
                      </a:cubicBezTo>
                      <a:cubicBezTo>
                        <a:pt x="18" y="536"/>
                        <a:pt x="10" y="509"/>
                        <a:pt x="5" y="469"/>
                      </a:cubicBezTo>
                      <a:cubicBezTo>
                        <a:pt x="0" y="429"/>
                        <a:pt x="5" y="373"/>
                        <a:pt x="5" y="309"/>
                      </a:cubicBezTo>
                      <a:cubicBezTo>
                        <a:pt x="5" y="245"/>
                        <a:pt x="2" y="133"/>
                        <a:pt x="5" y="85"/>
                      </a:cubicBezTo>
                      <a:cubicBezTo>
                        <a:pt x="8" y="37"/>
                        <a:pt x="10" y="34"/>
                        <a:pt x="21" y="21"/>
                      </a:cubicBezTo>
                      <a:cubicBezTo>
                        <a:pt x="32" y="8"/>
                        <a:pt x="40" y="8"/>
                        <a:pt x="69" y="5"/>
                      </a:cubicBezTo>
                      <a:cubicBezTo>
                        <a:pt x="98" y="2"/>
                        <a:pt x="147" y="3"/>
                        <a:pt x="197" y="5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0068ae"/>
                    </a:gs>
                    <a:gs pos="100000">
                      <a:srgbClr val="cc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prstDash val="sysDot"/>
                  <a:round/>
                </a:ln>
                <a:effectLst>
                  <a:outerShdw dist="38160" dir="16200000" blurRad="0" rotWithShape="0">
                    <a:srgbClr val="008ae8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 rot="21052200">
                  <a:off x="-738000" y="5234760"/>
                  <a:ext cx="32400" cy="311760"/>
                </a:xfrm>
                <a:custGeom>
                  <a:avLst/>
                  <a:gdLst/>
                  <a:ahLst/>
                  <a:rect l="l" t="t" r="r" b="b"/>
                  <a:pathLst>
                    <a:path w="48" h="464">
                      <a:moveTo>
                        <a:pt x="32" y="0"/>
                      </a:moveTo>
                      <a:lnTo>
                        <a:pt x="48" y="464"/>
                      </a:lnTo>
                      <a:lnTo>
                        <a:pt x="0" y="464"/>
                      </a:lnTo>
                      <a:lnTo>
                        <a:pt x="0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9360">
                  <a:solidFill>
                    <a:srgbClr val="ffffff"/>
                  </a:solidFill>
                  <a:prstDash val="sysDot"/>
                  <a:round/>
                </a:ln>
                <a:effectLst>
                  <a:outerShdw dist="38160" dir="16200000" blurRad="0" rotWithShape="0">
                    <a:srgbClr val="008ae8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"/>
              <p:cNvSpPr/>
              <p:nvPr/>
            </p:nvSpPr>
            <p:spPr>
              <a:xfrm flipH="1" rot="21052200">
                <a:off x="-1415160" y="5274720"/>
                <a:ext cx="435960" cy="375120"/>
              </a:xfrm>
              <a:custGeom>
                <a:avLst/>
                <a:gdLst/>
                <a:ahLst/>
                <a:rect l="l" t="t" r="r" b="b"/>
                <a:pathLst>
                  <a:path w="644" h="558">
                    <a:moveTo>
                      <a:pt x="228" y="53"/>
                    </a:moveTo>
                    <a:cubicBezTo>
                      <a:pt x="334" y="51"/>
                      <a:pt x="449" y="55"/>
                      <a:pt x="510" y="53"/>
                    </a:cubicBezTo>
                    <a:cubicBezTo>
                      <a:pt x="571" y="51"/>
                      <a:pt x="577" y="0"/>
                      <a:pt x="597" y="38"/>
                    </a:cubicBezTo>
                    <a:cubicBezTo>
                      <a:pt x="617" y="76"/>
                      <a:pt x="624" y="198"/>
                      <a:pt x="629" y="278"/>
                    </a:cubicBezTo>
                    <a:cubicBezTo>
                      <a:pt x="634" y="358"/>
                      <a:pt x="644" y="478"/>
                      <a:pt x="629" y="518"/>
                    </a:cubicBezTo>
                    <a:cubicBezTo>
                      <a:pt x="614" y="558"/>
                      <a:pt x="592" y="520"/>
                      <a:pt x="541" y="520"/>
                    </a:cubicBezTo>
                    <a:cubicBezTo>
                      <a:pt x="490" y="520"/>
                      <a:pt x="375" y="520"/>
                      <a:pt x="322" y="520"/>
                    </a:cubicBezTo>
                    <a:cubicBezTo>
                      <a:pt x="269" y="520"/>
                      <a:pt x="269" y="520"/>
                      <a:pt x="228" y="520"/>
                    </a:cubicBezTo>
                    <a:cubicBezTo>
                      <a:pt x="187" y="520"/>
                      <a:pt x="109" y="531"/>
                      <a:pt x="72" y="520"/>
                    </a:cubicBezTo>
                    <a:cubicBezTo>
                      <a:pt x="35" y="509"/>
                      <a:pt x="20" y="486"/>
                      <a:pt x="10" y="451"/>
                    </a:cubicBezTo>
                    <a:cubicBezTo>
                      <a:pt x="0" y="417"/>
                      <a:pt x="10" y="369"/>
                      <a:pt x="10" y="314"/>
                    </a:cubicBezTo>
                    <a:cubicBezTo>
                      <a:pt x="10" y="259"/>
                      <a:pt x="4" y="163"/>
                      <a:pt x="10" y="122"/>
                    </a:cubicBezTo>
                    <a:cubicBezTo>
                      <a:pt x="16" y="81"/>
                      <a:pt x="20" y="78"/>
                      <a:pt x="41" y="67"/>
                    </a:cubicBezTo>
                    <a:cubicBezTo>
                      <a:pt x="62" y="56"/>
                      <a:pt x="78" y="56"/>
                      <a:pt x="135" y="53"/>
                    </a:cubicBezTo>
                    <a:cubicBezTo>
                      <a:pt x="191" y="51"/>
                      <a:pt x="287" y="52"/>
                      <a:pt x="385" y="53"/>
                    </a:cubicBezTo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cc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prstDash val="sysDot"/>
                <a:round/>
              </a:ln>
              <a:effectLst>
                <a:outerShdw dist="38160" dir="1620000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rot="21052200">
                <a:off x="-1209240" y="5310720"/>
                <a:ext cx="32400" cy="311040"/>
              </a:xfrm>
              <a:custGeom>
                <a:avLst/>
                <a:gdLst/>
                <a:ahLst/>
                <a:rect l="l" t="t" r="r" b="b"/>
                <a:pathLst>
                  <a:path w="48" h="464">
                    <a:moveTo>
                      <a:pt x="32" y="0"/>
                    </a:moveTo>
                    <a:lnTo>
                      <a:pt x="48" y="464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ffffff"/>
                </a:solidFill>
                <a:prstDash val="sysDot"/>
                <a:round/>
              </a:ln>
              <a:effectLst>
                <a:outerShdw dist="38160" dir="1620000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rot="21052200">
                <a:off x="320400" y="4961160"/>
                <a:ext cx="371160" cy="420840"/>
              </a:xfrm>
              <a:custGeom>
                <a:avLst/>
                <a:gdLst/>
                <a:ahLst/>
                <a:rect l="l" t="t" r="r" b="b"/>
                <a:pathLst>
                  <a:path w="547" h="627">
                    <a:moveTo>
                      <a:pt x="203" y="112"/>
                    </a:moveTo>
                    <a:cubicBezTo>
                      <a:pt x="288" y="110"/>
                      <a:pt x="374" y="108"/>
                      <a:pt x="429" y="112"/>
                    </a:cubicBezTo>
                    <a:cubicBezTo>
                      <a:pt x="484" y="117"/>
                      <a:pt x="512" y="119"/>
                      <a:pt x="530" y="140"/>
                    </a:cubicBezTo>
                    <a:cubicBezTo>
                      <a:pt x="547" y="160"/>
                      <a:pt x="530" y="174"/>
                      <a:pt x="530" y="236"/>
                    </a:cubicBezTo>
                    <a:cubicBezTo>
                      <a:pt x="530" y="298"/>
                      <a:pt x="542" y="453"/>
                      <a:pt x="530" y="510"/>
                    </a:cubicBezTo>
                    <a:cubicBezTo>
                      <a:pt x="517" y="568"/>
                      <a:pt x="497" y="568"/>
                      <a:pt x="454" y="579"/>
                    </a:cubicBezTo>
                    <a:cubicBezTo>
                      <a:pt x="412" y="590"/>
                      <a:pt x="321" y="579"/>
                      <a:pt x="278" y="579"/>
                    </a:cubicBezTo>
                    <a:cubicBezTo>
                      <a:pt x="236" y="579"/>
                      <a:pt x="236" y="579"/>
                      <a:pt x="203" y="579"/>
                    </a:cubicBezTo>
                    <a:cubicBezTo>
                      <a:pt x="170" y="579"/>
                      <a:pt x="109" y="577"/>
                      <a:pt x="77" y="579"/>
                    </a:cubicBezTo>
                    <a:cubicBezTo>
                      <a:pt x="45" y="581"/>
                      <a:pt x="16" y="627"/>
                      <a:pt x="8" y="593"/>
                    </a:cubicBezTo>
                    <a:cubicBezTo>
                      <a:pt x="0" y="559"/>
                      <a:pt x="24" y="442"/>
                      <a:pt x="27" y="373"/>
                    </a:cubicBezTo>
                    <a:cubicBezTo>
                      <a:pt x="30" y="304"/>
                      <a:pt x="22" y="240"/>
                      <a:pt x="27" y="181"/>
                    </a:cubicBezTo>
                    <a:cubicBezTo>
                      <a:pt x="32" y="122"/>
                      <a:pt x="46" y="34"/>
                      <a:pt x="56" y="17"/>
                    </a:cubicBezTo>
                    <a:cubicBezTo>
                      <a:pt x="66" y="0"/>
                      <a:pt x="43" y="65"/>
                      <a:pt x="88" y="81"/>
                    </a:cubicBezTo>
                    <a:cubicBezTo>
                      <a:pt x="133" y="97"/>
                      <a:pt x="279" y="106"/>
                      <a:pt x="329" y="112"/>
                    </a:cubicBezTo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cc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prstDash val="sysDot"/>
                <a:round/>
              </a:ln>
              <a:effectLst>
                <a:outerShdw dist="38160" dir="1620000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rot="21052200">
                <a:off x="497160" y="5037120"/>
                <a:ext cx="24840" cy="311040"/>
              </a:xfrm>
              <a:custGeom>
                <a:avLst/>
                <a:gdLst/>
                <a:ahLst/>
                <a:rect l="l" t="t" r="r" b="b"/>
                <a:pathLst>
                  <a:path w="48" h="464">
                    <a:moveTo>
                      <a:pt x="32" y="0"/>
                    </a:moveTo>
                    <a:lnTo>
                      <a:pt x="48" y="464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ffffff"/>
                </a:solidFill>
                <a:prstDash val="sysDot"/>
                <a:round/>
              </a:ln>
              <a:effectLst>
                <a:outerShdw dist="38160" dir="1620000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rot="21052200">
                <a:off x="-1028880" y="5766840"/>
                <a:ext cx="394920" cy="233280"/>
              </a:xfrm>
              <a:custGeom>
                <a:avLst/>
                <a:gdLst/>
                <a:ahLst/>
                <a:rect l="l" t="t" r="r" b="b"/>
                <a:pathLst>
                  <a:path w="583" h="347">
                    <a:moveTo>
                      <a:pt x="0" y="347"/>
                    </a:moveTo>
                    <a:cubicBezTo>
                      <a:pt x="3" y="323"/>
                      <a:pt x="11" y="245"/>
                      <a:pt x="23" y="202"/>
                    </a:cubicBezTo>
                    <a:cubicBezTo>
                      <a:pt x="35" y="159"/>
                      <a:pt x="40" y="121"/>
                      <a:pt x="72" y="89"/>
                    </a:cubicBezTo>
                    <a:cubicBezTo>
                      <a:pt x="104" y="57"/>
                      <a:pt x="162" y="20"/>
                      <a:pt x="215" y="10"/>
                    </a:cubicBezTo>
                    <a:cubicBezTo>
                      <a:pt x="268" y="0"/>
                      <a:pt x="337" y="1"/>
                      <a:pt x="391" y="26"/>
                    </a:cubicBezTo>
                    <a:cubicBezTo>
                      <a:pt x="445" y="51"/>
                      <a:pt x="508" y="110"/>
                      <a:pt x="540" y="161"/>
                    </a:cubicBezTo>
                    <a:cubicBezTo>
                      <a:pt x="572" y="212"/>
                      <a:pt x="574" y="295"/>
                      <a:pt x="583" y="33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  <a:effectLst>
                <a:outerShdw dist="38160" dir="1620000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rot="21052200">
                <a:off x="263520" y="5596200"/>
                <a:ext cx="394560" cy="232200"/>
              </a:xfrm>
              <a:custGeom>
                <a:avLst/>
                <a:gdLst/>
                <a:ahLst/>
                <a:rect l="l" t="t" r="r" b="b"/>
                <a:pathLst>
                  <a:path w="583" h="347">
                    <a:moveTo>
                      <a:pt x="0" y="347"/>
                    </a:moveTo>
                    <a:cubicBezTo>
                      <a:pt x="3" y="323"/>
                      <a:pt x="11" y="245"/>
                      <a:pt x="23" y="202"/>
                    </a:cubicBezTo>
                    <a:cubicBezTo>
                      <a:pt x="35" y="159"/>
                      <a:pt x="40" y="121"/>
                      <a:pt x="72" y="89"/>
                    </a:cubicBezTo>
                    <a:cubicBezTo>
                      <a:pt x="104" y="57"/>
                      <a:pt x="162" y="20"/>
                      <a:pt x="215" y="10"/>
                    </a:cubicBezTo>
                    <a:cubicBezTo>
                      <a:pt x="268" y="0"/>
                      <a:pt x="337" y="1"/>
                      <a:pt x="391" y="26"/>
                    </a:cubicBezTo>
                    <a:cubicBezTo>
                      <a:pt x="445" y="51"/>
                      <a:pt x="508" y="110"/>
                      <a:pt x="540" y="161"/>
                    </a:cubicBezTo>
                    <a:cubicBezTo>
                      <a:pt x="572" y="212"/>
                      <a:pt x="574" y="295"/>
                      <a:pt x="583" y="33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  <a:effectLst>
                <a:outerShdw dist="38160" dir="1620000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rot="21052200">
                <a:off x="877320" y="5405760"/>
                <a:ext cx="64440" cy="96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prstDash val="sysDot"/>
                <a:miter/>
              </a:ln>
              <a:effectLst>
                <a:outerShdw dist="38160" dir="1620000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rot="21052200">
                <a:off x="-20520" y="4984920"/>
                <a:ext cx="392760" cy="871200"/>
              </a:xfrm>
              <a:custGeom>
                <a:avLst/>
                <a:gdLst/>
                <a:ahLst/>
                <a:rect l="l" t="t" r="r" b="b"/>
                <a:pathLst>
                  <a:path w="578" h="1299">
                    <a:moveTo>
                      <a:pt x="559" y="1195"/>
                    </a:moveTo>
                    <a:cubicBezTo>
                      <a:pt x="559" y="1023"/>
                      <a:pt x="562" y="442"/>
                      <a:pt x="559" y="253"/>
                    </a:cubicBezTo>
                    <a:cubicBezTo>
                      <a:pt x="556" y="64"/>
                      <a:pt x="565" y="101"/>
                      <a:pt x="541" y="61"/>
                    </a:cubicBezTo>
                    <a:cubicBezTo>
                      <a:pt x="517" y="21"/>
                      <a:pt x="458" y="23"/>
                      <a:pt x="415" y="13"/>
                    </a:cubicBezTo>
                    <a:cubicBezTo>
                      <a:pt x="372" y="3"/>
                      <a:pt x="329" y="0"/>
                      <a:pt x="283" y="1"/>
                    </a:cubicBezTo>
                    <a:cubicBezTo>
                      <a:pt x="237" y="2"/>
                      <a:pt x="175" y="10"/>
                      <a:pt x="140" y="18"/>
                    </a:cubicBezTo>
                    <a:cubicBezTo>
                      <a:pt x="105" y="26"/>
                      <a:pt x="92" y="36"/>
                      <a:pt x="73" y="49"/>
                    </a:cubicBezTo>
                    <a:cubicBezTo>
                      <a:pt x="54" y="62"/>
                      <a:pt x="35" y="55"/>
                      <a:pt x="28" y="98"/>
                    </a:cubicBezTo>
                    <a:cubicBezTo>
                      <a:pt x="21" y="141"/>
                      <a:pt x="28" y="213"/>
                      <a:pt x="28" y="306"/>
                    </a:cubicBezTo>
                    <a:cubicBezTo>
                      <a:pt x="28" y="399"/>
                      <a:pt x="29" y="551"/>
                      <a:pt x="25" y="655"/>
                    </a:cubicBezTo>
                    <a:cubicBezTo>
                      <a:pt x="21" y="759"/>
                      <a:pt x="2" y="873"/>
                      <a:pt x="1" y="931"/>
                    </a:cubicBezTo>
                    <a:cubicBezTo>
                      <a:pt x="0" y="989"/>
                      <a:pt x="12" y="989"/>
                      <a:pt x="19" y="1003"/>
                    </a:cubicBezTo>
                    <a:cubicBezTo>
                      <a:pt x="26" y="1017"/>
                      <a:pt x="23" y="1003"/>
                      <a:pt x="43" y="1015"/>
                    </a:cubicBezTo>
                    <a:cubicBezTo>
                      <a:pt x="63" y="1027"/>
                      <a:pt x="110" y="1039"/>
                      <a:pt x="139" y="1075"/>
                    </a:cubicBezTo>
                    <a:cubicBezTo>
                      <a:pt x="168" y="1111"/>
                      <a:pt x="205" y="1200"/>
                      <a:pt x="220" y="1234"/>
                    </a:cubicBezTo>
                    <a:cubicBezTo>
                      <a:pt x="235" y="1268"/>
                      <a:pt x="216" y="1271"/>
                      <a:pt x="229" y="1279"/>
                    </a:cubicBezTo>
                    <a:cubicBezTo>
                      <a:pt x="242" y="1287"/>
                      <a:pt x="264" y="1282"/>
                      <a:pt x="300" y="1282"/>
                    </a:cubicBezTo>
                    <a:cubicBezTo>
                      <a:pt x="336" y="1282"/>
                      <a:pt x="401" y="1282"/>
                      <a:pt x="444" y="1282"/>
                    </a:cubicBezTo>
                    <a:cubicBezTo>
                      <a:pt x="487" y="1282"/>
                      <a:pt x="540" y="1299"/>
                      <a:pt x="559" y="1285"/>
                    </a:cubicBezTo>
                    <a:cubicBezTo>
                      <a:pt x="578" y="1271"/>
                      <a:pt x="559" y="1214"/>
                      <a:pt x="559" y="1195"/>
                    </a:cubicBezTo>
                    <a:close/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ffffff"/>
                </a:solidFill>
                <a:prstDash val="sysDot"/>
                <a:round/>
              </a:ln>
              <a:effectLst>
                <a:outerShdw dist="38160" dir="1620000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rot="21052200">
                <a:off x="-28800" y="5092200"/>
                <a:ext cx="347400" cy="323640"/>
              </a:xfrm>
              <a:custGeom>
                <a:avLst/>
                <a:gdLst/>
                <a:ahLst/>
                <a:rect l="l" t="t" r="r" b="b"/>
                <a:pathLst>
                  <a:path w="336" h="562">
                    <a:moveTo>
                      <a:pt x="117" y="5"/>
                    </a:moveTo>
                    <a:cubicBezTo>
                      <a:pt x="171" y="2"/>
                      <a:pt x="226" y="0"/>
                      <a:pt x="261" y="5"/>
                    </a:cubicBezTo>
                    <a:cubicBezTo>
                      <a:pt x="296" y="10"/>
                      <a:pt x="314" y="13"/>
                      <a:pt x="325" y="37"/>
                    </a:cubicBezTo>
                    <a:cubicBezTo>
                      <a:pt x="336" y="61"/>
                      <a:pt x="325" y="77"/>
                      <a:pt x="325" y="149"/>
                    </a:cubicBezTo>
                    <a:cubicBezTo>
                      <a:pt x="325" y="221"/>
                      <a:pt x="333" y="402"/>
                      <a:pt x="325" y="469"/>
                    </a:cubicBezTo>
                    <a:cubicBezTo>
                      <a:pt x="317" y="536"/>
                      <a:pt x="304" y="536"/>
                      <a:pt x="277" y="549"/>
                    </a:cubicBezTo>
                    <a:cubicBezTo>
                      <a:pt x="250" y="562"/>
                      <a:pt x="192" y="549"/>
                      <a:pt x="165" y="549"/>
                    </a:cubicBezTo>
                    <a:cubicBezTo>
                      <a:pt x="138" y="549"/>
                      <a:pt x="138" y="549"/>
                      <a:pt x="117" y="549"/>
                    </a:cubicBezTo>
                    <a:cubicBezTo>
                      <a:pt x="96" y="549"/>
                      <a:pt x="56" y="562"/>
                      <a:pt x="37" y="549"/>
                    </a:cubicBezTo>
                    <a:cubicBezTo>
                      <a:pt x="18" y="536"/>
                      <a:pt x="10" y="509"/>
                      <a:pt x="5" y="469"/>
                    </a:cubicBezTo>
                    <a:cubicBezTo>
                      <a:pt x="0" y="429"/>
                      <a:pt x="5" y="373"/>
                      <a:pt x="5" y="309"/>
                    </a:cubicBezTo>
                    <a:cubicBezTo>
                      <a:pt x="5" y="245"/>
                      <a:pt x="2" y="133"/>
                      <a:pt x="5" y="85"/>
                    </a:cubicBezTo>
                    <a:cubicBezTo>
                      <a:pt x="8" y="37"/>
                      <a:pt x="10" y="34"/>
                      <a:pt x="21" y="21"/>
                    </a:cubicBezTo>
                    <a:cubicBezTo>
                      <a:pt x="32" y="8"/>
                      <a:pt x="40" y="8"/>
                      <a:pt x="69" y="5"/>
                    </a:cubicBezTo>
                    <a:cubicBezTo>
                      <a:pt x="98" y="2"/>
                      <a:pt x="147" y="3"/>
                      <a:pt x="197" y="5"/>
                    </a:cubicBezTo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cc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prstDash val="sysDot"/>
                <a:round/>
              </a:ln>
              <a:effectLst>
                <a:outerShdw dist="38160" dir="1620000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rot="21052200">
                <a:off x="25200" y="5443200"/>
                <a:ext cx="20880" cy="80280"/>
              </a:xfrm>
              <a:custGeom>
                <a:avLst/>
                <a:gdLst/>
                <a:ahLst/>
                <a:rect l="l" t="t" r="r" b="b"/>
                <a:pathLst>
                  <a:path w="30" h="120">
                    <a:moveTo>
                      <a:pt x="12" y="0"/>
                    </a:moveTo>
                    <a:lnTo>
                      <a:pt x="0" y="60"/>
                    </a:lnTo>
                    <a:lnTo>
                      <a:pt x="18" y="120"/>
                    </a:lnTo>
                    <a:lnTo>
                      <a:pt x="30" y="5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9999"/>
              </a:solidFill>
              <a:ln w="19080">
                <a:solidFill>
                  <a:srgbClr val="4d4d4d"/>
                </a:solidFill>
                <a:round/>
              </a:ln>
              <a:effectLst>
                <a:outerShdw dist="38160" dir="1620000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311040" y="5659560"/>
              <a:ext cx="301680" cy="306000"/>
              <a:chOff x="311040" y="5659560"/>
              <a:chExt cx="301680" cy="306000"/>
            </a:xfrm>
          </p:grpSpPr>
          <p:sp>
            <p:nvSpPr>
              <p:cNvPr id="297" name=""/>
              <p:cNvSpPr/>
              <p:nvPr/>
            </p:nvSpPr>
            <p:spPr>
              <a:xfrm flipH="1" rot="72000">
                <a:off x="313560" y="5673240"/>
                <a:ext cx="295200" cy="288720"/>
              </a:xfrm>
              <a:custGeom>
                <a:avLst/>
                <a:gdLst>
                  <a:gd name="textAreaLeft" fmla="*/ 135720 w 295200"/>
                  <a:gd name="textAreaRight" fmla="*/ 159480 w 295200"/>
                  <a:gd name="textAreaTop" fmla="*/ 132840 h 288720"/>
                  <a:gd name="textAreaBottom" fmla="*/ 15588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07" y="11032"/>
                    </a:lnTo>
                    <a:lnTo>
                      <a:pt x="786" y="14846"/>
                    </a:lnTo>
                    <a:lnTo>
                      <a:pt x="9781" y="11462"/>
                    </a:lnTo>
                    <a:lnTo>
                      <a:pt x="3163" y="18437"/>
                    </a:lnTo>
                    <a:lnTo>
                      <a:pt x="10121" y="11807"/>
                    </a:lnTo>
                    <a:lnTo>
                      <a:pt x="6580" y="20741"/>
                    </a:lnTo>
                    <a:lnTo>
                      <a:pt x="10547" y="11988"/>
                    </a:lnTo>
                    <a:lnTo>
                      <a:pt x="10800" y="21600"/>
                    </a:lnTo>
                    <a:lnTo>
                      <a:pt x="11032" y="11993"/>
                    </a:lnTo>
                    <a:lnTo>
                      <a:pt x="14846" y="20814"/>
                    </a:lnTo>
                    <a:lnTo>
                      <a:pt x="11462" y="11819"/>
                    </a:lnTo>
                    <a:lnTo>
                      <a:pt x="18437" y="18437"/>
                    </a:lnTo>
                    <a:lnTo>
                      <a:pt x="11807" y="11479"/>
                    </a:lnTo>
                    <a:lnTo>
                      <a:pt x="20741" y="15020"/>
                    </a:lnTo>
                    <a:lnTo>
                      <a:pt x="11988" y="11053"/>
                    </a:lnTo>
                    <a:lnTo>
                      <a:pt x="21600" y="10800"/>
                    </a:lnTo>
                    <a:lnTo>
                      <a:pt x="11993" y="10568"/>
                    </a:lnTo>
                    <a:lnTo>
                      <a:pt x="20814" y="6754"/>
                    </a:lnTo>
                    <a:lnTo>
                      <a:pt x="11819" y="10138"/>
                    </a:lnTo>
                    <a:lnTo>
                      <a:pt x="18437" y="3163"/>
                    </a:lnTo>
                    <a:lnTo>
                      <a:pt x="11479" y="9793"/>
                    </a:lnTo>
                    <a:lnTo>
                      <a:pt x="15020" y="859"/>
                    </a:lnTo>
                    <a:lnTo>
                      <a:pt x="11053" y="9612"/>
                    </a:lnTo>
                    <a:lnTo>
                      <a:pt x="10800" y="0"/>
                    </a:lnTo>
                    <a:lnTo>
                      <a:pt x="10568" y="9607"/>
                    </a:lnTo>
                    <a:lnTo>
                      <a:pt x="6754" y="786"/>
                    </a:lnTo>
                    <a:lnTo>
                      <a:pt x="10138" y="9781"/>
                    </a:lnTo>
                    <a:lnTo>
                      <a:pt x="3163" y="3163"/>
                    </a:lnTo>
                    <a:lnTo>
                      <a:pt x="9793" y="10121"/>
                    </a:lnTo>
                    <a:lnTo>
                      <a:pt x="859" y="6580"/>
                    </a:lnTo>
                    <a:lnTo>
                      <a:pt x="9612" y="1054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2600" dir="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 rot="72000">
                <a:off x="313920" y="5662440"/>
                <a:ext cx="295200" cy="29988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2600" dir="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-976320" y="5803920"/>
              <a:ext cx="301680" cy="306000"/>
              <a:chOff x="-976320" y="5803920"/>
              <a:chExt cx="301680" cy="306000"/>
            </a:xfrm>
          </p:grpSpPr>
          <p:sp>
            <p:nvSpPr>
              <p:cNvPr id="300" name=""/>
              <p:cNvSpPr/>
              <p:nvPr/>
            </p:nvSpPr>
            <p:spPr>
              <a:xfrm flipH="1" rot="72000">
                <a:off x="-973440" y="5817600"/>
                <a:ext cx="295200" cy="288720"/>
              </a:xfrm>
              <a:custGeom>
                <a:avLst/>
                <a:gdLst>
                  <a:gd name="textAreaLeft" fmla="*/ 135720 w 295200"/>
                  <a:gd name="textAreaRight" fmla="*/ 159480 w 295200"/>
                  <a:gd name="textAreaTop" fmla="*/ 132840 h 288720"/>
                  <a:gd name="textAreaBottom" fmla="*/ 15588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07" y="11032"/>
                    </a:lnTo>
                    <a:lnTo>
                      <a:pt x="786" y="14846"/>
                    </a:lnTo>
                    <a:lnTo>
                      <a:pt x="9781" y="11462"/>
                    </a:lnTo>
                    <a:lnTo>
                      <a:pt x="3163" y="18437"/>
                    </a:lnTo>
                    <a:lnTo>
                      <a:pt x="10121" y="11807"/>
                    </a:lnTo>
                    <a:lnTo>
                      <a:pt x="6580" y="20741"/>
                    </a:lnTo>
                    <a:lnTo>
                      <a:pt x="10547" y="11988"/>
                    </a:lnTo>
                    <a:lnTo>
                      <a:pt x="10800" y="21600"/>
                    </a:lnTo>
                    <a:lnTo>
                      <a:pt x="11032" y="11993"/>
                    </a:lnTo>
                    <a:lnTo>
                      <a:pt x="14846" y="20814"/>
                    </a:lnTo>
                    <a:lnTo>
                      <a:pt x="11462" y="11819"/>
                    </a:lnTo>
                    <a:lnTo>
                      <a:pt x="18437" y="18437"/>
                    </a:lnTo>
                    <a:lnTo>
                      <a:pt x="11807" y="11479"/>
                    </a:lnTo>
                    <a:lnTo>
                      <a:pt x="20741" y="15020"/>
                    </a:lnTo>
                    <a:lnTo>
                      <a:pt x="11988" y="11053"/>
                    </a:lnTo>
                    <a:lnTo>
                      <a:pt x="21600" y="10800"/>
                    </a:lnTo>
                    <a:lnTo>
                      <a:pt x="11993" y="10568"/>
                    </a:lnTo>
                    <a:lnTo>
                      <a:pt x="20814" y="6754"/>
                    </a:lnTo>
                    <a:lnTo>
                      <a:pt x="11819" y="10138"/>
                    </a:lnTo>
                    <a:lnTo>
                      <a:pt x="18437" y="3163"/>
                    </a:lnTo>
                    <a:lnTo>
                      <a:pt x="11479" y="9793"/>
                    </a:lnTo>
                    <a:lnTo>
                      <a:pt x="15020" y="859"/>
                    </a:lnTo>
                    <a:lnTo>
                      <a:pt x="11053" y="9612"/>
                    </a:lnTo>
                    <a:lnTo>
                      <a:pt x="10800" y="0"/>
                    </a:lnTo>
                    <a:lnTo>
                      <a:pt x="10568" y="9607"/>
                    </a:lnTo>
                    <a:lnTo>
                      <a:pt x="6754" y="786"/>
                    </a:lnTo>
                    <a:lnTo>
                      <a:pt x="10138" y="9781"/>
                    </a:lnTo>
                    <a:lnTo>
                      <a:pt x="3163" y="3163"/>
                    </a:lnTo>
                    <a:lnTo>
                      <a:pt x="9793" y="10121"/>
                    </a:lnTo>
                    <a:lnTo>
                      <a:pt x="859" y="6580"/>
                    </a:lnTo>
                    <a:lnTo>
                      <a:pt x="9612" y="1054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2600" dir="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rot="72000">
                <a:off x="-973080" y="5806800"/>
                <a:ext cx="295200" cy="29988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2600" dir="0" blurRad="0" rotWithShape="0">
                  <a:srgbClr val="008ae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2" name=""/>
          <p:cNvGrpSpPr/>
          <p:nvPr/>
        </p:nvGrpSpPr>
        <p:grpSpPr>
          <a:xfrm>
            <a:off x="179280" y="6165720"/>
            <a:ext cx="304560" cy="380880"/>
            <a:chOff x="179280" y="6165720"/>
            <a:chExt cx="304560" cy="380880"/>
          </a:xfrm>
        </p:grpSpPr>
        <p:grpSp>
          <p:nvGrpSpPr>
            <p:cNvPr id="303" name=""/>
            <p:cNvGrpSpPr/>
            <p:nvPr/>
          </p:nvGrpSpPr>
          <p:grpSpPr>
            <a:xfrm>
              <a:off x="179280" y="6419880"/>
              <a:ext cx="256680" cy="126720"/>
              <a:chOff x="179280" y="6419880"/>
              <a:chExt cx="256680" cy="126720"/>
            </a:xfrm>
          </p:grpSpPr>
          <p:sp>
            <p:nvSpPr>
              <p:cNvPr id="304" name=""/>
              <p:cNvSpPr/>
              <p:nvPr/>
            </p:nvSpPr>
            <p:spPr>
              <a:xfrm>
                <a:off x="179280" y="6445080"/>
                <a:ext cx="256680" cy="10152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4200" y="6432480"/>
                <a:ext cx="198360" cy="7632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37600" y="6419880"/>
                <a:ext cx="140040" cy="3816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307440" y="6165720"/>
              <a:ext cx="176400" cy="280440"/>
            </a:xfrm>
            <a:custGeom>
              <a:avLst/>
              <a:gdLst/>
              <a:ahLst/>
              <a:rect l="l" t="t" r="r" b="b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916360" y="5805360"/>
            <a:ext cx="304560" cy="380880"/>
            <a:chOff x="2916360" y="5805360"/>
            <a:chExt cx="304560" cy="380880"/>
          </a:xfrm>
        </p:grpSpPr>
        <p:grpSp>
          <p:nvGrpSpPr>
            <p:cNvPr id="309" name=""/>
            <p:cNvGrpSpPr/>
            <p:nvPr/>
          </p:nvGrpSpPr>
          <p:grpSpPr>
            <a:xfrm>
              <a:off x="2916360" y="6059520"/>
              <a:ext cx="256320" cy="126720"/>
              <a:chOff x="2916360" y="6059520"/>
              <a:chExt cx="256320" cy="126720"/>
            </a:xfrm>
          </p:grpSpPr>
          <p:sp>
            <p:nvSpPr>
              <p:cNvPr id="310" name=""/>
              <p:cNvSpPr/>
              <p:nvPr/>
            </p:nvSpPr>
            <p:spPr>
              <a:xfrm>
                <a:off x="2916360" y="6084720"/>
                <a:ext cx="256320" cy="10152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51280" y="6072120"/>
                <a:ext cx="198000" cy="7632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974680" y="6059520"/>
                <a:ext cx="139680" cy="3816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3044520" y="5805360"/>
              <a:ext cx="176400" cy="280440"/>
            </a:xfrm>
            <a:custGeom>
              <a:avLst/>
              <a:gdLst/>
              <a:ahLst/>
              <a:rect l="l" t="t" r="r" b="b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8839080" y="5229360"/>
            <a:ext cx="304560" cy="380520"/>
            <a:chOff x="8839080" y="5229360"/>
            <a:chExt cx="304560" cy="380520"/>
          </a:xfrm>
        </p:grpSpPr>
        <p:grpSp>
          <p:nvGrpSpPr>
            <p:cNvPr id="315" name=""/>
            <p:cNvGrpSpPr/>
            <p:nvPr/>
          </p:nvGrpSpPr>
          <p:grpSpPr>
            <a:xfrm>
              <a:off x="8839080" y="5483160"/>
              <a:ext cx="256680" cy="126720"/>
              <a:chOff x="8839080" y="5483160"/>
              <a:chExt cx="256680" cy="126720"/>
            </a:xfrm>
          </p:grpSpPr>
          <p:sp>
            <p:nvSpPr>
              <p:cNvPr id="316" name=""/>
              <p:cNvSpPr/>
              <p:nvPr/>
            </p:nvSpPr>
            <p:spPr>
              <a:xfrm>
                <a:off x="8839080" y="5508360"/>
                <a:ext cx="256680" cy="10152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874000" y="5495760"/>
                <a:ext cx="198360" cy="7632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897400" y="5483160"/>
                <a:ext cx="140040" cy="3816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8967240" y="5229360"/>
              <a:ext cx="176400" cy="280080"/>
            </a:xfrm>
            <a:custGeom>
              <a:avLst/>
              <a:gdLst/>
              <a:ahLst/>
              <a:rect l="l" t="t" r="r" b="b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651640" y="5516640"/>
            <a:ext cx="304560" cy="380520"/>
            <a:chOff x="5651640" y="5516640"/>
            <a:chExt cx="304560" cy="380520"/>
          </a:xfrm>
        </p:grpSpPr>
        <p:grpSp>
          <p:nvGrpSpPr>
            <p:cNvPr id="321" name=""/>
            <p:cNvGrpSpPr/>
            <p:nvPr/>
          </p:nvGrpSpPr>
          <p:grpSpPr>
            <a:xfrm>
              <a:off x="5651640" y="5770440"/>
              <a:ext cx="256320" cy="126720"/>
              <a:chOff x="5651640" y="5770440"/>
              <a:chExt cx="256320" cy="126720"/>
            </a:xfrm>
          </p:grpSpPr>
          <p:sp>
            <p:nvSpPr>
              <p:cNvPr id="322" name=""/>
              <p:cNvSpPr/>
              <p:nvPr/>
            </p:nvSpPr>
            <p:spPr>
              <a:xfrm>
                <a:off x="5651640" y="5795640"/>
                <a:ext cx="256320" cy="10152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686560" y="5783040"/>
                <a:ext cx="198000" cy="7632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709960" y="5770440"/>
                <a:ext cx="139680" cy="38160"/>
              </a:xfrm>
              <a:prstGeom prst="ellips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5779800" y="5516640"/>
              <a:ext cx="176400" cy="280080"/>
            </a:xfrm>
            <a:custGeom>
              <a:avLst/>
              <a:gdLst/>
              <a:ahLst/>
              <a:rect l="l" t="t" r="r" b="b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629800" y="61657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ча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11240" y="60213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ч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257680" y="573408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ч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356000" y="3933720"/>
            <a:ext cx="505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0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56069E-006 L 1.10104 -0.17341 E">
                                      <p:cBhvr>
                                        <p:cTn id="154" dur="5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 flipV="1">
            <a:off x="250920" y="4292640"/>
            <a:ext cx="8735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21175200">
            <a:off x="4287960" y="5229360"/>
            <a:ext cx="178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30 к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-39600" y="5488560"/>
            <a:ext cx="9183240" cy="1378080"/>
            <a:chOff x="-39600" y="5488560"/>
            <a:chExt cx="9183240" cy="1378080"/>
          </a:xfrm>
        </p:grpSpPr>
        <p:grpSp>
          <p:nvGrpSpPr>
            <p:cNvPr id="333" name=""/>
            <p:cNvGrpSpPr/>
            <p:nvPr/>
          </p:nvGrpSpPr>
          <p:grpSpPr>
            <a:xfrm>
              <a:off x="-39600" y="6691320"/>
              <a:ext cx="367920" cy="120960"/>
              <a:chOff x="-39600" y="6691320"/>
              <a:chExt cx="367920" cy="120960"/>
            </a:xfrm>
          </p:grpSpPr>
          <p:sp>
            <p:nvSpPr>
              <p:cNvPr id="334" name=""/>
              <p:cNvSpPr/>
              <p:nvPr/>
            </p:nvSpPr>
            <p:spPr>
              <a:xfrm flipH="1" flipV="1">
                <a:off x="154080" y="6691320"/>
                <a:ext cx="173880" cy="12096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 flipV="1">
                <a:off x="-39960" y="6708600"/>
                <a:ext cx="179640" cy="1026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-39600" y="6589440"/>
              <a:ext cx="367920" cy="120600"/>
              <a:chOff x="-39600" y="6589440"/>
              <a:chExt cx="367920" cy="120600"/>
            </a:xfrm>
          </p:grpSpPr>
          <p:sp>
            <p:nvSpPr>
              <p:cNvPr id="337" name=""/>
              <p:cNvSpPr/>
              <p:nvPr/>
            </p:nvSpPr>
            <p:spPr>
              <a:xfrm flipH="1" flipV="1">
                <a:off x="154080" y="6589080"/>
                <a:ext cx="173880" cy="1206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flipV="1">
                <a:off x="-39960" y="6607080"/>
                <a:ext cx="179640" cy="1022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6360" y="6526080"/>
              <a:ext cx="367920" cy="120600"/>
              <a:chOff x="36360" y="6526080"/>
              <a:chExt cx="367920" cy="120600"/>
            </a:xfrm>
          </p:grpSpPr>
          <p:sp>
            <p:nvSpPr>
              <p:cNvPr id="340" name=""/>
              <p:cNvSpPr/>
              <p:nvPr/>
            </p:nvSpPr>
            <p:spPr>
              <a:xfrm flipH="1" flipV="1">
                <a:off x="230040" y="6525720"/>
                <a:ext cx="173880" cy="1206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35640" y="6543720"/>
                <a:ext cx="179640" cy="1022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00080" y="6500520"/>
              <a:ext cx="367920" cy="120600"/>
              <a:chOff x="100080" y="6500520"/>
              <a:chExt cx="367920" cy="120600"/>
            </a:xfrm>
          </p:grpSpPr>
          <p:sp>
            <p:nvSpPr>
              <p:cNvPr id="343" name=""/>
              <p:cNvSpPr/>
              <p:nvPr/>
            </p:nvSpPr>
            <p:spPr>
              <a:xfrm flipH="1" flipV="1">
                <a:off x="293760" y="6500160"/>
                <a:ext cx="173880" cy="1206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>
                <a:off x="99720" y="6518160"/>
                <a:ext cx="179640" cy="1022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3684960" y="6165000"/>
              <a:ext cx="1740600" cy="447840"/>
              <a:chOff x="3684960" y="6165000"/>
              <a:chExt cx="1740600" cy="44784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3684960" y="6165000"/>
                <a:ext cx="978480" cy="447840"/>
                <a:chOff x="3684960" y="6165000"/>
                <a:chExt cx="978480" cy="44784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3684960" y="6219360"/>
                  <a:ext cx="492120" cy="393480"/>
                  <a:chOff x="3684960" y="6219360"/>
                  <a:chExt cx="492120" cy="393480"/>
                </a:xfrm>
              </p:grpSpPr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3982680" y="6219360"/>
                    <a:ext cx="194400" cy="277200"/>
                    <a:chOff x="3982680" y="6219360"/>
                    <a:chExt cx="194400" cy="27720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21099600">
                      <a:off x="3999240" y="6229440"/>
                      <a:ext cx="16128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21099600">
                      <a:off x="4007880" y="623664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3866760" y="6262560"/>
                    <a:ext cx="220680" cy="288720"/>
                    <a:chOff x="3866760" y="6262560"/>
                    <a:chExt cx="220680" cy="28872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flipH="1" rot="20649000">
                      <a:off x="3895920" y="6279840"/>
                      <a:ext cx="16128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 rot="20649000">
                      <a:off x="3906360" y="6288840"/>
                      <a:ext cx="10440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3684960" y="6313320"/>
                    <a:ext cx="268920" cy="299520"/>
                    <a:chOff x="3684960" y="6313320"/>
                    <a:chExt cx="268920" cy="29952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flipH="1" rot="19542600">
                      <a:off x="3737880" y="6337800"/>
                      <a:ext cx="16200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flipH="1" rot="19542600">
                      <a:off x="3755160" y="635148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4182120" y="6165000"/>
                  <a:ext cx="481320" cy="341280"/>
                  <a:chOff x="4182120" y="6165000"/>
                  <a:chExt cx="481320" cy="341280"/>
                </a:xfrm>
              </p:grpSpPr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4182120" y="6165000"/>
                    <a:ext cx="165600" cy="259200"/>
                    <a:chOff x="4182120" y="6165000"/>
                    <a:chExt cx="165600" cy="25920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rot="21544800">
                      <a:off x="4183920" y="616608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rot="21544800">
                      <a:off x="4233600" y="616968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4280400" y="6190920"/>
                    <a:ext cx="187920" cy="272520"/>
                    <a:chOff x="4280400" y="6190920"/>
                    <a:chExt cx="187920" cy="27252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rot="395400">
                      <a:off x="4293360" y="6199200"/>
                      <a:ext cx="161640" cy="23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rot="395400">
                      <a:off x="4341960" y="6204960"/>
                      <a:ext cx="10476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4415400" y="6208200"/>
                    <a:ext cx="248040" cy="298080"/>
                    <a:chOff x="4415400" y="6208200"/>
                    <a:chExt cx="248040" cy="29808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rot="1501800">
                      <a:off x="4458600" y="623088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rot="1501800">
                      <a:off x="4501800" y="624240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67" name=""/>
              <p:cNvGrpSpPr/>
              <p:nvPr/>
            </p:nvGrpSpPr>
            <p:grpSpPr>
              <a:xfrm>
                <a:off x="4447080" y="6165000"/>
                <a:ext cx="978480" cy="447840"/>
                <a:chOff x="4447080" y="6165000"/>
                <a:chExt cx="978480" cy="447840"/>
              </a:xfrm>
            </p:grpSpPr>
            <p:grpSp>
              <p:nvGrpSpPr>
                <p:cNvPr id="368" name=""/>
                <p:cNvGrpSpPr/>
                <p:nvPr/>
              </p:nvGrpSpPr>
              <p:grpSpPr>
                <a:xfrm>
                  <a:off x="4933440" y="6219360"/>
                  <a:ext cx="492120" cy="393480"/>
                  <a:chOff x="4933440" y="6219360"/>
                  <a:chExt cx="492120" cy="393480"/>
                </a:xfrm>
              </p:grpSpPr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4933440" y="6219360"/>
                    <a:ext cx="194400" cy="276840"/>
                    <a:chOff x="4933440" y="6219360"/>
                    <a:chExt cx="194400" cy="27684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rot="500400">
                      <a:off x="4950000" y="6229440"/>
                      <a:ext cx="16128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rot="500400">
                      <a:off x="4997520" y="6236640"/>
                      <a:ext cx="10476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023440" y="6262560"/>
                    <a:ext cx="220320" cy="288720"/>
                    <a:chOff x="5023440" y="6262560"/>
                    <a:chExt cx="220320" cy="28872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951000">
                      <a:off x="5052960" y="6279840"/>
                      <a:ext cx="161280" cy="23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951000">
                      <a:off x="5099040" y="6288840"/>
                      <a:ext cx="10440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156280" y="6313320"/>
                    <a:ext cx="269280" cy="299520"/>
                    <a:chOff x="5156280" y="6313320"/>
                    <a:chExt cx="269280" cy="29952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2057400">
                      <a:off x="5209560" y="6337800"/>
                      <a:ext cx="162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2057400">
                      <a:off x="5249880" y="6351480"/>
                      <a:ext cx="10476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4447080" y="6165000"/>
                  <a:ext cx="481320" cy="341280"/>
                  <a:chOff x="4447080" y="6165000"/>
                  <a:chExt cx="481320" cy="341280"/>
                </a:xfrm>
              </p:grpSpPr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4763160" y="6165000"/>
                    <a:ext cx="165240" cy="259200"/>
                    <a:chOff x="4763160" y="6165000"/>
                    <a:chExt cx="165240" cy="25920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flipH="1" rot="55200">
                      <a:off x="4764600" y="616608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flipH="1" rot="55200">
                      <a:off x="4771080" y="616968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4642200" y="6190920"/>
                    <a:ext cx="188280" cy="272520"/>
                    <a:chOff x="4642200" y="6190920"/>
                    <a:chExt cx="188280" cy="27252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flipH="1" rot="21204600">
                      <a:off x="4655160" y="6199200"/>
                      <a:ext cx="161640" cy="23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flipH="1" rot="21204600">
                      <a:off x="4663080" y="620496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4447080" y="6208200"/>
                    <a:ext cx="248040" cy="298080"/>
                    <a:chOff x="4447080" y="6208200"/>
                    <a:chExt cx="248040" cy="29808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 flipH="1" rot="20098200">
                      <a:off x="4489920" y="623088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flipH="1" rot="20098200">
                      <a:off x="4502880" y="624240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88" name=""/>
            <p:cNvGrpSpPr/>
            <p:nvPr/>
          </p:nvGrpSpPr>
          <p:grpSpPr>
            <a:xfrm>
              <a:off x="65160" y="6418800"/>
              <a:ext cx="1740600" cy="447840"/>
              <a:chOff x="65160" y="6418800"/>
              <a:chExt cx="1740600" cy="44784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65160" y="6418800"/>
                <a:ext cx="978480" cy="447840"/>
                <a:chOff x="65160" y="6418800"/>
                <a:chExt cx="978480" cy="447840"/>
              </a:xfrm>
            </p:grpSpPr>
            <p:grpSp>
              <p:nvGrpSpPr>
                <p:cNvPr id="390" name=""/>
                <p:cNvGrpSpPr/>
                <p:nvPr/>
              </p:nvGrpSpPr>
              <p:grpSpPr>
                <a:xfrm>
                  <a:off x="65160" y="6473160"/>
                  <a:ext cx="492120" cy="393480"/>
                  <a:chOff x="65160" y="6473160"/>
                  <a:chExt cx="492120" cy="393480"/>
                </a:xfrm>
              </p:grpSpPr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362880" y="6473160"/>
                    <a:ext cx="194400" cy="277200"/>
                    <a:chOff x="362880" y="6473160"/>
                    <a:chExt cx="194400" cy="27720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flipH="1" rot="21099600">
                      <a:off x="379440" y="6483240"/>
                      <a:ext cx="16128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flipH="1" rot="21099600">
                      <a:off x="388080" y="649044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246960" y="6516360"/>
                    <a:ext cx="220680" cy="288720"/>
                    <a:chOff x="246960" y="6516360"/>
                    <a:chExt cx="220680" cy="28872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flipH="1" rot="20649000">
                      <a:off x="276120" y="6533640"/>
                      <a:ext cx="16128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flipH="1" rot="20649000">
                      <a:off x="286560" y="6542640"/>
                      <a:ext cx="10440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65160" y="6567120"/>
                    <a:ext cx="268920" cy="299520"/>
                    <a:chOff x="65160" y="6567120"/>
                    <a:chExt cx="268920" cy="29952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flipH="1" rot="19542600">
                      <a:off x="118080" y="6591600"/>
                      <a:ext cx="16200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flipH="1" rot="19542600">
                      <a:off x="135360" y="660528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562320" y="6418800"/>
                  <a:ext cx="481320" cy="341280"/>
                  <a:chOff x="562320" y="6418800"/>
                  <a:chExt cx="481320" cy="341280"/>
                </a:xfrm>
              </p:grpSpPr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562320" y="6418800"/>
                    <a:ext cx="165600" cy="259200"/>
                    <a:chOff x="562320" y="6418800"/>
                    <a:chExt cx="165600" cy="25920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rot="21544800">
                      <a:off x="564120" y="641988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rot="21544800">
                      <a:off x="613800" y="642348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660600" y="6444720"/>
                    <a:ext cx="187920" cy="272520"/>
                    <a:chOff x="660600" y="6444720"/>
                    <a:chExt cx="187920" cy="27252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rot="395400">
                      <a:off x="673560" y="6453000"/>
                      <a:ext cx="161640" cy="23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rot="395400">
                      <a:off x="722160" y="6458760"/>
                      <a:ext cx="10476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795600" y="6462000"/>
                    <a:ext cx="248040" cy="298080"/>
                    <a:chOff x="795600" y="6462000"/>
                    <a:chExt cx="248040" cy="29808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rot="1501800">
                      <a:off x="838800" y="648468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rot="1501800">
                      <a:off x="882000" y="649620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0" name=""/>
              <p:cNvGrpSpPr/>
              <p:nvPr/>
            </p:nvGrpSpPr>
            <p:grpSpPr>
              <a:xfrm>
                <a:off x="827280" y="6418800"/>
                <a:ext cx="978480" cy="447840"/>
                <a:chOff x="827280" y="6418800"/>
                <a:chExt cx="978480" cy="447840"/>
              </a:xfrm>
            </p:grpSpPr>
            <p:grpSp>
              <p:nvGrpSpPr>
                <p:cNvPr id="411" name=""/>
                <p:cNvGrpSpPr/>
                <p:nvPr/>
              </p:nvGrpSpPr>
              <p:grpSpPr>
                <a:xfrm>
                  <a:off x="1313640" y="6473160"/>
                  <a:ext cx="492120" cy="393480"/>
                  <a:chOff x="1313640" y="6473160"/>
                  <a:chExt cx="492120" cy="393480"/>
                </a:xfrm>
              </p:grpSpPr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1313640" y="6473160"/>
                    <a:ext cx="194400" cy="276840"/>
                    <a:chOff x="1313640" y="6473160"/>
                    <a:chExt cx="194400" cy="27684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rot="500400">
                      <a:off x="1330200" y="6483240"/>
                      <a:ext cx="16128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rot="500400">
                      <a:off x="1377720" y="6490440"/>
                      <a:ext cx="10476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1403640" y="6516360"/>
                    <a:ext cx="220320" cy="288720"/>
                    <a:chOff x="1403640" y="6516360"/>
                    <a:chExt cx="220320" cy="28872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 rot="951000">
                      <a:off x="1433160" y="6533640"/>
                      <a:ext cx="161280" cy="23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rot="951000">
                      <a:off x="1479240" y="6542640"/>
                      <a:ext cx="10440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1536480" y="6567120"/>
                    <a:ext cx="269280" cy="299520"/>
                    <a:chOff x="1536480" y="6567120"/>
                    <a:chExt cx="269280" cy="29952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rot="2057400">
                      <a:off x="1589760" y="6591600"/>
                      <a:ext cx="162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rot="2057400">
                      <a:off x="1630080" y="6605280"/>
                      <a:ext cx="10476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827280" y="6418800"/>
                  <a:ext cx="481320" cy="341280"/>
                  <a:chOff x="827280" y="6418800"/>
                  <a:chExt cx="481320" cy="341280"/>
                </a:xfrm>
              </p:grpSpPr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1143360" y="6418800"/>
                    <a:ext cx="165240" cy="259200"/>
                    <a:chOff x="1143360" y="6418800"/>
                    <a:chExt cx="165240" cy="25920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 flipH="1" rot="55200">
                      <a:off x="1144800" y="641988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 flipH="1" rot="55200">
                      <a:off x="1151280" y="642348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1022400" y="6444720"/>
                    <a:ext cx="188280" cy="272520"/>
                    <a:chOff x="1022400" y="6444720"/>
                    <a:chExt cx="188280" cy="272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 flipH="1" rot="21204600">
                      <a:off x="1035360" y="6453000"/>
                      <a:ext cx="161640" cy="23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 flipH="1" rot="21204600">
                      <a:off x="1043280" y="645876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827280" y="6462000"/>
                    <a:ext cx="248040" cy="298080"/>
                    <a:chOff x="827280" y="6462000"/>
                    <a:chExt cx="248040" cy="29808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flipH="1" rot="20098200">
                      <a:off x="870120" y="648468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 flipH="1" rot="20098200">
                      <a:off x="883080" y="649620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431" name=""/>
            <p:cNvGrpSpPr/>
            <p:nvPr/>
          </p:nvGrpSpPr>
          <p:grpSpPr>
            <a:xfrm>
              <a:off x="36360" y="5961240"/>
              <a:ext cx="165240" cy="82440"/>
              <a:chOff x="36360" y="5961240"/>
              <a:chExt cx="165240" cy="82440"/>
            </a:xfrm>
          </p:grpSpPr>
          <p:sp>
            <p:nvSpPr>
              <p:cNvPr id="432" name=""/>
              <p:cNvSpPr/>
              <p:nvPr/>
            </p:nvSpPr>
            <p:spPr>
              <a:xfrm>
                <a:off x="36360" y="5961240"/>
                <a:ext cx="78120" cy="824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20960" y="5961600"/>
                <a:ext cx="80640" cy="702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36360" y="5859720"/>
              <a:ext cx="165240" cy="82440"/>
              <a:chOff x="36360" y="5859720"/>
              <a:chExt cx="165240" cy="82440"/>
            </a:xfrm>
          </p:grpSpPr>
          <p:sp>
            <p:nvSpPr>
              <p:cNvPr id="435" name=""/>
              <p:cNvSpPr/>
              <p:nvPr/>
            </p:nvSpPr>
            <p:spPr>
              <a:xfrm>
                <a:off x="36360" y="5859720"/>
                <a:ext cx="78120" cy="824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20960" y="5860080"/>
                <a:ext cx="80640" cy="702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112680" y="5796000"/>
              <a:ext cx="165240" cy="82800"/>
              <a:chOff x="112680" y="5796000"/>
              <a:chExt cx="165240" cy="82800"/>
            </a:xfrm>
          </p:grpSpPr>
          <p:sp>
            <p:nvSpPr>
              <p:cNvPr id="438" name=""/>
              <p:cNvSpPr/>
              <p:nvPr/>
            </p:nvSpPr>
            <p:spPr>
              <a:xfrm>
                <a:off x="112680" y="5796000"/>
                <a:ext cx="78120" cy="828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97280" y="5796360"/>
                <a:ext cx="80640" cy="702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279360" y="5488560"/>
              <a:ext cx="8864280" cy="1333080"/>
              <a:chOff x="279360" y="5488560"/>
              <a:chExt cx="8864280" cy="133308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3124080" y="5919840"/>
                <a:ext cx="343080" cy="183960"/>
                <a:chOff x="3124080" y="5919840"/>
                <a:chExt cx="343080" cy="18396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3124080" y="5919840"/>
                  <a:ext cx="162000" cy="18396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299760" y="5921280"/>
                  <a:ext cx="167400" cy="1562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5842080" y="5945040"/>
                <a:ext cx="685800" cy="222480"/>
                <a:chOff x="5842080" y="5945040"/>
                <a:chExt cx="685800" cy="2224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5842080" y="5945040"/>
                  <a:ext cx="324000" cy="22248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193080" y="5946840"/>
                  <a:ext cx="334800" cy="1890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1181880" y="6440760"/>
                <a:ext cx="694440" cy="254880"/>
                <a:chOff x="1181880" y="6440760"/>
                <a:chExt cx="694440" cy="254880"/>
              </a:xfrm>
            </p:grpSpPr>
            <p:sp>
              <p:nvSpPr>
                <p:cNvPr id="448" name=""/>
                <p:cNvSpPr/>
                <p:nvPr/>
              </p:nvSpPr>
              <p:spPr>
                <a:xfrm rot="10626600">
                  <a:off x="1546920" y="6448680"/>
                  <a:ext cx="324000" cy="22212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0626600">
                  <a:off x="1186200" y="6498360"/>
                  <a:ext cx="334800" cy="188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4635720" y="5843520"/>
                <a:ext cx="164520" cy="82800"/>
                <a:chOff x="4635720" y="5843520"/>
                <a:chExt cx="164520" cy="828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4635720" y="5843520"/>
                  <a:ext cx="7776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719960" y="584388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493040" y="5653080"/>
                <a:ext cx="165240" cy="82440"/>
                <a:chOff x="7493040" y="5653080"/>
                <a:chExt cx="165240" cy="8244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7493040" y="56530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577640" y="56534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8574120" y="6338880"/>
                <a:ext cx="165240" cy="82440"/>
                <a:chOff x="8574120" y="6338880"/>
                <a:chExt cx="165240" cy="824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8574120" y="63388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8658720" y="63392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8345520" y="6389640"/>
                <a:ext cx="165240" cy="82440"/>
                <a:chOff x="8345520" y="6389640"/>
                <a:chExt cx="165240" cy="824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8345520" y="63896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8430120" y="63900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8180280" y="6415200"/>
                <a:ext cx="165240" cy="82440"/>
                <a:chOff x="8180280" y="6415200"/>
                <a:chExt cx="165240" cy="824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8180280" y="64152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264880" y="64155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8180280" y="6313680"/>
                <a:ext cx="165240" cy="82440"/>
                <a:chOff x="8180280" y="6313680"/>
                <a:chExt cx="165240" cy="824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8180280" y="63136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8264880" y="63140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8256600" y="6249960"/>
                <a:ext cx="165240" cy="82440"/>
                <a:chOff x="8256600" y="6249960"/>
                <a:chExt cx="165240" cy="824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8256600" y="62499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341200" y="62503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8320320" y="6224760"/>
                <a:ext cx="164520" cy="82440"/>
                <a:chOff x="8320320" y="6224760"/>
                <a:chExt cx="164520" cy="8244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8320320" y="622476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8404560" y="622512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8396280" y="6186600"/>
                <a:ext cx="165240" cy="82440"/>
                <a:chOff x="8396280" y="6186600"/>
                <a:chExt cx="165240" cy="8244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8396280" y="61866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8480880" y="61869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8599680" y="6110280"/>
                <a:ext cx="164520" cy="82440"/>
                <a:chOff x="8599680" y="6110280"/>
                <a:chExt cx="164520" cy="8244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8599680" y="611028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683920" y="611064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7596360" y="6249960"/>
                <a:ext cx="164520" cy="82440"/>
                <a:chOff x="7596360" y="6249960"/>
                <a:chExt cx="164520" cy="8244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7596360" y="624996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680600" y="625032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8917200" y="6110280"/>
                <a:ext cx="164520" cy="82440"/>
                <a:chOff x="8917200" y="6110280"/>
                <a:chExt cx="164520" cy="8244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8917200" y="611028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9001440" y="611064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8420040" y="5729400"/>
                <a:ext cx="165240" cy="82440"/>
                <a:chOff x="8420040" y="5729400"/>
                <a:chExt cx="165240" cy="8244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8420040" y="57294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8504640" y="57297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8737560" y="5729400"/>
                <a:ext cx="165240" cy="82440"/>
                <a:chOff x="8737560" y="5729400"/>
                <a:chExt cx="165240" cy="8244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8737560" y="57294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822160" y="57297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3824280" y="6080040"/>
                <a:ext cx="189000" cy="84240"/>
                <a:chOff x="3824280" y="6080040"/>
                <a:chExt cx="189000" cy="842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824280" y="6080040"/>
                  <a:ext cx="89280" cy="842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921120" y="6080400"/>
                  <a:ext cx="92160" cy="71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2859120" y="6105600"/>
                <a:ext cx="165240" cy="82440"/>
                <a:chOff x="2859120" y="6105600"/>
                <a:chExt cx="165240" cy="824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2859120" y="61056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943720" y="61059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2693880" y="6130800"/>
                <a:ext cx="165240" cy="82800"/>
                <a:chOff x="2693880" y="6130800"/>
                <a:chExt cx="165240" cy="828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2693880" y="613080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778480" y="61311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2693880" y="6029280"/>
                <a:ext cx="165240" cy="82440"/>
                <a:chOff x="2693880" y="6029280"/>
                <a:chExt cx="165240" cy="8244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2693880" y="60292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778480" y="60296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2770200" y="5965920"/>
                <a:ext cx="165240" cy="82440"/>
                <a:chOff x="2770200" y="5965920"/>
                <a:chExt cx="165240" cy="8244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2770200" y="59659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854800" y="59662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2833920" y="5940360"/>
                <a:ext cx="164520" cy="82800"/>
                <a:chOff x="2833920" y="5940360"/>
                <a:chExt cx="164520" cy="8280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2833920" y="5940360"/>
                  <a:ext cx="7776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918160" y="594072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3646440" y="5927760"/>
                <a:ext cx="189000" cy="84240"/>
                <a:chOff x="3646440" y="5927760"/>
                <a:chExt cx="189000" cy="8424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3646440" y="5927760"/>
                  <a:ext cx="89280" cy="842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743280" y="5928120"/>
                  <a:ext cx="92160" cy="71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3849840" y="5851440"/>
                <a:ext cx="188640" cy="84240"/>
                <a:chOff x="3849840" y="5851440"/>
                <a:chExt cx="188640" cy="8424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3849840" y="5851440"/>
                  <a:ext cx="88920" cy="842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946320" y="5851800"/>
                  <a:ext cx="92160" cy="71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516400" y="6067440"/>
                <a:ext cx="164520" cy="82440"/>
                <a:chOff x="2516400" y="6067440"/>
                <a:chExt cx="164520" cy="8244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2516400" y="606744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600640" y="606780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2287800" y="6118200"/>
                <a:ext cx="164520" cy="82440"/>
                <a:chOff x="2287800" y="6118200"/>
                <a:chExt cx="164520" cy="8244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2287800" y="611820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372040" y="611856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2122560" y="6143760"/>
                <a:ext cx="165240" cy="82440"/>
                <a:chOff x="2122560" y="6143760"/>
                <a:chExt cx="165240" cy="8244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2122560" y="61437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207160" y="61441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2122560" y="6041880"/>
                <a:ext cx="165240" cy="82800"/>
                <a:chOff x="2122560" y="6041880"/>
                <a:chExt cx="165240" cy="828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2122560" y="604188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207160" y="60422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2198880" y="5978520"/>
                <a:ext cx="164520" cy="82440"/>
                <a:chOff x="2198880" y="5978520"/>
                <a:chExt cx="164520" cy="8244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2198880" y="597852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283120" y="597888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2262240" y="5953320"/>
                <a:ext cx="165240" cy="82440"/>
                <a:chOff x="2262240" y="5953320"/>
                <a:chExt cx="165240" cy="8244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2262240" y="59533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346840" y="59536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2338560" y="5915160"/>
                <a:ext cx="164520" cy="82440"/>
                <a:chOff x="2338560" y="5915160"/>
                <a:chExt cx="164520" cy="8244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2338560" y="591516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422800" y="591552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2541600" y="5838840"/>
                <a:ext cx="165240" cy="82440"/>
                <a:chOff x="2541600" y="5838840"/>
                <a:chExt cx="165240" cy="824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2541600" y="58388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626200" y="58392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1805040" y="6257880"/>
                <a:ext cx="165240" cy="82440"/>
                <a:chOff x="1805040" y="6257880"/>
                <a:chExt cx="165240" cy="8244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805040" y="62578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889640" y="62582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1576440" y="6308640"/>
                <a:ext cx="165240" cy="82800"/>
                <a:chOff x="1576440" y="6308640"/>
                <a:chExt cx="165240" cy="8280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1576440" y="630864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1661040" y="63090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1411200" y="6334200"/>
                <a:ext cx="165240" cy="82440"/>
                <a:chOff x="1411200" y="6334200"/>
                <a:chExt cx="165240" cy="8244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411200" y="63342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495800" y="63345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1411200" y="6232680"/>
                <a:ext cx="165240" cy="82440"/>
                <a:chOff x="1411200" y="6232680"/>
                <a:chExt cx="165240" cy="8244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1411200" y="62326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495800" y="62330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1487520" y="6168960"/>
                <a:ext cx="165240" cy="82800"/>
                <a:chOff x="1487520" y="6168960"/>
                <a:chExt cx="165240" cy="8280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1487520" y="616896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572120" y="61693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1550880" y="6143760"/>
                <a:ext cx="165240" cy="82440"/>
                <a:chOff x="1550880" y="6143760"/>
                <a:chExt cx="165240" cy="8244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1550880" y="61437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635480" y="61441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1627200" y="6105600"/>
                <a:ext cx="165240" cy="82440"/>
                <a:chOff x="1627200" y="6105600"/>
                <a:chExt cx="165240" cy="8244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1627200" y="61056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711800" y="61059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1830600" y="6029280"/>
                <a:ext cx="164520" cy="82440"/>
                <a:chOff x="1830600" y="6029280"/>
                <a:chExt cx="164520" cy="8244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1830600" y="602928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914840" y="602964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762120" y="5945040"/>
                <a:ext cx="164520" cy="82800"/>
                <a:chOff x="762120" y="5945040"/>
                <a:chExt cx="164520" cy="8280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762120" y="5945040"/>
                  <a:ext cx="7776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846360" y="594540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533520" y="5996160"/>
                <a:ext cx="164520" cy="82440"/>
                <a:chOff x="533520" y="5996160"/>
                <a:chExt cx="164520" cy="824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533520" y="599616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17760" y="599652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368280" y="6021360"/>
                <a:ext cx="165240" cy="82440"/>
                <a:chOff x="368280" y="6021360"/>
                <a:chExt cx="165240" cy="8244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368280" y="60213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52880" y="60217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368280" y="5919840"/>
                <a:ext cx="165240" cy="82440"/>
                <a:chOff x="368280" y="5919840"/>
                <a:chExt cx="165240" cy="8244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368280" y="59198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52880" y="59202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444600" y="5856480"/>
                <a:ext cx="164520" cy="82440"/>
                <a:chOff x="444600" y="5856480"/>
                <a:chExt cx="164520" cy="8244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444600" y="585648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28840" y="585684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507960" y="5830920"/>
                <a:ext cx="165240" cy="82440"/>
                <a:chOff x="507960" y="5830920"/>
                <a:chExt cx="165240" cy="8244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507960" y="58309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92560" y="58312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584280" y="5792760"/>
                <a:ext cx="165240" cy="82440"/>
                <a:chOff x="584280" y="5792760"/>
                <a:chExt cx="165240" cy="8244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584280" y="57927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668880" y="57931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787320" y="5716440"/>
                <a:ext cx="165240" cy="82800"/>
                <a:chOff x="787320" y="5716440"/>
                <a:chExt cx="165240" cy="8280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787320" y="571644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871920" y="57168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507960" y="6649920"/>
                <a:ext cx="367920" cy="120960"/>
                <a:chOff x="507960" y="6649920"/>
                <a:chExt cx="367920" cy="120960"/>
              </a:xfrm>
            </p:grpSpPr>
            <p:sp>
              <p:nvSpPr>
                <p:cNvPr id="589" name=""/>
                <p:cNvSpPr/>
                <p:nvPr/>
              </p:nvSpPr>
              <p:spPr>
                <a:xfrm flipH="1" flipV="1">
                  <a:off x="701640" y="6649920"/>
                  <a:ext cx="173880" cy="12096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H="1" flipV="1">
                  <a:off x="507600" y="6667200"/>
                  <a:ext cx="179640" cy="1026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279360" y="6700680"/>
                <a:ext cx="367920" cy="120960"/>
                <a:chOff x="279360" y="6700680"/>
                <a:chExt cx="367920" cy="120960"/>
              </a:xfrm>
            </p:grpSpPr>
            <p:sp>
              <p:nvSpPr>
                <p:cNvPr id="592" name=""/>
                <p:cNvSpPr/>
                <p:nvPr/>
              </p:nvSpPr>
              <p:spPr>
                <a:xfrm flipH="1" flipV="1">
                  <a:off x="473040" y="6700680"/>
                  <a:ext cx="173880" cy="12096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H="1" flipV="1">
                  <a:off x="279000" y="6717960"/>
                  <a:ext cx="179640" cy="1026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330120" y="6497280"/>
                <a:ext cx="367920" cy="120600"/>
                <a:chOff x="330120" y="6497280"/>
                <a:chExt cx="367920" cy="120600"/>
              </a:xfrm>
            </p:grpSpPr>
            <p:sp>
              <p:nvSpPr>
                <p:cNvPr id="595" name=""/>
                <p:cNvSpPr/>
                <p:nvPr/>
              </p:nvSpPr>
              <p:spPr>
                <a:xfrm flipH="1" flipV="1">
                  <a:off x="523800" y="6496920"/>
                  <a:ext cx="173880" cy="1206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flipH="1" flipV="1">
                  <a:off x="329760" y="6514920"/>
                  <a:ext cx="179640" cy="1022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533520" y="6421320"/>
                <a:ext cx="367920" cy="120960"/>
                <a:chOff x="533520" y="6421320"/>
                <a:chExt cx="367920" cy="120960"/>
              </a:xfrm>
            </p:grpSpPr>
            <p:sp>
              <p:nvSpPr>
                <p:cNvPr id="598" name=""/>
                <p:cNvSpPr/>
                <p:nvPr/>
              </p:nvSpPr>
              <p:spPr>
                <a:xfrm flipH="1" flipV="1">
                  <a:off x="727200" y="6421320"/>
                  <a:ext cx="173880" cy="12096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 flipV="1">
                  <a:off x="533160" y="6438600"/>
                  <a:ext cx="179640" cy="1026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1665360" y="6118200"/>
                <a:ext cx="165240" cy="82440"/>
                <a:chOff x="1665360" y="6118200"/>
                <a:chExt cx="165240" cy="8244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1665360" y="61182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749960" y="61185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7124760" y="6249960"/>
                <a:ext cx="165240" cy="82440"/>
                <a:chOff x="7124760" y="6249960"/>
                <a:chExt cx="165240" cy="8244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7124760" y="62499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209360" y="62503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6896160" y="6300720"/>
                <a:ext cx="165240" cy="82800"/>
                <a:chOff x="6896160" y="6300720"/>
                <a:chExt cx="165240" cy="828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6896160" y="630072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6980760" y="63010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6730920" y="6326280"/>
                <a:ext cx="165240" cy="82440"/>
                <a:chOff x="6730920" y="6326280"/>
                <a:chExt cx="165240" cy="8244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6730920" y="63262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6815520" y="63266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6730920" y="6224760"/>
                <a:ext cx="165240" cy="82440"/>
                <a:chOff x="6730920" y="6224760"/>
                <a:chExt cx="165240" cy="8244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6730920" y="62247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815520" y="62251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807240" y="6161040"/>
                <a:ext cx="165240" cy="82440"/>
                <a:chOff x="6807240" y="6161040"/>
                <a:chExt cx="165240" cy="8244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807240" y="61610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6891840" y="61614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6870600" y="6135840"/>
                <a:ext cx="165240" cy="82440"/>
                <a:chOff x="6870600" y="6135840"/>
                <a:chExt cx="165240" cy="8244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6870600" y="61358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955200" y="61362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6946920" y="6097680"/>
                <a:ext cx="165240" cy="82440"/>
                <a:chOff x="6946920" y="6097680"/>
                <a:chExt cx="165240" cy="8244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6946920" y="60976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7031520" y="60980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7150320" y="6021360"/>
                <a:ext cx="164520" cy="82440"/>
                <a:chOff x="7150320" y="6021360"/>
                <a:chExt cx="164520" cy="8244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7150320" y="602136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234560" y="602172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5765760" y="6262560"/>
                <a:ext cx="165240" cy="82800"/>
                <a:chOff x="5765760" y="6262560"/>
                <a:chExt cx="165240" cy="828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5765760" y="626256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850360" y="62629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5537160" y="6313680"/>
                <a:ext cx="165240" cy="82440"/>
                <a:chOff x="5537160" y="6313680"/>
                <a:chExt cx="165240" cy="8244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5537160" y="63136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621760" y="63140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5372280" y="6338880"/>
                <a:ext cx="164520" cy="82440"/>
                <a:chOff x="5372280" y="6338880"/>
                <a:chExt cx="164520" cy="824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5372280" y="633888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456520" y="633924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5372280" y="6237360"/>
                <a:ext cx="164520" cy="82440"/>
                <a:chOff x="5372280" y="6237360"/>
                <a:chExt cx="164520" cy="8244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372280" y="623736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456520" y="623772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5448240" y="6173640"/>
                <a:ext cx="165240" cy="82800"/>
                <a:chOff x="5448240" y="6173640"/>
                <a:chExt cx="165240" cy="8280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5448240" y="617364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532840" y="61740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5511960" y="6148440"/>
                <a:ext cx="164520" cy="82440"/>
                <a:chOff x="5511960" y="6148440"/>
                <a:chExt cx="164520" cy="8244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5511960" y="614844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596200" y="614880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5587920" y="6110280"/>
                <a:ext cx="165240" cy="82440"/>
                <a:chOff x="5587920" y="6110280"/>
                <a:chExt cx="165240" cy="8244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5587920" y="61102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672520" y="61106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5791320" y="6033960"/>
                <a:ext cx="164520" cy="82800"/>
                <a:chOff x="5791320" y="6033960"/>
                <a:chExt cx="164520" cy="8280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5791320" y="6033960"/>
                  <a:ext cx="7776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875560" y="603432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1819440" y="5488560"/>
                <a:ext cx="1740600" cy="447840"/>
                <a:chOff x="1819440" y="5488560"/>
                <a:chExt cx="1740600" cy="447840"/>
              </a:xfrm>
            </p:grpSpPr>
            <p:grpSp>
              <p:nvGrpSpPr>
                <p:cNvPr id="652" name=""/>
                <p:cNvGrpSpPr/>
                <p:nvPr/>
              </p:nvGrpSpPr>
              <p:grpSpPr>
                <a:xfrm>
                  <a:off x="1819440" y="5488560"/>
                  <a:ext cx="978480" cy="447840"/>
                  <a:chOff x="1819440" y="5488560"/>
                  <a:chExt cx="978480" cy="447840"/>
                </a:xfrm>
              </p:grpSpPr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1819440" y="5542920"/>
                    <a:ext cx="492120" cy="393480"/>
                    <a:chOff x="1819440" y="5542920"/>
                    <a:chExt cx="492120" cy="393480"/>
                  </a:xfrm>
                </p:grpSpPr>
                <p:grpSp>
                  <p:nvGrpSpPr>
                    <p:cNvPr id="654" name=""/>
                    <p:cNvGrpSpPr/>
                    <p:nvPr/>
                  </p:nvGrpSpPr>
                  <p:grpSpPr>
                    <a:xfrm>
                      <a:off x="2117160" y="5542920"/>
                      <a:ext cx="194400" cy="277200"/>
                      <a:chOff x="2117160" y="5542920"/>
                      <a:chExt cx="194400" cy="277200"/>
                    </a:xfrm>
                  </p:grpSpPr>
                  <p:sp>
                    <p:nvSpPr>
                      <p:cNvPr id="655" name=""/>
                      <p:cNvSpPr/>
                      <p:nvPr/>
                    </p:nvSpPr>
                    <p:spPr>
                      <a:xfrm flipH="1" rot="21099600">
                        <a:off x="2133720" y="555300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6" name=""/>
                      <p:cNvSpPr/>
                      <p:nvPr/>
                    </p:nvSpPr>
                    <p:spPr>
                      <a:xfrm flipH="1" rot="21099600">
                        <a:off x="2142360" y="556020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57" name=""/>
                    <p:cNvGrpSpPr/>
                    <p:nvPr/>
                  </p:nvGrpSpPr>
                  <p:grpSpPr>
                    <a:xfrm>
                      <a:off x="2001240" y="5586120"/>
                      <a:ext cx="220680" cy="288720"/>
                      <a:chOff x="2001240" y="5586120"/>
                      <a:chExt cx="220680" cy="288720"/>
                    </a:xfrm>
                  </p:grpSpPr>
                  <p:sp>
                    <p:nvSpPr>
                      <p:cNvPr id="658" name=""/>
                      <p:cNvSpPr/>
                      <p:nvPr/>
                    </p:nvSpPr>
                    <p:spPr>
                      <a:xfrm flipH="1" rot="20649000">
                        <a:off x="2030400" y="560340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9" name=""/>
                      <p:cNvSpPr/>
                      <p:nvPr/>
                    </p:nvSpPr>
                    <p:spPr>
                      <a:xfrm flipH="1" rot="20649000">
                        <a:off x="2040840" y="561240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60" name=""/>
                    <p:cNvGrpSpPr/>
                    <p:nvPr/>
                  </p:nvGrpSpPr>
                  <p:grpSpPr>
                    <a:xfrm>
                      <a:off x="1819440" y="5636880"/>
                      <a:ext cx="268920" cy="299520"/>
                      <a:chOff x="1819440" y="5636880"/>
                      <a:chExt cx="268920" cy="299520"/>
                    </a:xfrm>
                  </p:grpSpPr>
                  <p:sp>
                    <p:nvSpPr>
                      <p:cNvPr id="661" name=""/>
                      <p:cNvSpPr/>
                      <p:nvPr/>
                    </p:nvSpPr>
                    <p:spPr>
                      <a:xfrm flipH="1" rot="19542600">
                        <a:off x="1872360" y="5661360"/>
                        <a:ext cx="16200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2" name=""/>
                      <p:cNvSpPr/>
                      <p:nvPr/>
                    </p:nvSpPr>
                    <p:spPr>
                      <a:xfrm flipH="1" rot="19542600">
                        <a:off x="1889640" y="567504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63" name=""/>
                  <p:cNvGrpSpPr/>
                  <p:nvPr/>
                </p:nvGrpSpPr>
                <p:grpSpPr>
                  <a:xfrm>
                    <a:off x="2316600" y="5488560"/>
                    <a:ext cx="481320" cy="341280"/>
                    <a:chOff x="2316600" y="5488560"/>
                    <a:chExt cx="481320" cy="341280"/>
                  </a:xfrm>
                </p:grpSpPr>
                <p:grpSp>
                  <p:nvGrpSpPr>
                    <p:cNvPr id="664" name=""/>
                    <p:cNvGrpSpPr/>
                    <p:nvPr/>
                  </p:nvGrpSpPr>
                  <p:grpSpPr>
                    <a:xfrm>
                      <a:off x="2316600" y="5488560"/>
                      <a:ext cx="165600" cy="259200"/>
                      <a:chOff x="2316600" y="5488560"/>
                      <a:chExt cx="165600" cy="259200"/>
                    </a:xfrm>
                  </p:grpSpPr>
                  <p:sp>
                    <p:nvSpPr>
                      <p:cNvPr id="665" name=""/>
                      <p:cNvSpPr/>
                      <p:nvPr/>
                    </p:nvSpPr>
                    <p:spPr>
                      <a:xfrm rot="21544800">
                        <a:off x="2318400" y="548964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6" name=""/>
                      <p:cNvSpPr/>
                      <p:nvPr/>
                    </p:nvSpPr>
                    <p:spPr>
                      <a:xfrm rot="21544800">
                        <a:off x="2368080" y="549324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67" name=""/>
                    <p:cNvGrpSpPr/>
                    <p:nvPr/>
                  </p:nvGrpSpPr>
                  <p:grpSpPr>
                    <a:xfrm>
                      <a:off x="2414880" y="5514480"/>
                      <a:ext cx="187920" cy="272520"/>
                      <a:chOff x="2414880" y="5514480"/>
                      <a:chExt cx="187920" cy="272520"/>
                    </a:xfrm>
                  </p:grpSpPr>
                  <p:sp>
                    <p:nvSpPr>
                      <p:cNvPr id="668" name=""/>
                      <p:cNvSpPr/>
                      <p:nvPr/>
                    </p:nvSpPr>
                    <p:spPr>
                      <a:xfrm rot="395400">
                        <a:off x="2427840" y="5522760"/>
                        <a:ext cx="16164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9" name=""/>
                      <p:cNvSpPr/>
                      <p:nvPr/>
                    </p:nvSpPr>
                    <p:spPr>
                      <a:xfrm rot="395400">
                        <a:off x="2476440" y="552852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70" name=""/>
                    <p:cNvGrpSpPr/>
                    <p:nvPr/>
                  </p:nvGrpSpPr>
                  <p:grpSpPr>
                    <a:xfrm>
                      <a:off x="2549880" y="5531760"/>
                      <a:ext cx="248040" cy="298080"/>
                      <a:chOff x="2549880" y="5531760"/>
                      <a:chExt cx="248040" cy="298080"/>
                    </a:xfrm>
                  </p:grpSpPr>
                  <p:sp>
                    <p:nvSpPr>
                      <p:cNvPr id="671" name=""/>
                      <p:cNvSpPr/>
                      <p:nvPr/>
                    </p:nvSpPr>
                    <p:spPr>
                      <a:xfrm rot="1501800">
                        <a:off x="2593080" y="555444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2" name=""/>
                      <p:cNvSpPr/>
                      <p:nvPr/>
                    </p:nvSpPr>
                    <p:spPr>
                      <a:xfrm rot="1501800">
                        <a:off x="2636280" y="556596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2581560" y="5488560"/>
                  <a:ext cx="978480" cy="447840"/>
                  <a:chOff x="2581560" y="5488560"/>
                  <a:chExt cx="978480" cy="447840"/>
                </a:xfrm>
              </p:grpSpPr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3067920" y="5542920"/>
                    <a:ext cx="492120" cy="393480"/>
                    <a:chOff x="3067920" y="5542920"/>
                    <a:chExt cx="492120" cy="393480"/>
                  </a:xfrm>
                </p:grpSpPr>
                <p:grpSp>
                  <p:nvGrpSpPr>
                    <p:cNvPr id="675" name=""/>
                    <p:cNvGrpSpPr/>
                    <p:nvPr/>
                  </p:nvGrpSpPr>
                  <p:grpSpPr>
                    <a:xfrm>
                      <a:off x="3067920" y="5542920"/>
                      <a:ext cx="194400" cy="276840"/>
                      <a:chOff x="3067920" y="5542920"/>
                      <a:chExt cx="194400" cy="276840"/>
                    </a:xfrm>
                  </p:grpSpPr>
                  <p:sp>
                    <p:nvSpPr>
                      <p:cNvPr id="676" name=""/>
                      <p:cNvSpPr/>
                      <p:nvPr/>
                    </p:nvSpPr>
                    <p:spPr>
                      <a:xfrm rot="500400">
                        <a:off x="3084480" y="555300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7" name=""/>
                      <p:cNvSpPr/>
                      <p:nvPr/>
                    </p:nvSpPr>
                    <p:spPr>
                      <a:xfrm rot="500400">
                        <a:off x="3132000" y="556020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78" name=""/>
                    <p:cNvGrpSpPr/>
                    <p:nvPr/>
                  </p:nvGrpSpPr>
                  <p:grpSpPr>
                    <a:xfrm>
                      <a:off x="3157920" y="5586120"/>
                      <a:ext cx="220320" cy="288720"/>
                      <a:chOff x="3157920" y="5586120"/>
                      <a:chExt cx="220320" cy="288720"/>
                    </a:xfrm>
                  </p:grpSpPr>
                  <p:sp>
                    <p:nvSpPr>
                      <p:cNvPr id="679" name=""/>
                      <p:cNvSpPr/>
                      <p:nvPr/>
                    </p:nvSpPr>
                    <p:spPr>
                      <a:xfrm rot="951000">
                        <a:off x="3187440" y="5603400"/>
                        <a:ext cx="16128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0" name=""/>
                      <p:cNvSpPr/>
                      <p:nvPr/>
                    </p:nvSpPr>
                    <p:spPr>
                      <a:xfrm rot="951000">
                        <a:off x="3233520" y="561240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81" name=""/>
                    <p:cNvGrpSpPr/>
                    <p:nvPr/>
                  </p:nvGrpSpPr>
                  <p:grpSpPr>
                    <a:xfrm>
                      <a:off x="3290760" y="5636880"/>
                      <a:ext cx="269280" cy="299520"/>
                      <a:chOff x="3290760" y="5636880"/>
                      <a:chExt cx="269280" cy="299520"/>
                    </a:xfrm>
                  </p:grpSpPr>
                  <p:sp>
                    <p:nvSpPr>
                      <p:cNvPr id="682" name=""/>
                      <p:cNvSpPr/>
                      <p:nvPr/>
                    </p:nvSpPr>
                    <p:spPr>
                      <a:xfrm rot="2057400">
                        <a:off x="3344040" y="5661360"/>
                        <a:ext cx="162000" cy="24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3" name=""/>
                      <p:cNvSpPr/>
                      <p:nvPr/>
                    </p:nvSpPr>
                    <p:spPr>
                      <a:xfrm rot="2057400">
                        <a:off x="3384360" y="5675040"/>
                        <a:ext cx="104760" cy="253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84" name=""/>
                  <p:cNvGrpSpPr/>
                  <p:nvPr/>
                </p:nvGrpSpPr>
                <p:grpSpPr>
                  <a:xfrm>
                    <a:off x="2581560" y="5488560"/>
                    <a:ext cx="481320" cy="341280"/>
                    <a:chOff x="2581560" y="5488560"/>
                    <a:chExt cx="481320" cy="341280"/>
                  </a:xfrm>
                </p:grpSpPr>
                <p:grpSp>
                  <p:nvGrpSpPr>
                    <p:cNvPr id="685" name=""/>
                    <p:cNvGrpSpPr/>
                    <p:nvPr/>
                  </p:nvGrpSpPr>
                  <p:grpSpPr>
                    <a:xfrm>
                      <a:off x="2897640" y="5488560"/>
                      <a:ext cx="165240" cy="259200"/>
                      <a:chOff x="2897640" y="5488560"/>
                      <a:chExt cx="165240" cy="259200"/>
                    </a:xfrm>
                  </p:grpSpPr>
                  <p:sp>
                    <p:nvSpPr>
                      <p:cNvPr id="686" name=""/>
                      <p:cNvSpPr/>
                      <p:nvPr/>
                    </p:nvSpPr>
                    <p:spPr>
                      <a:xfrm flipH="1" rot="55200">
                        <a:off x="2899080" y="548964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7" name=""/>
                      <p:cNvSpPr/>
                      <p:nvPr/>
                    </p:nvSpPr>
                    <p:spPr>
                      <a:xfrm flipH="1" rot="55200">
                        <a:off x="2905560" y="549324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88" name=""/>
                    <p:cNvGrpSpPr/>
                    <p:nvPr/>
                  </p:nvGrpSpPr>
                  <p:grpSpPr>
                    <a:xfrm>
                      <a:off x="2776680" y="5514480"/>
                      <a:ext cx="188280" cy="272520"/>
                      <a:chOff x="2776680" y="5514480"/>
                      <a:chExt cx="188280" cy="272520"/>
                    </a:xfrm>
                  </p:grpSpPr>
                  <p:sp>
                    <p:nvSpPr>
                      <p:cNvPr id="689" name=""/>
                      <p:cNvSpPr/>
                      <p:nvPr/>
                    </p:nvSpPr>
                    <p:spPr>
                      <a:xfrm flipH="1" rot="21204600">
                        <a:off x="2789640" y="5522760"/>
                        <a:ext cx="161640" cy="23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0" name=""/>
                      <p:cNvSpPr/>
                      <p:nvPr/>
                    </p:nvSpPr>
                    <p:spPr>
                      <a:xfrm flipH="1" rot="21204600">
                        <a:off x="2797560" y="552852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91" name=""/>
                    <p:cNvGrpSpPr/>
                    <p:nvPr/>
                  </p:nvGrpSpPr>
                  <p:grpSpPr>
                    <a:xfrm>
                      <a:off x="2581560" y="5531760"/>
                      <a:ext cx="248040" cy="298080"/>
                      <a:chOff x="2581560" y="5531760"/>
                      <a:chExt cx="248040" cy="298080"/>
                    </a:xfrm>
                  </p:grpSpPr>
                  <p:sp>
                    <p:nvSpPr>
                      <p:cNvPr id="692" name=""/>
                      <p:cNvSpPr/>
                      <p:nvPr/>
                    </p:nvSpPr>
                    <p:spPr>
                      <a:xfrm flipH="1" rot="20098200">
                        <a:off x="2624400" y="555444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3" name=""/>
                      <p:cNvSpPr/>
                      <p:nvPr/>
                    </p:nvSpPr>
                    <p:spPr>
                      <a:xfrm flipH="1" rot="20098200">
                        <a:off x="2637360" y="556596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694" name=""/>
              <p:cNvGrpSpPr/>
              <p:nvPr/>
            </p:nvGrpSpPr>
            <p:grpSpPr>
              <a:xfrm>
                <a:off x="3352680" y="5576760"/>
                <a:ext cx="685800" cy="222480"/>
                <a:chOff x="3352680" y="5576760"/>
                <a:chExt cx="685800" cy="22248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3352680" y="5576760"/>
                  <a:ext cx="324000" cy="22248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3703680" y="5578560"/>
                  <a:ext cx="334800" cy="1890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604200" y="6021360"/>
                <a:ext cx="164520" cy="82440"/>
                <a:chOff x="6604200" y="6021360"/>
                <a:chExt cx="164520" cy="8244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04200" y="602136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688440" y="602172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378920" y="5881680"/>
                <a:ext cx="164520" cy="82440"/>
                <a:chOff x="7378920" y="5881680"/>
                <a:chExt cx="164520" cy="8244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378920" y="588168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63160" y="588204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8039160" y="5805360"/>
                <a:ext cx="165240" cy="82800"/>
                <a:chOff x="8039160" y="5805360"/>
                <a:chExt cx="165240" cy="8280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8039160" y="580536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8123760" y="58057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1728720" y="5915160"/>
                <a:ext cx="685800" cy="222120"/>
                <a:chOff x="1728720" y="5915160"/>
                <a:chExt cx="685800" cy="222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1728720" y="5915160"/>
                  <a:ext cx="324000" cy="22212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2079720" y="5916600"/>
                  <a:ext cx="334800" cy="188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5631120" y="6326640"/>
                <a:ext cx="1740600" cy="447840"/>
                <a:chOff x="5631120" y="6326640"/>
                <a:chExt cx="1740600" cy="447840"/>
              </a:xfrm>
            </p:grpSpPr>
            <p:grpSp>
              <p:nvGrpSpPr>
                <p:cNvPr id="710" name=""/>
                <p:cNvGrpSpPr/>
                <p:nvPr/>
              </p:nvGrpSpPr>
              <p:grpSpPr>
                <a:xfrm>
                  <a:off x="5631120" y="6326640"/>
                  <a:ext cx="978480" cy="447840"/>
                  <a:chOff x="5631120" y="6326640"/>
                  <a:chExt cx="978480" cy="447840"/>
                </a:xfrm>
              </p:grpSpPr>
              <p:grpSp>
                <p:nvGrpSpPr>
                  <p:cNvPr id="711" name=""/>
                  <p:cNvGrpSpPr/>
                  <p:nvPr/>
                </p:nvGrpSpPr>
                <p:grpSpPr>
                  <a:xfrm>
                    <a:off x="5631120" y="6381000"/>
                    <a:ext cx="492120" cy="393480"/>
                    <a:chOff x="5631120" y="6381000"/>
                    <a:chExt cx="492120" cy="393480"/>
                  </a:xfrm>
                </p:grpSpPr>
                <p:grpSp>
                  <p:nvGrpSpPr>
                    <p:cNvPr id="712" name=""/>
                    <p:cNvGrpSpPr/>
                    <p:nvPr/>
                  </p:nvGrpSpPr>
                  <p:grpSpPr>
                    <a:xfrm>
                      <a:off x="5928840" y="6381000"/>
                      <a:ext cx="194400" cy="277200"/>
                      <a:chOff x="5928840" y="6381000"/>
                      <a:chExt cx="194400" cy="277200"/>
                    </a:xfrm>
                  </p:grpSpPr>
                  <p:sp>
                    <p:nvSpPr>
                      <p:cNvPr id="713" name=""/>
                      <p:cNvSpPr/>
                      <p:nvPr/>
                    </p:nvSpPr>
                    <p:spPr>
                      <a:xfrm flipH="1" rot="21099600">
                        <a:off x="5945400" y="639108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"/>
                      <p:cNvSpPr/>
                      <p:nvPr/>
                    </p:nvSpPr>
                    <p:spPr>
                      <a:xfrm flipH="1" rot="21099600">
                        <a:off x="5954040" y="639828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5" name=""/>
                    <p:cNvGrpSpPr/>
                    <p:nvPr/>
                  </p:nvGrpSpPr>
                  <p:grpSpPr>
                    <a:xfrm>
                      <a:off x="5812920" y="6424200"/>
                      <a:ext cx="220680" cy="288720"/>
                      <a:chOff x="5812920" y="6424200"/>
                      <a:chExt cx="220680" cy="288720"/>
                    </a:xfrm>
                  </p:grpSpPr>
                  <p:sp>
                    <p:nvSpPr>
                      <p:cNvPr id="716" name=""/>
                      <p:cNvSpPr/>
                      <p:nvPr/>
                    </p:nvSpPr>
                    <p:spPr>
                      <a:xfrm flipH="1" rot="20649000">
                        <a:off x="5842080" y="644148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"/>
                      <p:cNvSpPr/>
                      <p:nvPr/>
                    </p:nvSpPr>
                    <p:spPr>
                      <a:xfrm flipH="1" rot="20649000">
                        <a:off x="5852520" y="645048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8" name=""/>
                    <p:cNvGrpSpPr/>
                    <p:nvPr/>
                  </p:nvGrpSpPr>
                  <p:grpSpPr>
                    <a:xfrm>
                      <a:off x="5631120" y="6474960"/>
                      <a:ext cx="268920" cy="299520"/>
                      <a:chOff x="5631120" y="6474960"/>
                      <a:chExt cx="268920" cy="299520"/>
                    </a:xfrm>
                  </p:grpSpPr>
                  <p:sp>
                    <p:nvSpPr>
                      <p:cNvPr id="719" name=""/>
                      <p:cNvSpPr/>
                      <p:nvPr/>
                    </p:nvSpPr>
                    <p:spPr>
                      <a:xfrm flipH="1" rot="19542600">
                        <a:off x="5684040" y="6499440"/>
                        <a:ext cx="16200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"/>
                      <p:cNvSpPr/>
                      <p:nvPr/>
                    </p:nvSpPr>
                    <p:spPr>
                      <a:xfrm flipH="1" rot="19542600">
                        <a:off x="5701320" y="651312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21" name=""/>
                  <p:cNvGrpSpPr/>
                  <p:nvPr/>
                </p:nvGrpSpPr>
                <p:grpSpPr>
                  <a:xfrm>
                    <a:off x="6128280" y="6326640"/>
                    <a:ext cx="481320" cy="341280"/>
                    <a:chOff x="6128280" y="6326640"/>
                    <a:chExt cx="481320" cy="341280"/>
                  </a:xfrm>
                </p:grpSpPr>
                <p:grpSp>
                  <p:nvGrpSpPr>
                    <p:cNvPr id="722" name=""/>
                    <p:cNvGrpSpPr/>
                    <p:nvPr/>
                  </p:nvGrpSpPr>
                  <p:grpSpPr>
                    <a:xfrm>
                      <a:off x="6128280" y="6326640"/>
                      <a:ext cx="165600" cy="259200"/>
                      <a:chOff x="6128280" y="6326640"/>
                      <a:chExt cx="165600" cy="259200"/>
                    </a:xfrm>
                  </p:grpSpPr>
                  <p:sp>
                    <p:nvSpPr>
                      <p:cNvPr id="723" name=""/>
                      <p:cNvSpPr/>
                      <p:nvPr/>
                    </p:nvSpPr>
                    <p:spPr>
                      <a:xfrm rot="21544800">
                        <a:off x="6130080" y="632772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"/>
                      <p:cNvSpPr/>
                      <p:nvPr/>
                    </p:nvSpPr>
                    <p:spPr>
                      <a:xfrm rot="21544800">
                        <a:off x="6179760" y="633132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5" name=""/>
                    <p:cNvGrpSpPr/>
                    <p:nvPr/>
                  </p:nvGrpSpPr>
                  <p:grpSpPr>
                    <a:xfrm>
                      <a:off x="6226560" y="6352560"/>
                      <a:ext cx="187920" cy="272520"/>
                      <a:chOff x="6226560" y="6352560"/>
                      <a:chExt cx="187920" cy="272520"/>
                    </a:xfrm>
                  </p:grpSpPr>
                  <p:sp>
                    <p:nvSpPr>
                      <p:cNvPr id="726" name=""/>
                      <p:cNvSpPr/>
                      <p:nvPr/>
                    </p:nvSpPr>
                    <p:spPr>
                      <a:xfrm rot="395400">
                        <a:off x="6239520" y="6360840"/>
                        <a:ext cx="16164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"/>
                      <p:cNvSpPr/>
                      <p:nvPr/>
                    </p:nvSpPr>
                    <p:spPr>
                      <a:xfrm rot="395400">
                        <a:off x="6288120" y="636660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8" name=""/>
                    <p:cNvGrpSpPr/>
                    <p:nvPr/>
                  </p:nvGrpSpPr>
                  <p:grpSpPr>
                    <a:xfrm>
                      <a:off x="6361560" y="6369840"/>
                      <a:ext cx="248040" cy="298080"/>
                      <a:chOff x="6361560" y="6369840"/>
                      <a:chExt cx="248040" cy="298080"/>
                    </a:xfrm>
                  </p:grpSpPr>
                  <p:sp>
                    <p:nvSpPr>
                      <p:cNvPr id="729" name=""/>
                      <p:cNvSpPr/>
                      <p:nvPr/>
                    </p:nvSpPr>
                    <p:spPr>
                      <a:xfrm rot="1501800">
                        <a:off x="6404760" y="639252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0" name=""/>
                      <p:cNvSpPr/>
                      <p:nvPr/>
                    </p:nvSpPr>
                    <p:spPr>
                      <a:xfrm rot="1501800">
                        <a:off x="6447960" y="640404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31" name=""/>
                <p:cNvGrpSpPr/>
                <p:nvPr/>
              </p:nvGrpSpPr>
              <p:grpSpPr>
                <a:xfrm>
                  <a:off x="6393240" y="6326640"/>
                  <a:ext cx="978480" cy="447840"/>
                  <a:chOff x="6393240" y="6326640"/>
                  <a:chExt cx="978480" cy="447840"/>
                </a:xfrm>
              </p:grpSpPr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6879600" y="6381000"/>
                    <a:ext cx="492120" cy="393480"/>
                    <a:chOff x="6879600" y="6381000"/>
                    <a:chExt cx="492120" cy="393480"/>
                  </a:xfrm>
                </p:grpSpPr>
                <p:grpSp>
                  <p:nvGrpSpPr>
                    <p:cNvPr id="733" name=""/>
                    <p:cNvGrpSpPr/>
                    <p:nvPr/>
                  </p:nvGrpSpPr>
                  <p:grpSpPr>
                    <a:xfrm>
                      <a:off x="6879600" y="6381000"/>
                      <a:ext cx="194400" cy="276840"/>
                      <a:chOff x="6879600" y="6381000"/>
                      <a:chExt cx="194400" cy="276840"/>
                    </a:xfrm>
                  </p:grpSpPr>
                  <p:sp>
                    <p:nvSpPr>
                      <p:cNvPr id="734" name=""/>
                      <p:cNvSpPr/>
                      <p:nvPr/>
                    </p:nvSpPr>
                    <p:spPr>
                      <a:xfrm rot="500400">
                        <a:off x="6896160" y="639108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5" name=""/>
                      <p:cNvSpPr/>
                      <p:nvPr/>
                    </p:nvSpPr>
                    <p:spPr>
                      <a:xfrm rot="500400">
                        <a:off x="6943680" y="639828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36" name=""/>
                    <p:cNvGrpSpPr/>
                    <p:nvPr/>
                  </p:nvGrpSpPr>
                  <p:grpSpPr>
                    <a:xfrm>
                      <a:off x="6969600" y="6424200"/>
                      <a:ext cx="220320" cy="288720"/>
                      <a:chOff x="6969600" y="6424200"/>
                      <a:chExt cx="220320" cy="288720"/>
                    </a:xfrm>
                  </p:grpSpPr>
                  <p:sp>
                    <p:nvSpPr>
                      <p:cNvPr id="737" name=""/>
                      <p:cNvSpPr/>
                      <p:nvPr/>
                    </p:nvSpPr>
                    <p:spPr>
                      <a:xfrm rot="951000">
                        <a:off x="6999120" y="6441480"/>
                        <a:ext cx="16128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8" name=""/>
                      <p:cNvSpPr/>
                      <p:nvPr/>
                    </p:nvSpPr>
                    <p:spPr>
                      <a:xfrm rot="951000">
                        <a:off x="7045200" y="645048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39" name=""/>
                    <p:cNvGrpSpPr/>
                    <p:nvPr/>
                  </p:nvGrpSpPr>
                  <p:grpSpPr>
                    <a:xfrm>
                      <a:off x="7102440" y="6474960"/>
                      <a:ext cx="269280" cy="299520"/>
                      <a:chOff x="7102440" y="6474960"/>
                      <a:chExt cx="269280" cy="299520"/>
                    </a:xfrm>
                  </p:grpSpPr>
                  <p:sp>
                    <p:nvSpPr>
                      <p:cNvPr id="740" name=""/>
                      <p:cNvSpPr/>
                      <p:nvPr/>
                    </p:nvSpPr>
                    <p:spPr>
                      <a:xfrm rot="2057400">
                        <a:off x="7155720" y="6499440"/>
                        <a:ext cx="162000" cy="24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1" name=""/>
                      <p:cNvSpPr/>
                      <p:nvPr/>
                    </p:nvSpPr>
                    <p:spPr>
                      <a:xfrm rot="2057400">
                        <a:off x="7196040" y="6513120"/>
                        <a:ext cx="104760" cy="253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42" name=""/>
                  <p:cNvGrpSpPr/>
                  <p:nvPr/>
                </p:nvGrpSpPr>
                <p:grpSpPr>
                  <a:xfrm>
                    <a:off x="6393240" y="6326640"/>
                    <a:ext cx="481320" cy="341280"/>
                    <a:chOff x="6393240" y="6326640"/>
                    <a:chExt cx="481320" cy="341280"/>
                  </a:xfrm>
                </p:grpSpPr>
                <p:grpSp>
                  <p:nvGrpSpPr>
                    <p:cNvPr id="743" name=""/>
                    <p:cNvGrpSpPr/>
                    <p:nvPr/>
                  </p:nvGrpSpPr>
                  <p:grpSpPr>
                    <a:xfrm>
                      <a:off x="6709320" y="6326640"/>
                      <a:ext cx="165240" cy="259200"/>
                      <a:chOff x="6709320" y="6326640"/>
                      <a:chExt cx="165240" cy="259200"/>
                    </a:xfrm>
                  </p:grpSpPr>
                  <p:sp>
                    <p:nvSpPr>
                      <p:cNvPr id="744" name=""/>
                      <p:cNvSpPr/>
                      <p:nvPr/>
                    </p:nvSpPr>
                    <p:spPr>
                      <a:xfrm flipH="1" rot="55200">
                        <a:off x="6710760" y="632772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5" name=""/>
                      <p:cNvSpPr/>
                      <p:nvPr/>
                    </p:nvSpPr>
                    <p:spPr>
                      <a:xfrm flipH="1" rot="55200">
                        <a:off x="6717240" y="633132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46" name=""/>
                    <p:cNvGrpSpPr/>
                    <p:nvPr/>
                  </p:nvGrpSpPr>
                  <p:grpSpPr>
                    <a:xfrm>
                      <a:off x="6588360" y="6352560"/>
                      <a:ext cx="188280" cy="272520"/>
                      <a:chOff x="6588360" y="6352560"/>
                      <a:chExt cx="188280" cy="272520"/>
                    </a:xfrm>
                  </p:grpSpPr>
                  <p:sp>
                    <p:nvSpPr>
                      <p:cNvPr id="747" name=""/>
                      <p:cNvSpPr/>
                      <p:nvPr/>
                    </p:nvSpPr>
                    <p:spPr>
                      <a:xfrm flipH="1" rot="21204600">
                        <a:off x="6601320" y="6360840"/>
                        <a:ext cx="161640" cy="23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8" name=""/>
                      <p:cNvSpPr/>
                      <p:nvPr/>
                    </p:nvSpPr>
                    <p:spPr>
                      <a:xfrm flipH="1" rot="21204600">
                        <a:off x="6609240" y="636660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49" name=""/>
                    <p:cNvGrpSpPr/>
                    <p:nvPr/>
                  </p:nvGrpSpPr>
                  <p:grpSpPr>
                    <a:xfrm>
                      <a:off x="6393240" y="6369840"/>
                      <a:ext cx="248040" cy="298080"/>
                      <a:chOff x="6393240" y="6369840"/>
                      <a:chExt cx="248040" cy="298080"/>
                    </a:xfrm>
                  </p:grpSpPr>
                  <p:sp>
                    <p:nvSpPr>
                      <p:cNvPr id="750" name=""/>
                      <p:cNvSpPr/>
                      <p:nvPr/>
                    </p:nvSpPr>
                    <p:spPr>
                      <a:xfrm flipH="1" rot="20098200">
                        <a:off x="6436080" y="639252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1" name=""/>
                      <p:cNvSpPr/>
                      <p:nvPr/>
                    </p:nvSpPr>
                    <p:spPr>
                      <a:xfrm flipH="1" rot="20098200">
                        <a:off x="6449040" y="640404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752" name=""/>
              <p:cNvGrpSpPr/>
              <p:nvPr/>
            </p:nvGrpSpPr>
            <p:grpSpPr>
              <a:xfrm>
                <a:off x="4711680" y="6135840"/>
                <a:ext cx="685800" cy="222120"/>
                <a:chOff x="4711680" y="6135840"/>
                <a:chExt cx="685800" cy="22212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4711680" y="6135840"/>
                  <a:ext cx="324000" cy="22212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062680" y="6137280"/>
                  <a:ext cx="334800" cy="188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3888000" y="6143760"/>
                <a:ext cx="188640" cy="83880"/>
                <a:chOff x="3888000" y="6143760"/>
                <a:chExt cx="188640" cy="8388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3888000" y="6143760"/>
                  <a:ext cx="88920" cy="8388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984480" y="6144120"/>
                  <a:ext cx="92160" cy="7128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3659400" y="6194520"/>
                <a:ext cx="188640" cy="83880"/>
                <a:chOff x="3659400" y="6194520"/>
                <a:chExt cx="188640" cy="8388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3659400" y="6194520"/>
                  <a:ext cx="88920" cy="8388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3755880" y="6194880"/>
                  <a:ext cx="92160" cy="7128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1" name=""/>
              <p:cNvGrpSpPr/>
              <p:nvPr/>
            </p:nvGrpSpPr>
            <p:grpSpPr>
              <a:xfrm>
                <a:off x="2757600" y="6194520"/>
                <a:ext cx="164520" cy="82440"/>
                <a:chOff x="2757600" y="6194520"/>
                <a:chExt cx="164520" cy="8244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2757600" y="619452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2841840" y="619488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2757600" y="6093000"/>
                <a:ext cx="164520" cy="82440"/>
                <a:chOff x="2757600" y="6093000"/>
                <a:chExt cx="164520" cy="8244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2757600" y="609300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841840" y="609336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2833920" y="6029280"/>
                <a:ext cx="164520" cy="82440"/>
                <a:chOff x="2833920" y="6029280"/>
                <a:chExt cx="164520" cy="8244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2833920" y="602928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2918160" y="602964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"/>
              <p:cNvGrpSpPr/>
              <p:nvPr/>
            </p:nvGrpSpPr>
            <p:grpSpPr>
              <a:xfrm>
                <a:off x="3633840" y="6029280"/>
                <a:ext cx="189000" cy="84240"/>
                <a:chOff x="3633840" y="6029280"/>
                <a:chExt cx="189000" cy="8424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3633840" y="6029280"/>
                  <a:ext cx="89280" cy="842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3730680" y="6029640"/>
                  <a:ext cx="92160" cy="71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3710160" y="5991120"/>
                <a:ext cx="188640" cy="84240"/>
                <a:chOff x="3710160" y="5991120"/>
                <a:chExt cx="188640" cy="8424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3710160" y="5991120"/>
                  <a:ext cx="88920" cy="842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3806640" y="5991480"/>
                  <a:ext cx="92160" cy="71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"/>
              <p:cNvGrpSpPr/>
              <p:nvPr/>
            </p:nvGrpSpPr>
            <p:grpSpPr>
              <a:xfrm>
                <a:off x="3913200" y="5915160"/>
                <a:ext cx="189000" cy="83880"/>
                <a:chOff x="3913200" y="5915160"/>
                <a:chExt cx="189000" cy="8388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3913200" y="5915160"/>
                  <a:ext cx="89280" cy="8388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010040" y="5915520"/>
                  <a:ext cx="92160" cy="7128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8953560" y="5894280"/>
                <a:ext cx="165240" cy="82800"/>
                <a:chOff x="8953560" y="5894280"/>
                <a:chExt cx="165240" cy="8280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8953560" y="589428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9038160" y="58946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8724960" y="5945040"/>
                <a:ext cx="165240" cy="82800"/>
                <a:chOff x="8724960" y="5945040"/>
                <a:chExt cx="165240" cy="8280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8724960" y="594504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8809560" y="59454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8559720" y="5970600"/>
                <a:ext cx="165240" cy="82440"/>
                <a:chOff x="8559720" y="5970600"/>
                <a:chExt cx="165240" cy="8244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8559720" y="59706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8644320" y="59709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8559720" y="5869080"/>
                <a:ext cx="165240" cy="82440"/>
                <a:chOff x="8559720" y="5869080"/>
                <a:chExt cx="165240" cy="8244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8559720" y="58690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8644320" y="58694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8636040" y="5805360"/>
                <a:ext cx="165240" cy="82800"/>
                <a:chOff x="8636040" y="5805360"/>
                <a:chExt cx="165240" cy="8280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8636040" y="580536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8720640" y="58057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8699400" y="5780160"/>
                <a:ext cx="165240" cy="82440"/>
                <a:chOff x="8699400" y="5780160"/>
                <a:chExt cx="165240" cy="8244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8699400" y="57801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8784000" y="57805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"/>
              <p:cNvGrpSpPr/>
              <p:nvPr/>
            </p:nvGrpSpPr>
            <p:grpSpPr>
              <a:xfrm>
                <a:off x="8775720" y="5742000"/>
                <a:ext cx="165240" cy="82440"/>
                <a:chOff x="8775720" y="5742000"/>
                <a:chExt cx="165240" cy="8244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8775720" y="57420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8860320" y="57423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8979120" y="5665680"/>
                <a:ext cx="164520" cy="82800"/>
                <a:chOff x="8979120" y="5665680"/>
                <a:chExt cx="164520" cy="8280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8979120" y="5665680"/>
                  <a:ext cx="7776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9063360" y="566604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3" name=""/>
              <p:cNvGrpSpPr/>
              <p:nvPr/>
            </p:nvGrpSpPr>
            <p:grpSpPr>
              <a:xfrm>
                <a:off x="584280" y="5919840"/>
                <a:ext cx="165240" cy="82440"/>
                <a:chOff x="584280" y="5919840"/>
                <a:chExt cx="165240" cy="8244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584280" y="59198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68880" y="59202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355680" y="5970600"/>
                <a:ext cx="165240" cy="82440"/>
                <a:chOff x="355680" y="5970600"/>
                <a:chExt cx="165240" cy="8244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355680" y="59706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440280" y="59709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9" name=""/>
              <p:cNvGrpSpPr/>
              <p:nvPr/>
            </p:nvGrpSpPr>
            <p:grpSpPr>
              <a:xfrm>
                <a:off x="330120" y="5805360"/>
                <a:ext cx="165240" cy="82800"/>
                <a:chOff x="330120" y="5805360"/>
                <a:chExt cx="165240" cy="8280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330120" y="580536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414720" y="58057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406440" y="5767560"/>
                <a:ext cx="165240" cy="82440"/>
                <a:chOff x="406440" y="5767560"/>
                <a:chExt cx="165240" cy="8244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406440" y="57675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91040" y="57679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609480" y="5691240"/>
                <a:ext cx="165240" cy="82440"/>
                <a:chOff x="609480" y="5691240"/>
                <a:chExt cx="165240" cy="8244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609480" y="56912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94080" y="56916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1549440" y="5907240"/>
                <a:ext cx="165240" cy="82440"/>
                <a:chOff x="1549440" y="5907240"/>
                <a:chExt cx="165240" cy="8244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1549440" y="59072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1634040" y="59076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"/>
              <p:cNvGrpSpPr/>
              <p:nvPr/>
            </p:nvGrpSpPr>
            <p:grpSpPr>
              <a:xfrm>
                <a:off x="1320840" y="5958000"/>
                <a:ext cx="165240" cy="82440"/>
                <a:chOff x="1320840" y="5958000"/>
                <a:chExt cx="165240" cy="8244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1320840" y="59580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405440" y="59583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1155600" y="5983200"/>
                <a:ext cx="165240" cy="82800"/>
                <a:chOff x="1155600" y="5983200"/>
                <a:chExt cx="165240" cy="8280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1155600" y="598320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1240200" y="59835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1155600" y="5881680"/>
                <a:ext cx="165240" cy="82440"/>
                <a:chOff x="1155600" y="5881680"/>
                <a:chExt cx="165240" cy="8244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1155600" y="58816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1240200" y="58820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"/>
              <p:cNvGrpSpPr/>
              <p:nvPr/>
            </p:nvGrpSpPr>
            <p:grpSpPr>
              <a:xfrm>
                <a:off x="1231920" y="5818320"/>
                <a:ext cx="165240" cy="82440"/>
                <a:chOff x="1231920" y="5818320"/>
                <a:chExt cx="165240" cy="8244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1231920" y="58183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1316520" y="58186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1295280" y="5792760"/>
                <a:ext cx="165240" cy="82440"/>
                <a:chOff x="1295280" y="5792760"/>
                <a:chExt cx="165240" cy="8244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1295280" y="57927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379880" y="57931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1371600" y="5754600"/>
                <a:ext cx="165240" cy="82800"/>
                <a:chOff x="1371600" y="5754600"/>
                <a:chExt cx="165240" cy="8280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1371600" y="575460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1456200" y="57549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1575000" y="5678640"/>
                <a:ext cx="164520" cy="82440"/>
                <a:chOff x="1575000" y="5678640"/>
                <a:chExt cx="164520" cy="8244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1575000" y="567864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1659240" y="567900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1486080" y="5716440"/>
                <a:ext cx="685800" cy="222480"/>
                <a:chOff x="1486080" y="5716440"/>
                <a:chExt cx="685800" cy="22248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1486080" y="5716440"/>
                  <a:ext cx="324000" cy="22248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837080" y="5718240"/>
                  <a:ext cx="334800" cy="1890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2125800" y="6250320"/>
                <a:ext cx="1740600" cy="447840"/>
                <a:chOff x="2125800" y="6250320"/>
                <a:chExt cx="1740600" cy="447840"/>
              </a:xfrm>
            </p:grpSpPr>
            <p:grpSp>
              <p:nvGrpSpPr>
                <p:cNvPr id="846" name=""/>
                <p:cNvGrpSpPr/>
                <p:nvPr/>
              </p:nvGrpSpPr>
              <p:grpSpPr>
                <a:xfrm>
                  <a:off x="2125800" y="6250320"/>
                  <a:ext cx="978480" cy="447840"/>
                  <a:chOff x="2125800" y="6250320"/>
                  <a:chExt cx="978480" cy="447840"/>
                </a:xfrm>
              </p:grpSpPr>
              <p:grpSp>
                <p:nvGrpSpPr>
                  <p:cNvPr id="847" name=""/>
                  <p:cNvGrpSpPr/>
                  <p:nvPr/>
                </p:nvGrpSpPr>
                <p:grpSpPr>
                  <a:xfrm>
                    <a:off x="2125800" y="6304680"/>
                    <a:ext cx="492120" cy="393480"/>
                    <a:chOff x="2125800" y="6304680"/>
                    <a:chExt cx="492120" cy="393480"/>
                  </a:xfrm>
                </p:grpSpPr>
                <p:grpSp>
                  <p:nvGrpSpPr>
                    <p:cNvPr id="848" name=""/>
                    <p:cNvGrpSpPr/>
                    <p:nvPr/>
                  </p:nvGrpSpPr>
                  <p:grpSpPr>
                    <a:xfrm>
                      <a:off x="2423520" y="6304680"/>
                      <a:ext cx="194400" cy="277200"/>
                      <a:chOff x="2423520" y="6304680"/>
                      <a:chExt cx="194400" cy="277200"/>
                    </a:xfrm>
                  </p:grpSpPr>
                  <p:sp>
                    <p:nvSpPr>
                      <p:cNvPr id="849" name=""/>
                      <p:cNvSpPr/>
                      <p:nvPr/>
                    </p:nvSpPr>
                    <p:spPr>
                      <a:xfrm flipH="1" rot="21099600">
                        <a:off x="2440080" y="631476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0" name=""/>
                      <p:cNvSpPr/>
                      <p:nvPr/>
                    </p:nvSpPr>
                    <p:spPr>
                      <a:xfrm flipH="1" rot="21099600">
                        <a:off x="2448720" y="632196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51" name=""/>
                    <p:cNvGrpSpPr/>
                    <p:nvPr/>
                  </p:nvGrpSpPr>
                  <p:grpSpPr>
                    <a:xfrm>
                      <a:off x="2307600" y="6347880"/>
                      <a:ext cx="220680" cy="288720"/>
                      <a:chOff x="2307600" y="6347880"/>
                      <a:chExt cx="220680" cy="288720"/>
                    </a:xfrm>
                  </p:grpSpPr>
                  <p:sp>
                    <p:nvSpPr>
                      <p:cNvPr id="852" name=""/>
                      <p:cNvSpPr/>
                      <p:nvPr/>
                    </p:nvSpPr>
                    <p:spPr>
                      <a:xfrm flipH="1" rot="20649000">
                        <a:off x="2336760" y="636516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3" name=""/>
                      <p:cNvSpPr/>
                      <p:nvPr/>
                    </p:nvSpPr>
                    <p:spPr>
                      <a:xfrm flipH="1" rot="20649000">
                        <a:off x="2347200" y="637416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54" name=""/>
                    <p:cNvGrpSpPr/>
                    <p:nvPr/>
                  </p:nvGrpSpPr>
                  <p:grpSpPr>
                    <a:xfrm>
                      <a:off x="2125800" y="6398640"/>
                      <a:ext cx="268920" cy="299520"/>
                      <a:chOff x="2125800" y="6398640"/>
                      <a:chExt cx="268920" cy="299520"/>
                    </a:xfrm>
                  </p:grpSpPr>
                  <p:sp>
                    <p:nvSpPr>
                      <p:cNvPr id="855" name=""/>
                      <p:cNvSpPr/>
                      <p:nvPr/>
                    </p:nvSpPr>
                    <p:spPr>
                      <a:xfrm flipH="1" rot="19542600">
                        <a:off x="2178720" y="6423120"/>
                        <a:ext cx="16200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6" name=""/>
                      <p:cNvSpPr/>
                      <p:nvPr/>
                    </p:nvSpPr>
                    <p:spPr>
                      <a:xfrm flipH="1" rot="19542600">
                        <a:off x="2196000" y="643680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57" name=""/>
                  <p:cNvGrpSpPr/>
                  <p:nvPr/>
                </p:nvGrpSpPr>
                <p:grpSpPr>
                  <a:xfrm>
                    <a:off x="2622960" y="6250320"/>
                    <a:ext cx="481320" cy="341280"/>
                    <a:chOff x="2622960" y="6250320"/>
                    <a:chExt cx="481320" cy="341280"/>
                  </a:xfrm>
                </p:grpSpPr>
                <p:grpSp>
                  <p:nvGrpSpPr>
                    <p:cNvPr id="858" name=""/>
                    <p:cNvGrpSpPr/>
                    <p:nvPr/>
                  </p:nvGrpSpPr>
                  <p:grpSpPr>
                    <a:xfrm>
                      <a:off x="2622960" y="6250320"/>
                      <a:ext cx="165600" cy="259200"/>
                      <a:chOff x="2622960" y="6250320"/>
                      <a:chExt cx="165600" cy="259200"/>
                    </a:xfrm>
                  </p:grpSpPr>
                  <p:sp>
                    <p:nvSpPr>
                      <p:cNvPr id="859" name=""/>
                      <p:cNvSpPr/>
                      <p:nvPr/>
                    </p:nvSpPr>
                    <p:spPr>
                      <a:xfrm rot="21544800">
                        <a:off x="2624760" y="625140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0" name=""/>
                      <p:cNvSpPr/>
                      <p:nvPr/>
                    </p:nvSpPr>
                    <p:spPr>
                      <a:xfrm rot="21544800">
                        <a:off x="2674440" y="625500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61" name=""/>
                    <p:cNvGrpSpPr/>
                    <p:nvPr/>
                  </p:nvGrpSpPr>
                  <p:grpSpPr>
                    <a:xfrm>
                      <a:off x="2721240" y="6276240"/>
                      <a:ext cx="187920" cy="272520"/>
                      <a:chOff x="2721240" y="6276240"/>
                      <a:chExt cx="187920" cy="272520"/>
                    </a:xfrm>
                  </p:grpSpPr>
                  <p:sp>
                    <p:nvSpPr>
                      <p:cNvPr id="862" name=""/>
                      <p:cNvSpPr/>
                      <p:nvPr/>
                    </p:nvSpPr>
                    <p:spPr>
                      <a:xfrm rot="395400">
                        <a:off x="2734200" y="6284520"/>
                        <a:ext cx="16164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3" name=""/>
                      <p:cNvSpPr/>
                      <p:nvPr/>
                    </p:nvSpPr>
                    <p:spPr>
                      <a:xfrm rot="395400">
                        <a:off x="2782800" y="629028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64" name=""/>
                    <p:cNvGrpSpPr/>
                    <p:nvPr/>
                  </p:nvGrpSpPr>
                  <p:grpSpPr>
                    <a:xfrm>
                      <a:off x="2856240" y="6293520"/>
                      <a:ext cx="248040" cy="298080"/>
                      <a:chOff x="2856240" y="6293520"/>
                      <a:chExt cx="248040" cy="298080"/>
                    </a:xfrm>
                  </p:grpSpPr>
                  <p:sp>
                    <p:nvSpPr>
                      <p:cNvPr id="865" name=""/>
                      <p:cNvSpPr/>
                      <p:nvPr/>
                    </p:nvSpPr>
                    <p:spPr>
                      <a:xfrm rot="1501800">
                        <a:off x="2899440" y="631620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6" name=""/>
                      <p:cNvSpPr/>
                      <p:nvPr/>
                    </p:nvSpPr>
                    <p:spPr>
                      <a:xfrm rot="1501800">
                        <a:off x="2942640" y="632772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67" name=""/>
                <p:cNvGrpSpPr/>
                <p:nvPr/>
              </p:nvGrpSpPr>
              <p:grpSpPr>
                <a:xfrm>
                  <a:off x="2887920" y="6250320"/>
                  <a:ext cx="978480" cy="447840"/>
                  <a:chOff x="2887920" y="6250320"/>
                  <a:chExt cx="978480" cy="447840"/>
                </a:xfrm>
              </p:grpSpPr>
              <p:grpSp>
                <p:nvGrpSpPr>
                  <p:cNvPr id="868" name=""/>
                  <p:cNvGrpSpPr/>
                  <p:nvPr/>
                </p:nvGrpSpPr>
                <p:grpSpPr>
                  <a:xfrm>
                    <a:off x="3374280" y="6304680"/>
                    <a:ext cx="492120" cy="393480"/>
                    <a:chOff x="3374280" y="6304680"/>
                    <a:chExt cx="492120" cy="393480"/>
                  </a:xfrm>
                </p:grpSpPr>
                <p:grpSp>
                  <p:nvGrpSpPr>
                    <p:cNvPr id="869" name=""/>
                    <p:cNvGrpSpPr/>
                    <p:nvPr/>
                  </p:nvGrpSpPr>
                  <p:grpSpPr>
                    <a:xfrm>
                      <a:off x="3374280" y="6304680"/>
                      <a:ext cx="194400" cy="276840"/>
                      <a:chOff x="3374280" y="6304680"/>
                      <a:chExt cx="194400" cy="276840"/>
                    </a:xfrm>
                  </p:grpSpPr>
                  <p:sp>
                    <p:nvSpPr>
                      <p:cNvPr id="870" name=""/>
                      <p:cNvSpPr/>
                      <p:nvPr/>
                    </p:nvSpPr>
                    <p:spPr>
                      <a:xfrm rot="500400">
                        <a:off x="3390840" y="631476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1" name=""/>
                      <p:cNvSpPr/>
                      <p:nvPr/>
                    </p:nvSpPr>
                    <p:spPr>
                      <a:xfrm rot="500400">
                        <a:off x="3438360" y="632196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72" name=""/>
                    <p:cNvGrpSpPr/>
                    <p:nvPr/>
                  </p:nvGrpSpPr>
                  <p:grpSpPr>
                    <a:xfrm>
                      <a:off x="3464280" y="6347880"/>
                      <a:ext cx="220320" cy="288720"/>
                      <a:chOff x="3464280" y="6347880"/>
                      <a:chExt cx="220320" cy="288720"/>
                    </a:xfrm>
                  </p:grpSpPr>
                  <p:sp>
                    <p:nvSpPr>
                      <p:cNvPr id="873" name=""/>
                      <p:cNvSpPr/>
                      <p:nvPr/>
                    </p:nvSpPr>
                    <p:spPr>
                      <a:xfrm rot="951000">
                        <a:off x="3493800" y="6365160"/>
                        <a:ext cx="16128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4" name=""/>
                      <p:cNvSpPr/>
                      <p:nvPr/>
                    </p:nvSpPr>
                    <p:spPr>
                      <a:xfrm rot="951000">
                        <a:off x="3539880" y="637416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75" name=""/>
                    <p:cNvGrpSpPr/>
                    <p:nvPr/>
                  </p:nvGrpSpPr>
                  <p:grpSpPr>
                    <a:xfrm>
                      <a:off x="3597120" y="6398640"/>
                      <a:ext cx="269280" cy="299520"/>
                      <a:chOff x="3597120" y="6398640"/>
                      <a:chExt cx="269280" cy="299520"/>
                    </a:xfrm>
                  </p:grpSpPr>
                  <p:sp>
                    <p:nvSpPr>
                      <p:cNvPr id="876" name=""/>
                      <p:cNvSpPr/>
                      <p:nvPr/>
                    </p:nvSpPr>
                    <p:spPr>
                      <a:xfrm rot="2057400">
                        <a:off x="3650400" y="6423120"/>
                        <a:ext cx="162000" cy="24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7" name=""/>
                      <p:cNvSpPr/>
                      <p:nvPr/>
                    </p:nvSpPr>
                    <p:spPr>
                      <a:xfrm rot="2057400">
                        <a:off x="3690720" y="6436800"/>
                        <a:ext cx="104760" cy="253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78" name=""/>
                  <p:cNvGrpSpPr/>
                  <p:nvPr/>
                </p:nvGrpSpPr>
                <p:grpSpPr>
                  <a:xfrm>
                    <a:off x="2887920" y="6250320"/>
                    <a:ext cx="481320" cy="341280"/>
                    <a:chOff x="2887920" y="6250320"/>
                    <a:chExt cx="481320" cy="341280"/>
                  </a:xfrm>
                </p:grpSpPr>
                <p:grpSp>
                  <p:nvGrpSpPr>
                    <p:cNvPr id="879" name=""/>
                    <p:cNvGrpSpPr/>
                    <p:nvPr/>
                  </p:nvGrpSpPr>
                  <p:grpSpPr>
                    <a:xfrm>
                      <a:off x="3204000" y="6250320"/>
                      <a:ext cx="165240" cy="259200"/>
                      <a:chOff x="3204000" y="6250320"/>
                      <a:chExt cx="165240" cy="259200"/>
                    </a:xfrm>
                  </p:grpSpPr>
                  <p:sp>
                    <p:nvSpPr>
                      <p:cNvPr id="880" name=""/>
                      <p:cNvSpPr/>
                      <p:nvPr/>
                    </p:nvSpPr>
                    <p:spPr>
                      <a:xfrm flipH="1" rot="55200">
                        <a:off x="3205440" y="625140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1" name=""/>
                      <p:cNvSpPr/>
                      <p:nvPr/>
                    </p:nvSpPr>
                    <p:spPr>
                      <a:xfrm flipH="1" rot="55200">
                        <a:off x="3211920" y="625500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82" name=""/>
                    <p:cNvGrpSpPr/>
                    <p:nvPr/>
                  </p:nvGrpSpPr>
                  <p:grpSpPr>
                    <a:xfrm>
                      <a:off x="3083040" y="6276240"/>
                      <a:ext cx="188280" cy="272520"/>
                      <a:chOff x="3083040" y="6276240"/>
                      <a:chExt cx="188280" cy="272520"/>
                    </a:xfrm>
                  </p:grpSpPr>
                  <p:sp>
                    <p:nvSpPr>
                      <p:cNvPr id="883" name=""/>
                      <p:cNvSpPr/>
                      <p:nvPr/>
                    </p:nvSpPr>
                    <p:spPr>
                      <a:xfrm flipH="1" rot="21204600">
                        <a:off x="3096000" y="6284520"/>
                        <a:ext cx="161640" cy="23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4" name=""/>
                      <p:cNvSpPr/>
                      <p:nvPr/>
                    </p:nvSpPr>
                    <p:spPr>
                      <a:xfrm flipH="1" rot="21204600">
                        <a:off x="3103920" y="629028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85" name=""/>
                    <p:cNvGrpSpPr/>
                    <p:nvPr/>
                  </p:nvGrpSpPr>
                  <p:grpSpPr>
                    <a:xfrm>
                      <a:off x="2887920" y="6293520"/>
                      <a:ext cx="248040" cy="298080"/>
                      <a:chOff x="2887920" y="6293520"/>
                      <a:chExt cx="248040" cy="298080"/>
                    </a:xfrm>
                  </p:grpSpPr>
                  <p:sp>
                    <p:nvSpPr>
                      <p:cNvPr id="886" name=""/>
                      <p:cNvSpPr/>
                      <p:nvPr/>
                    </p:nvSpPr>
                    <p:spPr>
                      <a:xfrm flipH="1" rot="20098200">
                        <a:off x="2930760" y="631620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7" name=""/>
                      <p:cNvSpPr/>
                      <p:nvPr/>
                    </p:nvSpPr>
                    <p:spPr>
                      <a:xfrm flipH="1" rot="20098200">
                        <a:off x="2943720" y="632772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888" name=""/>
              <p:cNvGrpSpPr/>
              <p:nvPr/>
            </p:nvGrpSpPr>
            <p:grpSpPr>
              <a:xfrm>
                <a:off x="6581880" y="5793120"/>
                <a:ext cx="1740600" cy="447840"/>
                <a:chOff x="6581880" y="5793120"/>
                <a:chExt cx="1740600" cy="447840"/>
              </a:xfrm>
            </p:grpSpPr>
            <p:grpSp>
              <p:nvGrpSpPr>
                <p:cNvPr id="889" name=""/>
                <p:cNvGrpSpPr/>
                <p:nvPr/>
              </p:nvGrpSpPr>
              <p:grpSpPr>
                <a:xfrm>
                  <a:off x="6581880" y="5793120"/>
                  <a:ext cx="978480" cy="447840"/>
                  <a:chOff x="6581880" y="5793120"/>
                  <a:chExt cx="978480" cy="447840"/>
                </a:xfrm>
              </p:grpSpPr>
              <p:grpSp>
                <p:nvGrpSpPr>
                  <p:cNvPr id="890" name=""/>
                  <p:cNvGrpSpPr/>
                  <p:nvPr/>
                </p:nvGrpSpPr>
                <p:grpSpPr>
                  <a:xfrm>
                    <a:off x="6581880" y="5847480"/>
                    <a:ext cx="492120" cy="393480"/>
                    <a:chOff x="6581880" y="5847480"/>
                    <a:chExt cx="492120" cy="393480"/>
                  </a:xfrm>
                </p:grpSpPr>
                <p:grpSp>
                  <p:nvGrpSpPr>
                    <p:cNvPr id="891" name=""/>
                    <p:cNvGrpSpPr/>
                    <p:nvPr/>
                  </p:nvGrpSpPr>
                  <p:grpSpPr>
                    <a:xfrm>
                      <a:off x="6879600" y="5847480"/>
                      <a:ext cx="194400" cy="277200"/>
                      <a:chOff x="6879600" y="5847480"/>
                      <a:chExt cx="194400" cy="277200"/>
                    </a:xfrm>
                  </p:grpSpPr>
                  <p:sp>
                    <p:nvSpPr>
                      <p:cNvPr id="892" name=""/>
                      <p:cNvSpPr/>
                      <p:nvPr/>
                    </p:nvSpPr>
                    <p:spPr>
                      <a:xfrm flipH="1" rot="21099600">
                        <a:off x="6896160" y="585756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3" name=""/>
                      <p:cNvSpPr/>
                      <p:nvPr/>
                    </p:nvSpPr>
                    <p:spPr>
                      <a:xfrm flipH="1" rot="21099600">
                        <a:off x="6904800" y="586476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94" name=""/>
                    <p:cNvGrpSpPr/>
                    <p:nvPr/>
                  </p:nvGrpSpPr>
                  <p:grpSpPr>
                    <a:xfrm>
                      <a:off x="6763680" y="5890680"/>
                      <a:ext cx="220680" cy="288720"/>
                      <a:chOff x="6763680" y="5890680"/>
                      <a:chExt cx="220680" cy="288720"/>
                    </a:xfrm>
                  </p:grpSpPr>
                  <p:sp>
                    <p:nvSpPr>
                      <p:cNvPr id="895" name=""/>
                      <p:cNvSpPr/>
                      <p:nvPr/>
                    </p:nvSpPr>
                    <p:spPr>
                      <a:xfrm flipH="1" rot="20649000">
                        <a:off x="6792840" y="590796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6" name=""/>
                      <p:cNvSpPr/>
                      <p:nvPr/>
                    </p:nvSpPr>
                    <p:spPr>
                      <a:xfrm flipH="1" rot="20649000">
                        <a:off x="6803280" y="591696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97" name=""/>
                    <p:cNvGrpSpPr/>
                    <p:nvPr/>
                  </p:nvGrpSpPr>
                  <p:grpSpPr>
                    <a:xfrm>
                      <a:off x="6581880" y="5941440"/>
                      <a:ext cx="268920" cy="299520"/>
                      <a:chOff x="6581880" y="5941440"/>
                      <a:chExt cx="268920" cy="299520"/>
                    </a:xfrm>
                  </p:grpSpPr>
                  <p:sp>
                    <p:nvSpPr>
                      <p:cNvPr id="898" name=""/>
                      <p:cNvSpPr/>
                      <p:nvPr/>
                    </p:nvSpPr>
                    <p:spPr>
                      <a:xfrm flipH="1" rot="19542600">
                        <a:off x="6634800" y="5965920"/>
                        <a:ext cx="16200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9" name=""/>
                      <p:cNvSpPr/>
                      <p:nvPr/>
                    </p:nvSpPr>
                    <p:spPr>
                      <a:xfrm flipH="1" rot="19542600">
                        <a:off x="6652080" y="597960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00" name=""/>
                  <p:cNvGrpSpPr/>
                  <p:nvPr/>
                </p:nvGrpSpPr>
                <p:grpSpPr>
                  <a:xfrm>
                    <a:off x="7079040" y="5793120"/>
                    <a:ext cx="481320" cy="341280"/>
                    <a:chOff x="7079040" y="5793120"/>
                    <a:chExt cx="481320" cy="341280"/>
                  </a:xfrm>
                </p:grpSpPr>
                <p:grpSp>
                  <p:nvGrpSpPr>
                    <p:cNvPr id="901" name=""/>
                    <p:cNvGrpSpPr/>
                    <p:nvPr/>
                  </p:nvGrpSpPr>
                  <p:grpSpPr>
                    <a:xfrm>
                      <a:off x="7079040" y="5793120"/>
                      <a:ext cx="165600" cy="259200"/>
                      <a:chOff x="7079040" y="5793120"/>
                      <a:chExt cx="165600" cy="259200"/>
                    </a:xfrm>
                  </p:grpSpPr>
                  <p:sp>
                    <p:nvSpPr>
                      <p:cNvPr id="902" name=""/>
                      <p:cNvSpPr/>
                      <p:nvPr/>
                    </p:nvSpPr>
                    <p:spPr>
                      <a:xfrm rot="21544800">
                        <a:off x="7080840" y="579420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3" name=""/>
                      <p:cNvSpPr/>
                      <p:nvPr/>
                    </p:nvSpPr>
                    <p:spPr>
                      <a:xfrm rot="21544800">
                        <a:off x="7130520" y="579780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04" name=""/>
                    <p:cNvGrpSpPr/>
                    <p:nvPr/>
                  </p:nvGrpSpPr>
                  <p:grpSpPr>
                    <a:xfrm>
                      <a:off x="7177320" y="5819040"/>
                      <a:ext cx="187920" cy="272520"/>
                      <a:chOff x="7177320" y="5819040"/>
                      <a:chExt cx="187920" cy="272520"/>
                    </a:xfrm>
                  </p:grpSpPr>
                  <p:sp>
                    <p:nvSpPr>
                      <p:cNvPr id="905" name=""/>
                      <p:cNvSpPr/>
                      <p:nvPr/>
                    </p:nvSpPr>
                    <p:spPr>
                      <a:xfrm rot="395400">
                        <a:off x="7190280" y="5827320"/>
                        <a:ext cx="16164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6" name=""/>
                      <p:cNvSpPr/>
                      <p:nvPr/>
                    </p:nvSpPr>
                    <p:spPr>
                      <a:xfrm rot="395400">
                        <a:off x="7238880" y="583308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07" name=""/>
                    <p:cNvGrpSpPr/>
                    <p:nvPr/>
                  </p:nvGrpSpPr>
                  <p:grpSpPr>
                    <a:xfrm>
                      <a:off x="7312320" y="5836320"/>
                      <a:ext cx="248040" cy="298080"/>
                      <a:chOff x="7312320" y="5836320"/>
                      <a:chExt cx="248040" cy="298080"/>
                    </a:xfrm>
                  </p:grpSpPr>
                  <p:sp>
                    <p:nvSpPr>
                      <p:cNvPr id="908" name=""/>
                      <p:cNvSpPr/>
                      <p:nvPr/>
                    </p:nvSpPr>
                    <p:spPr>
                      <a:xfrm rot="1501800">
                        <a:off x="7355520" y="585900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9" name=""/>
                      <p:cNvSpPr/>
                      <p:nvPr/>
                    </p:nvSpPr>
                    <p:spPr>
                      <a:xfrm rot="1501800">
                        <a:off x="7398720" y="587052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10" name=""/>
                <p:cNvGrpSpPr/>
                <p:nvPr/>
              </p:nvGrpSpPr>
              <p:grpSpPr>
                <a:xfrm>
                  <a:off x="7344000" y="5793120"/>
                  <a:ext cx="978480" cy="447840"/>
                  <a:chOff x="7344000" y="5793120"/>
                  <a:chExt cx="978480" cy="447840"/>
                </a:xfrm>
              </p:grpSpPr>
              <p:grpSp>
                <p:nvGrpSpPr>
                  <p:cNvPr id="911" name=""/>
                  <p:cNvGrpSpPr/>
                  <p:nvPr/>
                </p:nvGrpSpPr>
                <p:grpSpPr>
                  <a:xfrm>
                    <a:off x="7830360" y="5847480"/>
                    <a:ext cx="492120" cy="393480"/>
                    <a:chOff x="7830360" y="5847480"/>
                    <a:chExt cx="492120" cy="393480"/>
                  </a:xfrm>
                </p:grpSpPr>
                <p:grpSp>
                  <p:nvGrpSpPr>
                    <p:cNvPr id="912" name=""/>
                    <p:cNvGrpSpPr/>
                    <p:nvPr/>
                  </p:nvGrpSpPr>
                  <p:grpSpPr>
                    <a:xfrm>
                      <a:off x="7830360" y="5847480"/>
                      <a:ext cx="194400" cy="276840"/>
                      <a:chOff x="7830360" y="5847480"/>
                      <a:chExt cx="194400" cy="276840"/>
                    </a:xfrm>
                  </p:grpSpPr>
                  <p:sp>
                    <p:nvSpPr>
                      <p:cNvPr id="913" name=""/>
                      <p:cNvSpPr/>
                      <p:nvPr/>
                    </p:nvSpPr>
                    <p:spPr>
                      <a:xfrm rot="500400">
                        <a:off x="7846920" y="585756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4" name=""/>
                      <p:cNvSpPr/>
                      <p:nvPr/>
                    </p:nvSpPr>
                    <p:spPr>
                      <a:xfrm rot="500400">
                        <a:off x="7894440" y="586476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15" name=""/>
                    <p:cNvGrpSpPr/>
                    <p:nvPr/>
                  </p:nvGrpSpPr>
                  <p:grpSpPr>
                    <a:xfrm>
                      <a:off x="7920360" y="5890680"/>
                      <a:ext cx="220320" cy="288720"/>
                      <a:chOff x="7920360" y="5890680"/>
                      <a:chExt cx="220320" cy="288720"/>
                    </a:xfrm>
                  </p:grpSpPr>
                  <p:sp>
                    <p:nvSpPr>
                      <p:cNvPr id="916" name=""/>
                      <p:cNvSpPr/>
                      <p:nvPr/>
                    </p:nvSpPr>
                    <p:spPr>
                      <a:xfrm rot="951000">
                        <a:off x="7949880" y="5907960"/>
                        <a:ext cx="16128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7" name=""/>
                      <p:cNvSpPr/>
                      <p:nvPr/>
                    </p:nvSpPr>
                    <p:spPr>
                      <a:xfrm rot="951000">
                        <a:off x="7995960" y="591696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18" name=""/>
                    <p:cNvGrpSpPr/>
                    <p:nvPr/>
                  </p:nvGrpSpPr>
                  <p:grpSpPr>
                    <a:xfrm>
                      <a:off x="8053200" y="5941440"/>
                      <a:ext cx="269280" cy="299520"/>
                      <a:chOff x="8053200" y="5941440"/>
                      <a:chExt cx="269280" cy="299520"/>
                    </a:xfrm>
                  </p:grpSpPr>
                  <p:sp>
                    <p:nvSpPr>
                      <p:cNvPr id="919" name=""/>
                      <p:cNvSpPr/>
                      <p:nvPr/>
                    </p:nvSpPr>
                    <p:spPr>
                      <a:xfrm rot="2057400">
                        <a:off x="8106480" y="5965920"/>
                        <a:ext cx="162000" cy="24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20" name=""/>
                      <p:cNvSpPr/>
                      <p:nvPr/>
                    </p:nvSpPr>
                    <p:spPr>
                      <a:xfrm rot="2057400">
                        <a:off x="8146800" y="5979600"/>
                        <a:ext cx="104760" cy="253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21" name=""/>
                  <p:cNvGrpSpPr/>
                  <p:nvPr/>
                </p:nvGrpSpPr>
                <p:grpSpPr>
                  <a:xfrm>
                    <a:off x="7344000" y="5793120"/>
                    <a:ext cx="481320" cy="341280"/>
                    <a:chOff x="7344000" y="5793120"/>
                    <a:chExt cx="481320" cy="341280"/>
                  </a:xfrm>
                </p:grpSpPr>
                <p:grpSp>
                  <p:nvGrpSpPr>
                    <p:cNvPr id="922" name=""/>
                    <p:cNvGrpSpPr/>
                    <p:nvPr/>
                  </p:nvGrpSpPr>
                  <p:grpSpPr>
                    <a:xfrm>
                      <a:off x="7660080" y="5793120"/>
                      <a:ext cx="165240" cy="259200"/>
                      <a:chOff x="7660080" y="5793120"/>
                      <a:chExt cx="165240" cy="259200"/>
                    </a:xfrm>
                  </p:grpSpPr>
                  <p:sp>
                    <p:nvSpPr>
                      <p:cNvPr id="923" name=""/>
                      <p:cNvSpPr/>
                      <p:nvPr/>
                    </p:nvSpPr>
                    <p:spPr>
                      <a:xfrm flipH="1" rot="55200">
                        <a:off x="7661520" y="579420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24" name=""/>
                      <p:cNvSpPr/>
                      <p:nvPr/>
                    </p:nvSpPr>
                    <p:spPr>
                      <a:xfrm flipH="1" rot="55200">
                        <a:off x="7668000" y="579780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25" name=""/>
                    <p:cNvGrpSpPr/>
                    <p:nvPr/>
                  </p:nvGrpSpPr>
                  <p:grpSpPr>
                    <a:xfrm>
                      <a:off x="7539120" y="5819040"/>
                      <a:ext cx="188280" cy="272520"/>
                      <a:chOff x="7539120" y="5819040"/>
                      <a:chExt cx="188280" cy="272520"/>
                    </a:xfrm>
                  </p:grpSpPr>
                  <p:sp>
                    <p:nvSpPr>
                      <p:cNvPr id="926" name=""/>
                      <p:cNvSpPr/>
                      <p:nvPr/>
                    </p:nvSpPr>
                    <p:spPr>
                      <a:xfrm flipH="1" rot="21204600">
                        <a:off x="7552080" y="5827320"/>
                        <a:ext cx="161640" cy="23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27" name=""/>
                      <p:cNvSpPr/>
                      <p:nvPr/>
                    </p:nvSpPr>
                    <p:spPr>
                      <a:xfrm flipH="1" rot="21204600">
                        <a:off x="7560000" y="583308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28" name=""/>
                    <p:cNvGrpSpPr/>
                    <p:nvPr/>
                  </p:nvGrpSpPr>
                  <p:grpSpPr>
                    <a:xfrm>
                      <a:off x="7344000" y="5836320"/>
                      <a:ext cx="248040" cy="298080"/>
                      <a:chOff x="7344000" y="5836320"/>
                      <a:chExt cx="248040" cy="298080"/>
                    </a:xfrm>
                  </p:grpSpPr>
                  <p:sp>
                    <p:nvSpPr>
                      <p:cNvPr id="929" name=""/>
                      <p:cNvSpPr/>
                      <p:nvPr/>
                    </p:nvSpPr>
                    <p:spPr>
                      <a:xfrm flipH="1" rot="20098200">
                        <a:off x="7386840" y="585900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30" name=""/>
                      <p:cNvSpPr/>
                      <p:nvPr/>
                    </p:nvSpPr>
                    <p:spPr>
                      <a:xfrm flipH="1" rot="20098200">
                        <a:off x="7399800" y="587052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931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365760" y="1833840"/>
            <a:ext cx="2902680" cy="952920"/>
            <a:chOff x="365760" y="1833840"/>
            <a:chExt cx="2902680" cy="952920"/>
          </a:xfrm>
        </p:grpSpPr>
        <p:sp>
          <p:nvSpPr>
            <p:cNvPr id="933" name=""/>
            <p:cNvSpPr/>
            <p:nvPr/>
          </p:nvSpPr>
          <p:spPr>
            <a:xfrm rot="21175800">
              <a:off x="395280" y="1989000"/>
              <a:ext cx="25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  </a:t>
              </a: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Arial"/>
                </a:rPr>
                <a:t>5 км/ч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056960" y="2420640"/>
              <a:ext cx="2211480" cy="255600"/>
            </a:xfrm>
            <a:custGeom>
              <a:avLst/>
              <a:gdLst/>
              <a:ahLst/>
              <a:rect l="l" t="t" r="r" b="b"/>
              <a:pathLst>
                <a:path w="1140" h="161">
                  <a:moveTo>
                    <a:pt x="0" y="161"/>
                  </a:moveTo>
                  <a:lnTo>
                    <a:pt x="1140" y="0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539640" y="476280"/>
            <a:ext cx="70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олько времени потребуется пешеходу, чтобы пройти 30 км, если он движется со скоростью 5 км\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150920" cy="211608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8245800" y="2492280"/>
            <a:ext cx="95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cc"/>
                </a:solidFill>
                <a:latin typeface="Arial"/>
              </a:rPr>
              <a:t>?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50920" y="4149720"/>
            <a:ext cx="8713800" cy="1655640"/>
            <a:chOff x="250920" y="4149720"/>
            <a:chExt cx="8713800" cy="1655640"/>
          </a:xfrm>
        </p:grpSpPr>
        <p:sp>
          <p:nvSpPr>
            <p:cNvPr id="939" name=""/>
            <p:cNvSpPr/>
            <p:nvPr/>
          </p:nvSpPr>
          <p:spPr>
            <a:xfrm>
              <a:off x="250920" y="55166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964720" y="4149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8604360" y="3415320"/>
            <a:ext cx="599760" cy="668520"/>
            <a:chOff x="8604360" y="3415320"/>
            <a:chExt cx="599760" cy="668520"/>
          </a:xfrm>
        </p:grpSpPr>
        <p:grpSp>
          <p:nvGrpSpPr>
            <p:cNvPr id="942" name=""/>
            <p:cNvGrpSpPr/>
            <p:nvPr/>
          </p:nvGrpSpPr>
          <p:grpSpPr>
            <a:xfrm>
              <a:off x="8604360" y="3430800"/>
              <a:ext cx="482760" cy="576360"/>
              <a:chOff x="8604360" y="3430800"/>
              <a:chExt cx="482760" cy="576360"/>
            </a:xfrm>
          </p:grpSpPr>
          <p:grpSp>
            <p:nvGrpSpPr>
              <p:cNvPr id="943" name=""/>
              <p:cNvGrpSpPr/>
              <p:nvPr/>
            </p:nvGrpSpPr>
            <p:grpSpPr>
              <a:xfrm>
                <a:off x="8604360" y="3906000"/>
                <a:ext cx="210960" cy="101160"/>
                <a:chOff x="8604360" y="3906000"/>
                <a:chExt cx="210960" cy="10116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8604360" y="3926160"/>
                  <a:ext cx="210960" cy="8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8633160" y="3915720"/>
                  <a:ext cx="162720" cy="6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8651880" y="3906000"/>
                  <a:ext cx="115560" cy="3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7" name=""/>
              <p:cNvSpPr/>
              <p:nvPr/>
            </p:nvSpPr>
            <p:spPr>
              <a:xfrm>
                <a:off x="8689680" y="3430800"/>
                <a:ext cx="397440" cy="475200"/>
              </a:xfrm>
              <a:custGeom>
                <a:avLst/>
                <a:gdLst/>
                <a:ahLst/>
                <a:rect l="l" t="t" r="r" b="b"/>
                <a:pathLst>
                  <a:path w="1009" h="664">
                    <a:moveTo>
                      <a:pt x="20" y="419"/>
                    </a:moveTo>
                    <a:lnTo>
                      <a:pt x="176" y="415"/>
                    </a:lnTo>
                    <a:lnTo>
                      <a:pt x="1009" y="394"/>
                    </a:lnTo>
                    <a:lnTo>
                      <a:pt x="830" y="208"/>
                    </a:lnTo>
                    <a:lnTo>
                      <a:pt x="944" y="0"/>
                    </a:lnTo>
                    <a:lnTo>
                      <a:pt x="0" y="38"/>
                    </a:lnTo>
                    <a:lnTo>
                      <a:pt x="33" y="664"/>
                    </a:lnTo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8" name=""/>
            <p:cNvSpPr/>
            <p:nvPr/>
          </p:nvSpPr>
          <p:spPr>
            <a:xfrm rot="21406800">
              <a:off x="8686080" y="3428640"/>
              <a:ext cx="500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0.06613 L 0.99236 -0.13295 E">
                                      <p:cBhvr>
                                        <p:cTn id="185" dur="5000" fill="hold"/>
                                        <p:tgtEl>
                                          <p:spTgt spid="9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9" name=""/>
          <p:cNvGrpSpPr/>
          <p:nvPr/>
        </p:nvGrpSpPr>
        <p:grpSpPr>
          <a:xfrm>
            <a:off x="177120" y="4514400"/>
            <a:ext cx="8871480" cy="2400120"/>
            <a:chOff x="177120" y="4514400"/>
            <a:chExt cx="8871480" cy="2400120"/>
          </a:xfrm>
        </p:grpSpPr>
        <p:grpSp>
          <p:nvGrpSpPr>
            <p:cNvPr id="950" name=""/>
            <p:cNvGrpSpPr/>
            <p:nvPr/>
          </p:nvGrpSpPr>
          <p:grpSpPr>
            <a:xfrm>
              <a:off x="222480" y="6640920"/>
              <a:ext cx="378720" cy="171000"/>
              <a:chOff x="222480" y="6640920"/>
              <a:chExt cx="378720" cy="171000"/>
            </a:xfrm>
          </p:grpSpPr>
          <p:sp>
            <p:nvSpPr>
              <p:cNvPr id="951" name=""/>
              <p:cNvSpPr/>
              <p:nvPr/>
            </p:nvSpPr>
            <p:spPr>
              <a:xfrm flipH="1" flipV="1" rot="21111000">
                <a:off x="419400" y="6652440"/>
                <a:ext cx="173880" cy="1206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 flipV="1" rot="21111000">
                <a:off x="228600" y="6697440"/>
                <a:ext cx="179640" cy="1022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208080" y="6540480"/>
              <a:ext cx="378720" cy="171000"/>
              <a:chOff x="208080" y="6540480"/>
              <a:chExt cx="378720" cy="171000"/>
            </a:xfrm>
          </p:grpSpPr>
          <p:sp>
            <p:nvSpPr>
              <p:cNvPr id="954" name=""/>
              <p:cNvSpPr/>
              <p:nvPr/>
            </p:nvSpPr>
            <p:spPr>
              <a:xfrm flipH="1" flipV="1" rot="21111000">
                <a:off x="405000" y="6552000"/>
                <a:ext cx="173880" cy="1206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 flipV="1" rot="21111000">
                <a:off x="214200" y="6597000"/>
                <a:ext cx="179640" cy="1022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274320" y="6466680"/>
              <a:ext cx="378720" cy="171720"/>
              <a:chOff x="274320" y="6466680"/>
              <a:chExt cx="378720" cy="171720"/>
            </a:xfrm>
          </p:grpSpPr>
          <p:sp>
            <p:nvSpPr>
              <p:cNvPr id="957" name=""/>
              <p:cNvSpPr/>
              <p:nvPr/>
            </p:nvSpPr>
            <p:spPr>
              <a:xfrm flipH="1" flipV="1" rot="21111000">
                <a:off x="471240" y="6478560"/>
                <a:ext cx="173880" cy="12096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H="1" flipV="1" rot="21111000">
                <a:off x="280440" y="6523200"/>
                <a:ext cx="179640" cy="1026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333720" y="6432480"/>
              <a:ext cx="378720" cy="171000"/>
              <a:chOff x="333720" y="6432480"/>
              <a:chExt cx="378720" cy="171000"/>
            </a:xfrm>
          </p:grpSpPr>
          <p:sp>
            <p:nvSpPr>
              <p:cNvPr id="960" name=""/>
              <p:cNvSpPr/>
              <p:nvPr/>
            </p:nvSpPr>
            <p:spPr>
              <a:xfrm flipH="1" flipV="1" rot="21111000">
                <a:off x="530640" y="6444000"/>
                <a:ext cx="173880" cy="1206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 flipV="1" rot="21111000">
                <a:off x="339840" y="6489000"/>
                <a:ext cx="179640" cy="10224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3865680" y="5470200"/>
              <a:ext cx="1722960" cy="595800"/>
              <a:chOff x="3865680" y="5470200"/>
              <a:chExt cx="1722960" cy="595800"/>
            </a:xfrm>
          </p:grpSpPr>
          <p:grpSp>
            <p:nvGrpSpPr>
              <p:cNvPr id="963" name=""/>
              <p:cNvGrpSpPr/>
              <p:nvPr/>
            </p:nvGrpSpPr>
            <p:grpSpPr>
              <a:xfrm>
                <a:off x="3865680" y="5550480"/>
                <a:ext cx="950400" cy="515520"/>
                <a:chOff x="3865680" y="5550480"/>
                <a:chExt cx="950400" cy="515520"/>
              </a:xfrm>
            </p:grpSpPr>
            <p:grpSp>
              <p:nvGrpSpPr>
                <p:cNvPr id="964" name=""/>
                <p:cNvGrpSpPr/>
                <p:nvPr/>
              </p:nvGrpSpPr>
              <p:grpSpPr>
                <a:xfrm>
                  <a:off x="3865680" y="5633280"/>
                  <a:ext cx="494640" cy="432720"/>
                  <a:chOff x="3865680" y="5633280"/>
                  <a:chExt cx="494640" cy="432720"/>
                </a:xfrm>
              </p:grpSpPr>
              <p:grpSp>
                <p:nvGrpSpPr>
                  <p:cNvPr id="965" name=""/>
                  <p:cNvGrpSpPr/>
                  <p:nvPr/>
                </p:nvGrpSpPr>
                <p:grpSpPr>
                  <a:xfrm>
                    <a:off x="4137480" y="5633280"/>
                    <a:ext cx="222840" cy="290520"/>
                    <a:chOff x="4137480" y="5633280"/>
                    <a:chExt cx="222840" cy="290520"/>
                  </a:xfrm>
                </p:grpSpPr>
                <p:sp>
                  <p:nvSpPr>
                    <p:cNvPr id="966" name=""/>
                    <p:cNvSpPr/>
                    <p:nvPr/>
                  </p:nvSpPr>
                  <p:spPr>
                    <a:xfrm flipH="1" rot="20610600">
                      <a:off x="4167720" y="5650920"/>
                      <a:ext cx="16128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 flipH="1" rot="20610600">
                      <a:off x="4178880" y="566028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8" name=""/>
                  <p:cNvGrpSpPr/>
                  <p:nvPr/>
                </p:nvGrpSpPr>
                <p:grpSpPr>
                  <a:xfrm>
                    <a:off x="4031640" y="5693040"/>
                    <a:ext cx="244800" cy="297000"/>
                    <a:chOff x="4031640" y="5693040"/>
                    <a:chExt cx="244800" cy="297000"/>
                  </a:xfrm>
                </p:grpSpPr>
                <p:sp>
                  <p:nvSpPr>
                    <p:cNvPr id="969" name=""/>
                    <p:cNvSpPr/>
                    <p:nvPr/>
                  </p:nvSpPr>
                  <p:spPr>
                    <a:xfrm flipH="1" rot="20160000">
                      <a:off x="4073400" y="5715360"/>
                      <a:ext cx="16128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 flipH="1" rot="20160000">
                      <a:off x="4086000" y="5726520"/>
                      <a:ext cx="10440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3865680" y="5771880"/>
                    <a:ext cx="281520" cy="294120"/>
                    <a:chOff x="3865680" y="5771880"/>
                    <a:chExt cx="281520" cy="294120"/>
                  </a:xfrm>
                </p:grpSpPr>
                <p:sp>
                  <p:nvSpPr>
                    <p:cNvPr id="972" name=""/>
                    <p:cNvSpPr/>
                    <p:nvPr/>
                  </p:nvSpPr>
                  <p:spPr>
                    <a:xfrm flipH="1" rot="19053600">
                      <a:off x="3925440" y="5794920"/>
                      <a:ext cx="16200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 flipH="1" rot="19053600">
                      <a:off x="3945240" y="581004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74" name=""/>
                <p:cNvGrpSpPr/>
                <p:nvPr/>
              </p:nvGrpSpPr>
              <p:grpSpPr>
                <a:xfrm>
                  <a:off x="4324320" y="5550480"/>
                  <a:ext cx="491760" cy="309240"/>
                  <a:chOff x="4324320" y="5550480"/>
                  <a:chExt cx="491760" cy="309240"/>
                </a:xfrm>
              </p:grpSpPr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4324320" y="5550480"/>
                    <a:ext cx="197280" cy="272160"/>
                    <a:chOff x="4324320" y="5550480"/>
                    <a:chExt cx="197280" cy="272160"/>
                  </a:xfrm>
                </p:grpSpPr>
                <p:sp>
                  <p:nvSpPr>
                    <p:cNvPr id="976" name=""/>
                    <p:cNvSpPr/>
                    <p:nvPr/>
                  </p:nvSpPr>
                  <p:spPr>
                    <a:xfrm rot="21055800">
                      <a:off x="4341960" y="556164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 rot="21055800">
                      <a:off x="4393080" y="556236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4452120" y="5577120"/>
                    <a:ext cx="168120" cy="259560"/>
                    <a:chOff x="4452120" y="5577120"/>
                    <a:chExt cx="168120" cy="25956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 rot="21506400">
                      <a:off x="4455000" y="5578920"/>
                      <a:ext cx="161640" cy="23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 rot="21506400">
                      <a:off x="4505400" y="5581800"/>
                      <a:ext cx="10476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4591800" y="5568840"/>
                    <a:ext cx="224280" cy="290880"/>
                    <a:chOff x="4591800" y="5568840"/>
                    <a:chExt cx="224280" cy="29088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 rot="1012800">
                      <a:off x="4622760" y="558684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 rot="1012800">
                      <a:off x="4668840" y="559656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84" name=""/>
              <p:cNvGrpSpPr/>
              <p:nvPr/>
            </p:nvGrpSpPr>
            <p:grpSpPr>
              <a:xfrm>
                <a:off x="4601880" y="5470200"/>
                <a:ext cx="986760" cy="392040"/>
                <a:chOff x="4601880" y="5470200"/>
                <a:chExt cx="986760" cy="392040"/>
              </a:xfrm>
            </p:grpSpPr>
            <p:grpSp>
              <p:nvGrpSpPr>
                <p:cNvPr id="985" name=""/>
                <p:cNvGrpSpPr/>
                <p:nvPr/>
              </p:nvGrpSpPr>
              <p:grpSpPr>
                <a:xfrm>
                  <a:off x="5109120" y="5515920"/>
                  <a:ext cx="479520" cy="346320"/>
                  <a:chOff x="5109120" y="5515920"/>
                  <a:chExt cx="479520" cy="346320"/>
                </a:xfrm>
              </p:grpSpPr>
              <p:grpSp>
                <p:nvGrpSpPr>
                  <p:cNvPr id="986" name=""/>
                  <p:cNvGrpSpPr/>
                  <p:nvPr/>
                </p:nvGrpSpPr>
                <p:grpSpPr>
                  <a:xfrm>
                    <a:off x="5109120" y="5515920"/>
                    <a:ext cx="162000" cy="257760"/>
                    <a:chOff x="5109120" y="5515920"/>
                    <a:chExt cx="162000" cy="257760"/>
                  </a:xfrm>
                </p:grpSpPr>
                <p:sp>
                  <p:nvSpPr>
                    <p:cNvPr id="987" name=""/>
                    <p:cNvSpPr/>
                    <p:nvPr/>
                  </p:nvSpPr>
                  <p:spPr>
                    <a:xfrm rot="11400">
                      <a:off x="5109120" y="5515920"/>
                      <a:ext cx="16128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 rot="11400">
                      <a:off x="5158440" y="5520240"/>
                      <a:ext cx="10476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9" name=""/>
                  <p:cNvGrpSpPr/>
                  <p:nvPr/>
                </p:nvGrpSpPr>
                <p:grpSpPr>
                  <a:xfrm>
                    <a:off x="5203080" y="5541840"/>
                    <a:ext cx="191880" cy="275040"/>
                    <a:chOff x="5203080" y="5541840"/>
                    <a:chExt cx="191880" cy="275040"/>
                  </a:xfrm>
                </p:grpSpPr>
                <p:sp>
                  <p:nvSpPr>
                    <p:cNvPr id="990" name=""/>
                    <p:cNvSpPr/>
                    <p:nvPr/>
                  </p:nvSpPr>
                  <p:spPr>
                    <a:xfrm rot="462000">
                      <a:off x="5218200" y="5551560"/>
                      <a:ext cx="161280" cy="23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 rot="462000">
                      <a:off x="5266440" y="5557680"/>
                      <a:ext cx="10440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2" name=""/>
                  <p:cNvGrpSpPr/>
                  <p:nvPr/>
                </p:nvGrpSpPr>
                <p:grpSpPr>
                  <a:xfrm>
                    <a:off x="5337360" y="5563080"/>
                    <a:ext cx="251280" cy="299160"/>
                    <a:chOff x="5337360" y="5563080"/>
                    <a:chExt cx="251280" cy="299160"/>
                  </a:xfrm>
                </p:grpSpPr>
                <p:sp>
                  <p:nvSpPr>
                    <p:cNvPr id="993" name=""/>
                    <p:cNvSpPr/>
                    <p:nvPr/>
                  </p:nvSpPr>
                  <p:spPr>
                    <a:xfrm rot="1568400">
                      <a:off x="5382000" y="5586480"/>
                      <a:ext cx="162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 rot="1568400">
                      <a:off x="5424840" y="5598360"/>
                      <a:ext cx="10476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95" name=""/>
                <p:cNvGrpSpPr/>
                <p:nvPr/>
              </p:nvGrpSpPr>
              <p:grpSpPr>
                <a:xfrm>
                  <a:off x="4601880" y="5470200"/>
                  <a:ext cx="491040" cy="387360"/>
                  <a:chOff x="4601880" y="5470200"/>
                  <a:chExt cx="491040" cy="387360"/>
                </a:xfrm>
              </p:grpSpPr>
              <p:grpSp>
                <p:nvGrpSpPr>
                  <p:cNvPr id="996" name=""/>
                  <p:cNvGrpSpPr/>
                  <p:nvPr/>
                </p:nvGrpSpPr>
                <p:grpSpPr>
                  <a:xfrm>
                    <a:off x="4902480" y="5470200"/>
                    <a:ext cx="190440" cy="274680"/>
                    <a:chOff x="4902480" y="5470200"/>
                    <a:chExt cx="190440" cy="274680"/>
                  </a:xfrm>
                </p:grpSpPr>
                <p:sp>
                  <p:nvSpPr>
                    <p:cNvPr id="997" name=""/>
                    <p:cNvSpPr/>
                    <p:nvPr/>
                  </p:nvSpPr>
                  <p:spPr>
                    <a:xfrm flipH="1" rot="21166200">
                      <a:off x="4916520" y="547920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 flipH="1" rot="21166200">
                      <a:off x="4925160" y="548568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9" name=""/>
                  <p:cNvGrpSpPr/>
                  <p:nvPr/>
                </p:nvGrpSpPr>
                <p:grpSpPr>
                  <a:xfrm>
                    <a:off x="4785480" y="5511600"/>
                    <a:ext cx="217080" cy="287280"/>
                    <a:chOff x="4785480" y="5511600"/>
                    <a:chExt cx="217080" cy="287280"/>
                  </a:xfrm>
                </p:grpSpPr>
                <p:sp>
                  <p:nvSpPr>
                    <p:cNvPr id="1000" name=""/>
                    <p:cNvSpPr/>
                    <p:nvPr/>
                  </p:nvSpPr>
                  <p:spPr>
                    <a:xfrm flipH="1" rot="20715600">
                      <a:off x="4812840" y="5528160"/>
                      <a:ext cx="161640" cy="23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 flipH="1" rot="20715600">
                      <a:off x="4823280" y="553608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2" name=""/>
                  <p:cNvGrpSpPr/>
                  <p:nvPr/>
                </p:nvGrpSpPr>
                <p:grpSpPr>
                  <a:xfrm>
                    <a:off x="4601880" y="5558040"/>
                    <a:ext cx="266400" cy="299520"/>
                    <a:chOff x="4601880" y="5558040"/>
                    <a:chExt cx="266400" cy="299520"/>
                  </a:xfrm>
                </p:grpSpPr>
                <p:sp>
                  <p:nvSpPr>
                    <p:cNvPr id="1003" name=""/>
                    <p:cNvSpPr/>
                    <p:nvPr/>
                  </p:nvSpPr>
                  <p:spPr>
                    <a:xfrm flipH="1" rot="19609200">
                      <a:off x="4654080" y="558252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"/>
                    <p:cNvSpPr/>
                    <p:nvPr/>
                  </p:nvSpPr>
                  <p:spPr>
                    <a:xfrm flipH="1" rot="19609200">
                      <a:off x="4669920" y="559620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05" name=""/>
            <p:cNvGrpSpPr/>
            <p:nvPr/>
          </p:nvGrpSpPr>
          <p:grpSpPr>
            <a:xfrm>
              <a:off x="318960" y="6234840"/>
              <a:ext cx="1722960" cy="595800"/>
              <a:chOff x="318960" y="6234840"/>
              <a:chExt cx="1722960" cy="59580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318960" y="6315480"/>
                <a:ext cx="950400" cy="515160"/>
                <a:chOff x="318960" y="6315480"/>
                <a:chExt cx="950400" cy="515160"/>
              </a:xfrm>
            </p:grpSpPr>
            <p:grpSp>
              <p:nvGrpSpPr>
                <p:cNvPr id="1007" name=""/>
                <p:cNvGrpSpPr/>
                <p:nvPr/>
              </p:nvGrpSpPr>
              <p:grpSpPr>
                <a:xfrm>
                  <a:off x="318960" y="6397920"/>
                  <a:ext cx="494640" cy="432720"/>
                  <a:chOff x="318960" y="6397920"/>
                  <a:chExt cx="494640" cy="432720"/>
                </a:xfrm>
              </p:grpSpPr>
              <p:grpSp>
                <p:nvGrpSpPr>
                  <p:cNvPr id="1008" name=""/>
                  <p:cNvGrpSpPr/>
                  <p:nvPr/>
                </p:nvGrpSpPr>
                <p:grpSpPr>
                  <a:xfrm>
                    <a:off x="590760" y="6397920"/>
                    <a:ext cx="222840" cy="290520"/>
                    <a:chOff x="590760" y="6397920"/>
                    <a:chExt cx="222840" cy="290520"/>
                  </a:xfrm>
                </p:grpSpPr>
                <p:sp>
                  <p:nvSpPr>
                    <p:cNvPr id="1009" name=""/>
                    <p:cNvSpPr/>
                    <p:nvPr/>
                  </p:nvSpPr>
                  <p:spPr>
                    <a:xfrm flipH="1" rot="20610600">
                      <a:off x="621000" y="6415560"/>
                      <a:ext cx="16128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 flipH="1" rot="20610600">
                      <a:off x="632160" y="642492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1" name=""/>
                  <p:cNvGrpSpPr/>
                  <p:nvPr/>
                </p:nvGrpSpPr>
                <p:grpSpPr>
                  <a:xfrm>
                    <a:off x="484920" y="6457680"/>
                    <a:ext cx="244800" cy="297000"/>
                    <a:chOff x="484920" y="6457680"/>
                    <a:chExt cx="244800" cy="297000"/>
                  </a:xfrm>
                </p:grpSpPr>
                <p:sp>
                  <p:nvSpPr>
                    <p:cNvPr id="1012" name=""/>
                    <p:cNvSpPr/>
                    <p:nvPr/>
                  </p:nvSpPr>
                  <p:spPr>
                    <a:xfrm flipH="1" rot="20160000">
                      <a:off x="526680" y="6480000"/>
                      <a:ext cx="16128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"/>
                    <p:cNvSpPr/>
                    <p:nvPr/>
                  </p:nvSpPr>
                  <p:spPr>
                    <a:xfrm flipH="1" rot="20160000">
                      <a:off x="538920" y="6491160"/>
                      <a:ext cx="10440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318960" y="6536880"/>
                    <a:ext cx="281520" cy="293760"/>
                    <a:chOff x="318960" y="6536880"/>
                    <a:chExt cx="281520" cy="29376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 flipH="1" rot="19053600">
                      <a:off x="378720" y="6559920"/>
                      <a:ext cx="16200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 flipH="1" rot="19053600">
                      <a:off x="398520" y="657468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17" name=""/>
                <p:cNvGrpSpPr/>
                <p:nvPr/>
              </p:nvGrpSpPr>
              <p:grpSpPr>
                <a:xfrm>
                  <a:off x="777240" y="6315480"/>
                  <a:ext cx="492120" cy="308880"/>
                  <a:chOff x="777240" y="6315480"/>
                  <a:chExt cx="492120" cy="308880"/>
                </a:xfrm>
              </p:grpSpPr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777240" y="6315480"/>
                    <a:ext cx="197280" cy="271800"/>
                    <a:chOff x="777240" y="6315480"/>
                    <a:chExt cx="197280" cy="271800"/>
                  </a:xfrm>
                </p:grpSpPr>
                <p:sp>
                  <p:nvSpPr>
                    <p:cNvPr id="1019" name=""/>
                    <p:cNvSpPr/>
                    <p:nvPr/>
                  </p:nvSpPr>
                  <p:spPr>
                    <a:xfrm rot="21055800">
                      <a:off x="794880" y="632664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rot="21055800">
                      <a:off x="846000" y="632700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1" name=""/>
                  <p:cNvGrpSpPr/>
                  <p:nvPr/>
                </p:nvGrpSpPr>
                <p:grpSpPr>
                  <a:xfrm>
                    <a:off x="905040" y="6341760"/>
                    <a:ext cx="168120" cy="259560"/>
                    <a:chOff x="905040" y="6341760"/>
                    <a:chExt cx="168120" cy="259560"/>
                  </a:xfrm>
                </p:grpSpPr>
                <p:sp>
                  <p:nvSpPr>
                    <p:cNvPr id="1022" name=""/>
                    <p:cNvSpPr/>
                    <p:nvPr/>
                  </p:nvSpPr>
                  <p:spPr>
                    <a:xfrm rot="21506400">
                      <a:off x="907920" y="6343560"/>
                      <a:ext cx="161640" cy="23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 rot="21506400">
                      <a:off x="958320" y="6346440"/>
                      <a:ext cx="10476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4" name=""/>
                  <p:cNvGrpSpPr/>
                  <p:nvPr/>
                </p:nvGrpSpPr>
                <p:grpSpPr>
                  <a:xfrm>
                    <a:off x="1045080" y="6333840"/>
                    <a:ext cx="224280" cy="290520"/>
                    <a:chOff x="1045080" y="6333840"/>
                    <a:chExt cx="224280" cy="290520"/>
                  </a:xfrm>
                </p:grpSpPr>
                <p:sp>
                  <p:nvSpPr>
                    <p:cNvPr id="1025" name=""/>
                    <p:cNvSpPr/>
                    <p:nvPr/>
                  </p:nvSpPr>
                  <p:spPr>
                    <a:xfrm rot="1012800">
                      <a:off x="1076040" y="635184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6" name=""/>
                    <p:cNvSpPr/>
                    <p:nvPr/>
                  </p:nvSpPr>
                  <p:spPr>
                    <a:xfrm rot="1012800">
                      <a:off x="1121760" y="636120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27" name=""/>
              <p:cNvGrpSpPr/>
              <p:nvPr/>
            </p:nvGrpSpPr>
            <p:grpSpPr>
              <a:xfrm>
                <a:off x="1055160" y="6234840"/>
                <a:ext cx="986760" cy="392040"/>
                <a:chOff x="1055160" y="6234840"/>
                <a:chExt cx="986760" cy="392040"/>
              </a:xfrm>
            </p:grpSpPr>
            <p:grpSp>
              <p:nvGrpSpPr>
                <p:cNvPr id="1028" name=""/>
                <p:cNvGrpSpPr/>
                <p:nvPr/>
              </p:nvGrpSpPr>
              <p:grpSpPr>
                <a:xfrm>
                  <a:off x="1562400" y="6280560"/>
                  <a:ext cx="479520" cy="346320"/>
                  <a:chOff x="1562400" y="6280560"/>
                  <a:chExt cx="479520" cy="346320"/>
                </a:xfrm>
              </p:grpSpPr>
              <p:grpSp>
                <p:nvGrpSpPr>
                  <p:cNvPr id="1029" name=""/>
                  <p:cNvGrpSpPr/>
                  <p:nvPr/>
                </p:nvGrpSpPr>
                <p:grpSpPr>
                  <a:xfrm>
                    <a:off x="1562400" y="6280560"/>
                    <a:ext cx="162000" cy="257760"/>
                    <a:chOff x="1562400" y="6280560"/>
                    <a:chExt cx="162000" cy="257760"/>
                  </a:xfrm>
                </p:grpSpPr>
                <p:sp>
                  <p:nvSpPr>
                    <p:cNvPr id="1030" name=""/>
                    <p:cNvSpPr/>
                    <p:nvPr/>
                  </p:nvSpPr>
                  <p:spPr>
                    <a:xfrm rot="11400">
                      <a:off x="1562400" y="6280560"/>
                      <a:ext cx="16128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 rot="11400">
                      <a:off x="1611720" y="6284880"/>
                      <a:ext cx="10476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656000" y="6306480"/>
                    <a:ext cx="191880" cy="275040"/>
                    <a:chOff x="1656000" y="6306480"/>
                    <a:chExt cx="191880" cy="27504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 rot="462000">
                      <a:off x="1671120" y="6316200"/>
                      <a:ext cx="161280" cy="23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 rot="462000">
                      <a:off x="1719720" y="6322320"/>
                      <a:ext cx="104400" cy="25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"/>
                  <p:cNvGrpSpPr/>
                  <p:nvPr/>
                </p:nvGrpSpPr>
                <p:grpSpPr>
                  <a:xfrm>
                    <a:off x="1790640" y="6328080"/>
                    <a:ext cx="251280" cy="298800"/>
                    <a:chOff x="1790640" y="6328080"/>
                    <a:chExt cx="251280" cy="298800"/>
                  </a:xfrm>
                </p:grpSpPr>
                <p:sp>
                  <p:nvSpPr>
                    <p:cNvPr id="1036" name=""/>
                    <p:cNvSpPr/>
                    <p:nvPr/>
                  </p:nvSpPr>
                  <p:spPr>
                    <a:xfrm rot="1568400">
                      <a:off x="1835280" y="6351480"/>
                      <a:ext cx="162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rot="1568400">
                      <a:off x="1878120" y="6363000"/>
                      <a:ext cx="104760" cy="25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1055160" y="6234840"/>
                  <a:ext cx="491040" cy="387360"/>
                  <a:chOff x="1055160" y="6234840"/>
                  <a:chExt cx="491040" cy="387360"/>
                </a:xfrm>
              </p:grpSpPr>
              <p:grpSp>
                <p:nvGrpSpPr>
                  <p:cNvPr id="1039" name=""/>
                  <p:cNvGrpSpPr/>
                  <p:nvPr/>
                </p:nvGrpSpPr>
                <p:grpSpPr>
                  <a:xfrm>
                    <a:off x="1355760" y="6234840"/>
                    <a:ext cx="190440" cy="274680"/>
                    <a:chOff x="1355760" y="6234840"/>
                    <a:chExt cx="190440" cy="274680"/>
                  </a:xfrm>
                </p:grpSpPr>
                <p:sp>
                  <p:nvSpPr>
                    <p:cNvPr id="1040" name=""/>
                    <p:cNvSpPr/>
                    <p:nvPr/>
                  </p:nvSpPr>
                  <p:spPr>
                    <a:xfrm flipH="1" rot="21166200">
                      <a:off x="1369800" y="624384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1" name=""/>
                    <p:cNvSpPr/>
                    <p:nvPr/>
                  </p:nvSpPr>
                  <p:spPr>
                    <a:xfrm flipH="1" rot="21166200">
                      <a:off x="1378080" y="625032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2" name=""/>
                  <p:cNvGrpSpPr/>
                  <p:nvPr/>
                </p:nvGrpSpPr>
                <p:grpSpPr>
                  <a:xfrm>
                    <a:off x="1238760" y="6276240"/>
                    <a:ext cx="217080" cy="287280"/>
                    <a:chOff x="1238760" y="6276240"/>
                    <a:chExt cx="217080" cy="287280"/>
                  </a:xfrm>
                </p:grpSpPr>
                <p:sp>
                  <p:nvSpPr>
                    <p:cNvPr id="1043" name=""/>
                    <p:cNvSpPr/>
                    <p:nvPr/>
                  </p:nvSpPr>
                  <p:spPr>
                    <a:xfrm flipH="1" rot="20715600">
                      <a:off x="1266120" y="6292800"/>
                      <a:ext cx="161640" cy="23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 flipH="1" rot="20715600">
                      <a:off x="1276560" y="630072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5" name=""/>
                  <p:cNvGrpSpPr/>
                  <p:nvPr/>
                </p:nvGrpSpPr>
                <p:grpSpPr>
                  <a:xfrm>
                    <a:off x="1055160" y="6322680"/>
                    <a:ext cx="266400" cy="299520"/>
                    <a:chOff x="1055160" y="6322680"/>
                    <a:chExt cx="266400" cy="299520"/>
                  </a:xfrm>
                </p:grpSpPr>
                <p:sp>
                  <p:nvSpPr>
                    <p:cNvPr id="1046" name=""/>
                    <p:cNvSpPr/>
                    <p:nvPr/>
                  </p:nvSpPr>
                  <p:spPr>
                    <a:xfrm flipH="1" rot="19609200">
                      <a:off x="1107360" y="6347160"/>
                      <a:ext cx="16164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18">
                          <a:moveTo>
                            <a:pt x="136" y="0"/>
                          </a:moveTo>
                          <a:cubicBezTo>
                            <a:pt x="102" y="42"/>
                            <a:pt x="69" y="84"/>
                            <a:pt x="46" y="137"/>
                          </a:cubicBezTo>
                          <a:cubicBezTo>
                            <a:pt x="23" y="190"/>
                            <a:pt x="11" y="254"/>
                            <a:pt x="0" y="318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 flipH="1" rot="19609200">
                      <a:off x="1123200" y="6360840"/>
                      <a:ext cx="10476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336">
                          <a:moveTo>
                            <a:pt x="88" y="0"/>
                          </a:moveTo>
                          <a:cubicBezTo>
                            <a:pt x="76" y="33"/>
                            <a:pt x="31" y="144"/>
                            <a:pt x="16" y="200"/>
                          </a:cubicBezTo>
                          <a:cubicBezTo>
                            <a:pt x="1" y="256"/>
                            <a:pt x="3" y="308"/>
                            <a:pt x="0" y="336"/>
                          </a:cubicBezTo>
                        </a:path>
                      </a:pathLst>
                    </a:cu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48" name=""/>
            <p:cNvGrpSpPr/>
            <p:nvPr/>
          </p:nvGrpSpPr>
          <p:grpSpPr>
            <a:xfrm>
              <a:off x="191520" y="5936760"/>
              <a:ext cx="173520" cy="105120"/>
              <a:chOff x="191520" y="5936760"/>
              <a:chExt cx="173520" cy="105120"/>
            </a:xfrm>
          </p:grpSpPr>
          <p:sp>
            <p:nvSpPr>
              <p:cNvPr id="1049" name=""/>
              <p:cNvSpPr/>
              <p:nvPr/>
            </p:nvSpPr>
            <p:spPr>
              <a:xfrm rot="21111000">
                <a:off x="196920" y="5954040"/>
                <a:ext cx="78120" cy="824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21111000">
                <a:off x="279720" y="5942160"/>
                <a:ext cx="80640" cy="702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177120" y="5835960"/>
              <a:ext cx="173520" cy="105120"/>
              <a:chOff x="177120" y="5835960"/>
              <a:chExt cx="173520" cy="105120"/>
            </a:xfrm>
          </p:grpSpPr>
          <p:sp>
            <p:nvSpPr>
              <p:cNvPr id="1052" name=""/>
              <p:cNvSpPr/>
              <p:nvPr/>
            </p:nvSpPr>
            <p:spPr>
              <a:xfrm rot="21111000">
                <a:off x="182520" y="5852880"/>
                <a:ext cx="78120" cy="8280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rot="21111000">
                <a:off x="265320" y="5841360"/>
                <a:ext cx="80640" cy="702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243720" y="5762520"/>
              <a:ext cx="173520" cy="104760"/>
              <a:chOff x="243720" y="5762520"/>
              <a:chExt cx="173520" cy="104760"/>
            </a:xfrm>
          </p:grpSpPr>
          <p:sp>
            <p:nvSpPr>
              <p:cNvPr id="1055" name=""/>
              <p:cNvSpPr/>
              <p:nvPr/>
            </p:nvSpPr>
            <p:spPr>
              <a:xfrm rot="21111000">
                <a:off x="249120" y="5779440"/>
                <a:ext cx="78120" cy="8244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17" y="157"/>
                    </a:moveTo>
                    <a:cubicBezTo>
                      <a:pt x="34" y="122"/>
                      <a:pt x="169" y="26"/>
                      <a:pt x="225" y="13"/>
                    </a:cubicBezTo>
                    <a:cubicBezTo>
                      <a:pt x="281" y="0"/>
                      <a:pt x="350" y="60"/>
                      <a:pt x="353" y="77"/>
                    </a:cubicBezTo>
                    <a:cubicBezTo>
                      <a:pt x="356" y="94"/>
                      <a:pt x="280" y="93"/>
                      <a:pt x="241" y="117"/>
                    </a:cubicBezTo>
                    <a:cubicBezTo>
                      <a:pt x="202" y="141"/>
                      <a:pt x="154" y="214"/>
                      <a:pt x="121" y="221"/>
                    </a:cubicBezTo>
                    <a:cubicBezTo>
                      <a:pt x="88" y="228"/>
                      <a:pt x="0" y="192"/>
                      <a:pt x="17" y="157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rot="21111000">
                <a:off x="331920" y="5767920"/>
                <a:ext cx="80640" cy="70200"/>
              </a:xfrm>
              <a:custGeom>
                <a:avLst/>
                <a:gdLst/>
                <a:ahLst/>
                <a:rect l="l" t="t" r="r" b="b"/>
                <a:pathLst>
                  <a:path w="330" h="158">
                    <a:moveTo>
                      <a:pt x="67" y="19"/>
                    </a:moveTo>
                    <a:cubicBezTo>
                      <a:pt x="36" y="38"/>
                      <a:pt x="0" y="120"/>
                      <a:pt x="19" y="139"/>
                    </a:cubicBezTo>
                    <a:cubicBezTo>
                      <a:pt x="38" y="158"/>
                      <a:pt x="130" y="132"/>
                      <a:pt x="179" y="131"/>
                    </a:cubicBezTo>
                    <a:cubicBezTo>
                      <a:pt x="228" y="130"/>
                      <a:pt x="300" y="144"/>
                      <a:pt x="315" y="131"/>
                    </a:cubicBezTo>
                    <a:cubicBezTo>
                      <a:pt x="330" y="118"/>
                      <a:pt x="286" y="68"/>
                      <a:pt x="267" y="51"/>
                    </a:cubicBezTo>
                    <a:cubicBezTo>
                      <a:pt x="248" y="34"/>
                      <a:pt x="234" y="30"/>
                      <a:pt x="203" y="27"/>
                    </a:cubicBezTo>
                    <a:cubicBezTo>
                      <a:pt x="172" y="24"/>
                      <a:pt x="98" y="0"/>
                      <a:pt x="67" y="19"/>
                    </a:cubicBez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326160" y="4514400"/>
              <a:ext cx="8722440" cy="2400120"/>
              <a:chOff x="326160" y="4514400"/>
              <a:chExt cx="8722440" cy="240012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3108240" y="5571720"/>
                <a:ext cx="361800" cy="229320"/>
                <a:chOff x="3108240" y="5571720"/>
                <a:chExt cx="361800" cy="229320"/>
              </a:xfrm>
            </p:grpSpPr>
            <p:sp>
              <p:nvSpPr>
                <p:cNvPr id="1059" name=""/>
                <p:cNvSpPr/>
                <p:nvPr/>
              </p:nvSpPr>
              <p:spPr>
                <a:xfrm rot="21111000">
                  <a:off x="3120120" y="5606280"/>
                  <a:ext cx="162000" cy="18396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rot="21111000">
                  <a:off x="3292200" y="5582520"/>
                  <a:ext cx="167400" cy="1562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5802120" y="5163120"/>
                <a:ext cx="705960" cy="315720"/>
                <a:chOff x="5802120" y="5163120"/>
                <a:chExt cx="705960" cy="315720"/>
              </a:xfrm>
            </p:grpSpPr>
            <p:sp>
              <p:nvSpPr>
                <p:cNvPr id="1062" name=""/>
                <p:cNvSpPr/>
                <p:nvPr/>
              </p:nvSpPr>
              <p:spPr>
                <a:xfrm rot="21111000">
                  <a:off x="5816160" y="5234400"/>
                  <a:ext cx="324000" cy="22248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rot="21111000">
                  <a:off x="6161400" y="5185800"/>
                  <a:ext cx="334800" cy="1890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1268640" y="6312960"/>
                <a:ext cx="709560" cy="348120"/>
                <a:chOff x="1268640" y="6312960"/>
                <a:chExt cx="709560" cy="348120"/>
              </a:xfrm>
            </p:grpSpPr>
            <p:sp>
              <p:nvSpPr>
                <p:cNvPr id="1065" name=""/>
                <p:cNvSpPr/>
                <p:nvPr/>
              </p:nvSpPr>
              <p:spPr>
                <a:xfrm rot="10137600">
                  <a:off x="1635840" y="6341760"/>
                  <a:ext cx="324000" cy="22212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rot="10137600">
                  <a:off x="1283400" y="6441840"/>
                  <a:ext cx="334800" cy="188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4593600" y="5306040"/>
                <a:ext cx="172800" cy="105120"/>
                <a:chOff x="4593600" y="5306040"/>
                <a:chExt cx="172800" cy="105120"/>
              </a:xfrm>
            </p:grpSpPr>
            <p:sp>
              <p:nvSpPr>
                <p:cNvPr id="1068" name=""/>
                <p:cNvSpPr/>
                <p:nvPr/>
              </p:nvSpPr>
              <p:spPr>
                <a:xfrm rot="21111000">
                  <a:off x="4599000" y="5322960"/>
                  <a:ext cx="7776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rot="21111000">
                  <a:off x="4681440" y="531144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7395120" y="4712400"/>
                <a:ext cx="173520" cy="104760"/>
                <a:chOff x="7395120" y="4712400"/>
                <a:chExt cx="173520" cy="104760"/>
              </a:xfrm>
            </p:grpSpPr>
            <p:sp>
              <p:nvSpPr>
                <p:cNvPr id="1071" name=""/>
                <p:cNvSpPr/>
                <p:nvPr/>
              </p:nvSpPr>
              <p:spPr>
                <a:xfrm rot="21111000">
                  <a:off x="7400520" y="47293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rot="21111000">
                  <a:off x="7483320" y="47178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8562600" y="5238000"/>
                <a:ext cx="173160" cy="105120"/>
                <a:chOff x="8562600" y="5238000"/>
                <a:chExt cx="173160" cy="105120"/>
              </a:xfrm>
            </p:grpSpPr>
            <p:sp>
              <p:nvSpPr>
                <p:cNvPr id="1074" name=""/>
                <p:cNvSpPr/>
                <p:nvPr/>
              </p:nvSpPr>
              <p:spPr>
                <a:xfrm rot="21111000">
                  <a:off x="8568000" y="52552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rot="21111000">
                  <a:off x="8650440" y="52434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8343360" y="5320800"/>
                <a:ext cx="173520" cy="104760"/>
                <a:chOff x="8343360" y="5320800"/>
                <a:chExt cx="173520" cy="104760"/>
              </a:xfrm>
            </p:grpSpPr>
            <p:sp>
              <p:nvSpPr>
                <p:cNvPr id="1077" name=""/>
                <p:cNvSpPr/>
                <p:nvPr/>
              </p:nvSpPr>
              <p:spPr>
                <a:xfrm rot="21111000">
                  <a:off x="8348760" y="53377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rot="21111000">
                  <a:off x="8431560" y="53262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8183520" y="5369400"/>
                <a:ext cx="173520" cy="104760"/>
                <a:chOff x="8183520" y="5369400"/>
                <a:chExt cx="173520" cy="104760"/>
              </a:xfrm>
            </p:grpSpPr>
            <p:sp>
              <p:nvSpPr>
                <p:cNvPr id="1080" name=""/>
                <p:cNvSpPr/>
                <p:nvPr/>
              </p:nvSpPr>
              <p:spPr>
                <a:xfrm rot="21111000">
                  <a:off x="8188920" y="53863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rot="21111000">
                  <a:off x="8271720" y="53748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8169120" y="5268960"/>
                <a:ext cx="173520" cy="104760"/>
                <a:chOff x="8169120" y="5268960"/>
                <a:chExt cx="173520" cy="104760"/>
              </a:xfrm>
            </p:grpSpPr>
            <p:sp>
              <p:nvSpPr>
                <p:cNvPr id="1083" name=""/>
                <p:cNvSpPr/>
                <p:nvPr/>
              </p:nvSpPr>
              <p:spPr>
                <a:xfrm rot="21111000">
                  <a:off x="8174520" y="52858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rot="21111000">
                  <a:off x="8257320" y="52743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8235720" y="5195160"/>
                <a:ext cx="173160" cy="104760"/>
                <a:chOff x="8235720" y="5195160"/>
                <a:chExt cx="173160" cy="104760"/>
              </a:xfrm>
            </p:grpSpPr>
            <p:sp>
              <p:nvSpPr>
                <p:cNvPr id="1086" name=""/>
                <p:cNvSpPr/>
                <p:nvPr/>
              </p:nvSpPr>
              <p:spPr>
                <a:xfrm rot="21111000">
                  <a:off x="8241120" y="52120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rot="21111000">
                  <a:off x="8323560" y="52005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8295120" y="5160960"/>
                <a:ext cx="172800" cy="105120"/>
                <a:chOff x="8295120" y="5160960"/>
                <a:chExt cx="172800" cy="105120"/>
              </a:xfrm>
            </p:grpSpPr>
            <p:sp>
              <p:nvSpPr>
                <p:cNvPr id="1089" name=""/>
                <p:cNvSpPr/>
                <p:nvPr/>
              </p:nvSpPr>
              <p:spPr>
                <a:xfrm rot="21111000">
                  <a:off x="8300520" y="517824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rot="21111000">
                  <a:off x="8382960" y="516636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8364960" y="5112720"/>
                <a:ext cx="173160" cy="104760"/>
                <a:chOff x="8364960" y="5112720"/>
                <a:chExt cx="173160" cy="104760"/>
              </a:xfrm>
            </p:grpSpPr>
            <p:sp>
              <p:nvSpPr>
                <p:cNvPr id="1092" name=""/>
                <p:cNvSpPr/>
                <p:nvPr/>
              </p:nvSpPr>
              <p:spPr>
                <a:xfrm rot="21111000">
                  <a:off x="8370360" y="51296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rot="21111000">
                  <a:off x="8452800" y="51181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8555400" y="5008320"/>
                <a:ext cx="172800" cy="104760"/>
                <a:chOff x="8555400" y="5008320"/>
                <a:chExt cx="172800" cy="104760"/>
              </a:xfrm>
            </p:grpSpPr>
            <p:sp>
              <p:nvSpPr>
                <p:cNvPr id="1095" name=""/>
                <p:cNvSpPr/>
                <p:nvPr/>
              </p:nvSpPr>
              <p:spPr>
                <a:xfrm rot="21111000">
                  <a:off x="8560800" y="502524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rot="21111000">
                  <a:off x="8643240" y="501372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7581960" y="5288760"/>
                <a:ext cx="172800" cy="104760"/>
                <a:chOff x="7581960" y="5288760"/>
                <a:chExt cx="172800" cy="104760"/>
              </a:xfrm>
            </p:grpSpPr>
            <p:sp>
              <p:nvSpPr>
                <p:cNvPr id="1098" name=""/>
                <p:cNvSpPr/>
                <p:nvPr/>
              </p:nvSpPr>
              <p:spPr>
                <a:xfrm rot="21111000">
                  <a:off x="7587360" y="530568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rot="21111000">
                  <a:off x="7669800" y="529416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8869680" y="4963320"/>
                <a:ext cx="172800" cy="104760"/>
                <a:chOff x="8869680" y="4963320"/>
                <a:chExt cx="172800" cy="104760"/>
              </a:xfrm>
            </p:grpSpPr>
            <p:sp>
              <p:nvSpPr>
                <p:cNvPr id="1101" name=""/>
                <p:cNvSpPr/>
                <p:nvPr/>
              </p:nvSpPr>
              <p:spPr>
                <a:xfrm rot="21111000">
                  <a:off x="8875080" y="498024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rot="21111000">
                  <a:off x="8957520" y="496872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8323560" y="4656600"/>
                <a:ext cx="173520" cy="104760"/>
                <a:chOff x="8323560" y="4656600"/>
                <a:chExt cx="173520" cy="104760"/>
              </a:xfrm>
            </p:grpSpPr>
            <p:sp>
              <p:nvSpPr>
                <p:cNvPr id="1104" name=""/>
                <p:cNvSpPr/>
                <p:nvPr/>
              </p:nvSpPr>
              <p:spPr>
                <a:xfrm rot="21111000">
                  <a:off x="8328960" y="46735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rot="21111000">
                  <a:off x="8411760" y="46620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8637840" y="4611600"/>
                <a:ext cx="173520" cy="104760"/>
                <a:chOff x="8637840" y="4611600"/>
                <a:chExt cx="173520" cy="104760"/>
              </a:xfrm>
            </p:grpSpPr>
            <p:sp>
              <p:nvSpPr>
                <p:cNvPr id="1107" name=""/>
                <p:cNvSpPr/>
                <p:nvPr/>
              </p:nvSpPr>
              <p:spPr>
                <a:xfrm rot="21111000">
                  <a:off x="8643240" y="46285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rot="21111000">
                  <a:off x="8726040" y="46170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3823920" y="5652000"/>
                <a:ext cx="197280" cy="109800"/>
                <a:chOff x="3823920" y="5652000"/>
                <a:chExt cx="197280" cy="109800"/>
              </a:xfrm>
            </p:grpSpPr>
            <p:sp>
              <p:nvSpPr>
                <p:cNvPr id="1110" name=""/>
                <p:cNvSpPr/>
                <p:nvPr/>
              </p:nvSpPr>
              <p:spPr>
                <a:xfrm rot="21111000">
                  <a:off x="3829320" y="5671440"/>
                  <a:ext cx="89280" cy="842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rot="21111000">
                  <a:off x="3924000" y="5657760"/>
                  <a:ext cx="92160" cy="71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2872080" y="5817240"/>
                <a:ext cx="173520" cy="105120"/>
                <a:chOff x="2872080" y="5817240"/>
                <a:chExt cx="173520" cy="105120"/>
              </a:xfrm>
            </p:grpSpPr>
            <p:sp>
              <p:nvSpPr>
                <p:cNvPr id="1113" name=""/>
                <p:cNvSpPr/>
                <p:nvPr/>
              </p:nvSpPr>
              <p:spPr>
                <a:xfrm rot="21111000">
                  <a:off x="2877480" y="58345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rot="21111000">
                  <a:off x="2960280" y="58226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2712240" y="5865840"/>
                <a:ext cx="173160" cy="105120"/>
                <a:chOff x="2712240" y="5865840"/>
                <a:chExt cx="173160" cy="105120"/>
              </a:xfrm>
            </p:grpSpPr>
            <p:sp>
              <p:nvSpPr>
                <p:cNvPr id="1116" name=""/>
                <p:cNvSpPr/>
                <p:nvPr/>
              </p:nvSpPr>
              <p:spPr>
                <a:xfrm rot="21111000">
                  <a:off x="2717640" y="588276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rot="21111000">
                  <a:off x="2800080" y="58712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2697840" y="5765040"/>
                <a:ext cx="173520" cy="105120"/>
                <a:chOff x="2697840" y="5765040"/>
                <a:chExt cx="173520" cy="105120"/>
              </a:xfrm>
            </p:grpSpPr>
            <p:sp>
              <p:nvSpPr>
                <p:cNvPr id="1119" name=""/>
                <p:cNvSpPr/>
                <p:nvPr/>
              </p:nvSpPr>
              <p:spPr>
                <a:xfrm rot="21111000">
                  <a:off x="2703240" y="57823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rot="21111000">
                  <a:off x="2786040" y="57704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2764440" y="5691600"/>
                <a:ext cx="173160" cy="105120"/>
                <a:chOff x="2764440" y="5691600"/>
                <a:chExt cx="173160" cy="105120"/>
              </a:xfrm>
            </p:grpSpPr>
            <p:sp>
              <p:nvSpPr>
                <p:cNvPr id="1122" name=""/>
                <p:cNvSpPr/>
                <p:nvPr/>
              </p:nvSpPr>
              <p:spPr>
                <a:xfrm rot="21111000">
                  <a:off x="2769840" y="57088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rot="21111000">
                  <a:off x="2852280" y="56970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2823840" y="5657400"/>
                <a:ext cx="172800" cy="105120"/>
                <a:chOff x="2823840" y="5657400"/>
                <a:chExt cx="172800" cy="105120"/>
              </a:xfrm>
            </p:grpSpPr>
            <p:sp>
              <p:nvSpPr>
                <p:cNvPr id="1125" name=""/>
                <p:cNvSpPr/>
                <p:nvPr/>
              </p:nvSpPr>
              <p:spPr>
                <a:xfrm rot="21111000">
                  <a:off x="2829240" y="5674320"/>
                  <a:ext cx="7776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rot="21111000">
                  <a:off x="2911680" y="566280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3626280" y="5526360"/>
                <a:ext cx="197280" cy="110160"/>
                <a:chOff x="3626280" y="5526360"/>
                <a:chExt cx="197280" cy="110160"/>
              </a:xfrm>
            </p:grpSpPr>
            <p:sp>
              <p:nvSpPr>
                <p:cNvPr id="1128" name=""/>
                <p:cNvSpPr/>
                <p:nvPr/>
              </p:nvSpPr>
              <p:spPr>
                <a:xfrm rot="21111000">
                  <a:off x="3631680" y="5546160"/>
                  <a:ext cx="89280" cy="842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rot="21111000">
                  <a:off x="3726360" y="5532120"/>
                  <a:ext cx="92160" cy="71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3816720" y="5422320"/>
                <a:ext cx="197280" cy="109800"/>
                <a:chOff x="3816720" y="5422320"/>
                <a:chExt cx="197280" cy="109800"/>
              </a:xfrm>
            </p:grpSpPr>
            <p:sp>
              <p:nvSpPr>
                <p:cNvPr id="1131" name=""/>
                <p:cNvSpPr/>
                <p:nvPr/>
              </p:nvSpPr>
              <p:spPr>
                <a:xfrm rot="21111000">
                  <a:off x="3822120" y="5441760"/>
                  <a:ext cx="88920" cy="842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rot="21111000">
                  <a:off x="3916800" y="5428080"/>
                  <a:ext cx="92160" cy="71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2527560" y="5828040"/>
                <a:ext cx="172800" cy="105120"/>
                <a:chOff x="2527560" y="5828040"/>
                <a:chExt cx="172800" cy="105120"/>
              </a:xfrm>
            </p:grpSpPr>
            <p:sp>
              <p:nvSpPr>
                <p:cNvPr id="1134" name=""/>
                <p:cNvSpPr/>
                <p:nvPr/>
              </p:nvSpPr>
              <p:spPr>
                <a:xfrm rot="21111000">
                  <a:off x="2532960" y="584532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rot="21111000">
                  <a:off x="2615400" y="583344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2308320" y="5910840"/>
                <a:ext cx="172800" cy="104760"/>
                <a:chOff x="2308320" y="5910840"/>
                <a:chExt cx="172800" cy="104760"/>
              </a:xfrm>
            </p:grpSpPr>
            <p:sp>
              <p:nvSpPr>
                <p:cNvPr id="1137" name=""/>
                <p:cNvSpPr/>
                <p:nvPr/>
              </p:nvSpPr>
              <p:spPr>
                <a:xfrm rot="21111000">
                  <a:off x="2313720" y="592776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rot="21111000">
                  <a:off x="2396160" y="591624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2148480" y="5959440"/>
                <a:ext cx="173520" cy="105120"/>
                <a:chOff x="2148480" y="5959440"/>
                <a:chExt cx="173520" cy="105120"/>
              </a:xfrm>
            </p:grpSpPr>
            <p:sp>
              <p:nvSpPr>
                <p:cNvPr id="1140" name=""/>
                <p:cNvSpPr/>
                <p:nvPr/>
              </p:nvSpPr>
              <p:spPr>
                <a:xfrm rot="21111000">
                  <a:off x="2153880" y="59767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rot="21111000">
                  <a:off x="2236680" y="59648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2134080" y="5858640"/>
                <a:ext cx="173520" cy="105120"/>
                <a:chOff x="2134080" y="5858640"/>
                <a:chExt cx="173520" cy="105120"/>
              </a:xfrm>
            </p:grpSpPr>
            <p:sp>
              <p:nvSpPr>
                <p:cNvPr id="1143" name=""/>
                <p:cNvSpPr/>
                <p:nvPr/>
              </p:nvSpPr>
              <p:spPr>
                <a:xfrm rot="21111000">
                  <a:off x="2139480" y="587556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21111000">
                  <a:off x="2222280" y="58640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2200680" y="5785200"/>
                <a:ext cx="172440" cy="104760"/>
                <a:chOff x="2200680" y="5785200"/>
                <a:chExt cx="172440" cy="104760"/>
              </a:xfrm>
            </p:grpSpPr>
            <p:sp>
              <p:nvSpPr>
                <p:cNvPr id="1146" name=""/>
                <p:cNvSpPr/>
                <p:nvPr/>
              </p:nvSpPr>
              <p:spPr>
                <a:xfrm rot="21111000">
                  <a:off x="2206080" y="580212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rot="21111000">
                  <a:off x="2288160" y="579060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2259720" y="5751360"/>
                <a:ext cx="173520" cy="104760"/>
                <a:chOff x="2259720" y="5751360"/>
                <a:chExt cx="173520" cy="104760"/>
              </a:xfrm>
            </p:grpSpPr>
            <p:sp>
              <p:nvSpPr>
                <p:cNvPr id="1149" name=""/>
                <p:cNvSpPr/>
                <p:nvPr/>
              </p:nvSpPr>
              <p:spPr>
                <a:xfrm rot="21111000">
                  <a:off x="2265120" y="57682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21111000">
                  <a:off x="2347920" y="57567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2329920" y="5702760"/>
                <a:ext cx="172800" cy="104760"/>
                <a:chOff x="2329920" y="5702760"/>
                <a:chExt cx="172800" cy="104760"/>
              </a:xfrm>
            </p:grpSpPr>
            <p:sp>
              <p:nvSpPr>
                <p:cNvPr id="1152" name=""/>
                <p:cNvSpPr/>
                <p:nvPr/>
              </p:nvSpPr>
              <p:spPr>
                <a:xfrm rot="21111000">
                  <a:off x="2335320" y="571968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rot="21111000">
                  <a:off x="2417760" y="570816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2520000" y="5598360"/>
                <a:ext cx="173520" cy="104760"/>
                <a:chOff x="2520000" y="5598360"/>
                <a:chExt cx="173520" cy="104760"/>
              </a:xfrm>
            </p:grpSpPr>
            <p:sp>
              <p:nvSpPr>
                <p:cNvPr id="1155" name=""/>
                <p:cNvSpPr/>
                <p:nvPr/>
              </p:nvSpPr>
              <p:spPr>
                <a:xfrm rot="21111000">
                  <a:off x="2525400" y="56152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rot="21111000">
                  <a:off x="2608200" y="56037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1850400" y="6117480"/>
                <a:ext cx="173160" cy="104760"/>
                <a:chOff x="1850400" y="6117480"/>
                <a:chExt cx="173160" cy="104760"/>
              </a:xfrm>
            </p:grpSpPr>
            <p:sp>
              <p:nvSpPr>
                <p:cNvPr id="1158" name=""/>
                <p:cNvSpPr/>
                <p:nvPr/>
              </p:nvSpPr>
              <p:spPr>
                <a:xfrm rot="21111000">
                  <a:off x="1855800" y="61344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21111000">
                  <a:off x="1938240" y="61228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1631160" y="6200280"/>
                <a:ext cx="173520" cy="105120"/>
                <a:chOff x="1631160" y="6200280"/>
                <a:chExt cx="173520" cy="105120"/>
              </a:xfrm>
            </p:grpSpPr>
            <p:sp>
              <p:nvSpPr>
                <p:cNvPr id="1161" name=""/>
                <p:cNvSpPr/>
                <p:nvPr/>
              </p:nvSpPr>
              <p:spPr>
                <a:xfrm rot="21111000">
                  <a:off x="1636560" y="621720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rot="21111000">
                  <a:off x="1719360" y="62056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1471320" y="6248880"/>
                <a:ext cx="173520" cy="104760"/>
                <a:chOff x="1471320" y="6248880"/>
                <a:chExt cx="173520" cy="104760"/>
              </a:xfrm>
            </p:grpSpPr>
            <p:sp>
              <p:nvSpPr>
                <p:cNvPr id="1164" name=""/>
                <p:cNvSpPr/>
                <p:nvPr/>
              </p:nvSpPr>
              <p:spPr>
                <a:xfrm rot="21111000">
                  <a:off x="1476720" y="62658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rot="21111000">
                  <a:off x="1559520" y="62542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1456920" y="6148440"/>
                <a:ext cx="173520" cy="104760"/>
                <a:chOff x="1456920" y="6148440"/>
                <a:chExt cx="173520" cy="104760"/>
              </a:xfrm>
            </p:grpSpPr>
            <p:sp>
              <p:nvSpPr>
                <p:cNvPr id="1167" name=""/>
                <p:cNvSpPr/>
                <p:nvPr/>
              </p:nvSpPr>
              <p:spPr>
                <a:xfrm rot="21111000">
                  <a:off x="1462320" y="61653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rot="21111000">
                  <a:off x="1545120" y="61538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1523520" y="6074640"/>
                <a:ext cx="173160" cy="105120"/>
                <a:chOff x="1523520" y="6074640"/>
                <a:chExt cx="173160" cy="105120"/>
              </a:xfrm>
            </p:grpSpPr>
            <p:sp>
              <p:nvSpPr>
                <p:cNvPr id="1170" name=""/>
                <p:cNvSpPr/>
                <p:nvPr/>
              </p:nvSpPr>
              <p:spPr>
                <a:xfrm rot="21111000">
                  <a:off x="1528920" y="609156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21111000">
                  <a:off x="1611360" y="60800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1582560" y="6040440"/>
                <a:ext cx="173520" cy="105120"/>
                <a:chOff x="1582560" y="6040440"/>
                <a:chExt cx="173520" cy="105120"/>
              </a:xfrm>
            </p:grpSpPr>
            <p:sp>
              <p:nvSpPr>
                <p:cNvPr id="1173" name=""/>
                <p:cNvSpPr/>
                <p:nvPr/>
              </p:nvSpPr>
              <p:spPr>
                <a:xfrm rot="21111000">
                  <a:off x="1587960" y="60577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rot="21111000">
                  <a:off x="1670760" y="60458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1652760" y="5991840"/>
                <a:ext cx="173160" cy="105120"/>
                <a:chOff x="1652760" y="5991840"/>
                <a:chExt cx="173160" cy="105120"/>
              </a:xfrm>
            </p:grpSpPr>
            <p:sp>
              <p:nvSpPr>
                <p:cNvPr id="1176" name=""/>
                <p:cNvSpPr/>
                <p:nvPr/>
              </p:nvSpPr>
              <p:spPr>
                <a:xfrm rot="21111000">
                  <a:off x="1658160" y="60091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rot="21111000">
                  <a:off x="1740600" y="59972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1843200" y="5887800"/>
                <a:ext cx="172800" cy="104760"/>
                <a:chOff x="1843200" y="5887800"/>
                <a:chExt cx="172800" cy="104760"/>
              </a:xfrm>
            </p:grpSpPr>
            <p:sp>
              <p:nvSpPr>
                <p:cNvPr id="1179" name=""/>
                <p:cNvSpPr/>
                <p:nvPr/>
              </p:nvSpPr>
              <p:spPr>
                <a:xfrm rot="21111000">
                  <a:off x="1848600" y="590472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rot="21111000">
                  <a:off x="1931040" y="589320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1" name=""/>
              <p:cNvGrpSpPr/>
              <p:nvPr/>
            </p:nvGrpSpPr>
            <p:grpSpPr>
              <a:xfrm>
                <a:off x="773640" y="5955840"/>
                <a:ext cx="172800" cy="105120"/>
                <a:chOff x="773640" y="5955840"/>
                <a:chExt cx="172800" cy="105120"/>
              </a:xfrm>
            </p:grpSpPr>
            <p:sp>
              <p:nvSpPr>
                <p:cNvPr id="1182" name=""/>
                <p:cNvSpPr/>
                <p:nvPr/>
              </p:nvSpPr>
              <p:spPr>
                <a:xfrm rot="21111000">
                  <a:off x="779040" y="5972760"/>
                  <a:ext cx="7776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rot="21111000">
                  <a:off x="861480" y="596124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554400" y="6038640"/>
                <a:ext cx="172800" cy="104760"/>
                <a:chOff x="554400" y="6038640"/>
                <a:chExt cx="172800" cy="104760"/>
              </a:xfrm>
            </p:grpSpPr>
            <p:sp>
              <p:nvSpPr>
                <p:cNvPr id="1185" name=""/>
                <p:cNvSpPr/>
                <p:nvPr/>
              </p:nvSpPr>
              <p:spPr>
                <a:xfrm rot="21111000">
                  <a:off x="559800" y="605556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rot="21111000">
                  <a:off x="642240" y="604404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394560" y="6087240"/>
                <a:ext cx="173520" cy="104760"/>
                <a:chOff x="394560" y="6087240"/>
                <a:chExt cx="173520" cy="104760"/>
              </a:xfrm>
            </p:grpSpPr>
            <p:sp>
              <p:nvSpPr>
                <p:cNvPr id="1188" name=""/>
                <p:cNvSpPr/>
                <p:nvPr/>
              </p:nvSpPr>
              <p:spPr>
                <a:xfrm rot="21111000">
                  <a:off x="399960" y="61041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 rot="21111000">
                  <a:off x="482760" y="60926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380160" y="5986440"/>
                <a:ext cx="173520" cy="105120"/>
                <a:chOff x="380160" y="5986440"/>
                <a:chExt cx="173520" cy="105120"/>
              </a:xfrm>
            </p:grpSpPr>
            <p:sp>
              <p:nvSpPr>
                <p:cNvPr id="1191" name=""/>
                <p:cNvSpPr/>
                <p:nvPr/>
              </p:nvSpPr>
              <p:spPr>
                <a:xfrm rot="21111000">
                  <a:off x="385560" y="60037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 rot="21111000">
                  <a:off x="468360" y="59918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446760" y="5913000"/>
                <a:ext cx="172800" cy="104760"/>
                <a:chOff x="446760" y="5913000"/>
                <a:chExt cx="172800" cy="104760"/>
              </a:xfrm>
            </p:grpSpPr>
            <p:sp>
              <p:nvSpPr>
                <p:cNvPr id="1194" name=""/>
                <p:cNvSpPr/>
                <p:nvPr/>
              </p:nvSpPr>
              <p:spPr>
                <a:xfrm rot="21111000">
                  <a:off x="452160" y="592992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 rot="21111000">
                  <a:off x="534600" y="591840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505800" y="5878800"/>
                <a:ext cx="173520" cy="104760"/>
                <a:chOff x="505800" y="5878800"/>
                <a:chExt cx="173520" cy="104760"/>
              </a:xfrm>
            </p:grpSpPr>
            <p:sp>
              <p:nvSpPr>
                <p:cNvPr id="1197" name=""/>
                <p:cNvSpPr/>
                <p:nvPr/>
              </p:nvSpPr>
              <p:spPr>
                <a:xfrm rot="21111000">
                  <a:off x="511200" y="58957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rot="21111000">
                  <a:off x="594000" y="58842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9" name=""/>
              <p:cNvGrpSpPr/>
              <p:nvPr/>
            </p:nvGrpSpPr>
            <p:grpSpPr>
              <a:xfrm>
                <a:off x="576000" y="5830200"/>
                <a:ext cx="173520" cy="104760"/>
                <a:chOff x="576000" y="5830200"/>
                <a:chExt cx="173520" cy="104760"/>
              </a:xfrm>
            </p:grpSpPr>
            <p:sp>
              <p:nvSpPr>
                <p:cNvPr id="1200" name=""/>
                <p:cNvSpPr/>
                <p:nvPr/>
              </p:nvSpPr>
              <p:spPr>
                <a:xfrm rot="21111000">
                  <a:off x="581400" y="58471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 rot="21111000">
                  <a:off x="664200" y="58356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2" name=""/>
              <p:cNvGrpSpPr/>
              <p:nvPr/>
            </p:nvGrpSpPr>
            <p:grpSpPr>
              <a:xfrm>
                <a:off x="766080" y="5725800"/>
                <a:ext cx="173520" cy="105120"/>
                <a:chOff x="766080" y="5725800"/>
                <a:chExt cx="173520" cy="105120"/>
              </a:xfrm>
            </p:grpSpPr>
            <p:sp>
              <p:nvSpPr>
                <p:cNvPr id="1203" name=""/>
                <p:cNvSpPr/>
                <p:nvPr/>
              </p:nvSpPr>
              <p:spPr>
                <a:xfrm rot="21111000">
                  <a:off x="771480" y="574272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rot="21111000">
                  <a:off x="854280" y="57312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24600" y="6660360"/>
                <a:ext cx="378720" cy="171360"/>
                <a:chOff x="624600" y="6660360"/>
                <a:chExt cx="378720" cy="171360"/>
              </a:xfrm>
            </p:grpSpPr>
            <p:sp>
              <p:nvSpPr>
                <p:cNvPr id="1206" name=""/>
                <p:cNvSpPr/>
                <p:nvPr/>
              </p:nvSpPr>
              <p:spPr>
                <a:xfrm flipH="1" flipV="1" rot="21111000">
                  <a:off x="821520" y="6672240"/>
                  <a:ext cx="173880" cy="12096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 flipH="1" flipV="1" rot="21111000">
                  <a:off x="630720" y="6716520"/>
                  <a:ext cx="179640" cy="1026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405360" y="6743160"/>
                <a:ext cx="378720" cy="171360"/>
                <a:chOff x="405360" y="6743160"/>
                <a:chExt cx="378720" cy="171360"/>
              </a:xfrm>
            </p:grpSpPr>
            <p:sp>
              <p:nvSpPr>
                <p:cNvPr id="1209" name=""/>
                <p:cNvSpPr/>
                <p:nvPr/>
              </p:nvSpPr>
              <p:spPr>
                <a:xfrm flipH="1" flipV="1" rot="21111000">
                  <a:off x="602280" y="6755040"/>
                  <a:ext cx="173880" cy="12096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 flipH="1" flipV="1" rot="21111000">
                  <a:off x="411480" y="6799320"/>
                  <a:ext cx="179640" cy="1026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426960" y="6534360"/>
                <a:ext cx="378720" cy="171000"/>
                <a:chOff x="426960" y="6534360"/>
                <a:chExt cx="378720" cy="171000"/>
              </a:xfrm>
            </p:grpSpPr>
            <p:sp>
              <p:nvSpPr>
                <p:cNvPr id="1212" name=""/>
                <p:cNvSpPr/>
                <p:nvPr/>
              </p:nvSpPr>
              <p:spPr>
                <a:xfrm flipH="1" flipV="1" rot="21111000">
                  <a:off x="623880" y="6545880"/>
                  <a:ext cx="173880" cy="1206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 flipH="1" flipV="1" rot="21111000">
                  <a:off x="433080" y="6590880"/>
                  <a:ext cx="179640" cy="1022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4" name=""/>
              <p:cNvGrpSpPr/>
              <p:nvPr/>
            </p:nvGrpSpPr>
            <p:grpSpPr>
              <a:xfrm>
                <a:off x="617400" y="6430320"/>
                <a:ext cx="378720" cy="171360"/>
                <a:chOff x="617400" y="6430320"/>
                <a:chExt cx="378720" cy="171360"/>
              </a:xfrm>
            </p:grpSpPr>
            <p:sp>
              <p:nvSpPr>
                <p:cNvPr id="1215" name=""/>
                <p:cNvSpPr/>
                <p:nvPr/>
              </p:nvSpPr>
              <p:spPr>
                <a:xfrm flipH="1" flipV="1" rot="21111000">
                  <a:off x="814320" y="6442200"/>
                  <a:ext cx="173880" cy="12096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 flipH="1" flipV="1" rot="21111000">
                  <a:off x="623520" y="6486480"/>
                  <a:ext cx="179640" cy="1026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1692360" y="5999040"/>
                <a:ext cx="173160" cy="104760"/>
                <a:chOff x="1692360" y="5999040"/>
                <a:chExt cx="173160" cy="104760"/>
              </a:xfrm>
            </p:grpSpPr>
            <p:sp>
              <p:nvSpPr>
                <p:cNvPr id="1218" name=""/>
                <p:cNvSpPr/>
                <p:nvPr/>
              </p:nvSpPr>
              <p:spPr>
                <a:xfrm rot="21111000">
                  <a:off x="1697760" y="60159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 rot="21111000">
                  <a:off x="1780200" y="60044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7115040" y="5355360"/>
                <a:ext cx="173520" cy="105120"/>
                <a:chOff x="7115040" y="5355360"/>
                <a:chExt cx="173520" cy="105120"/>
              </a:xfrm>
            </p:grpSpPr>
            <p:sp>
              <p:nvSpPr>
                <p:cNvPr id="1221" name=""/>
                <p:cNvSpPr/>
                <p:nvPr/>
              </p:nvSpPr>
              <p:spPr>
                <a:xfrm rot="21111000">
                  <a:off x="7120440" y="53726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 rot="21111000">
                  <a:off x="7203240" y="53607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6896160" y="5438160"/>
                <a:ext cx="173520" cy="105120"/>
                <a:chOff x="6896160" y="5438160"/>
                <a:chExt cx="173520" cy="105120"/>
              </a:xfrm>
            </p:grpSpPr>
            <p:sp>
              <p:nvSpPr>
                <p:cNvPr id="1224" name=""/>
                <p:cNvSpPr/>
                <p:nvPr/>
              </p:nvSpPr>
              <p:spPr>
                <a:xfrm rot="21111000">
                  <a:off x="6901560" y="545508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rot="21111000">
                  <a:off x="6984360" y="54435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6735960" y="5486760"/>
                <a:ext cx="173520" cy="105120"/>
                <a:chOff x="6735960" y="5486760"/>
                <a:chExt cx="173520" cy="105120"/>
              </a:xfrm>
            </p:grpSpPr>
            <p:sp>
              <p:nvSpPr>
                <p:cNvPr id="1227" name=""/>
                <p:cNvSpPr/>
                <p:nvPr/>
              </p:nvSpPr>
              <p:spPr>
                <a:xfrm rot="21111000">
                  <a:off x="6741360" y="55040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rot="21111000">
                  <a:off x="6824160" y="54921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6721560" y="5386320"/>
                <a:ext cx="173520" cy="105120"/>
                <a:chOff x="6721560" y="5386320"/>
                <a:chExt cx="173520" cy="105120"/>
              </a:xfrm>
            </p:grpSpPr>
            <p:sp>
              <p:nvSpPr>
                <p:cNvPr id="1230" name=""/>
                <p:cNvSpPr/>
                <p:nvPr/>
              </p:nvSpPr>
              <p:spPr>
                <a:xfrm rot="21111000">
                  <a:off x="6726960" y="54036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rot="21111000">
                  <a:off x="6809760" y="53917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6788160" y="5312520"/>
                <a:ext cx="173520" cy="104760"/>
                <a:chOff x="6788160" y="5312520"/>
                <a:chExt cx="173520" cy="104760"/>
              </a:xfrm>
            </p:grpSpPr>
            <p:sp>
              <p:nvSpPr>
                <p:cNvPr id="1233" name=""/>
                <p:cNvSpPr/>
                <p:nvPr/>
              </p:nvSpPr>
              <p:spPr>
                <a:xfrm rot="21111000">
                  <a:off x="6793560" y="53294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rot="21111000">
                  <a:off x="6876360" y="53179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6847560" y="5278680"/>
                <a:ext cx="173160" cy="104760"/>
                <a:chOff x="6847560" y="5278680"/>
                <a:chExt cx="173160" cy="104760"/>
              </a:xfrm>
            </p:grpSpPr>
            <p:sp>
              <p:nvSpPr>
                <p:cNvPr id="1236" name=""/>
                <p:cNvSpPr/>
                <p:nvPr/>
              </p:nvSpPr>
              <p:spPr>
                <a:xfrm rot="21111000">
                  <a:off x="6852960" y="52956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rot="21111000">
                  <a:off x="6935400" y="52840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6917400" y="5230080"/>
                <a:ext cx="173520" cy="104760"/>
                <a:chOff x="6917400" y="5230080"/>
                <a:chExt cx="173520" cy="104760"/>
              </a:xfrm>
            </p:grpSpPr>
            <p:sp>
              <p:nvSpPr>
                <p:cNvPr id="1239" name=""/>
                <p:cNvSpPr/>
                <p:nvPr/>
              </p:nvSpPr>
              <p:spPr>
                <a:xfrm rot="21111000">
                  <a:off x="6922800" y="52470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rot="21111000">
                  <a:off x="7005600" y="52354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1" name=""/>
              <p:cNvGrpSpPr/>
              <p:nvPr/>
            </p:nvGrpSpPr>
            <p:grpSpPr>
              <a:xfrm>
                <a:off x="7108200" y="5125680"/>
                <a:ext cx="172440" cy="104760"/>
                <a:chOff x="7108200" y="5125680"/>
                <a:chExt cx="172440" cy="104760"/>
              </a:xfrm>
            </p:grpSpPr>
            <p:sp>
              <p:nvSpPr>
                <p:cNvPr id="1242" name=""/>
                <p:cNvSpPr/>
                <p:nvPr/>
              </p:nvSpPr>
              <p:spPr>
                <a:xfrm rot="21111000">
                  <a:off x="7113600" y="514260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 rot="21111000">
                  <a:off x="7195680" y="513108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5771520" y="5560560"/>
                <a:ext cx="173520" cy="105480"/>
                <a:chOff x="5771520" y="5560560"/>
                <a:chExt cx="173520" cy="105480"/>
              </a:xfrm>
            </p:grpSpPr>
            <p:sp>
              <p:nvSpPr>
                <p:cNvPr id="1245" name=""/>
                <p:cNvSpPr/>
                <p:nvPr/>
              </p:nvSpPr>
              <p:spPr>
                <a:xfrm rot="21111000">
                  <a:off x="5776920" y="557784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rot="21111000">
                  <a:off x="5859720" y="55659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5552640" y="5643720"/>
                <a:ext cx="173520" cy="104760"/>
                <a:chOff x="5552640" y="5643720"/>
                <a:chExt cx="173520" cy="104760"/>
              </a:xfrm>
            </p:grpSpPr>
            <p:sp>
              <p:nvSpPr>
                <p:cNvPr id="1248" name=""/>
                <p:cNvSpPr/>
                <p:nvPr/>
              </p:nvSpPr>
              <p:spPr>
                <a:xfrm rot="21111000">
                  <a:off x="5558040" y="566064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rot="21111000">
                  <a:off x="5640840" y="56491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5393160" y="5691960"/>
                <a:ext cx="172440" cy="104760"/>
                <a:chOff x="5393160" y="5691960"/>
                <a:chExt cx="172440" cy="104760"/>
              </a:xfrm>
            </p:grpSpPr>
            <p:sp>
              <p:nvSpPr>
                <p:cNvPr id="1251" name=""/>
                <p:cNvSpPr/>
                <p:nvPr/>
              </p:nvSpPr>
              <p:spPr>
                <a:xfrm rot="21111000">
                  <a:off x="5398560" y="570888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 rot="21111000">
                  <a:off x="5480640" y="569736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5378760" y="5591520"/>
                <a:ext cx="172440" cy="104760"/>
                <a:chOff x="5378760" y="5591520"/>
                <a:chExt cx="172440" cy="104760"/>
              </a:xfrm>
            </p:grpSpPr>
            <p:sp>
              <p:nvSpPr>
                <p:cNvPr id="1254" name=""/>
                <p:cNvSpPr/>
                <p:nvPr/>
              </p:nvSpPr>
              <p:spPr>
                <a:xfrm rot="21111000">
                  <a:off x="5384160" y="560844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 rot="21111000">
                  <a:off x="5466240" y="559692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5444640" y="5517720"/>
                <a:ext cx="173520" cy="105120"/>
                <a:chOff x="5444640" y="5517720"/>
                <a:chExt cx="173520" cy="105120"/>
              </a:xfrm>
            </p:grpSpPr>
            <p:sp>
              <p:nvSpPr>
                <p:cNvPr id="1257" name=""/>
                <p:cNvSpPr/>
                <p:nvPr/>
              </p:nvSpPr>
              <p:spPr>
                <a:xfrm rot="21111000">
                  <a:off x="5450040" y="553464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 rot="21111000">
                  <a:off x="5532840" y="552312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5504400" y="5483880"/>
                <a:ext cx="172440" cy="104760"/>
                <a:chOff x="5504400" y="5483880"/>
                <a:chExt cx="172440" cy="104760"/>
              </a:xfrm>
            </p:grpSpPr>
            <p:sp>
              <p:nvSpPr>
                <p:cNvPr id="1260" name=""/>
                <p:cNvSpPr/>
                <p:nvPr/>
              </p:nvSpPr>
              <p:spPr>
                <a:xfrm rot="21111000">
                  <a:off x="5509800" y="550080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 rot="21111000">
                  <a:off x="5591880" y="548928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5573880" y="5435280"/>
                <a:ext cx="173520" cy="104760"/>
                <a:chOff x="5573880" y="5435280"/>
                <a:chExt cx="173520" cy="104760"/>
              </a:xfrm>
            </p:grpSpPr>
            <p:sp>
              <p:nvSpPr>
                <p:cNvPr id="1263" name=""/>
                <p:cNvSpPr/>
                <p:nvPr/>
              </p:nvSpPr>
              <p:spPr>
                <a:xfrm rot="21111000">
                  <a:off x="5579280" y="545220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 rot="21111000">
                  <a:off x="5662080" y="54406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5764680" y="5330880"/>
                <a:ext cx="172440" cy="105120"/>
                <a:chOff x="5764680" y="5330880"/>
                <a:chExt cx="172440" cy="105120"/>
              </a:xfrm>
            </p:grpSpPr>
            <p:sp>
              <p:nvSpPr>
                <p:cNvPr id="1266" name=""/>
                <p:cNvSpPr/>
                <p:nvPr/>
              </p:nvSpPr>
              <p:spPr>
                <a:xfrm rot="21111000">
                  <a:off x="5770080" y="5347800"/>
                  <a:ext cx="7776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 rot="21111000">
                  <a:off x="5852160" y="533628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1789560" y="5203080"/>
                <a:ext cx="1722960" cy="595800"/>
                <a:chOff x="1789560" y="5203080"/>
                <a:chExt cx="1722960" cy="595800"/>
              </a:xfrm>
            </p:grpSpPr>
            <p:grpSp>
              <p:nvGrpSpPr>
                <p:cNvPr id="1269" name=""/>
                <p:cNvGrpSpPr/>
                <p:nvPr/>
              </p:nvGrpSpPr>
              <p:grpSpPr>
                <a:xfrm>
                  <a:off x="1789560" y="5283360"/>
                  <a:ext cx="950400" cy="515520"/>
                  <a:chOff x="1789560" y="5283360"/>
                  <a:chExt cx="950400" cy="515520"/>
                </a:xfrm>
              </p:grpSpPr>
              <p:grpSp>
                <p:nvGrpSpPr>
                  <p:cNvPr id="1270" name=""/>
                  <p:cNvGrpSpPr/>
                  <p:nvPr/>
                </p:nvGrpSpPr>
                <p:grpSpPr>
                  <a:xfrm>
                    <a:off x="1789560" y="5366160"/>
                    <a:ext cx="494640" cy="432720"/>
                    <a:chOff x="1789560" y="5366160"/>
                    <a:chExt cx="494640" cy="432720"/>
                  </a:xfrm>
                </p:grpSpPr>
                <p:grpSp>
                  <p:nvGrpSpPr>
                    <p:cNvPr id="1271" name=""/>
                    <p:cNvGrpSpPr/>
                    <p:nvPr/>
                  </p:nvGrpSpPr>
                  <p:grpSpPr>
                    <a:xfrm>
                      <a:off x="2061360" y="5366160"/>
                      <a:ext cx="222840" cy="290520"/>
                      <a:chOff x="2061360" y="5366160"/>
                      <a:chExt cx="222840" cy="290520"/>
                    </a:xfrm>
                  </p:grpSpPr>
                  <p:sp>
                    <p:nvSpPr>
                      <p:cNvPr id="1272" name=""/>
                      <p:cNvSpPr/>
                      <p:nvPr/>
                    </p:nvSpPr>
                    <p:spPr>
                      <a:xfrm flipH="1" rot="20610600">
                        <a:off x="2091600" y="538380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3" name=""/>
                      <p:cNvSpPr/>
                      <p:nvPr/>
                    </p:nvSpPr>
                    <p:spPr>
                      <a:xfrm flipH="1" rot="20610600">
                        <a:off x="2102760" y="539316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74" name=""/>
                    <p:cNvGrpSpPr/>
                    <p:nvPr/>
                  </p:nvGrpSpPr>
                  <p:grpSpPr>
                    <a:xfrm>
                      <a:off x="1955520" y="5425920"/>
                      <a:ext cx="244800" cy="297000"/>
                      <a:chOff x="1955520" y="5425920"/>
                      <a:chExt cx="244800" cy="297000"/>
                    </a:xfrm>
                  </p:grpSpPr>
                  <p:sp>
                    <p:nvSpPr>
                      <p:cNvPr id="1275" name=""/>
                      <p:cNvSpPr/>
                      <p:nvPr/>
                    </p:nvSpPr>
                    <p:spPr>
                      <a:xfrm flipH="1" rot="20160000">
                        <a:off x="1997280" y="544824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6" name=""/>
                      <p:cNvSpPr/>
                      <p:nvPr/>
                    </p:nvSpPr>
                    <p:spPr>
                      <a:xfrm flipH="1" rot="20160000">
                        <a:off x="2009520" y="545940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77" name=""/>
                    <p:cNvGrpSpPr/>
                    <p:nvPr/>
                  </p:nvGrpSpPr>
                  <p:grpSpPr>
                    <a:xfrm>
                      <a:off x="1789560" y="5505120"/>
                      <a:ext cx="281520" cy="293760"/>
                      <a:chOff x="1789560" y="5505120"/>
                      <a:chExt cx="281520" cy="293760"/>
                    </a:xfrm>
                  </p:grpSpPr>
                  <p:sp>
                    <p:nvSpPr>
                      <p:cNvPr id="1278" name=""/>
                      <p:cNvSpPr/>
                      <p:nvPr/>
                    </p:nvSpPr>
                    <p:spPr>
                      <a:xfrm flipH="1" rot="19053600">
                        <a:off x="1849320" y="5528160"/>
                        <a:ext cx="16200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9" name=""/>
                      <p:cNvSpPr/>
                      <p:nvPr/>
                    </p:nvSpPr>
                    <p:spPr>
                      <a:xfrm flipH="1" rot="19053600">
                        <a:off x="1869120" y="554292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280" name=""/>
                  <p:cNvGrpSpPr/>
                  <p:nvPr/>
                </p:nvGrpSpPr>
                <p:grpSpPr>
                  <a:xfrm>
                    <a:off x="2247840" y="5283360"/>
                    <a:ext cx="492120" cy="309240"/>
                    <a:chOff x="2247840" y="5283360"/>
                    <a:chExt cx="492120" cy="309240"/>
                  </a:xfrm>
                </p:grpSpPr>
                <p:grpSp>
                  <p:nvGrpSpPr>
                    <p:cNvPr id="1281" name=""/>
                    <p:cNvGrpSpPr/>
                    <p:nvPr/>
                  </p:nvGrpSpPr>
                  <p:grpSpPr>
                    <a:xfrm>
                      <a:off x="2247840" y="5283360"/>
                      <a:ext cx="197280" cy="272160"/>
                      <a:chOff x="2247840" y="5283360"/>
                      <a:chExt cx="197280" cy="272160"/>
                    </a:xfrm>
                  </p:grpSpPr>
                  <p:sp>
                    <p:nvSpPr>
                      <p:cNvPr id="1282" name=""/>
                      <p:cNvSpPr/>
                      <p:nvPr/>
                    </p:nvSpPr>
                    <p:spPr>
                      <a:xfrm rot="21055800">
                        <a:off x="2265480" y="529452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3" name=""/>
                      <p:cNvSpPr/>
                      <p:nvPr/>
                    </p:nvSpPr>
                    <p:spPr>
                      <a:xfrm rot="21055800">
                        <a:off x="2316600" y="529524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84" name=""/>
                    <p:cNvGrpSpPr/>
                    <p:nvPr/>
                  </p:nvGrpSpPr>
                  <p:grpSpPr>
                    <a:xfrm>
                      <a:off x="2375640" y="5310000"/>
                      <a:ext cx="168120" cy="259560"/>
                      <a:chOff x="2375640" y="5310000"/>
                      <a:chExt cx="168120" cy="259560"/>
                    </a:xfrm>
                  </p:grpSpPr>
                  <p:sp>
                    <p:nvSpPr>
                      <p:cNvPr id="1285" name=""/>
                      <p:cNvSpPr/>
                      <p:nvPr/>
                    </p:nvSpPr>
                    <p:spPr>
                      <a:xfrm rot="21506400">
                        <a:off x="2378520" y="5311800"/>
                        <a:ext cx="16164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6" name=""/>
                      <p:cNvSpPr/>
                      <p:nvPr/>
                    </p:nvSpPr>
                    <p:spPr>
                      <a:xfrm rot="21506400">
                        <a:off x="2428920" y="531468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87" name=""/>
                    <p:cNvGrpSpPr/>
                    <p:nvPr/>
                  </p:nvGrpSpPr>
                  <p:grpSpPr>
                    <a:xfrm>
                      <a:off x="2515680" y="5301720"/>
                      <a:ext cx="224280" cy="290880"/>
                      <a:chOff x="2515680" y="5301720"/>
                      <a:chExt cx="224280" cy="290880"/>
                    </a:xfrm>
                  </p:grpSpPr>
                  <p:sp>
                    <p:nvSpPr>
                      <p:cNvPr id="1288" name=""/>
                      <p:cNvSpPr/>
                      <p:nvPr/>
                    </p:nvSpPr>
                    <p:spPr>
                      <a:xfrm rot="1012800">
                        <a:off x="2546640" y="531972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9" name=""/>
                      <p:cNvSpPr/>
                      <p:nvPr/>
                    </p:nvSpPr>
                    <p:spPr>
                      <a:xfrm rot="1012800">
                        <a:off x="2592360" y="532944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90" name=""/>
                <p:cNvGrpSpPr/>
                <p:nvPr/>
              </p:nvGrpSpPr>
              <p:grpSpPr>
                <a:xfrm>
                  <a:off x="2525760" y="5203080"/>
                  <a:ext cx="986760" cy="392040"/>
                  <a:chOff x="2525760" y="5203080"/>
                  <a:chExt cx="986760" cy="392040"/>
                </a:xfrm>
              </p:grpSpPr>
              <p:grpSp>
                <p:nvGrpSpPr>
                  <p:cNvPr id="1291" name=""/>
                  <p:cNvGrpSpPr/>
                  <p:nvPr/>
                </p:nvGrpSpPr>
                <p:grpSpPr>
                  <a:xfrm>
                    <a:off x="3033000" y="5248800"/>
                    <a:ext cx="479520" cy="346320"/>
                    <a:chOff x="3033000" y="5248800"/>
                    <a:chExt cx="479520" cy="346320"/>
                  </a:xfrm>
                </p:grpSpPr>
                <p:grpSp>
                  <p:nvGrpSpPr>
                    <p:cNvPr id="1292" name=""/>
                    <p:cNvGrpSpPr/>
                    <p:nvPr/>
                  </p:nvGrpSpPr>
                  <p:grpSpPr>
                    <a:xfrm>
                      <a:off x="3033000" y="5248800"/>
                      <a:ext cx="162000" cy="257760"/>
                      <a:chOff x="3033000" y="5248800"/>
                      <a:chExt cx="162000" cy="257760"/>
                    </a:xfrm>
                  </p:grpSpPr>
                  <p:sp>
                    <p:nvSpPr>
                      <p:cNvPr id="1293" name=""/>
                      <p:cNvSpPr/>
                      <p:nvPr/>
                    </p:nvSpPr>
                    <p:spPr>
                      <a:xfrm rot="11400">
                        <a:off x="3033000" y="524880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4" name=""/>
                      <p:cNvSpPr/>
                      <p:nvPr/>
                    </p:nvSpPr>
                    <p:spPr>
                      <a:xfrm rot="11400">
                        <a:off x="3082320" y="525312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95" name=""/>
                    <p:cNvGrpSpPr/>
                    <p:nvPr/>
                  </p:nvGrpSpPr>
                  <p:grpSpPr>
                    <a:xfrm>
                      <a:off x="3126600" y="5274720"/>
                      <a:ext cx="191880" cy="275040"/>
                      <a:chOff x="3126600" y="5274720"/>
                      <a:chExt cx="191880" cy="275040"/>
                    </a:xfrm>
                  </p:grpSpPr>
                  <p:sp>
                    <p:nvSpPr>
                      <p:cNvPr id="1296" name=""/>
                      <p:cNvSpPr/>
                      <p:nvPr/>
                    </p:nvSpPr>
                    <p:spPr>
                      <a:xfrm rot="462000">
                        <a:off x="3141720" y="5284440"/>
                        <a:ext cx="16128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7" name=""/>
                      <p:cNvSpPr/>
                      <p:nvPr/>
                    </p:nvSpPr>
                    <p:spPr>
                      <a:xfrm rot="462000">
                        <a:off x="3190320" y="529056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98" name=""/>
                    <p:cNvGrpSpPr/>
                    <p:nvPr/>
                  </p:nvGrpSpPr>
                  <p:grpSpPr>
                    <a:xfrm>
                      <a:off x="3261240" y="5295960"/>
                      <a:ext cx="251280" cy="299160"/>
                      <a:chOff x="3261240" y="5295960"/>
                      <a:chExt cx="251280" cy="299160"/>
                    </a:xfrm>
                  </p:grpSpPr>
                  <p:sp>
                    <p:nvSpPr>
                      <p:cNvPr id="1299" name=""/>
                      <p:cNvSpPr/>
                      <p:nvPr/>
                    </p:nvSpPr>
                    <p:spPr>
                      <a:xfrm rot="1568400">
                        <a:off x="3305880" y="5319360"/>
                        <a:ext cx="162000" cy="24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0" name=""/>
                      <p:cNvSpPr/>
                      <p:nvPr/>
                    </p:nvSpPr>
                    <p:spPr>
                      <a:xfrm rot="1568400">
                        <a:off x="3348720" y="5331240"/>
                        <a:ext cx="104760" cy="253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01" name=""/>
                  <p:cNvGrpSpPr/>
                  <p:nvPr/>
                </p:nvGrpSpPr>
                <p:grpSpPr>
                  <a:xfrm>
                    <a:off x="2525760" y="5203080"/>
                    <a:ext cx="491040" cy="387360"/>
                    <a:chOff x="2525760" y="5203080"/>
                    <a:chExt cx="491040" cy="387360"/>
                  </a:xfrm>
                </p:grpSpPr>
                <p:grpSp>
                  <p:nvGrpSpPr>
                    <p:cNvPr id="1302" name=""/>
                    <p:cNvGrpSpPr/>
                    <p:nvPr/>
                  </p:nvGrpSpPr>
                  <p:grpSpPr>
                    <a:xfrm>
                      <a:off x="2826360" y="5203080"/>
                      <a:ext cx="190440" cy="274680"/>
                      <a:chOff x="2826360" y="5203080"/>
                      <a:chExt cx="190440" cy="274680"/>
                    </a:xfrm>
                  </p:grpSpPr>
                  <p:sp>
                    <p:nvSpPr>
                      <p:cNvPr id="1303" name=""/>
                      <p:cNvSpPr/>
                      <p:nvPr/>
                    </p:nvSpPr>
                    <p:spPr>
                      <a:xfrm flipH="1" rot="21166200">
                        <a:off x="2840400" y="521208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4" name=""/>
                      <p:cNvSpPr/>
                      <p:nvPr/>
                    </p:nvSpPr>
                    <p:spPr>
                      <a:xfrm flipH="1" rot="21166200">
                        <a:off x="2848680" y="521856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05" name=""/>
                    <p:cNvGrpSpPr/>
                    <p:nvPr/>
                  </p:nvGrpSpPr>
                  <p:grpSpPr>
                    <a:xfrm>
                      <a:off x="2709360" y="5244480"/>
                      <a:ext cx="217080" cy="287280"/>
                      <a:chOff x="2709360" y="5244480"/>
                      <a:chExt cx="217080" cy="287280"/>
                    </a:xfrm>
                  </p:grpSpPr>
                  <p:sp>
                    <p:nvSpPr>
                      <p:cNvPr id="1306" name=""/>
                      <p:cNvSpPr/>
                      <p:nvPr/>
                    </p:nvSpPr>
                    <p:spPr>
                      <a:xfrm flipH="1" rot="20715600">
                        <a:off x="2736720" y="5261040"/>
                        <a:ext cx="161640" cy="23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7" name=""/>
                      <p:cNvSpPr/>
                      <p:nvPr/>
                    </p:nvSpPr>
                    <p:spPr>
                      <a:xfrm flipH="1" rot="20715600">
                        <a:off x="2747160" y="526896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08" name=""/>
                    <p:cNvGrpSpPr/>
                    <p:nvPr/>
                  </p:nvGrpSpPr>
                  <p:grpSpPr>
                    <a:xfrm>
                      <a:off x="2525760" y="5290920"/>
                      <a:ext cx="266400" cy="299520"/>
                      <a:chOff x="2525760" y="5290920"/>
                      <a:chExt cx="266400" cy="299520"/>
                    </a:xfrm>
                  </p:grpSpPr>
                  <p:sp>
                    <p:nvSpPr>
                      <p:cNvPr id="1309" name=""/>
                      <p:cNvSpPr/>
                      <p:nvPr/>
                    </p:nvSpPr>
                    <p:spPr>
                      <a:xfrm flipH="1" rot="19609200">
                        <a:off x="2577960" y="531540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0" name=""/>
                      <p:cNvSpPr/>
                      <p:nvPr/>
                    </p:nvSpPr>
                    <p:spPr>
                      <a:xfrm flipH="1" rot="19609200">
                        <a:off x="2593800" y="532908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311" name=""/>
              <p:cNvGrpSpPr/>
              <p:nvPr/>
            </p:nvGrpSpPr>
            <p:grpSpPr>
              <a:xfrm>
                <a:off x="3285720" y="5151600"/>
                <a:ext cx="705960" cy="315720"/>
                <a:chOff x="3285720" y="5151600"/>
                <a:chExt cx="705960" cy="315720"/>
              </a:xfrm>
            </p:grpSpPr>
            <p:sp>
              <p:nvSpPr>
                <p:cNvPr id="1312" name=""/>
                <p:cNvSpPr/>
                <p:nvPr/>
              </p:nvSpPr>
              <p:spPr>
                <a:xfrm rot="21111000">
                  <a:off x="3299760" y="5222880"/>
                  <a:ext cx="324000" cy="22248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 rot="21111000">
                  <a:off x="3645000" y="5174280"/>
                  <a:ext cx="334800" cy="1890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4" name=""/>
              <p:cNvGrpSpPr/>
              <p:nvPr/>
            </p:nvGrpSpPr>
            <p:grpSpPr>
              <a:xfrm>
                <a:off x="6567480" y="5203080"/>
                <a:ext cx="172800" cy="104760"/>
                <a:chOff x="6567480" y="5203080"/>
                <a:chExt cx="172800" cy="104760"/>
              </a:xfrm>
            </p:grpSpPr>
            <p:sp>
              <p:nvSpPr>
                <p:cNvPr id="1315" name=""/>
                <p:cNvSpPr/>
                <p:nvPr/>
              </p:nvSpPr>
              <p:spPr>
                <a:xfrm rot="21111000">
                  <a:off x="6572880" y="522000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 rot="21111000">
                  <a:off x="6655320" y="520848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7" name=""/>
              <p:cNvGrpSpPr/>
              <p:nvPr/>
            </p:nvGrpSpPr>
            <p:grpSpPr>
              <a:xfrm>
                <a:off x="7314480" y="4955040"/>
                <a:ext cx="172800" cy="104760"/>
                <a:chOff x="7314480" y="4955040"/>
                <a:chExt cx="172800" cy="104760"/>
              </a:xfrm>
            </p:grpSpPr>
            <p:sp>
              <p:nvSpPr>
                <p:cNvPr id="1318" name=""/>
                <p:cNvSpPr/>
                <p:nvPr/>
              </p:nvSpPr>
              <p:spPr>
                <a:xfrm rot="21111000">
                  <a:off x="7319880" y="497196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rot="21111000">
                  <a:off x="7402320" y="496044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0" name=""/>
              <p:cNvGrpSpPr/>
              <p:nvPr/>
            </p:nvGrpSpPr>
            <p:grpSpPr>
              <a:xfrm>
                <a:off x="7957440" y="4785840"/>
                <a:ext cx="173160" cy="105120"/>
                <a:chOff x="7957440" y="4785840"/>
                <a:chExt cx="173160" cy="105120"/>
              </a:xfrm>
            </p:grpSpPr>
            <p:sp>
              <p:nvSpPr>
                <p:cNvPr id="1321" name=""/>
                <p:cNvSpPr/>
                <p:nvPr/>
              </p:nvSpPr>
              <p:spPr>
                <a:xfrm rot="21111000">
                  <a:off x="7962840" y="480276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rot="21111000">
                  <a:off x="8045280" y="47912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3" name=""/>
              <p:cNvGrpSpPr/>
              <p:nvPr/>
            </p:nvGrpSpPr>
            <p:grpSpPr>
              <a:xfrm>
                <a:off x="1726200" y="5716440"/>
                <a:ext cx="705960" cy="315720"/>
                <a:chOff x="1726200" y="5716440"/>
                <a:chExt cx="705960" cy="315720"/>
              </a:xfrm>
            </p:grpSpPr>
            <p:sp>
              <p:nvSpPr>
                <p:cNvPr id="1324" name=""/>
                <p:cNvSpPr/>
                <p:nvPr/>
              </p:nvSpPr>
              <p:spPr>
                <a:xfrm rot="21111000">
                  <a:off x="1740240" y="5788080"/>
                  <a:ext cx="324000" cy="22212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 rot="21111000">
                  <a:off x="2085480" y="5739120"/>
                  <a:ext cx="334800" cy="188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5681520" y="5492520"/>
                <a:ext cx="1722960" cy="595800"/>
                <a:chOff x="5681520" y="5492520"/>
                <a:chExt cx="1722960" cy="595800"/>
              </a:xfrm>
            </p:grpSpPr>
            <p:grpSp>
              <p:nvGrpSpPr>
                <p:cNvPr id="1327" name=""/>
                <p:cNvGrpSpPr/>
                <p:nvPr/>
              </p:nvGrpSpPr>
              <p:grpSpPr>
                <a:xfrm>
                  <a:off x="5681520" y="5572800"/>
                  <a:ext cx="950400" cy="515520"/>
                  <a:chOff x="5681520" y="5572800"/>
                  <a:chExt cx="950400" cy="515520"/>
                </a:xfrm>
              </p:grpSpPr>
              <p:grpSp>
                <p:nvGrpSpPr>
                  <p:cNvPr id="1328" name=""/>
                  <p:cNvGrpSpPr/>
                  <p:nvPr/>
                </p:nvGrpSpPr>
                <p:grpSpPr>
                  <a:xfrm>
                    <a:off x="5681520" y="5655240"/>
                    <a:ext cx="494640" cy="433080"/>
                    <a:chOff x="5681520" y="5655240"/>
                    <a:chExt cx="494640" cy="433080"/>
                  </a:xfrm>
                </p:grpSpPr>
                <p:grpSp>
                  <p:nvGrpSpPr>
                    <p:cNvPr id="1329" name=""/>
                    <p:cNvGrpSpPr/>
                    <p:nvPr/>
                  </p:nvGrpSpPr>
                  <p:grpSpPr>
                    <a:xfrm>
                      <a:off x="5953320" y="5655240"/>
                      <a:ext cx="222840" cy="290520"/>
                      <a:chOff x="5953320" y="5655240"/>
                      <a:chExt cx="222840" cy="290520"/>
                    </a:xfrm>
                  </p:grpSpPr>
                  <p:sp>
                    <p:nvSpPr>
                      <p:cNvPr id="1330" name=""/>
                      <p:cNvSpPr/>
                      <p:nvPr/>
                    </p:nvSpPr>
                    <p:spPr>
                      <a:xfrm flipH="1" rot="20610600">
                        <a:off x="5983560" y="567288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1" name=""/>
                      <p:cNvSpPr/>
                      <p:nvPr/>
                    </p:nvSpPr>
                    <p:spPr>
                      <a:xfrm flipH="1" rot="20610600">
                        <a:off x="5994720" y="568224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2" name=""/>
                    <p:cNvGrpSpPr/>
                    <p:nvPr/>
                  </p:nvGrpSpPr>
                  <p:grpSpPr>
                    <a:xfrm>
                      <a:off x="5847480" y="5715000"/>
                      <a:ext cx="244800" cy="297000"/>
                      <a:chOff x="5847480" y="5715000"/>
                      <a:chExt cx="244800" cy="297000"/>
                    </a:xfrm>
                  </p:grpSpPr>
                  <p:sp>
                    <p:nvSpPr>
                      <p:cNvPr id="1333" name=""/>
                      <p:cNvSpPr/>
                      <p:nvPr/>
                    </p:nvSpPr>
                    <p:spPr>
                      <a:xfrm flipH="1" rot="20160000">
                        <a:off x="5889240" y="573732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4" name=""/>
                      <p:cNvSpPr/>
                      <p:nvPr/>
                    </p:nvSpPr>
                    <p:spPr>
                      <a:xfrm flipH="1" rot="20160000">
                        <a:off x="5901480" y="574848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5" name=""/>
                    <p:cNvGrpSpPr/>
                    <p:nvPr/>
                  </p:nvGrpSpPr>
                  <p:grpSpPr>
                    <a:xfrm>
                      <a:off x="5681520" y="5794200"/>
                      <a:ext cx="281520" cy="294120"/>
                      <a:chOff x="5681520" y="5794200"/>
                      <a:chExt cx="281520" cy="294120"/>
                    </a:xfrm>
                  </p:grpSpPr>
                  <p:sp>
                    <p:nvSpPr>
                      <p:cNvPr id="1336" name=""/>
                      <p:cNvSpPr/>
                      <p:nvPr/>
                    </p:nvSpPr>
                    <p:spPr>
                      <a:xfrm flipH="1" rot="19053600">
                        <a:off x="5741280" y="5817240"/>
                        <a:ext cx="16200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7" name=""/>
                      <p:cNvSpPr/>
                      <p:nvPr/>
                    </p:nvSpPr>
                    <p:spPr>
                      <a:xfrm flipH="1" rot="19053600">
                        <a:off x="5761080" y="583236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38" name=""/>
                  <p:cNvGrpSpPr/>
                  <p:nvPr/>
                </p:nvGrpSpPr>
                <p:grpSpPr>
                  <a:xfrm>
                    <a:off x="6139800" y="5572800"/>
                    <a:ext cx="492120" cy="308880"/>
                    <a:chOff x="6139800" y="5572800"/>
                    <a:chExt cx="492120" cy="308880"/>
                  </a:xfrm>
                </p:grpSpPr>
                <p:grpSp>
                  <p:nvGrpSpPr>
                    <p:cNvPr id="1339" name=""/>
                    <p:cNvGrpSpPr/>
                    <p:nvPr/>
                  </p:nvGrpSpPr>
                  <p:grpSpPr>
                    <a:xfrm>
                      <a:off x="6139800" y="5572800"/>
                      <a:ext cx="197280" cy="271800"/>
                      <a:chOff x="6139800" y="5572800"/>
                      <a:chExt cx="197280" cy="271800"/>
                    </a:xfrm>
                  </p:grpSpPr>
                  <p:sp>
                    <p:nvSpPr>
                      <p:cNvPr id="1340" name=""/>
                      <p:cNvSpPr/>
                      <p:nvPr/>
                    </p:nvSpPr>
                    <p:spPr>
                      <a:xfrm rot="21055800">
                        <a:off x="6157440" y="558396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1" name=""/>
                      <p:cNvSpPr/>
                      <p:nvPr/>
                    </p:nvSpPr>
                    <p:spPr>
                      <a:xfrm rot="21055800">
                        <a:off x="6208560" y="558432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42" name=""/>
                    <p:cNvGrpSpPr/>
                    <p:nvPr/>
                  </p:nvGrpSpPr>
                  <p:grpSpPr>
                    <a:xfrm>
                      <a:off x="6267600" y="5599440"/>
                      <a:ext cx="168120" cy="259200"/>
                      <a:chOff x="6267600" y="5599440"/>
                      <a:chExt cx="168120" cy="259200"/>
                    </a:xfrm>
                  </p:grpSpPr>
                  <p:sp>
                    <p:nvSpPr>
                      <p:cNvPr id="1343" name=""/>
                      <p:cNvSpPr/>
                      <p:nvPr/>
                    </p:nvSpPr>
                    <p:spPr>
                      <a:xfrm rot="21506400">
                        <a:off x="6270480" y="5601240"/>
                        <a:ext cx="16164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4" name=""/>
                      <p:cNvSpPr/>
                      <p:nvPr/>
                    </p:nvSpPr>
                    <p:spPr>
                      <a:xfrm rot="21506400">
                        <a:off x="6320880" y="560376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45" name=""/>
                    <p:cNvGrpSpPr/>
                    <p:nvPr/>
                  </p:nvGrpSpPr>
                  <p:grpSpPr>
                    <a:xfrm>
                      <a:off x="6407640" y="5591160"/>
                      <a:ext cx="224280" cy="290520"/>
                      <a:chOff x="6407640" y="5591160"/>
                      <a:chExt cx="224280" cy="290520"/>
                    </a:xfrm>
                  </p:grpSpPr>
                  <p:sp>
                    <p:nvSpPr>
                      <p:cNvPr id="1346" name=""/>
                      <p:cNvSpPr/>
                      <p:nvPr/>
                    </p:nvSpPr>
                    <p:spPr>
                      <a:xfrm rot="1012800">
                        <a:off x="6438600" y="560916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7" name=""/>
                      <p:cNvSpPr/>
                      <p:nvPr/>
                    </p:nvSpPr>
                    <p:spPr>
                      <a:xfrm rot="1012800">
                        <a:off x="6484320" y="561852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348" name=""/>
                <p:cNvGrpSpPr/>
                <p:nvPr/>
              </p:nvGrpSpPr>
              <p:grpSpPr>
                <a:xfrm>
                  <a:off x="6417720" y="5492520"/>
                  <a:ext cx="986760" cy="392040"/>
                  <a:chOff x="6417720" y="5492520"/>
                  <a:chExt cx="986760" cy="392040"/>
                </a:xfrm>
              </p:grpSpPr>
              <p:grpSp>
                <p:nvGrpSpPr>
                  <p:cNvPr id="1349" name=""/>
                  <p:cNvGrpSpPr/>
                  <p:nvPr/>
                </p:nvGrpSpPr>
                <p:grpSpPr>
                  <a:xfrm>
                    <a:off x="6924960" y="5538240"/>
                    <a:ext cx="479520" cy="346320"/>
                    <a:chOff x="6924960" y="5538240"/>
                    <a:chExt cx="479520" cy="346320"/>
                  </a:xfrm>
                </p:grpSpPr>
                <p:grpSp>
                  <p:nvGrpSpPr>
                    <p:cNvPr id="1350" name=""/>
                    <p:cNvGrpSpPr/>
                    <p:nvPr/>
                  </p:nvGrpSpPr>
                  <p:grpSpPr>
                    <a:xfrm>
                      <a:off x="6924960" y="5538240"/>
                      <a:ext cx="162000" cy="257760"/>
                      <a:chOff x="6924960" y="5538240"/>
                      <a:chExt cx="162000" cy="257760"/>
                    </a:xfrm>
                  </p:grpSpPr>
                  <p:sp>
                    <p:nvSpPr>
                      <p:cNvPr id="1351" name=""/>
                      <p:cNvSpPr/>
                      <p:nvPr/>
                    </p:nvSpPr>
                    <p:spPr>
                      <a:xfrm rot="11400">
                        <a:off x="6924960" y="553824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2" name=""/>
                      <p:cNvSpPr/>
                      <p:nvPr/>
                    </p:nvSpPr>
                    <p:spPr>
                      <a:xfrm rot="11400">
                        <a:off x="6974280" y="554256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53" name=""/>
                    <p:cNvGrpSpPr/>
                    <p:nvPr/>
                  </p:nvGrpSpPr>
                  <p:grpSpPr>
                    <a:xfrm>
                      <a:off x="7018560" y="5563800"/>
                      <a:ext cx="191880" cy="275040"/>
                      <a:chOff x="7018560" y="5563800"/>
                      <a:chExt cx="191880" cy="275040"/>
                    </a:xfrm>
                  </p:grpSpPr>
                  <p:sp>
                    <p:nvSpPr>
                      <p:cNvPr id="1354" name=""/>
                      <p:cNvSpPr/>
                      <p:nvPr/>
                    </p:nvSpPr>
                    <p:spPr>
                      <a:xfrm rot="462000">
                        <a:off x="7033680" y="5573520"/>
                        <a:ext cx="16128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5" name=""/>
                      <p:cNvSpPr/>
                      <p:nvPr/>
                    </p:nvSpPr>
                    <p:spPr>
                      <a:xfrm rot="462000">
                        <a:off x="7082280" y="557964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56" name=""/>
                    <p:cNvGrpSpPr/>
                    <p:nvPr/>
                  </p:nvGrpSpPr>
                  <p:grpSpPr>
                    <a:xfrm>
                      <a:off x="7153200" y="5585400"/>
                      <a:ext cx="251280" cy="299160"/>
                      <a:chOff x="7153200" y="5585400"/>
                      <a:chExt cx="251280" cy="299160"/>
                    </a:xfrm>
                  </p:grpSpPr>
                  <p:sp>
                    <p:nvSpPr>
                      <p:cNvPr id="1357" name=""/>
                      <p:cNvSpPr/>
                      <p:nvPr/>
                    </p:nvSpPr>
                    <p:spPr>
                      <a:xfrm rot="1568400">
                        <a:off x="7197840" y="5608800"/>
                        <a:ext cx="162000" cy="24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8" name=""/>
                      <p:cNvSpPr/>
                      <p:nvPr/>
                    </p:nvSpPr>
                    <p:spPr>
                      <a:xfrm rot="1568400">
                        <a:off x="7240680" y="5620680"/>
                        <a:ext cx="104760" cy="253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59" name=""/>
                  <p:cNvGrpSpPr/>
                  <p:nvPr/>
                </p:nvGrpSpPr>
                <p:grpSpPr>
                  <a:xfrm>
                    <a:off x="6417720" y="5492520"/>
                    <a:ext cx="491040" cy="387000"/>
                    <a:chOff x="6417720" y="5492520"/>
                    <a:chExt cx="491040" cy="387000"/>
                  </a:xfrm>
                </p:grpSpPr>
                <p:grpSp>
                  <p:nvGrpSpPr>
                    <p:cNvPr id="1360" name=""/>
                    <p:cNvGrpSpPr/>
                    <p:nvPr/>
                  </p:nvGrpSpPr>
                  <p:grpSpPr>
                    <a:xfrm>
                      <a:off x="6718320" y="5492520"/>
                      <a:ext cx="190440" cy="274680"/>
                      <a:chOff x="6718320" y="5492520"/>
                      <a:chExt cx="190440" cy="274680"/>
                    </a:xfrm>
                  </p:grpSpPr>
                  <p:sp>
                    <p:nvSpPr>
                      <p:cNvPr id="1361" name=""/>
                      <p:cNvSpPr/>
                      <p:nvPr/>
                    </p:nvSpPr>
                    <p:spPr>
                      <a:xfrm flipH="1" rot="21166200">
                        <a:off x="6732360" y="550152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2" name=""/>
                      <p:cNvSpPr/>
                      <p:nvPr/>
                    </p:nvSpPr>
                    <p:spPr>
                      <a:xfrm flipH="1" rot="21166200">
                        <a:off x="6740640" y="550800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63" name=""/>
                    <p:cNvGrpSpPr/>
                    <p:nvPr/>
                  </p:nvGrpSpPr>
                  <p:grpSpPr>
                    <a:xfrm>
                      <a:off x="6601320" y="5533920"/>
                      <a:ext cx="217080" cy="287280"/>
                      <a:chOff x="6601320" y="5533920"/>
                      <a:chExt cx="217080" cy="287280"/>
                    </a:xfrm>
                  </p:grpSpPr>
                  <p:sp>
                    <p:nvSpPr>
                      <p:cNvPr id="1364" name=""/>
                      <p:cNvSpPr/>
                      <p:nvPr/>
                    </p:nvSpPr>
                    <p:spPr>
                      <a:xfrm flipH="1" rot="20715600">
                        <a:off x="6628680" y="5550480"/>
                        <a:ext cx="161640" cy="23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5" name=""/>
                      <p:cNvSpPr/>
                      <p:nvPr/>
                    </p:nvSpPr>
                    <p:spPr>
                      <a:xfrm flipH="1" rot="20715600">
                        <a:off x="6639120" y="555840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66" name=""/>
                    <p:cNvGrpSpPr/>
                    <p:nvPr/>
                  </p:nvGrpSpPr>
                  <p:grpSpPr>
                    <a:xfrm>
                      <a:off x="6417720" y="5580360"/>
                      <a:ext cx="266400" cy="299160"/>
                      <a:chOff x="6417720" y="5580360"/>
                      <a:chExt cx="266400" cy="299160"/>
                    </a:xfrm>
                  </p:grpSpPr>
                  <p:sp>
                    <p:nvSpPr>
                      <p:cNvPr id="1367" name=""/>
                      <p:cNvSpPr/>
                      <p:nvPr/>
                    </p:nvSpPr>
                    <p:spPr>
                      <a:xfrm flipH="1" rot="19609200">
                        <a:off x="6469920" y="560484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8" name=""/>
                      <p:cNvSpPr/>
                      <p:nvPr/>
                    </p:nvSpPr>
                    <p:spPr>
                      <a:xfrm flipH="1" rot="19609200">
                        <a:off x="6485760" y="561816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369" name=""/>
              <p:cNvGrpSpPr/>
              <p:nvPr/>
            </p:nvGrpSpPr>
            <p:grpSpPr>
              <a:xfrm>
                <a:off x="4710240" y="5511960"/>
                <a:ext cx="705960" cy="315720"/>
                <a:chOff x="4710240" y="5511960"/>
                <a:chExt cx="705960" cy="315720"/>
              </a:xfrm>
            </p:grpSpPr>
            <p:sp>
              <p:nvSpPr>
                <p:cNvPr id="1370" name=""/>
                <p:cNvSpPr/>
                <p:nvPr/>
              </p:nvSpPr>
              <p:spPr>
                <a:xfrm rot="21111000">
                  <a:off x="4724280" y="5583600"/>
                  <a:ext cx="324000" cy="22212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rot="21111000">
                  <a:off x="5069520" y="5534640"/>
                  <a:ext cx="334800" cy="188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2" name=""/>
              <p:cNvGrpSpPr/>
              <p:nvPr/>
            </p:nvGrpSpPr>
            <p:grpSpPr>
              <a:xfrm>
                <a:off x="3895920" y="5706000"/>
                <a:ext cx="196920" cy="109440"/>
                <a:chOff x="3895920" y="5706000"/>
                <a:chExt cx="196920" cy="109440"/>
              </a:xfrm>
            </p:grpSpPr>
            <p:sp>
              <p:nvSpPr>
                <p:cNvPr id="1373" name=""/>
                <p:cNvSpPr/>
                <p:nvPr/>
              </p:nvSpPr>
              <p:spPr>
                <a:xfrm rot="21111000">
                  <a:off x="3901320" y="5725440"/>
                  <a:ext cx="88920" cy="8388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rot="21111000">
                  <a:off x="3996000" y="5711760"/>
                  <a:ext cx="92160" cy="7128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5" name=""/>
              <p:cNvGrpSpPr/>
              <p:nvPr/>
            </p:nvGrpSpPr>
            <p:grpSpPr>
              <a:xfrm>
                <a:off x="3677040" y="5788800"/>
                <a:ext cx="196560" cy="109440"/>
                <a:chOff x="3677040" y="5788800"/>
                <a:chExt cx="196560" cy="109440"/>
              </a:xfrm>
            </p:grpSpPr>
            <p:sp>
              <p:nvSpPr>
                <p:cNvPr id="1376" name=""/>
                <p:cNvSpPr/>
                <p:nvPr/>
              </p:nvSpPr>
              <p:spPr>
                <a:xfrm rot="21111000">
                  <a:off x="3682440" y="5808240"/>
                  <a:ext cx="88920" cy="8388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 rot="21111000">
                  <a:off x="3776760" y="5794560"/>
                  <a:ext cx="92160" cy="7128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8" name=""/>
              <p:cNvGrpSpPr/>
              <p:nvPr/>
            </p:nvGrpSpPr>
            <p:grpSpPr>
              <a:xfrm>
                <a:off x="2784240" y="5919840"/>
                <a:ext cx="172800" cy="104760"/>
                <a:chOff x="2784240" y="5919840"/>
                <a:chExt cx="172800" cy="104760"/>
              </a:xfrm>
            </p:grpSpPr>
            <p:sp>
              <p:nvSpPr>
                <p:cNvPr id="1379" name=""/>
                <p:cNvSpPr/>
                <p:nvPr/>
              </p:nvSpPr>
              <p:spPr>
                <a:xfrm rot="21111000">
                  <a:off x="2789640" y="593676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 rot="21111000">
                  <a:off x="2872080" y="592524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1" name=""/>
              <p:cNvGrpSpPr/>
              <p:nvPr/>
            </p:nvGrpSpPr>
            <p:grpSpPr>
              <a:xfrm>
                <a:off x="2769840" y="5819400"/>
                <a:ext cx="172800" cy="104760"/>
                <a:chOff x="2769840" y="5819400"/>
                <a:chExt cx="172800" cy="104760"/>
              </a:xfrm>
            </p:grpSpPr>
            <p:sp>
              <p:nvSpPr>
                <p:cNvPr id="1382" name=""/>
                <p:cNvSpPr/>
                <p:nvPr/>
              </p:nvSpPr>
              <p:spPr>
                <a:xfrm rot="21111000">
                  <a:off x="2775240" y="583632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rot="21111000">
                  <a:off x="2857680" y="582480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2836440" y="5745240"/>
                <a:ext cx="172800" cy="105120"/>
                <a:chOff x="2836440" y="5745240"/>
                <a:chExt cx="172800" cy="105120"/>
              </a:xfrm>
            </p:grpSpPr>
            <p:sp>
              <p:nvSpPr>
                <p:cNvPr id="1385" name=""/>
                <p:cNvSpPr/>
                <p:nvPr/>
              </p:nvSpPr>
              <p:spPr>
                <a:xfrm rot="21111000">
                  <a:off x="2841840" y="576252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rot="21111000">
                  <a:off x="2924280" y="575064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3628080" y="5628960"/>
                <a:ext cx="197640" cy="109800"/>
                <a:chOff x="3628080" y="5628960"/>
                <a:chExt cx="197640" cy="109800"/>
              </a:xfrm>
            </p:grpSpPr>
            <p:sp>
              <p:nvSpPr>
                <p:cNvPr id="1388" name=""/>
                <p:cNvSpPr/>
                <p:nvPr/>
              </p:nvSpPr>
              <p:spPr>
                <a:xfrm rot="21111000">
                  <a:off x="3633480" y="5648400"/>
                  <a:ext cx="89280" cy="842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rot="21111000">
                  <a:off x="3728520" y="5634720"/>
                  <a:ext cx="92160" cy="71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0" name=""/>
              <p:cNvGrpSpPr/>
              <p:nvPr/>
            </p:nvGrpSpPr>
            <p:grpSpPr>
              <a:xfrm>
                <a:off x="3698280" y="5580360"/>
                <a:ext cx="197280" cy="109800"/>
                <a:chOff x="3698280" y="5580360"/>
                <a:chExt cx="197280" cy="109800"/>
              </a:xfrm>
            </p:grpSpPr>
            <p:sp>
              <p:nvSpPr>
                <p:cNvPr id="1391" name=""/>
                <p:cNvSpPr/>
                <p:nvPr/>
              </p:nvSpPr>
              <p:spPr>
                <a:xfrm rot="21111000">
                  <a:off x="3703680" y="5599800"/>
                  <a:ext cx="88920" cy="842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rot="21111000">
                  <a:off x="3798360" y="5586120"/>
                  <a:ext cx="92160" cy="7164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3" name=""/>
              <p:cNvGrpSpPr/>
              <p:nvPr/>
            </p:nvGrpSpPr>
            <p:grpSpPr>
              <a:xfrm>
                <a:off x="3888720" y="5476320"/>
                <a:ext cx="196920" cy="109440"/>
                <a:chOff x="3888720" y="5476320"/>
                <a:chExt cx="196920" cy="109440"/>
              </a:xfrm>
            </p:grpSpPr>
            <p:sp>
              <p:nvSpPr>
                <p:cNvPr id="1394" name=""/>
                <p:cNvSpPr/>
                <p:nvPr/>
              </p:nvSpPr>
              <p:spPr>
                <a:xfrm rot="21111000">
                  <a:off x="3894120" y="5495760"/>
                  <a:ext cx="89280" cy="8388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rot="21111000">
                  <a:off x="3988800" y="5482080"/>
                  <a:ext cx="92160" cy="7128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6" name=""/>
              <p:cNvGrpSpPr/>
              <p:nvPr/>
            </p:nvGrpSpPr>
            <p:grpSpPr>
              <a:xfrm>
                <a:off x="8875080" y="4744080"/>
                <a:ext cx="173520" cy="105480"/>
                <a:chOff x="8875080" y="4744080"/>
                <a:chExt cx="173520" cy="105480"/>
              </a:xfrm>
            </p:grpSpPr>
            <p:sp>
              <p:nvSpPr>
                <p:cNvPr id="1397" name=""/>
                <p:cNvSpPr/>
                <p:nvPr/>
              </p:nvSpPr>
              <p:spPr>
                <a:xfrm rot="21111000">
                  <a:off x="8880480" y="476136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 rot="21111000">
                  <a:off x="8963280" y="47494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"/>
              <p:cNvGrpSpPr/>
              <p:nvPr/>
            </p:nvGrpSpPr>
            <p:grpSpPr>
              <a:xfrm>
                <a:off x="8655840" y="4826880"/>
                <a:ext cx="173520" cy="105120"/>
                <a:chOff x="8655840" y="4826880"/>
                <a:chExt cx="173520" cy="105120"/>
              </a:xfrm>
            </p:grpSpPr>
            <p:sp>
              <p:nvSpPr>
                <p:cNvPr id="1400" name=""/>
                <p:cNvSpPr/>
                <p:nvPr/>
              </p:nvSpPr>
              <p:spPr>
                <a:xfrm rot="21111000">
                  <a:off x="8661240" y="484380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 rot="21111000">
                  <a:off x="8744040" y="48322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"/>
              <p:cNvGrpSpPr/>
              <p:nvPr/>
            </p:nvGrpSpPr>
            <p:grpSpPr>
              <a:xfrm>
                <a:off x="8496000" y="4875480"/>
                <a:ext cx="173520" cy="105120"/>
                <a:chOff x="8496000" y="4875480"/>
                <a:chExt cx="173520" cy="105120"/>
              </a:xfrm>
            </p:grpSpPr>
            <p:sp>
              <p:nvSpPr>
                <p:cNvPr id="1403" name=""/>
                <p:cNvSpPr/>
                <p:nvPr/>
              </p:nvSpPr>
              <p:spPr>
                <a:xfrm rot="21111000">
                  <a:off x="8501400" y="48927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rot="21111000">
                  <a:off x="8584200" y="488088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"/>
              <p:cNvGrpSpPr/>
              <p:nvPr/>
            </p:nvGrpSpPr>
            <p:grpSpPr>
              <a:xfrm>
                <a:off x="8481600" y="4775040"/>
                <a:ext cx="173520" cy="104760"/>
                <a:chOff x="8481600" y="4775040"/>
                <a:chExt cx="173520" cy="104760"/>
              </a:xfrm>
            </p:grpSpPr>
            <p:sp>
              <p:nvSpPr>
                <p:cNvPr id="1406" name=""/>
                <p:cNvSpPr/>
                <p:nvPr/>
              </p:nvSpPr>
              <p:spPr>
                <a:xfrm rot="21111000">
                  <a:off x="8487000" y="47919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 rot="21111000">
                  <a:off x="8569800" y="47804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"/>
              <p:cNvGrpSpPr/>
              <p:nvPr/>
            </p:nvGrpSpPr>
            <p:grpSpPr>
              <a:xfrm>
                <a:off x="8548200" y="4701240"/>
                <a:ext cx="173520" cy="105120"/>
                <a:chOff x="8548200" y="4701240"/>
                <a:chExt cx="173520" cy="105120"/>
              </a:xfrm>
            </p:grpSpPr>
            <p:sp>
              <p:nvSpPr>
                <p:cNvPr id="1409" name=""/>
                <p:cNvSpPr/>
                <p:nvPr/>
              </p:nvSpPr>
              <p:spPr>
                <a:xfrm rot="21111000">
                  <a:off x="8553600" y="471816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 rot="21111000">
                  <a:off x="8636400" y="47066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1" name=""/>
              <p:cNvGrpSpPr/>
              <p:nvPr/>
            </p:nvGrpSpPr>
            <p:grpSpPr>
              <a:xfrm>
                <a:off x="8607240" y="4667400"/>
                <a:ext cx="173520" cy="104760"/>
                <a:chOff x="8607240" y="4667400"/>
                <a:chExt cx="173520" cy="104760"/>
              </a:xfrm>
            </p:grpSpPr>
            <p:sp>
              <p:nvSpPr>
                <p:cNvPr id="1412" name=""/>
                <p:cNvSpPr/>
                <p:nvPr/>
              </p:nvSpPr>
              <p:spPr>
                <a:xfrm rot="21111000">
                  <a:off x="8612640" y="46843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 rot="21111000">
                  <a:off x="8695440" y="46728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4" name=""/>
              <p:cNvGrpSpPr/>
              <p:nvPr/>
            </p:nvGrpSpPr>
            <p:grpSpPr>
              <a:xfrm>
                <a:off x="8677440" y="4618800"/>
                <a:ext cx="173520" cy="104760"/>
                <a:chOff x="8677440" y="4618800"/>
                <a:chExt cx="173520" cy="104760"/>
              </a:xfrm>
            </p:grpSpPr>
            <p:sp>
              <p:nvSpPr>
                <p:cNvPr id="1415" name=""/>
                <p:cNvSpPr/>
                <p:nvPr/>
              </p:nvSpPr>
              <p:spPr>
                <a:xfrm rot="21111000">
                  <a:off x="8682840" y="46357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 rot="21111000">
                  <a:off x="8765640" y="46242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8867880" y="4514400"/>
                <a:ext cx="172800" cy="105120"/>
                <a:chOff x="8867880" y="4514400"/>
                <a:chExt cx="172800" cy="105120"/>
              </a:xfrm>
            </p:grpSpPr>
            <p:sp>
              <p:nvSpPr>
                <p:cNvPr id="1418" name=""/>
                <p:cNvSpPr/>
                <p:nvPr/>
              </p:nvSpPr>
              <p:spPr>
                <a:xfrm rot="21111000">
                  <a:off x="8873280" y="4531320"/>
                  <a:ext cx="7776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 rot="21111000">
                  <a:off x="8955720" y="451980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594000" y="5955840"/>
                <a:ext cx="173520" cy="105120"/>
                <a:chOff x="594000" y="5955840"/>
                <a:chExt cx="173520" cy="105120"/>
              </a:xfrm>
            </p:grpSpPr>
            <p:sp>
              <p:nvSpPr>
                <p:cNvPr id="1421" name=""/>
                <p:cNvSpPr/>
                <p:nvPr/>
              </p:nvSpPr>
              <p:spPr>
                <a:xfrm rot="21111000">
                  <a:off x="599400" y="59731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rot="21111000">
                  <a:off x="682200" y="59612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3" name=""/>
              <p:cNvGrpSpPr/>
              <p:nvPr/>
            </p:nvGrpSpPr>
            <p:grpSpPr>
              <a:xfrm>
                <a:off x="374760" y="6038640"/>
                <a:ext cx="173520" cy="104760"/>
                <a:chOff x="374760" y="6038640"/>
                <a:chExt cx="173520" cy="104760"/>
              </a:xfrm>
            </p:grpSpPr>
            <p:sp>
              <p:nvSpPr>
                <p:cNvPr id="1424" name=""/>
                <p:cNvSpPr/>
                <p:nvPr/>
              </p:nvSpPr>
              <p:spPr>
                <a:xfrm rot="21111000">
                  <a:off x="380160" y="60555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rot="21111000">
                  <a:off x="462960" y="60440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6" name=""/>
              <p:cNvGrpSpPr/>
              <p:nvPr/>
            </p:nvGrpSpPr>
            <p:grpSpPr>
              <a:xfrm>
                <a:off x="326160" y="5878800"/>
                <a:ext cx="173520" cy="105120"/>
                <a:chOff x="326160" y="5878800"/>
                <a:chExt cx="173520" cy="105120"/>
              </a:xfrm>
            </p:grpSpPr>
            <p:sp>
              <p:nvSpPr>
                <p:cNvPr id="1427" name=""/>
                <p:cNvSpPr/>
                <p:nvPr/>
              </p:nvSpPr>
              <p:spPr>
                <a:xfrm rot="21111000">
                  <a:off x="331560" y="589572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 rot="21111000">
                  <a:off x="414360" y="58842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9" name=""/>
              <p:cNvGrpSpPr/>
              <p:nvPr/>
            </p:nvGrpSpPr>
            <p:grpSpPr>
              <a:xfrm>
                <a:off x="396360" y="5830560"/>
                <a:ext cx="173520" cy="104760"/>
                <a:chOff x="396360" y="5830560"/>
                <a:chExt cx="173520" cy="104760"/>
              </a:xfrm>
            </p:grpSpPr>
            <p:sp>
              <p:nvSpPr>
                <p:cNvPr id="1430" name=""/>
                <p:cNvSpPr/>
                <p:nvPr/>
              </p:nvSpPr>
              <p:spPr>
                <a:xfrm rot="21111000">
                  <a:off x="401760" y="58474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 rot="21111000">
                  <a:off x="484560" y="58359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2" name=""/>
              <p:cNvGrpSpPr/>
              <p:nvPr/>
            </p:nvGrpSpPr>
            <p:grpSpPr>
              <a:xfrm>
                <a:off x="586440" y="5726160"/>
                <a:ext cx="173520" cy="104760"/>
                <a:chOff x="586440" y="5726160"/>
                <a:chExt cx="173520" cy="104760"/>
              </a:xfrm>
            </p:grpSpPr>
            <p:sp>
              <p:nvSpPr>
                <p:cNvPr id="1433" name=""/>
                <p:cNvSpPr/>
                <p:nvPr/>
              </p:nvSpPr>
              <p:spPr>
                <a:xfrm rot="21111000">
                  <a:off x="591840" y="574308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 rot="21111000">
                  <a:off x="674640" y="573156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5" name=""/>
              <p:cNvGrpSpPr/>
              <p:nvPr/>
            </p:nvGrpSpPr>
            <p:grpSpPr>
              <a:xfrm>
                <a:off x="1547640" y="5806800"/>
                <a:ext cx="173520" cy="104760"/>
                <a:chOff x="1547640" y="5806800"/>
                <a:chExt cx="173520" cy="104760"/>
              </a:xfrm>
            </p:grpSpPr>
            <p:sp>
              <p:nvSpPr>
                <p:cNvPr id="1436" name=""/>
                <p:cNvSpPr/>
                <p:nvPr/>
              </p:nvSpPr>
              <p:spPr>
                <a:xfrm rot="21111000">
                  <a:off x="1553040" y="58237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rot="21111000">
                  <a:off x="1635840" y="58122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1328400" y="5889240"/>
                <a:ext cx="173520" cy="104760"/>
                <a:chOff x="1328400" y="5889240"/>
                <a:chExt cx="173520" cy="104760"/>
              </a:xfrm>
            </p:grpSpPr>
            <p:sp>
              <p:nvSpPr>
                <p:cNvPr id="1439" name=""/>
                <p:cNvSpPr/>
                <p:nvPr/>
              </p:nvSpPr>
              <p:spPr>
                <a:xfrm rot="21111000">
                  <a:off x="1333800" y="590616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 rot="21111000">
                  <a:off x="1416600" y="58946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1" name=""/>
              <p:cNvGrpSpPr/>
              <p:nvPr/>
            </p:nvGrpSpPr>
            <p:grpSpPr>
              <a:xfrm>
                <a:off x="1168560" y="5937840"/>
                <a:ext cx="173520" cy="105120"/>
                <a:chOff x="1168560" y="5937840"/>
                <a:chExt cx="173520" cy="105120"/>
              </a:xfrm>
            </p:grpSpPr>
            <p:sp>
              <p:nvSpPr>
                <p:cNvPr id="1442" name=""/>
                <p:cNvSpPr/>
                <p:nvPr/>
              </p:nvSpPr>
              <p:spPr>
                <a:xfrm rot="21111000">
                  <a:off x="1173960" y="595476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 rot="21111000">
                  <a:off x="1256760" y="59432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4" name=""/>
              <p:cNvGrpSpPr/>
              <p:nvPr/>
            </p:nvGrpSpPr>
            <p:grpSpPr>
              <a:xfrm>
                <a:off x="1154160" y="5837040"/>
                <a:ext cx="173520" cy="105120"/>
                <a:chOff x="1154160" y="5837040"/>
                <a:chExt cx="173520" cy="105120"/>
              </a:xfrm>
            </p:grpSpPr>
            <p:sp>
              <p:nvSpPr>
                <p:cNvPr id="1445" name=""/>
                <p:cNvSpPr/>
                <p:nvPr/>
              </p:nvSpPr>
              <p:spPr>
                <a:xfrm rot="21111000">
                  <a:off x="1159560" y="58543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 rot="21111000">
                  <a:off x="1242360" y="584244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7" name=""/>
              <p:cNvGrpSpPr/>
              <p:nvPr/>
            </p:nvGrpSpPr>
            <p:grpSpPr>
              <a:xfrm>
                <a:off x="1220760" y="5763600"/>
                <a:ext cx="173160" cy="104760"/>
                <a:chOff x="1220760" y="5763600"/>
                <a:chExt cx="173160" cy="104760"/>
              </a:xfrm>
            </p:grpSpPr>
            <p:sp>
              <p:nvSpPr>
                <p:cNvPr id="1448" name=""/>
                <p:cNvSpPr/>
                <p:nvPr/>
              </p:nvSpPr>
              <p:spPr>
                <a:xfrm rot="21111000">
                  <a:off x="1226160" y="57805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 rot="21111000">
                  <a:off x="1308600" y="57690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0" name=""/>
              <p:cNvGrpSpPr/>
              <p:nvPr/>
            </p:nvGrpSpPr>
            <p:grpSpPr>
              <a:xfrm>
                <a:off x="1279800" y="5729400"/>
                <a:ext cx="173520" cy="104760"/>
                <a:chOff x="1279800" y="5729400"/>
                <a:chExt cx="173520" cy="104760"/>
              </a:xfrm>
            </p:grpSpPr>
            <p:sp>
              <p:nvSpPr>
                <p:cNvPr id="1451" name=""/>
                <p:cNvSpPr/>
                <p:nvPr/>
              </p:nvSpPr>
              <p:spPr>
                <a:xfrm rot="21111000">
                  <a:off x="1285200" y="5746320"/>
                  <a:ext cx="7812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 rot="21111000">
                  <a:off x="1368000" y="57348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3" name=""/>
              <p:cNvGrpSpPr/>
              <p:nvPr/>
            </p:nvGrpSpPr>
            <p:grpSpPr>
              <a:xfrm>
                <a:off x="1350000" y="5680800"/>
                <a:ext cx="173160" cy="105120"/>
                <a:chOff x="1350000" y="5680800"/>
                <a:chExt cx="173160" cy="105120"/>
              </a:xfrm>
            </p:grpSpPr>
            <p:sp>
              <p:nvSpPr>
                <p:cNvPr id="1454" name=""/>
                <p:cNvSpPr/>
                <p:nvPr/>
              </p:nvSpPr>
              <p:spPr>
                <a:xfrm rot="21111000">
                  <a:off x="1355400" y="5697720"/>
                  <a:ext cx="78120" cy="8280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 rot="21111000">
                  <a:off x="1437840" y="5686200"/>
                  <a:ext cx="8064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6" name=""/>
              <p:cNvGrpSpPr/>
              <p:nvPr/>
            </p:nvGrpSpPr>
            <p:grpSpPr>
              <a:xfrm>
                <a:off x="1540440" y="5576760"/>
                <a:ext cx="172800" cy="104760"/>
                <a:chOff x="1540440" y="5576760"/>
                <a:chExt cx="172800" cy="104760"/>
              </a:xfrm>
            </p:grpSpPr>
            <p:sp>
              <p:nvSpPr>
                <p:cNvPr id="1457" name=""/>
                <p:cNvSpPr/>
                <p:nvPr/>
              </p:nvSpPr>
              <p:spPr>
                <a:xfrm rot="21111000">
                  <a:off x="1545840" y="559368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 rot="21111000">
                  <a:off x="1628280" y="5582160"/>
                  <a:ext cx="80280" cy="702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9" name=""/>
              <p:cNvGrpSpPr/>
              <p:nvPr/>
            </p:nvGrpSpPr>
            <p:grpSpPr>
              <a:xfrm>
                <a:off x="1457640" y="5554440"/>
                <a:ext cx="705960" cy="315720"/>
                <a:chOff x="1457640" y="5554440"/>
                <a:chExt cx="705960" cy="315720"/>
              </a:xfrm>
            </p:grpSpPr>
            <p:sp>
              <p:nvSpPr>
                <p:cNvPr id="1460" name=""/>
                <p:cNvSpPr/>
                <p:nvPr/>
              </p:nvSpPr>
              <p:spPr>
                <a:xfrm rot="21111000">
                  <a:off x="1471680" y="5625720"/>
                  <a:ext cx="324000" cy="222480"/>
                </a:xfrm>
                <a:custGeom>
                  <a:avLst/>
                  <a:gdLst/>
                  <a:ahLst/>
                  <a:rect l="l" t="t" r="r" b="b"/>
                  <a:pathLst>
                    <a:path w="356" h="228">
                      <a:moveTo>
                        <a:pt x="17" y="157"/>
                      </a:moveTo>
                      <a:cubicBezTo>
                        <a:pt x="34" y="122"/>
                        <a:pt x="169" y="26"/>
                        <a:pt x="225" y="13"/>
                      </a:cubicBezTo>
                      <a:cubicBezTo>
                        <a:pt x="281" y="0"/>
                        <a:pt x="350" y="60"/>
                        <a:pt x="353" y="77"/>
                      </a:cubicBezTo>
                      <a:cubicBezTo>
                        <a:pt x="356" y="94"/>
                        <a:pt x="280" y="93"/>
                        <a:pt x="241" y="117"/>
                      </a:cubicBezTo>
                      <a:cubicBezTo>
                        <a:pt x="202" y="141"/>
                        <a:pt x="154" y="214"/>
                        <a:pt x="121" y="221"/>
                      </a:cubicBezTo>
                      <a:cubicBezTo>
                        <a:pt x="88" y="228"/>
                        <a:pt x="0" y="192"/>
                        <a:pt x="17" y="157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 rot="21111000">
                  <a:off x="1816920" y="5577120"/>
                  <a:ext cx="334800" cy="189000"/>
                </a:xfrm>
                <a:custGeom>
                  <a:avLst/>
                  <a:gdLst/>
                  <a:ahLst/>
                  <a:rect l="l" t="t" r="r" b="b"/>
                  <a:pathLst>
                    <a:path w="330" h="158">
                      <a:moveTo>
                        <a:pt x="67" y="19"/>
                      </a:moveTo>
                      <a:cubicBezTo>
                        <a:pt x="36" y="38"/>
                        <a:pt x="0" y="120"/>
                        <a:pt x="19" y="139"/>
                      </a:cubicBezTo>
                      <a:cubicBezTo>
                        <a:pt x="38" y="158"/>
                        <a:pt x="130" y="132"/>
                        <a:pt x="179" y="131"/>
                      </a:cubicBezTo>
                      <a:cubicBezTo>
                        <a:pt x="228" y="130"/>
                        <a:pt x="300" y="144"/>
                        <a:pt x="315" y="131"/>
                      </a:cubicBezTo>
                      <a:cubicBezTo>
                        <a:pt x="330" y="118"/>
                        <a:pt x="286" y="68"/>
                        <a:pt x="267" y="51"/>
                      </a:cubicBezTo>
                      <a:cubicBezTo>
                        <a:pt x="248" y="34"/>
                        <a:pt x="234" y="30"/>
                        <a:pt x="203" y="27"/>
                      </a:cubicBezTo>
                      <a:cubicBezTo>
                        <a:pt x="172" y="24"/>
                        <a:pt x="98" y="0"/>
                        <a:pt x="67" y="19"/>
                      </a:cubicBez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"/>
              <p:cNvGrpSpPr/>
              <p:nvPr/>
            </p:nvGrpSpPr>
            <p:grpSpPr>
              <a:xfrm>
                <a:off x="2200680" y="5913720"/>
                <a:ext cx="1722960" cy="595800"/>
                <a:chOff x="2200680" y="5913720"/>
                <a:chExt cx="1722960" cy="595800"/>
              </a:xfrm>
            </p:grpSpPr>
            <p:grpSp>
              <p:nvGrpSpPr>
                <p:cNvPr id="1463" name=""/>
                <p:cNvGrpSpPr/>
                <p:nvPr/>
              </p:nvGrpSpPr>
              <p:grpSpPr>
                <a:xfrm>
                  <a:off x="2200680" y="5994000"/>
                  <a:ext cx="950400" cy="515520"/>
                  <a:chOff x="2200680" y="5994000"/>
                  <a:chExt cx="950400" cy="515520"/>
                </a:xfrm>
              </p:grpSpPr>
              <p:grpSp>
                <p:nvGrpSpPr>
                  <p:cNvPr id="1464" name=""/>
                  <p:cNvGrpSpPr/>
                  <p:nvPr/>
                </p:nvGrpSpPr>
                <p:grpSpPr>
                  <a:xfrm>
                    <a:off x="2200680" y="6076800"/>
                    <a:ext cx="494640" cy="432720"/>
                    <a:chOff x="2200680" y="6076800"/>
                    <a:chExt cx="494640" cy="432720"/>
                  </a:xfrm>
                </p:grpSpPr>
                <p:grpSp>
                  <p:nvGrpSpPr>
                    <p:cNvPr id="1465" name=""/>
                    <p:cNvGrpSpPr/>
                    <p:nvPr/>
                  </p:nvGrpSpPr>
                  <p:grpSpPr>
                    <a:xfrm>
                      <a:off x="2472480" y="6076800"/>
                      <a:ext cx="222840" cy="290520"/>
                      <a:chOff x="2472480" y="6076800"/>
                      <a:chExt cx="222840" cy="290520"/>
                    </a:xfrm>
                  </p:grpSpPr>
                  <p:sp>
                    <p:nvSpPr>
                      <p:cNvPr id="1466" name=""/>
                      <p:cNvSpPr/>
                      <p:nvPr/>
                    </p:nvSpPr>
                    <p:spPr>
                      <a:xfrm flipH="1" rot="20610600">
                        <a:off x="2502720" y="609444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67" name=""/>
                      <p:cNvSpPr/>
                      <p:nvPr/>
                    </p:nvSpPr>
                    <p:spPr>
                      <a:xfrm flipH="1" rot="20610600">
                        <a:off x="2513880" y="610380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68" name=""/>
                    <p:cNvGrpSpPr/>
                    <p:nvPr/>
                  </p:nvGrpSpPr>
                  <p:grpSpPr>
                    <a:xfrm>
                      <a:off x="2366640" y="6136560"/>
                      <a:ext cx="244800" cy="297000"/>
                      <a:chOff x="2366640" y="6136560"/>
                      <a:chExt cx="244800" cy="297000"/>
                    </a:xfrm>
                  </p:grpSpPr>
                  <p:sp>
                    <p:nvSpPr>
                      <p:cNvPr id="1469" name=""/>
                      <p:cNvSpPr/>
                      <p:nvPr/>
                    </p:nvSpPr>
                    <p:spPr>
                      <a:xfrm flipH="1" rot="20160000">
                        <a:off x="2408400" y="615888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0" name=""/>
                      <p:cNvSpPr/>
                      <p:nvPr/>
                    </p:nvSpPr>
                    <p:spPr>
                      <a:xfrm flipH="1" rot="20160000">
                        <a:off x="2421000" y="617004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71" name=""/>
                    <p:cNvGrpSpPr/>
                    <p:nvPr/>
                  </p:nvGrpSpPr>
                  <p:grpSpPr>
                    <a:xfrm>
                      <a:off x="2200680" y="6215760"/>
                      <a:ext cx="281520" cy="293760"/>
                      <a:chOff x="2200680" y="6215760"/>
                      <a:chExt cx="281520" cy="293760"/>
                    </a:xfrm>
                  </p:grpSpPr>
                  <p:sp>
                    <p:nvSpPr>
                      <p:cNvPr id="1472" name=""/>
                      <p:cNvSpPr/>
                      <p:nvPr/>
                    </p:nvSpPr>
                    <p:spPr>
                      <a:xfrm flipH="1" rot="19053600">
                        <a:off x="2260440" y="6238800"/>
                        <a:ext cx="16200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3" name=""/>
                      <p:cNvSpPr/>
                      <p:nvPr/>
                    </p:nvSpPr>
                    <p:spPr>
                      <a:xfrm flipH="1" rot="19053600">
                        <a:off x="2280240" y="625356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474" name=""/>
                  <p:cNvGrpSpPr/>
                  <p:nvPr/>
                </p:nvGrpSpPr>
                <p:grpSpPr>
                  <a:xfrm>
                    <a:off x="2659320" y="5994000"/>
                    <a:ext cx="491760" cy="309240"/>
                    <a:chOff x="2659320" y="5994000"/>
                    <a:chExt cx="491760" cy="309240"/>
                  </a:xfrm>
                </p:grpSpPr>
                <p:grpSp>
                  <p:nvGrpSpPr>
                    <p:cNvPr id="1475" name=""/>
                    <p:cNvGrpSpPr/>
                    <p:nvPr/>
                  </p:nvGrpSpPr>
                  <p:grpSpPr>
                    <a:xfrm>
                      <a:off x="2659320" y="5994000"/>
                      <a:ext cx="197280" cy="272160"/>
                      <a:chOff x="2659320" y="5994000"/>
                      <a:chExt cx="197280" cy="272160"/>
                    </a:xfrm>
                  </p:grpSpPr>
                  <p:sp>
                    <p:nvSpPr>
                      <p:cNvPr id="1476" name=""/>
                      <p:cNvSpPr/>
                      <p:nvPr/>
                    </p:nvSpPr>
                    <p:spPr>
                      <a:xfrm rot="21055800">
                        <a:off x="2676960" y="600516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7" name=""/>
                      <p:cNvSpPr/>
                      <p:nvPr/>
                    </p:nvSpPr>
                    <p:spPr>
                      <a:xfrm rot="21055800">
                        <a:off x="2728080" y="600588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78" name=""/>
                    <p:cNvGrpSpPr/>
                    <p:nvPr/>
                  </p:nvGrpSpPr>
                  <p:grpSpPr>
                    <a:xfrm>
                      <a:off x="2786760" y="6020640"/>
                      <a:ext cx="168120" cy="259560"/>
                      <a:chOff x="2786760" y="6020640"/>
                      <a:chExt cx="168120" cy="259560"/>
                    </a:xfrm>
                  </p:grpSpPr>
                  <p:sp>
                    <p:nvSpPr>
                      <p:cNvPr id="1479" name=""/>
                      <p:cNvSpPr/>
                      <p:nvPr/>
                    </p:nvSpPr>
                    <p:spPr>
                      <a:xfrm rot="21506400">
                        <a:off x="2789640" y="6022440"/>
                        <a:ext cx="16164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0" name=""/>
                      <p:cNvSpPr/>
                      <p:nvPr/>
                    </p:nvSpPr>
                    <p:spPr>
                      <a:xfrm rot="21506400">
                        <a:off x="2840400" y="602532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81" name=""/>
                    <p:cNvGrpSpPr/>
                    <p:nvPr/>
                  </p:nvGrpSpPr>
                  <p:grpSpPr>
                    <a:xfrm>
                      <a:off x="2926800" y="6012360"/>
                      <a:ext cx="224280" cy="290880"/>
                      <a:chOff x="2926800" y="6012360"/>
                      <a:chExt cx="224280" cy="290880"/>
                    </a:xfrm>
                  </p:grpSpPr>
                  <p:sp>
                    <p:nvSpPr>
                      <p:cNvPr id="1482" name=""/>
                      <p:cNvSpPr/>
                      <p:nvPr/>
                    </p:nvSpPr>
                    <p:spPr>
                      <a:xfrm rot="1012800">
                        <a:off x="2957760" y="603036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3" name=""/>
                      <p:cNvSpPr/>
                      <p:nvPr/>
                    </p:nvSpPr>
                    <p:spPr>
                      <a:xfrm rot="1012800">
                        <a:off x="3003840" y="604008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484" name=""/>
                <p:cNvGrpSpPr/>
                <p:nvPr/>
              </p:nvGrpSpPr>
              <p:grpSpPr>
                <a:xfrm>
                  <a:off x="2936880" y="5913720"/>
                  <a:ext cx="986760" cy="392040"/>
                  <a:chOff x="2936880" y="5913720"/>
                  <a:chExt cx="986760" cy="392040"/>
                </a:xfrm>
              </p:grpSpPr>
              <p:grpSp>
                <p:nvGrpSpPr>
                  <p:cNvPr id="1485" name=""/>
                  <p:cNvGrpSpPr/>
                  <p:nvPr/>
                </p:nvGrpSpPr>
                <p:grpSpPr>
                  <a:xfrm>
                    <a:off x="3444120" y="5959440"/>
                    <a:ext cx="479520" cy="346320"/>
                    <a:chOff x="3444120" y="5959440"/>
                    <a:chExt cx="479520" cy="346320"/>
                  </a:xfrm>
                </p:grpSpPr>
                <p:grpSp>
                  <p:nvGrpSpPr>
                    <p:cNvPr id="1486" name=""/>
                    <p:cNvGrpSpPr/>
                    <p:nvPr/>
                  </p:nvGrpSpPr>
                  <p:grpSpPr>
                    <a:xfrm>
                      <a:off x="3444120" y="5959440"/>
                      <a:ext cx="162000" cy="257760"/>
                      <a:chOff x="3444120" y="5959440"/>
                      <a:chExt cx="162000" cy="257760"/>
                    </a:xfrm>
                  </p:grpSpPr>
                  <p:sp>
                    <p:nvSpPr>
                      <p:cNvPr id="1487" name=""/>
                      <p:cNvSpPr/>
                      <p:nvPr/>
                    </p:nvSpPr>
                    <p:spPr>
                      <a:xfrm rot="11400">
                        <a:off x="3444120" y="595944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8" name=""/>
                      <p:cNvSpPr/>
                      <p:nvPr/>
                    </p:nvSpPr>
                    <p:spPr>
                      <a:xfrm rot="11400">
                        <a:off x="3493440" y="596376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89" name=""/>
                    <p:cNvGrpSpPr/>
                    <p:nvPr/>
                  </p:nvGrpSpPr>
                  <p:grpSpPr>
                    <a:xfrm>
                      <a:off x="3538080" y="5985360"/>
                      <a:ext cx="191880" cy="275040"/>
                      <a:chOff x="3538080" y="5985360"/>
                      <a:chExt cx="191880" cy="275040"/>
                    </a:xfrm>
                  </p:grpSpPr>
                  <p:sp>
                    <p:nvSpPr>
                      <p:cNvPr id="1490" name=""/>
                      <p:cNvSpPr/>
                      <p:nvPr/>
                    </p:nvSpPr>
                    <p:spPr>
                      <a:xfrm rot="462000">
                        <a:off x="3553200" y="5995080"/>
                        <a:ext cx="16128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1" name=""/>
                      <p:cNvSpPr/>
                      <p:nvPr/>
                    </p:nvSpPr>
                    <p:spPr>
                      <a:xfrm rot="462000">
                        <a:off x="3601440" y="600120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92" name=""/>
                    <p:cNvGrpSpPr/>
                    <p:nvPr/>
                  </p:nvGrpSpPr>
                  <p:grpSpPr>
                    <a:xfrm>
                      <a:off x="3672360" y="6006600"/>
                      <a:ext cx="251280" cy="299160"/>
                      <a:chOff x="3672360" y="6006600"/>
                      <a:chExt cx="251280" cy="299160"/>
                    </a:xfrm>
                  </p:grpSpPr>
                  <p:sp>
                    <p:nvSpPr>
                      <p:cNvPr id="1493" name=""/>
                      <p:cNvSpPr/>
                      <p:nvPr/>
                    </p:nvSpPr>
                    <p:spPr>
                      <a:xfrm rot="1568400">
                        <a:off x="3717000" y="6030000"/>
                        <a:ext cx="162000" cy="24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4" name=""/>
                      <p:cNvSpPr/>
                      <p:nvPr/>
                    </p:nvSpPr>
                    <p:spPr>
                      <a:xfrm rot="1568400">
                        <a:off x="3759840" y="6041880"/>
                        <a:ext cx="104760" cy="253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495" name=""/>
                  <p:cNvGrpSpPr/>
                  <p:nvPr/>
                </p:nvGrpSpPr>
                <p:grpSpPr>
                  <a:xfrm>
                    <a:off x="2936880" y="5913720"/>
                    <a:ext cx="491040" cy="387360"/>
                    <a:chOff x="2936880" y="5913720"/>
                    <a:chExt cx="491040" cy="387360"/>
                  </a:xfrm>
                </p:grpSpPr>
                <p:grpSp>
                  <p:nvGrpSpPr>
                    <p:cNvPr id="1496" name=""/>
                    <p:cNvGrpSpPr/>
                    <p:nvPr/>
                  </p:nvGrpSpPr>
                  <p:grpSpPr>
                    <a:xfrm>
                      <a:off x="3237480" y="5913720"/>
                      <a:ext cx="190440" cy="274680"/>
                      <a:chOff x="3237480" y="5913720"/>
                      <a:chExt cx="190440" cy="274680"/>
                    </a:xfrm>
                  </p:grpSpPr>
                  <p:sp>
                    <p:nvSpPr>
                      <p:cNvPr id="1497" name=""/>
                      <p:cNvSpPr/>
                      <p:nvPr/>
                    </p:nvSpPr>
                    <p:spPr>
                      <a:xfrm flipH="1" rot="21166200">
                        <a:off x="3251520" y="592272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8" name=""/>
                      <p:cNvSpPr/>
                      <p:nvPr/>
                    </p:nvSpPr>
                    <p:spPr>
                      <a:xfrm flipH="1" rot="21166200">
                        <a:off x="3260160" y="592920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99" name=""/>
                    <p:cNvGrpSpPr/>
                    <p:nvPr/>
                  </p:nvGrpSpPr>
                  <p:grpSpPr>
                    <a:xfrm>
                      <a:off x="3120480" y="5955120"/>
                      <a:ext cx="217080" cy="287280"/>
                      <a:chOff x="3120480" y="5955120"/>
                      <a:chExt cx="217080" cy="287280"/>
                    </a:xfrm>
                  </p:grpSpPr>
                  <p:sp>
                    <p:nvSpPr>
                      <p:cNvPr id="1500" name=""/>
                      <p:cNvSpPr/>
                      <p:nvPr/>
                    </p:nvSpPr>
                    <p:spPr>
                      <a:xfrm flipH="1" rot="20715600">
                        <a:off x="3147840" y="5971680"/>
                        <a:ext cx="161640" cy="23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1" name=""/>
                      <p:cNvSpPr/>
                      <p:nvPr/>
                    </p:nvSpPr>
                    <p:spPr>
                      <a:xfrm flipH="1" rot="20715600">
                        <a:off x="3158280" y="597960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02" name=""/>
                    <p:cNvGrpSpPr/>
                    <p:nvPr/>
                  </p:nvGrpSpPr>
                  <p:grpSpPr>
                    <a:xfrm>
                      <a:off x="2936880" y="6001560"/>
                      <a:ext cx="266400" cy="299520"/>
                      <a:chOff x="2936880" y="6001560"/>
                      <a:chExt cx="266400" cy="299520"/>
                    </a:xfrm>
                  </p:grpSpPr>
                  <p:sp>
                    <p:nvSpPr>
                      <p:cNvPr id="1503" name=""/>
                      <p:cNvSpPr/>
                      <p:nvPr/>
                    </p:nvSpPr>
                    <p:spPr>
                      <a:xfrm flipH="1" rot="19609200">
                        <a:off x="2989080" y="602604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4" name=""/>
                      <p:cNvSpPr/>
                      <p:nvPr/>
                    </p:nvSpPr>
                    <p:spPr>
                      <a:xfrm flipH="1" rot="19609200">
                        <a:off x="3004920" y="603972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505" name=""/>
              <p:cNvGrpSpPr/>
              <p:nvPr/>
            </p:nvGrpSpPr>
            <p:grpSpPr>
              <a:xfrm>
                <a:off x="6546960" y="4829400"/>
                <a:ext cx="1722960" cy="595800"/>
                <a:chOff x="6546960" y="4829400"/>
                <a:chExt cx="1722960" cy="595800"/>
              </a:xfrm>
            </p:grpSpPr>
            <p:grpSp>
              <p:nvGrpSpPr>
                <p:cNvPr id="1506" name=""/>
                <p:cNvGrpSpPr/>
                <p:nvPr/>
              </p:nvGrpSpPr>
              <p:grpSpPr>
                <a:xfrm>
                  <a:off x="6546960" y="4910040"/>
                  <a:ext cx="950400" cy="515160"/>
                  <a:chOff x="6546960" y="4910040"/>
                  <a:chExt cx="950400" cy="515160"/>
                </a:xfrm>
              </p:grpSpPr>
              <p:grpSp>
                <p:nvGrpSpPr>
                  <p:cNvPr id="1507" name=""/>
                  <p:cNvGrpSpPr/>
                  <p:nvPr/>
                </p:nvGrpSpPr>
                <p:grpSpPr>
                  <a:xfrm>
                    <a:off x="6546960" y="4992480"/>
                    <a:ext cx="494640" cy="432720"/>
                    <a:chOff x="6546960" y="4992480"/>
                    <a:chExt cx="494640" cy="432720"/>
                  </a:xfrm>
                </p:grpSpPr>
                <p:grpSp>
                  <p:nvGrpSpPr>
                    <p:cNvPr id="1508" name=""/>
                    <p:cNvGrpSpPr/>
                    <p:nvPr/>
                  </p:nvGrpSpPr>
                  <p:grpSpPr>
                    <a:xfrm>
                      <a:off x="6818760" y="4992480"/>
                      <a:ext cx="222840" cy="290520"/>
                      <a:chOff x="6818760" y="4992480"/>
                      <a:chExt cx="222840" cy="290520"/>
                    </a:xfrm>
                  </p:grpSpPr>
                  <p:sp>
                    <p:nvSpPr>
                      <p:cNvPr id="1509" name=""/>
                      <p:cNvSpPr/>
                      <p:nvPr/>
                    </p:nvSpPr>
                    <p:spPr>
                      <a:xfrm flipH="1" rot="20610600">
                        <a:off x="6849000" y="501012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0" name=""/>
                      <p:cNvSpPr/>
                      <p:nvPr/>
                    </p:nvSpPr>
                    <p:spPr>
                      <a:xfrm flipH="1" rot="20610600">
                        <a:off x="6860160" y="501948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11" name=""/>
                    <p:cNvGrpSpPr/>
                    <p:nvPr/>
                  </p:nvGrpSpPr>
                  <p:grpSpPr>
                    <a:xfrm>
                      <a:off x="6712920" y="5052240"/>
                      <a:ext cx="244800" cy="297000"/>
                      <a:chOff x="6712920" y="5052240"/>
                      <a:chExt cx="244800" cy="297000"/>
                    </a:xfrm>
                  </p:grpSpPr>
                  <p:sp>
                    <p:nvSpPr>
                      <p:cNvPr id="1512" name=""/>
                      <p:cNvSpPr/>
                      <p:nvPr/>
                    </p:nvSpPr>
                    <p:spPr>
                      <a:xfrm flipH="1" rot="20160000">
                        <a:off x="6754680" y="507456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3" name=""/>
                      <p:cNvSpPr/>
                      <p:nvPr/>
                    </p:nvSpPr>
                    <p:spPr>
                      <a:xfrm flipH="1" rot="20160000">
                        <a:off x="6767280" y="508572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14" name=""/>
                    <p:cNvGrpSpPr/>
                    <p:nvPr/>
                  </p:nvGrpSpPr>
                  <p:grpSpPr>
                    <a:xfrm>
                      <a:off x="6546960" y="5131440"/>
                      <a:ext cx="281520" cy="293760"/>
                      <a:chOff x="6546960" y="5131440"/>
                      <a:chExt cx="281520" cy="293760"/>
                    </a:xfrm>
                  </p:grpSpPr>
                  <p:sp>
                    <p:nvSpPr>
                      <p:cNvPr id="1515" name=""/>
                      <p:cNvSpPr/>
                      <p:nvPr/>
                    </p:nvSpPr>
                    <p:spPr>
                      <a:xfrm flipH="1" rot="19053600">
                        <a:off x="6606720" y="5154480"/>
                        <a:ext cx="16200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6" name=""/>
                      <p:cNvSpPr/>
                      <p:nvPr/>
                    </p:nvSpPr>
                    <p:spPr>
                      <a:xfrm flipH="1" rot="19053600">
                        <a:off x="6626520" y="516924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517" name=""/>
                  <p:cNvGrpSpPr/>
                  <p:nvPr/>
                </p:nvGrpSpPr>
                <p:grpSpPr>
                  <a:xfrm>
                    <a:off x="7005600" y="4910040"/>
                    <a:ext cx="491760" cy="308880"/>
                    <a:chOff x="7005600" y="4910040"/>
                    <a:chExt cx="491760" cy="308880"/>
                  </a:xfrm>
                </p:grpSpPr>
                <p:grpSp>
                  <p:nvGrpSpPr>
                    <p:cNvPr id="1518" name=""/>
                    <p:cNvGrpSpPr/>
                    <p:nvPr/>
                  </p:nvGrpSpPr>
                  <p:grpSpPr>
                    <a:xfrm>
                      <a:off x="7005600" y="4910040"/>
                      <a:ext cx="197280" cy="271800"/>
                      <a:chOff x="7005600" y="4910040"/>
                      <a:chExt cx="197280" cy="271800"/>
                    </a:xfrm>
                  </p:grpSpPr>
                  <p:sp>
                    <p:nvSpPr>
                      <p:cNvPr id="1519" name=""/>
                      <p:cNvSpPr/>
                      <p:nvPr/>
                    </p:nvSpPr>
                    <p:spPr>
                      <a:xfrm rot="21055800">
                        <a:off x="7023240" y="492120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0" name=""/>
                      <p:cNvSpPr/>
                      <p:nvPr/>
                    </p:nvSpPr>
                    <p:spPr>
                      <a:xfrm rot="21055800">
                        <a:off x="7074360" y="492156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21" name=""/>
                    <p:cNvGrpSpPr/>
                    <p:nvPr/>
                  </p:nvGrpSpPr>
                  <p:grpSpPr>
                    <a:xfrm>
                      <a:off x="7133040" y="4936320"/>
                      <a:ext cx="168120" cy="259560"/>
                      <a:chOff x="7133040" y="4936320"/>
                      <a:chExt cx="168120" cy="259560"/>
                    </a:xfrm>
                  </p:grpSpPr>
                  <p:sp>
                    <p:nvSpPr>
                      <p:cNvPr id="1522" name=""/>
                      <p:cNvSpPr/>
                      <p:nvPr/>
                    </p:nvSpPr>
                    <p:spPr>
                      <a:xfrm rot="21506400">
                        <a:off x="7135920" y="4938120"/>
                        <a:ext cx="16164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3" name=""/>
                      <p:cNvSpPr/>
                      <p:nvPr/>
                    </p:nvSpPr>
                    <p:spPr>
                      <a:xfrm rot="21506400">
                        <a:off x="7186680" y="494100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24" name=""/>
                    <p:cNvGrpSpPr/>
                    <p:nvPr/>
                  </p:nvGrpSpPr>
                  <p:grpSpPr>
                    <a:xfrm>
                      <a:off x="7273080" y="4928400"/>
                      <a:ext cx="224280" cy="290520"/>
                      <a:chOff x="7273080" y="4928400"/>
                      <a:chExt cx="224280" cy="290520"/>
                    </a:xfrm>
                  </p:grpSpPr>
                  <p:sp>
                    <p:nvSpPr>
                      <p:cNvPr id="1525" name=""/>
                      <p:cNvSpPr/>
                      <p:nvPr/>
                    </p:nvSpPr>
                    <p:spPr>
                      <a:xfrm rot="1012800">
                        <a:off x="7304040" y="494640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6" name=""/>
                      <p:cNvSpPr/>
                      <p:nvPr/>
                    </p:nvSpPr>
                    <p:spPr>
                      <a:xfrm rot="1012800">
                        <a:off x="7350120" y="495576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27" name=""/>
                <p:cNvGrpSpPr/>
                <p:nvPr/>
              </p:nvGrpSpPr>
              <p:grpSpPr>
                <a:xfrm>
                  <a:off x="7283160" y="4829400"/>
                  <a:ext cx="986760" cy="392040"/>
                  <a:chOff x="7283160" y="4829400"/>
                  <a:chExt cx="986760" cy="392040"/>
                </a:xfrm>
              </p:grpSpPr>
              <p:grpSp>
                <p:nvGrpSpPr>
                  <p:cNvPr id="1528" name=""/>
                  <p:cNvGrpSpPr/>
                  <p:nvPr/>
                </p:nvGrpSpPr>
                <p:grpSpPr>
                  <a:xfrm>
                    <a:off x="7790400" y="4875120"/>
                    <a:ext cx="479520" cy="346320"/>
                    <a:chOff x="7790400" y="4875120"/>
                    <a:chExt cx="479520" cy="346320"/>
                  </a:xfrm>
                </p:grpSpPr>
                <p:grpSp>
                  <p:nvGrpSpPr>
                    <p:cNvPr id="1529" name=""/>
                    <p:cNvGrpSpPr/>
                    <p:nvPr/>
                  </p:nvGrpSpPr>
                  <p:grpSpPr>
                    <a:xfrm>
                      <a:off x="7790400" y="4875120"/>
                      <a:ext cx="162000" cy="257760"/>
                      <a:chOff x="7790400" y="4875120"/>
                      <a:chExt cx="162000" cy="257760"/>
                    </a:xfrm>
                  </p:grpSpPr>
                  <p:sp>
                    <p:nvSpPr>
                      <p:cNvPr id="1530" name=""/>
                      <p:cNvSpPr/>
                      <p:nvPr/>
                    </p:nvSpPr>
                    <p:spPr>
                      <a:xfrm rot="11400">
                        <a:off x="7790400" y="4875120"/>
                        <a:ext cx="16128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1" name=""/>
                      <p:cNvSpPr/>
                      <p:nvPr/>
                    </p:nvSpPr>
                    <p:spPr>
                      <a:xfrm rot="11400">
                        <a:off x="7839720" y="4879440"/>
                        <a:ext cx="10476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32" name=""/>
                    <p:cNvGrpSpPr/>
                    <p:nvPr/>
                  </p:nvGrpSpPr>
                  <p:grpSpPr>
                    <a:xfrm>
                      <a:off x="7884360" y="4901040"/>
                      <a:ext cx="191880" cy="275040"/>
                      <a:chOff x="7884360" y="4901040"/>
                      <a:chExt cx="191880" cy="275040"/>
                    </a:xfrm>
                  </p:grpSpPr>
                  <p:sp>
                    <p:nvSpPr>
                      <p:cNvPr id="1533" name=""/>
                      <p:cNvSpPr/>
                      <p:nvPr/>
                    </p:nvSpPr>
                    <p:spPr>
                      <a:xfrm rot="462000">
                        <a:off x="7899480" y="4910760"/>
                        <a:ext cx="16128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4" name=""/>
                      <p:cNvSpPr/>
                      <p:nvPr/>
                    </p:nvSpPr>
                    <p:spPr>
                      <a:xfrm rot="462000">
                        <a:off x="7947720" y="4916880"/>
                        <a:ext cx="10440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35" name=""/>
                    <p:cNvGrpSpPr/>
                    <p:nvPr/>
                  </p:nvGrpSpPr>
                  <p:grpSpPr>
                    <a:xfrm>
                      <a:off x="8018640" y="4922640"/>
                      <a:ext cx="251280" cy="298800"/>
                      <a:chOff x="8018640" y="4922640"/>
                      <a:chExt cx="251280" cy="298800"/>
                    </a:xfrm>
                  </p:grpSpPr>
                  <p:sp>
                    <p:nvSpPr>
                      <p:cNvPr id="1536" name=""/>
                      <p:cNvSpPr/>
                      <p:nvPr/>
                    </p:nvSpPr>
                    <p:spPr>
                      <a:xfrm rot="1568400">
                        <a:off x="8063280" y="4946040"/>
                        <a:ext cx="162000" cy="24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7" name=""/>
                      <p:cNvSpPr/>
                      <p:nvPr/>
                    </p:nvSpPr>
                    <p:spPr>
                      <a:xfrm rot="1568400">
                        <a:off x="8106120" y="4957560"/>
                        <a:ext cx="104760" cy="253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538" name=""/>
                  <p:cNvGrpSpPr/>
                  <p:nvPr/>
                </p:nvGrpSpPr>
                <p:grpSpPr>
                  <a:xfrm>
                    <a:off x="7283160" y="4829400"/>
                    <a:ext cx="491040" cy="387360"/>
                    <a:chOff x="7283160" y="4829400"/>
                    <a:chExt cx="491040" cy="387360"/>
                  </a:xfrm>
                </p:grpSpPr>
                <p:grpSp>
                  <p:nvGrpSpPr>
                    <p:cNvPr id="1539" name=""/>
                    <p:cNvGrpSpPr/>
                    <p:nvPr/>
                  </p:nvGrpSpPr>
                  <p:grpSpPr>
                    <a:xfrm>
                      <a:off x="7583760" y="4829400"/>
                      <a:ext cx="190440" cy="274680"/>
                      <a:chOff x="7583760" y="4829400"/>
                      <a:chExt cx="190440" cy="274680"/>
                    </a:xfrm>
                  </p:grpSpPr>
                  <p:sp>
                    <p:nvSpPr>
                      <p:cNvPr id="1540" name=""/>
                      <p:cNvSpPr/>
                      <p:nvPr/>
                    </p:nvSpPr>
                    <p:spPr>
                      <a:xfrm flipH="1" rot="21166200">
                        <a:off x="7597800" y="483840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1" name=""/>
                      <p:cNvSpPr/>
                      <p:nvPr/>
                    </p:nvSpPr>
                    <p:spPr>
                      <a:xfrm flipH="1" rot="21166200">
                        <a:off x="7606440" y="484488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42" name=""/>
                    <p:cNvGrpSpPr/>
                    <p:nvPr/>
                  </p:nvGrpSpPr>
                  <p:grpSpPr>
                    <a:xfrm>
                      <a:off x="7466760" y="4870800"/>
                      <a:ext cx="217080" cy="287280"/>
                      <a:chOff x="7466760" y="4870800"/>
                      <a:chExt cx="217080" cy="287280"/>
                    </a:xfrm>
                  </p:grpSpPr>
                  <p:sp>
                    <p:nvSpPr>
                      <p:cNvPr id="1543" name=""/>
                      <p:cNvSpPr/>
                      <p:nvPr/>
                    </p:nvSpPr>
                    <p:spPr>
                      <a:xfrm flipH="1" rot="20715600">
                        <a:off x="7494120" y="4887360"/>
                        <a:ext cx="161640" cy="23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4" name=""/>
                      <p:cNvSpPr/>
                      <p:nvPr/>
                    </p:nvSpPr>
                    <p:spPr>
                      <a:xfrm flipH="1" rot="20715600">
                        <a:off x="7504560" y="489528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45" name=""/>
                    <p:cNvGrpSpPr/>
                    <p:nvPr/>
                  </p:nvGrpSpPr>
                  <p:grpSpPr>
                    <a:xfrm>
                      <a:off x="7283160" y="4917240"/>
                      <a:ext cx="266400" cy="299520"/>
                      <a:chOff x="7283160" y="4917240"/>
                      <a:chExt cx="266400" cy="299520"/>
                    </a:xfrm>
                  </p:grpSpPr>
                  <p:sp>
                    <p:nvSpPr>
                      <p:cNvPr id="1546" name=""/>
                      <p:cNvSpPr/>
                      <p:nvPr/>
                    </p:nvSpPr>
                    <p:spPr>
                      <a:xfrm flipH="1" rot="19609200">
                        <a:off x="7335360" y="4941720"/>
                        <a:ext cx="16164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7" name=""/>
                      <p:cNvSpPr/>
                      <p:nvPr/>
                    </p:nvSpPr>
                    <p:spPr>
                      <a:xfrm flipH="1" rot="19609200">
                        <a:off x="7351200" y="4955400"/>
                        <a:ext cx="104760" cy="25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1548" name=""/>
          <p:cNvSpPr/>
          <p:nvPr/>
        </p:nvSpPr>
        <p:spPr>
          <a:xfrm>
            <a:off x="324000" y="2781360"/>
            <a:ext cx="8496000" cy="2338200"/>
          </a:xfrm>
          <a:custGeom>
            <a:avLst/>
            <a:gdLst/>
            <a:ahLst/>
            <a:rect l="l" t="t" r="r" b="b"/>
            <a:pathLst>
              <a:path w="5344" h="1473">
                <a:moveTo>
                  <a:pt x="0" y="705"/>
                </a:moveTo>
                <a:lnTo>
                  <a:pt x="112" y="1473"/>
                </a:lnTo>
                <a:lnTo>
                  <a:pt x="5344" y="768"/>
                </a:lnTo>
                <a:lnTo>
                  <a:pt x="5248" y="0"/>
                </a:lnTo>
              </a:path>
            </a:pathLst>
          </a:custGeom>
          <a:noFill/>
          <a:ln w="572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152280" y="152280"/>
            <a:ext cx="88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елосипедист едет со скоростью 20км/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акое расстояние он проедет за 4 ч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0" name=""/>
          <p:cNvGrpSpPr/>
          <p:nvPr/>
        </p:nvGrpSpPr>
        <p:grpSpPr>
          <a:xfrm>
            <a:off x="324000" y="1884240"/>
            <a:ext cx="2450880" cy="1027080"/>
            <a:chOff x="324000" y="1884240"/>
            <a:chExt cx="2450880" cy="1027080"/>
          </a:xfrm>
        </p:grpSpPr>
        <p:sp>
          <p:nvSpPr>
            <p:cNvPr id="1551" name=""/>
            <p:cNvSpPr/>
            <p:nvPr/>
          </p:nvSpPr>
          <p:spPr>
            <a:xfrm>
              <a:off x="324000" y="2568600"/>
              <a:ext cx="2450880" cy="342720"/>
            </a:xfrm>
            <a:custGeom>
              <a:avLst/>
              <a:gdLst/>
              <a:ahLst/>
              <a:rect l="l" t="t" r="r" b="b"/>
              <a:pathLst>
                <a:path w="1544" h="216">
                  <a:moveTo>
                    <a:pt x="0" y="216"/>
                  </a:moveTo>
                  <a:lnTo>
                    <a:pt x="1544" y="0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21184200">
              <a:off x="628200" y="1989000"/>
              <a:ext cx="177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Arial"/>
                </a:rPr>
                <a:t>20 км/ч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53" name="" descr=""/>
          <p:cNvPicPr/>
          <p:nvPr/>
        </p:nvPicPr>
        <p:blipFill>
          <a:blip r:embed="rId1"/>
          <a:stretch/>
        </p:blipFill>
        <p:spPr>
          <a:xfrm rot="21047400">
            <a:off x="0" y="3357720"/>
            <a:ext cx="1471680" cy="1645920"/>
          </a:xfrm>
          <a:prstGeom prst="rect">
            <a:avLst/>
          </a:prstGeom>
          <a:ln w="0">
            <a:noFill/>
          </a:ln>
        </p:spPr>
      </p:pic>
      <p:sp>
        <p:nvSpPr>
          <p:cNvPr id="1554" name=""/>
          <p:cNvSpPr/>
          <p:nvPr/>
        </p:nvSpPr>
        <p:spPr>
          <a:xfrm>
            <a:off x="2362320" y="4648320"/>
            <a:ext cx="7596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572000" y="4343400"/>
            <a:ext cx="7632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6629400" y="4038480"/>
            <a:ext cx="7632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8763120" y="3733920"/>
            <a:ext cx="7596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539640" y="4005360"/>
            <a:ext cx="8209080" cy="1476360"/>
          </a:xfrm>
          <a:custGeom>
            <a:avLst/>
            <a:gdLst/>
            <a:ahLst/>
            <a:rect l="l" t="t" r="r" b="b"/>
            <a:pathLst>
              <a:path w="5171" h="930">
                <a:moveTo>
                  <a:pt x="0" y="726"/>
                </a:moveTo>
                <a:cubicBezTo>
                  <a:pt x="480" y="828"/>
                  <a:pt x="960" y="930"/>
                  <a:pt x="1678" y="907"/>
                </a:cubicBezTo>
                <a:cubicBezTo>
                  <a:pt x="2396" y="884"/>
                  <a:pt x="3727" y="741"/>
                  <a:pt x="4309" y="590"/>
                </a:cubicBezTo>
                <a:cubicBezTo>
                  <a:pt x="4891" y="439"/>
                  <a:pt x="5027" y="98"/>
                  <a:pt x="5171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rot="21000600">
            <a:off x="4788000" y="5589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cc"/>
                </a:solidFill>
                <a:latin typeface="Arial"/>
              </a:rPr>
              <a:t>?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к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2269440" y="508464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428720" y="479736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6444720" y="450864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8102160" y="414972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">
            <a:hlinkClick r:id="" action="ppaction://hlinkshowjump?jump=nextslide"/>
          </p:cNvPr>
          <p:cNvSpPr/>
          <p:nvPr/>
        </p:nvSpPr>
        <p:spPr>
          <a:xfrm>
            <a:off x="8172360" y="609300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21387E-006 L 1.02986 -0.18266 E">
                                      <p:cBhvr>
                                        <p:cTn id="208" dur="5000" fill="hold"/>
                                        <p:tgtEl>
                                          <p:spTgt spid="1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/>
          <p:nvPr/>
        </p:nvSpPr>
        <p:spPr>
          <a:xfrm rot="371400">
            <a:off x="7548480" y="5103360"/>
            <a:ext cx="414360" cy="417600"/>
          </a:xfrm>
          <a:custGeom>
            <a:avLst/>
            <a:gdLst/>
            <a:ahLst/>
            <a:rect l="l" t="t" r="r" b="b"/>
            <a:pathLst>
              <a:path w="265" h="334">
                <a:moveTo>
                  <a:pt x="0" y="334"/>
                </a:moveTo>
                <a:lnTo>
                  <a:pt x="197" y="0"/>
                </a:lnTo>
                <a:lnTo>
                  <a:pt x="265" y="8"/>
                </a:lnTo>
                <a:lnTo>
                  <a:pt x="91" y="326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7728000"/>
          </a:gradFill>
          <a:ln w="1260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 rot="371400">
            <a:off x="7810560" y="5114520"/>
            <a:ext cx="414360" cy="415800"/>
          </a:xfrm>
          <a:custGeom>
            <a:avLst/>
            <a:gdLst/>
            <a:ahLst/>
            <a:rect l="l" t="t" r="r" b="b"/>
            <a:pathLst>
              <a:path w="265" h="334">
                <a:moveTo>
                  <a:pt x="0" y="334"/>
                </a:moveTo>
                <a:lnTo>
                  <a:pt x="197" y="0"/>
                </a:lnTo>
                <a:lnTo>
                  <a:pt x="265" y="8"/>
                </a:lnTo>
                <a:lnTo>
                  <a:pt x="91" y="326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7728000"/>
          </a:gradFill>
          <a:ln w="1260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 rot="371400">
            <a:off x="8105760" y="5116320"/>
            <a:ext cx="414360" cy="417240"/>
          </a:xfrm>
          <a:custGeom>
            <a:avLst/>
            <a:gdLst/>
            <a:ahLst/>
            <a:rect l="l" t="t" r="r" b="b"/>
            <a:pathLst>
              <a:path w="265" h="334">
                <a:moveTo>
                  <a:pt x="0" y="334"/>
                </a:moveTo>
                <a:lnTo>
                  <a:pt x="197" y="0"/>
                </a:lnTo>
                <a:lnTo>
                  <a:pt x="265" y="8"/>
                </a:lnTo>
                <a:lnTo>
                  <a:pt x="91" y="326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7728000"/>
          </a:gradFill>
          <a:ln w="1260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rot="371400">
            <a:off x="8415360" y="5132520"/>
            <a:ext cx="412560" cy="415800"/>
          </a:xfrm>
          <a:custGeom>
            <a:avLst/>
            <a:gdLst/>
            <a:ahLst/>
            <a:rect l="l" t="t" r="r" b="b"/>
            <a:pathLst>
              <a:path w="265" h="334">
                <a:moveTo>
                  <a:pt x="0" y="334"/>
                </a:moveTo>
                <a:lnTo>
                  <a:pt x="197" y="0"/>
                </a:lnTo>
                <a:lnTo>
                  <a:pt x="265" y="8"/>
                </a:lnTo>
                <a:lnTo>
                  <a:pt x="91" y="326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7728000"/>
          </a:gradFill>
          <a:ln w="1260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 rot="371400">
            <a:off x="8724960" y="5127480"/>
            <a:ext cx="412560" cy="417600"/>
          </a:xfrm>
          <a:custGeom>
            <a:avLst/>
            <a:gdLst/>
            <a:ahLst/>
            <a:rect l="l" t="t" r="r" b="b"/>
            <a:pathLst>
              <a:path w="265" h="334">
                <a:moveTo>
                  <a:pt x="0" y="334"/>
                </a:moveTo>
                <a:lnTo>
                  <a:pt x="197" y="0"/>
                </a:lnTo>
                <a:lnTo>
                  <a:pt x="265" y="8"/>
                </a:lnTo>
                <a:lnTo>
                  <a:pt x="91" y="326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7728000"/>
          </a:gradFill>
          <a:ln w="1260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 rot="371400">
            <a:off x="1630440" y="4727160"/>
            <a:ext cx="414360" cy="417600"/>
          </a:xfrm>
          <a:custGeom>
            <a:avLst/>
            <a:gdLst/>
            <a:ahLst/>
            <a:rect l="l" t="t" r="r" b="b"/>
            <a:pathLst>
              <a:path w="265" h="334">
                <a:moveTo>
                  <a:pt x="0" y="334"/>
                </a:moveTo>
                <a:lnTo>
                  <a:pt x="197" y="0"/>
                </a:lnTo>
                <a:lnTo>
                  <a:pt x="265" y="8"/>
                </a:lnTo>
                <a:lnTo>
                  <a:pt x="91" y="326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7728000"/>
          </a:gradFill>
          <a:ln w="1260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 rot="371400">
            <a:off x="144360" y="4554000"/>
            <a:ext cx="414360" cy="417600"/>
          </a:xfrm>
          <a:custGeom>
            <a:avLst/>
            <a:gdLst/>
            <a:ahLst/>
            <a:rect l="l" t="t" r="r" b="b"/>
            <a:pathLst>
              <a:path w="265" h="334">
                <a:moveTo>
                  <a:pt x="0" y="334"/>
                </a:moveTo>
                <a:lnTo>
                  <a:pt x="197" y="0"/>
                </a:lnTo>
                <a:lnTo>
                  <a:pt x="265" y="8"/>
                </a:lnTo>
                <a:lnTo>
                  <a:pt x="91" y="326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50000">
                <a:srgbClr val="cc6600"/>
              </a:gs>
              <a:gs pos="100000">
                <a:srgbClr val="0068ae"/>
              </a:gs>
            </a:gsLst>
            <a:lin ang="7728000"/>
          </a:gradFill>
          <a:ln w="1260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rot="371400">
            <a:off x="426960" y="4584240"/>
            <a:ext cx="414360" cy="417600"/>
          </a:xfrm>
          <a:custGeom>
            <a:avLst/>
            <a:gdLst/>
            <a:ahLst/>
            <a:rect l="l" t="t" r="r" b="b"/>
            <a:pathLst>
              <a:path w="265" h="334">
                <a:moveTo>
                  <a:pt x="0" y="334"/>
                </a:moveTo>
                <a:lnTo>
                  <a:pt x="197" y="0"/>
                </a:lnTo>
                <a:lnTo>
                  <a:pt x="265" y="8"/>
                </a:lnTo>
                <a:lnTo>
                  <a:pt x="91" y="326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50000">
                <a:srgbClr val="cc6600"/>
              </a:gs>
              <a:gs pos="100000">
                <a:srgbClr val="0068ae"/>
              </a:gs>
            </a:gsLst>
            <a:lin ang="7728000"/>
          </a:gradFill>
          <a:ln w="1260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rot="371400">
            <a:off x="779400" y="4622400"/>
            <a:ext cx="414360" cy="417600"/>
          </a:xfrm>
          <a:custGeom>
            <a:avLst/>
            <a:gdLst/>
            <a:ahLst/>
            <a:rect l="l" t="t" r="r" b="b"/>
            <a:pathLst>
              <a:path w="265" h="334">
                <a:moveTo>
                  <a:pt x="0" y="334"/>
                </a:moveTo>
                <a:lnTo>
                  <a:pt x="197" y="0"/>
                </a:lnTo>
                <a:lnTo>
                  <a:pt x="265" y="8"/>
                </a:lnTo>
                <a:lnTo>
                  <a:pt x="91" y="326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50000">
                <a:srgbClr val="cc6600"/>
              </a:gs>
              <a:gs pos="100000">
                <a:srgbClr val="0068ae"/>
              </a:gs>
            </a:gsLst>
            <a:lin ang="7728000"/>
          </a:gradFill>
          <a:ln w="1260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4" name=""/>
          <p:cNvGrpSpPr/>
          <p:nvPr/>
        </p:nvGrpSpPr>
        <p:grpSpPr>
          <a:xfrm>
            <a:off x="1105200" y="4640760"/>
            <a:ext cx="6601320" cy="896760"/>
            <a:chOff x="1105200" y="4640760"/>
            <a:chExt cx="6601320" cy="896760"/>
          </a:xfrm>
        </p:grpSpPr>
        <p:sp>
          <p:nvSpPr>
            <p:cNvPr id="1575" name=""/>
            <p:cNvSpPr/>
            <p:nvPr/>
          </p:nvSpPr>
          <p:spPr>
            <a:xfrm rot="371400">
              <a:off x="1392840" y="4713120"/>
              <a:ext cx="439920" cy="3747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81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 rot="371400">
              <a:off x="1969920" y="4753080"/>
              <a:ext cx="413640" cy="4172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81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rot="371400">
              <a:off x="2321640" y="4791240"/>
              <a:ext cx="413640" cy="4172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81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rot="371400">
              <a:off x="2676240" y="4808160"/>
              <a:ext cx="413640" cy="4172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81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 rot="371400">
              <a:off x="3034440" y="4790520"/>
              <a:ext cx="413640" cy="4172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81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 rot="371400">
              <a:off x="3315600" y="4821120"/>
              <a:ext cx="413280" cy="4172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81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rot="371400">
              <a:off x="3671640" y="4823280"/>
              <a:ext cx="413280" cy="4172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81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 rot="371400">
              <a:off x="3952440" y="4853520"/>
              <a:ext cx="413280" cy="4172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81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 rot="371400">
              <a:off x="4306680" y="4871880"/>
              <a:ext cx="413280" cy="4172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81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 rot="371400">
              <a:off x="4588920" y="4902120"/>
              <a:ext cx="413640" cy="4172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81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 rot="371400">
              <a:off x="5015160" y="4912200"/>
              <a:ext cx="413280" cy="4172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81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 rot="371400">
              <a:off x="5295600" y="4942800"/>
              <a:ext cx="413640" cy="4172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81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rot="371400">
              <a:off x="5580360" y="4951800"/>
              <a:ext cx="413280" cy="4172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81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 rot="371400">
              <a:off x="5859000" y="5004000"/>
              <a:ext cx="413280" cy="4172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81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 rot="371400">
              <a:off x="6143400" y="5013000"/>
              <a:ext cx="413640" cy="4172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81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rot="371400">
              <a:off x="6427800" y="5007960"/>
              <a:ext cx="41364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81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 rot="371400">
              <a:off x="6708960" y="5038560"/>
              <a:ext cx="41328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81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 rot="371400">
              <a:off x="6991200" y="5069160"/>
              <a:ext cx="41364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81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rot="371400">
              <a:off x="7271640" y="5099400"/>
              <a:ext cx="41364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81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rot="371400">
              <a:off x="1126440" y="4661640"/>
              <a:ext cx="413280" cy="4172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50000">
                  <a:srgbClr val="cc6600"/>
                </a:gs>
                <a:gs pos="100000">
                  <a:srgbClr val="0068ae"/>
                </a:gs>
              </a:gsLst>
              <a:lin ang="81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5" name=""/>
          <p:cNvSpPr/>
          <p:nvPr/>
        </p:nvSpPr>
        <p:spPr>
          <a:xfrm flipH="1" flipV="1">
            <a:off x="5400" y="4743000"/>
            <a:ext cx="9118800" cy="59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62280" y="4862880"/>
            <a:ext cx="9049680" cy="58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468360" y="1112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сстояние между станциями 550 км. За сколько времени поезд пройдёт это расстояние, если его скорость 110 км/ч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102960" y="2627640"/>
            <a:ext cx="2282760" cy="960840"/>
            <a:chOff x="102960" y="2627640"/>
            <a:chExt cx="2282760" cy="960840"/>
          </a:xfrm>
        </p:grpSpPr>
        <p:sp>
          <p:nvSpPr>
            <p:cNvPr id="1599" name=""/>
            <p:cNvSpPr/>
            <p:nvPr/>
          </p:nvSpPr>
          <p:spPr>
            <a:xfrm rot="211200">
              <a:off x="126000" y="2695320"/>
              <a:ext cx="2236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110 км/ч</a:t>
              </a:r>
              <a:r>
                <a:rPr b="1" lang="en-US" sz="4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68280" y="3422520"/>
              <a:ext cx="1542960" cy="1144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66760" y="6108840"/>
            <a:ext cx="1930320" cy="533160"/>
          </a:xfrm>
          <a:custGeom>
            <a:avLst/>
            <a:gdLst>
              <a:gd name="textAreaLeft" fmla="*/ 34560 w 1930320"/>
              <a:gd name="textAreaRight" fmla="*/ 1895760 w 1930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8165" h="21600">
                <a:moveTo>
                  <a:pt x="0" y="0"/>
                </a:moveTo>
                <a:lnTo>
                  <a:pt x="78165" y="0"/>
                </a:lnTo>
                <a:lnTo>
                  <a:pt x="78165" y="21600"/>
                </a:lnTo>
                <a:lnTo>
                  <a:pt x="0" y="21600"/>
                </a:lnTo>
                <a:close/>
              </a:path>
              <a:path fill="lightenLess" w="78165" h="21600">
                <a:moveTo>
                  <a:pt x="0" y="0"/>
                </a:moveTo>
                <a:lnTo>
                  <a:pt x="78165" y="0"/>
                </a:lnTo>
                <a:lnTo>
                  <a:pt x="76765" y="1400"/>
                </a:lnTo>
                <a:lnTo>
                  <a:pt x="1400" y="1400"/>
                </a:lnTo>
                <a:close/>
              </a:path>
              <a:path fill="darken" w="78165" h="21600">
                <a:moveTo>
                  <a:pt x="78165" y="0"/>
                </a:moveTo>
                <a:lnTo>
                  <a:pt x="78165" y="21600"/>
                </a:lnTo>
                <a:lnTo>
                  <a:pt x="76765" y="20200"/>
                </a:lnTo>
                <a:lnTo>
                  <a:pt x="76765" y="1400"/>
                </a:lnTo>
                <a:close/>
              </a:path>
              <a:path fill="darkenLess" w="78165" h="21600">
                <a:moveTo>
                  <a:pt x="78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765" y="20200"/>
                </a:lnTo>
                <a:close/>
              </a:path>
              <a:path fill="lighten" w="78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Показать 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">
            <a:hlinkClick r:id="" action="ppaction://hlinkshowjump?jump=nextslide"/>
          </p:cNvPr>
          <p:cNvSpPr/>
          <p:nvPr/>
        </p:nvSpPr>
        <p:spPr>
          <a:xfrm>
            <a:off x="6877080" y="609300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rot="276000">
            <a:off x="3060720" y="5805000"/>
            <a:ext cx="258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i="1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550 к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-5760" y="4108320"/>
            <a:ext cx="2597040" cy="802440"/>
            <a:chOff x="-5760" y="4108320"/>
            <a:chExt cx="2597040" cy="802440"/>
          </a:xfrm>
        </p:grpSpPr>
        <p:grpSp>
          <p:nvGrpSpPr>
            <p:cNvPr id="1605" name=""/>
            <p:cNvGrpSpPr/>
            <p:nvPr/>
          </p:nvGrpSpPr>
          <p:grpSpPr>
            <a:xfrm>
              <a:off x="1159200" y="4498200"/>
              <a:ext cx="118800" cy="165600"/>
              <a:chOff x="1159200" y="4498200"/>
              <a:chExt cx="118800" cy="165600"/>
            </a:xfrm>
          </p:grpSpPr>
          <p:sp>
            <p:nvSpPr>
              <p:cNvPr id="1606" name=""/>
              <p:cNvSpPr/>
              <p:nvPr/>
            </p:nvSpPr>
            <p:spPr>
              <a:xfrm flipH="1">
                <a:off x="1212480" y="4498200"/>
                <a:ext cx="9360" cy="165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rot="214200">
                <a:off x="1159920" y="4554000"/>
                <a:ext cx="117360" cy="27720"/>
              </a:xfrm>
              <a:custGeom>
                <a:avLst/>
                <a:gdLst/>
                <a:ahLst/>
                <a:rect l="l" t="t" r="r" b="b"/>
                <a:pathLst>
                  <a:path w="190" h="18">
                    <a:moveTo>
                      <a:pt x="0" y="0"/>
                    </a:moveTo>
                    <a:lnTo>
                      <a:pt x="18" y="0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36" y="0"/>
                    </a:moveTo>
                    <a:lnTo>
                      <a:pt x="54" y="0"/>
                    </a:lnTo>
                    <a:lnTo>
                      <a:pt x="54" y="18"/>
                    </a:lnTo>
                    <a:lnTo>
                      <a:pt x="36" y="18"/>
                    </a:lnTo>
                    <a:lnTo>
                      <a:pt x="36" y="0"/>
                    </a:lnTo>
                    <a:close/>
                    <a:moveTo>
                      <a:pt x="72" y="0"/>
                    </a:moveTo>
                    <a:lnTo>
                      <a:pt x="90" y="0"/>
                    </a:lnTo>
                    <a:lnTo>
                      <a:pt x="90" y="18"/>
                    </a:lnTo>
                    <a:lnTo>
                      <a:pt x="72" y="18"/>
                    </a:lnTo>
                    <a:lnTo>
                      <a:pt x="72" y="0"/>
                    </a:lnTo>
                    <a:close/>
                    <a:moveTo>
                      <a:pt x="108" y="0"/>
                    </a:moveTo>
                    <a:lnTo>
                      <a:pt x="126" y="0"/>
                    </a:lnTo>
                    <a:lnTo>
                      <a:pt x="126" y="18"/>
                    </a:lnTo>
                    <a:lnTo>
                      <a:pt x="108" y="18"/>
                    </a:lnTo>
                    <a:lnTo>
                      <a:pt x="108" y="0"/>
                    </a:lnTo>
                    <a:close/>
                    <a:moveTo>
                      <a:pt x="144" y="0"/>
                    </a:moveTo>
                    <a:lnTo>
                      <a:pt x="162" y="0"/>
                    </a:lnTo>
                    <a:lnTo>
                      <a:pt x="162" y="18"/>
                    </a:lnTo>
                    <a:lnTo>
                      <a:pt x="144" y="18"/>
                    </a:lnTo>
                    <a:lnTo>
                      <a:pt x="144" y="0"/>
                    </a:lnTo>
                    <a:close/>
                    <a:moveTo>
                      <a:pt x="180" y="0"/>
                    </a:moveTo>
                    <a:lnTo>
                      <a:pt x="190" y="0"/>
                    </a:lnTo>
                    <a:lnTo>
                      <a:pt x="190" y="18"/>
                    </a:lnTo>
                    <a:lnTo>
                      <a:pt x="180" y="18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-5760" y="4427280"/>
              <a:ext cx="173160" cy="165600"/>
              <a:chOff x="-5760" y="4427280"/>
              <a:chExt cx="173160" cy="165600"/>
            </a:xfrm>
          </p:grpSpPr>
          <p:sp>
            <p:nvSpPr>
              <p:cNvPr id="1609" name=""/>
              <p:cNvSpPr/>
              <p:nvPr/>
            </p:nvSpPr>
            <p:spPr>
              <a:xfrm flipH="1">
                <a:off x="74160" y="4427280"/>
                <a:ext cx="9000" cy="165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rot="214200">
                <a:off x="-4680" y="4482720"/>
                <a:ext cx="171720" cy="27720"/>
              </a:xfrm>
              <a:custGeom>
                <a:avLst/>
                <a:gdLst/>
                <a:ahLst/>
                <a:rect l="l" t="t" r="r" b="b"/>
                <a:pathLst>
                  <a:path w="190" h="18">
                    <a:moveTo>
                      <a:pt x="0" y="0"/>
                    </a:moveTo>
                    <a:lnTo>
                      <a:pt x="18" y="0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  <a:moveTo>
                      <a:pt x="36" y="0"/>
                    </a:moveTo>
                    <a:lnTo>
                      <a:pt x="54" y="0"/>
                    </a:lnTo>
                    <a:lnTo>
                      <a:pt x="54" y="18"/>
                    </a:lnTo>
                    <a:lnTo>
                      <a:pt x="36" y="18"/>
                    </a:lnTo>
                    <a:lnTo>
                      <a:pt x="36" y="0"/>
                    </a:lnTo>
                    <a:close/>
                    <a:moveTo>
                      <a:pt x="72" y="0"/>
                    </a:moveTo>
                    <a:lnTo>
                      <a:pt x="90" y="0"/>
                    </a:lnTo>
                    <a:lnTo>
                      <a:pt x="90" y="18"/>
                    </a:lnTo>
                    <a:lnTo>
                      <a:pt x="72" y="18"/>
                    </a:lnTo>
                    <a:lnTo>
                      <a:pt x="72" y="0"/>
                    </a:lnTo>
                    <a:close/>
                    <a:moveTo>
                      <a:pt x="108" y="0"/>
                    </a:moveTo>
                    <a:lnTo>
                      <a:pt x="126" y="0"/>
                    </a:lnTo>
                    <a:lnTo>
                      <a:pt x="126" y="18"/>
                    </a:lnTo>
                    <a:lnTo>
                      <a:pt x="108" y="18"/>
                    </a:lnTo>
                    <a:lnTo>
                      <a:pt x="108" y="0"/>
                    </a:lnTo>
                    <a:close/>
                    <a:moveTo>
                      <a:pt x="144" y="0"/>
                    </a:moveTo>
                    <a:lnTo>
                      <a:pt x="162" y="0"/>
                    </a:lnTo>
                    <a:lnTo>
                      <a:pt x="162" y="18"/>
                    </a:lnTo>
                    <a:lnTo>
                      <a:pt x="144" y="18"/>
                    </a:lnTo>
                    <a:lnTo>
                      <a:pt x="144" y="0"/>
                    </a:lnTo>
                    <a:close/>
                    <a:moveTo>
                      <a:pt x="180" y="0"/>
                    </a:moveTo>
                    <a:lnTo>
                      <a:pt x="190" y="0"/>
                    </a:lnTo>
                    <a:lnTo>
                      <a:pt x="190" y="18"/>
                    </a:lnTo>
                    <a:lnTo>
                      <a:pt x="180" y="18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21240" y="4108320"/>
              <a:ext cx="1172160" cy="716760"/>
              <a:chOff x="21240" y="4108320"/>
              <a:chExt cx="1172160" cy="716760"/>
            </a:xfrm>
          </p:grpSpPr>
          <p:grpSp>
            <p:nvGrpSpPr>
              <p:cNvPr id="1612" name=""/>
              <p:cNvGrpSpPr/>
              <p:nvPr/>
            </p:nvGrpSpPr>
            <p:grpSpPr>
              <a:xfrm>
                <a:off x="249480" y="4548960"/>
                <a:ext cx="231120" cy="238320"/>
                <a:chOff x="249480" y="4548960"/>
                <a:chExt cx="231120" cy="238320"/>
              </a:xfrm>
            </p:grpSpPr>
            <p:grpSp>
              <p:nvGrpSpPr>
                <p:cNvPr id="1613" name=""/>
                <p:cNvGrpSpPr/>
                <p:nvPr/>
              </p:nvGrpSpPr>
              <p:grpSpPr>
                <a:xfrm>
                  <a:off x="249480" y="4548960"/>
                  <a:ext cx="231120" cy="238320"/>
                  <a:chOff x="249480" y="4548960"/>
                  <a:chExt cx="231120" cy="238320"/>
                </a:xfrm>
              </p:grpSpPr>
              <p:grpSp>
                <p:nvGrpSpPr>
                  <p:cNvPr id="1614" name=""/>
                  <p:cNvGrpSpPr/>
                  <p:nvPr/>
                </p:nvGrpSpPr>
                <p:grpSpPr>
                  <a:xfrm>
                    <a:off x="249480" y="4548960"/>
                    <a:ext cx="231120" cy="238320"/>
                    <a:chOff x="249480" y="4548960"/>
                    <a:chExt cx="231120" cy="238320"/>
                  </a:xfrm>
                </p:grpSpPr>
                <p:sp>
                  <p:nvSpPr>
                    <p:cNvPr id="1615" name=""/>
                    <p:cNvSpPr/>
                    <p:nvPr/>
                  </p:nvSpPr>
                  <p:spPr>
                    <a:xfrm rot="214200">
                      <a:off x="255960" y="4555440"/>
                      <a:ext cx="217440" cy="22536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6" name=""/>
                    <p:cNvSpPr/>
                    <p:nvPr/>
                  </p:nvSpPr>
                  <p:spPr>
                    <a:xfrm rot="214200">
                      <a:off x="255960" y="4555440"/>
                      <a:ext cx="217440" cy="225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17" name=""/>
                  <p:cNvGrpSpPr/>
                  <p:nvPr/>
                </p:nvGrpSpPr>
                <p:grpSpPr>
                  <a:xfrm>
                    <a:off x="268200" y="4569120"/>
                    <a:ext cx="191880" cy="197640"/>
                    <a:chOff x="268200" y="4569120"/>
                    <a:chExt cx="191880" cy="197640"/>
                  </a:xfrm>
                </p:grpSpPr>
                <p:sp>
                  <p:nvSpPr>
                    <p:cNvPr id="1618" name=""/>
                    <p:cNvSpPr/>
                    <p:nvPr/>
                  </p:nvSpPr>
                  <p:spPr>
                    <a:xfrm rot="214200">
                      <a:off x="273600" y="4574520"/>
                      <a:ext cx="180720" cy="186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9" name=""/>
                    <p:cNvSpPr/>
                    <p:nvPr/>
                  </p:nvSpPr>
                  <p:spPr>
                    <a:xfrm rot="214200">
                      <a:off x="273600" y="4574520"/>
                      <a:ext cx="180720" cy="1868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20" name=""/>
                <p:cNvGrpSpPr/>
                <p:nvPr/>
              </p:nvGrpSpPr>
              <p:grpSpPr>
                <a:xfrm>
                  <a:off x="268200" y="4569120"/>
                  <a:ext cx="191880" cy="197640"/>
                  <a:chOff x="268200" y="4569120"/>
                  <a:chExt cx="191880" cy="197640"/>
                </a:xfrm>
              </p:grpSpPr>
              <p:sp>
                <p:nvSpPr>
                  <p:cNvPr id="1621" name=""/>
                  <p:cNvSpPr/>
                  <p:nvPr/>
                </p:nvSpPr>
                <p:spPr>
                  <a:xfrm rot="214200">
                    <a:off x="273600" y="4574520"/>
                    <a:ext cx="18072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 rot="214200">
                    <a:off x="273600" y="4574520"/>
                    <a:ext cx="18072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23" name=""/>
              <p:cNvGrpSpPr/>
              <p:nvPr/>
            </p:nvGrpSpPr>
            <p:grpSpPr>
              <a:xfrm>
                <a:off x="850320" y="4586400"/>
                <a:ext cx="233640" cy="238680"/>
                <a:chOff x="850320" y="4586400"/>
                <a:chExt cx="233640" cy="238680"/>
              </a:xfrm>
            </p:grpSpPr>
            <p:grpSp>
              <p:nvGrpSpPr>
                <p:cNvPr id="1624" name=""/>
                <p:cNvGrpSpPr/>
                <p:nvPr/>
              </p:nvGrpSpPr>
              <p:grpSpPr>
                <a:xfrm>
                  <a:off x="850320" y="4586400"/>
                  <a:ext cx="233640" cy="238680"/>
                  <a:chOff x="850320" y="4586400"/>
                  <a:chExt cx="233640" cy="238680"/>
                </a:xfrm>
              </p:grpSpPr>
              <p:grpSp>
                <p:nvGrpSpPr>
                  <p:cNvPr id="1625" name=""/>
                  <p:cNvGrpSpPr/>
                  <p:nvPr/>
                </p:nvGrpSpPr>
                <p:grpSpPr>
                  <a:xfrm>
                    <a:off x="850320" y="4586400"/>
                    <a:ext cx="233640" cy="238680"/>
                    <a:chOff x="850320" y="4586400"/>
                    <a:chExt cx="233640" cy="238680"/>
                  </a:xfrm>
                </p:grpSpPr>
                <p:sp>
                  <p:nvSpPr>
                    <p:cNvPr id="1626" name=""/>
                    <p:cNvSpPr/>
                    <p:nvPr/>
                  </p:nvSpPr>
                  <p:spPr>
                    <a:xfrm rot="214200">
                      <a:off x="856800" y="4592880"/>
                      <a:ext cx="219960" cy="22536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7" name=""/>
                    <p:cNvSpPr/>
                    <p:nvPr/>
                  </p:nvSpPr>
                  <p:spPr>
                    <a:xfrm rot="214200">
                      <a:off x="856800" y="4592880"/>
                      <a:ext cx="219960" cy="225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8" name=""/>
                  <p:cNvGrpSpPr/>
                  <p:nvPr/>
                </p:nvGrpSpPr>
                <p:grpSpPr>
                  <a:xfrm>
                    <a:off x="869400" y="4606560"/>
                    <a:ext cx="193680" cy="198000"/>
                    <a:chOff x="869400" y="4606560"/>
                    <a:chExt cx="193680" cy="198000"/>
                  </a:xfrm>
                </p:grpSpPr>
                <p:sp>
                  <p:nvSpPr>
                    <p:cNvPr id="1629" name=""/>
                    <p:cNvSpPr/>
                    <p:nvPr/>
                  </p:nvSpPr>
                  <p:spPr>
                    <a:xfrm rot="214200">
                      <a:off x="874800" y="4611960"/>
                      <a:ext cx="182520" cy="186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"/>
                    <p:cNvSpPr/>
                    <p:nvPr/>
                  </p:nvSpPr>
                  <p:spPr>
                    <a:xfrm rot="214200">
                      <a:off x="874800" y="4611960"/>
                      <a:ext cx="182520" cy="1868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31" name=""/>
                <p:cNvGrpSpPr/>
                <p:nvPr/>
              </p:nvGrpSpPr>
              <p:grpSpPr>
                <a:xfrm>
                  <a:off x="869400" y="4606560"/>
                  <a:ext cx="193680" cy="198000"/>
                  <a:chOff x="869400" y="4606560"/>
                  <a:chExt cx="193680" cy="198000"/>
                </a:xfrm>
              </p:grpSpPr>
              <p:sp>
                <p:nvSpPr>
                  <p:cNvPr id="1632" name=""/>
                  <p:cNvSpPr/>
                  <p:nvPr/>
                </p:nvSpPr>
                <p:spPr>
                  <a:xfrm rot="214200">
                    <a:off x="874800" y="4611960"/>
                    <a:ext cx="18252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 rot="214200">
                    <a:off x="874800" y="4611960"/>
                    <a:ext cx="18252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34" name=""/>
              <p:cNvGrpSpPr/>
              <p:nvPr/>
            </p:nvGrpSpPr>
            <p:grpSpPr>
              <a:xfrm>
                <a:off x="249480" y="4548960"/>
                <a:ext cx="231120" cy="238320"/>
                <a:chOff x="249480" y="4548960"/>
                <a:chExt cx="231120" cy="238320"/>
              </a:xfrm>
            </p:grpSpPr>
            <p:grpSp>
              <p:nvGrpSpPr>
                <p:cNvPr id="1635" name=""/>
                <p:cNvGrpSpPr/>
                <p:nvPr/>
              </p:nvGrpSpPr>
              <p:grpSpPr>
                <a:xfrm>
                  <a:off x="249480" y="4548960"/>
                  <a:ext cx="231120" cy="238320"/>
                  <a:chOff x="249480" y="4548960"/>
                  <a:chExt cx="231120" cy="238320"/>
                </a:xfrm>
              </p:grpSpPr>
              <p:sp>
                <p:nvSpPr>
                  <p:cNvPr id="1636" name=""/>
                  <p:cNvSpPr/>
                  <p:nvPr/>
                </p:nvSpPr>
                <p:spPr>
                  <a:xfrm rot="214200">
                    <a:off x="255960" y="4555440"/>
                    <a:ext cx="217440" cy="22536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 rot="214200">
                    <a:off x="255960" y="4555440"/>
                    <a:ext cx="217440" cy="2253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8" name=""/>
                <p:cNvGrpSpPr/>
                <p:nvPr/>
              </p:nvGrpSpPr>
              <p:grpSpPr>
                <a:xfrm>
                  <a:off x="268200" y="4569120"/>
                  <a:ext cx="191880" cy="197640"/>
                  <a:chOff x="268200" y="4569120"/>
                  <a:chExt cx="191880" cy="197640"/>
                </a:xfrm>
              </p:grpSpPr>
              <p:sp>
                <p:nvSpPr>
                  <p:cNvPr id="1639" name=""/>
                  <p:cNvSpPr/>
                  <p:nvPr/>
                </p:nvSpPr>
                <p:spPr>
                  <a:xfrm rot="214200">
                    <a:off x="273600" y="4574520"/>
                    <a:ext cx="180720" cy="186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 rot="214200">
                    <a:off x="273600" y="4574520"/>
                    <a:ext cx="180720" cy="1868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1" name=""/>
              <p:cNvGrpSpPr/>
              <p:nvPr/>
            </p:nvGrpSpPr>
            <p:grpSpPr>
              <a:xfrm>
                <a:off x="268200" y="4569840"/>
                <a:ext cx="191880" cy="196560"/>
                <a:chOff x="268200" y="4569840"/>
                <a:chExt cx="191880" cy="196560"/>
              </a:xfrm>
            </p:grpSpPr>
            <p:sp>
              <p:nvSpPr>
                <p:cNvPr id="1642" name=""/>
                <p:cNvSpPr/>
                <p:nvPr/>
              </p:nvSpPr>
              <p:spPr>
                <a:xfrm rot="214200">
                  <a:off x="273600" y="4575240"/>
                  <a:ext cx="180720" cy="18576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rot="214200">
                  <a:off x="273600" y="4575240"/>
                  <a:ext cx="180720" cy="18576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4" name=""/>
              <p:cNvGrpSpPr/>
              <p:nvPr/>
            </p:nvGrpSpPr>
            <p:grpSpPr>
              <a:xfrm>
                <a:off x="249480" y="4548960"/>
                <a:ext cx="231120" cy="238320"/>
                <a:chOff x="249480" y="4548960"/>
                <a:chExt cx="231120" cy="238320"/>
              </a:xfrm>
            </p:grpSpPr>
            <p:sp>
              <p:nvSpPr>
                <p:cNvPr id="1645" name=""/>
                <p:cNvSpPr/>
                <p:nvPr/>
              </p:nvSpPr>
              <p:spPr>
                <a:xfrm rot="214200">
                  <a:off x="255960" y="4555440"/>
                  <a:ext cx="217440" cy="22536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 rot="214200">
                  <a:off x="255960" y="4555440"/>
                  <a:ext cx="217440" cy="2253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"/>
              <p:cNvGrpSpPr/>
              <p:nvPr/>
            </p:nvGrpSpPr>
            <p:grpSpPr>
              <a:xfrm>
                <a:off x="268200" y="4569840"/>
                <a:ext cx="191880" cy="196560"/>
                <a:chOff x="268200" y="4569840"/>
                <a:chExt cx="191880" cy="196560"/>
              </a:xfrm>
            </p:grpSpPr>
            <p:sp>
              <p:nvSpPr>
                <p:cNvPr id="1648" name=""/>
                <p:cNvSpPr/>
                <p:nvPr/>
              </p:nvSpPr>
              <p:spPr>
                <a:xfrm rot="214200">
                  <a:off x="273600" y="4575240"/>
                  <a:ext cx="180720" cy="185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rot="214200">
                  <a:off x="273600" y="4575240"/>
                  <a:ext cx="180720" cy="1857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0" name=""/>
              <p:cNvGrpSpPr/>
              <p:nvPr/>
            </p:nvGrpSpPr>
            <p:grpSpPr>
              <a:xfrm>
                <a:off x="249480" y="4548960"/>
                <a:ext cx="231120" cy="238320"/>
                <a:chOff x="249480" y="4548960"/>
                <a:chExt cx="231120" cy="238320"/>
              </a:xfrm>
            </p:grpSpPr>
            <p:sp>
              <p:nvSpPr>
                <p:cNvPr id="1651" name=""/>
                <p:cNvSpPr/>
                <p:nvPr/>
              </p:nvSpPr>
              <p:spPr>
                <a:xfrm rot="214200">
                  <a:off x="255960" y="4555440"/>
                  <a:ext cx="217440" cy="22536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rot="214200">
                  <a:off x="255960" y="4555440"/>
                  <a:ext cx="217440" cy="2253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268200" y="4569840"/>
                <a:ext cx="191880" cy="196560"/>
                <a:chOff x="268200" y="4569840"/>
                <a:chExt cx="191880" cy="196560"/>
              </a:xfrm>
            </p:grpSpPr>
            <p:sp>
              <p:nvSpPr>
                <p:cNvPr id="1654" name=""/>
                <p:cNvSpPr/>
                <p:nvPr/>
              </p:nvSpPr>
              <p:spPr>
                <a:xfrm rot="214200">
                  <a:off x="273600" y="4575240"/>
                  <a:ext cx="180720" cy="185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rot="214200">
                  <a:off x="273600" y="4575240"/>
                  <a:ext cx="180720" cy="1857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6" name=""/>
              <p:cNvGrpSpPr/>
              <p:nvPr/>
            </p:nvGrpSpPr>
            <p:grpSpPr>
              <a:xfrm>
                <a:off x="268200" y="4569840"/>
                <a:ext cx="191880" cy="196560"/>
                <a:chOff x="268200" y="4569840"/>
                <a:chExt cx="191880" cy="196560"/>
              </a:xfrm>
            </p:grpSpPr>
            <p:sp>
              <p:nvSpPr>
                <p:cNvPr id="1657" name=""/>
                <p:cNvSpPr/>
                <p:nvPr/>
              </p:nvSpPr>
              <p:spPr>
                <a:xfrm rot="214200">
                  <a:off x="273600" y="4575240"/>
                  <a:ext cx="180720" cy="18576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rot="214200">
                  <a:off x="273600" y="4575240"/>
                  <a:ext cx="180720" cy="18576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59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59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9" name=""/>
              <p:cNvGrpSpPr/>
              <p:nvPr/>
            </p:nvGrpSpPr>
            <p:grpSpPr>
              <a:xfrm>
                <a:off x="850320" y="4586400"/>
                <a:ext cx="233640" cy="238680"/>
                <a:chOff x="850320" y="4586400"/>
                <a:chExt cx="233640" cy="238680"/>
              </a:xfrm>
            </p:grpSpPr>
            <p:grpSp>
              <p:nvGrpSpPr>
                <p:cNvPr id="1660" name=""/>
                <p:cNvGrpSpPr/>
                <p:nvPr/>
              </p:nvGrpSpPr>
              <p:grpSpPr>
                <a:xfrm>
                  <a:off x="850320" y="4586400"/>
                  <a:ext cx="233640" cy="238680"/>
                  <a:chOff x="850320" y="4586400"/>
                  <a:chExt cx="233640" cy="238680"/>
                </a:xfrm>
              </p:grpSpPr>
              <p:sp>
                <p:nvSpPr>
                  <p:cNvPr id="1661" name=""/>
                  <p:cNvSpPr/>
                  <p:nvPr/>
                </p:nvSpPr>
                <p:spPr>
                  <a:xfrm rot="214200">
                    <a:off x="856800" y="4592880"/>
                    <a:ext cx="219960" cy="22536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 rot="214200">
                    <a:off x="856800" y="4592880"/>
                    <a:ext cx="219960" cy="2253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3" name=""/>
                <p:cNvGrpSpPr/>
                <p:nvPr/>
              </p:nvGrpSpPr>
              <p:grpSpPr>
                <a:xfrm>
                  <a:off x="869400" y="4606560"/>
                  <a:ext cx="193680" cy="198000"/>
                  <a:chOff x="869400" y="4606560"/>
                  <a:chExt cx="193680" cy="198000"/>
                </a:xfrm>
              </p:grpSpPr>
              <p:sp>
                <p:nvSpPr>
                  <p:cNvPr id="1664" name=""/>
                  <p:cNvSpPr/>
                  <p:nvPr/>
                </p:nvSpPr>
                <p:spPr>
                  <a:xfrm rot="214200">
                    <a:off x="874800" y="4611960"/>
                    <a:ext cx="182520" cy="186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 rot="214200">
                    <a:off x="874800" y="4611960"/>
                    <a:ext cx="182520" cy="1868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66" name=""/>
              <p:cNvGrpSpPr/>
              <p:nvPr/>
            </p:nvGrpSpPr>
            <p:grpSpPr>
              <a:xfrm>
                <a:off x="869400" y="4607280"/>
                <a:ext cx="193680" cy="196920"/>
                <a:chOff x="869400" y="4607280"/>
                <a:chExt cx="193680" cy="196920"/>
              </a:xfrm>
            </p:grpSpPr>
            <p:sp>
              <p:nvSpPr>
                <p:cNvPr id="1667" name=""/>
                <p:cNvSpPr/>
                <p:nvPr/>
              </p:nvSpPr>
              <p:spPr>
                <a:xfrm rot="214200">
                  <a:off x="874800" y="4612680"/>
                  <a:ext cx="182520" cy="18576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 rot="214200">
                  <a:off x="874800" y="4612680"/>
                  <a:ext cx="182520" cy="18576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9" name=""/>
              <p:cNvGrpSpPr/>
              <p:nvPr/>
            </p:nvGrpSpPr>
            <p:grpSpPr>
              <a:xfrm>
                <a:off x="850320" y="4586400"/>
                <a:ext cx="233640" cy="238680"/>
                <a:chOff x="850320" y="4586400"/>
                <a:chExt cx="233640" cy="238680"/>
              </a:xfrm>
            </p:grpSpPr>
            <p:sp>
              <p:nvSpPr>
                <p:cNvPr id="1670" name=""/>
                <p:cNvSpPr/>
                <p:nvPr/>
              </p:nvSpPr>
              <p:spPr>
                <a:xfrm rot="214200">
                  <a:off x="856800" y="4592880"/>
                  <a:ext cx="219960" cy="22536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 rot="214200">
                  <a:off x="856800" y="4592880"/>
                  <a:ext cx="219960" cy="2253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2" name=""/>
              <p:cNvGrpSpPr/>
              <p:nvPr/>
            </p:nvGrpSpPr>
            <p:grpSpPr>
              <a:xfrm>
                <a:off x="869400" y="4607280"/>
                <a:ext cx="193680" cy="196920"/>
                <a:chOff x="869400" y="4607280"/>
                <a:chExt cx="193680" cy="196920"/>
              </a:xfrm>
            </p:grpSpPr>
            <p:sp>
              <p:nvSpPr>
                <p:cNvPr id="1673" name=""/>
                <p:cNvSpPr/>
                <p:nvPr/>
              </p:nvSpPr>
              <p:spPr>
                <a:xfrm rot="214200">
                  <a:off x="874800" y="4612680"/>
                  <a:ext cx="182520" cy="185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rot="214200">
                  <a:off x="874800" y="4612680"/>
                  <a:ext cx="182520" cy="1857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850320" y="4586400"/>
                <a:ext cx="233640" cy="238680"/>
                <a:chOff x="850320" y="4586400"/>
                <a:chExt cx="233640" cy="238680"/>
              </a:xfrm>
            </p:grpSpPr>
            <p:sp>
              <p:nvSpPr>
                <p:cNvPr id="1676" name=""/>
                <p:cNvSpPr/>
                <p:nvPr/>
              </p:nvSpPr>
              <p:spPr>
                <a:xfrm rot="214200">
                  <a:off x="856800" y="4592880"/>
                  <a:ext cx="219960" cy="22536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 rot="214200">
                  <a:off x="856800" y="4592880"/>
                  <a:ext cx="219960" cy="2253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869400" y="4607280"/>
                <a:ext cx="193680" cy="196920"/>
                <a:chOff x="869400" y="4607280"/>
                <a:chExt cx="193680" cy="196920"/>
              </a:xfrm>
            </p:grpSpPr>
            <p:sp>
              <p:nvSpPr>
                <p:cNvPr id="1679" name=""/>
                <p:cNvSpPr/>
                <p:nvPr/>
              </p:nvSpPr>
              <p:spPr>
                <a:xfrm rot="214200">
                  <a:off x="874800" y="4612680"/>
                  <a:ext cx="182520" cy="185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 rot="214200">
                  <a:off x="874800" y="4612680"/>
                  <a:ext cx="182520" cy="18576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1" name=""/>
              <p:cNvGrpSpPr/>
              <p:nvPr/>
            </p:nvGrpSpPr>
            <p:grpSpPr>
              <a:xfrm>
                <a:off x="869400" y="4607280"/>
                <a:ext cx="193680" cy="196920"/>
                <a:chOff x="869400" y="4607280"/>
                <a:chExt cx="193680" cy="196920"/>
              </a:xfrm>
            </p:grpSpPr>
            <p:sp>
              <p:nvSpPr>
                <p:cNvPr id="1682" name=""/>
                <p:cNvSpPr/>
                <p:nvPr/>
              </p:nvSpPr>
              <p:spPr>
                <a:xfrm rot="214200">
                  <a:off x="874800" y="4612680"/>
                  <a:ext cx="182520" cy="18576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rot="214200">
                  <a:off x="874800" y="4612680"/>
                  <a:ext cx="182520" cy="185760"/>
                </a:xfrm>
                <a:custGeom>
                  <a:avLst/>
                  <a:gdLst/>
                  <a:ahLst/>
                  <a:rect l="l" t="t" r="r" b="b"/>
                  <a:pathLst>
                    <a:path w="123" h="136">
                      <a:moveTo>
                        <a:pt x="123" y="68"/>
                      </a:moveTo>
                      <a:lnTo>
                        <a:pt x="72" y="66"/>
                      </a:lnTo>
                      <a:lnTo>
                        <a:pt x="118" y="42"/>
                      </a:lnTo>
                      <a:lnTo>
                        <a:pt x="71" y="62"/>
                      </a:lnTo>
                      <a:lnTo>
                        <a:pt x="105" y="20"/>
                      </a:lnTo>
                      <a:lnTo>
                        <a:pt x="68" y="58"/>
                      </a:lnTo>
                      <a:lnTo>
                        <a:pt x="85" y="5"/>
                      </a:lnTo>
                      <a:lnTo>
                        <a:pt x="64" y="56"/>
                      </a:lnTo>
                      <a:lnTo>
                        <a:pt x="62" y="0"/>
                      </a:lnTo>
                      <a:lnTo>
                        <a:pt x="60" y="56"/>
                      </a:lnTo>
                      <a:lnTo>
                        <a:pt x="38" y="5"/>
                      </a:lnTo>
                      <a:lnTo>
                        <a:pt x="56" y="58"/>
                      </a:lnTo>
                      <a:lnTo>
                        <a:pt x="18" y="20"/>
                      </a:lnTo>
                      <a:lnTo>
                        <a:pt x="53" y="62"/>
                      </a:lnTo>
                      <a:lnTo>
                        <a:pt x="5" y="42"/>
                      </a:lnTo>
                      <a:lnTo>
                        <a:pt x="51" y="66"/>
                      </a:lnTo>
                      <a:lnTo>
                        <a:pt x="0" y="68"/>
                      </a:lnTo>
                      <a:lnTo>
                        <a:pt x="51" y="71"/>
                      </a:lnTo>
                      <a:lnTo>
                        <a:pt x="5" y="94"/>
                      </a:lnTo>
                      <a:lnTo>
                        <a:pt x="53" y="75"/>
                      </a:lnTo>
                      <a:lnTo>
                        <a:pt x="18" y="116"/>
                      </a:lnTo>
                      <a:lnTo>
                        <a:pt x="56" y="78"/>
                      </a:lnTo>
                      <a:lnTo>
                        <a:pt x="38" y="131"/>
                      </a:lnTo>
                      <a:lnTo>
                        <a:pt x="60" y="80"/>
                      </a:lnTo>
                      <a:lnTo>
                        <a:pt x="62" y="136"/>
                      </a:lnTo>
                      <a:lnTo>
                        <a:pt x="64" y="80"/>
                      </a:lnTo>
                      <a:lnTo>
                        <a:pt x="85" y="131"/>
                      </a:lnTo>
                      <a:lnTo>
                        <a:pt x="68" y="78"/>
                      </a:lnTo>
                      <a:lnTo>
                        <a:pt x="105" y="116"/>
                      </a:lnTo>
                      <a:lnTo>
                        <a:pt x="71" y="75"/>
                      </a:lnTo>
                      <a:lnTo>
                        <a:pt x="118" y="94"/>
                      </a:lnTo>
                      <a:lnTo>
                        <a:pt x="72" y="71"/>
                      </a:lnTo>
                      <a:lnTo>
                        <a:pt x="123" y="68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4" name=""/>
              <p:cNvSpPr/>
              <p:nvPr/>
            </p:nvSpPr>
            <p:spPr>
              <a:xfrm rot="214200">
                <a:off x="105840" y="4428000"/>
                <a:ext cx="2160" cy="135360"/>
              </a:xfrm>
              <a:custGeom>
                <a:avLst/>
                <a:gdLst/>
                <a:ahLst/>
                <a:rect l="l" t="t" r="r" b="b"/>
                <a:pathLst>
                  <a:path w="4" h="232">
                    <a:moveTo>
                      <a:pt x="0" y="0"/>
                    </a:moveTo>
                    <a:lnTo>
                      <a:pt x="4" y="232"/>
                    </a:ln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85" name=""/>
              <p:cNvGrpSpPr/>
              <p:nvPr/>
            </p:nvGrpSpPr>
            <p:grpSpPr>
              <a:xfrm>
                <a:off x="21240" y="4428360"/>
                <a:ext cx="173160" cy="165960"/>
                <a:chOff x="21240" y="4428360"/>
                <a:chExt cx="173160" cy="165960"/>
              </a:xfrm>
            </p:grpSpPr>
            <p:sp>
              <p:nvSpPr>
                <p:cNvPr id="1686" name=""/>
                <p:cNvSpPr/>
                <p:nvPr/>
              </p:nvSpPr>
              <p:spPr>
                <a:xfrm flipH="1">
                  <a:off x="101160" y="4428360"/>
                  <a:ext cx="9000" cy="16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rot="214200">
                  <a:off x="21960" y="4483800"/>
                  <a:ext cx="171720" cy="28080"/>
                </a:xfrm>
                <a:custGeom>
                  <a:avLst/>
                  <a:gdLst/>
                  <a:ahLst/>
                  <a:rect l="l" t="t" r="r" b="b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8" name=""/>
              <p:cNvSpPr/>
              <p:nvPr/>
            </p:nvSpPr>
            <p:spPr>
              <a:xfrm rot="214200">
                <a:off x="172080" y="4196880"/>
                <a:ext cx="1007640" cy="462240"/>
              </a:xfrm>
              <a:custGeom>
                <a:avLst/>
                <a:gdLst/>
                <a:ahLst/>
                <a:rect l="l" t="t" r="r" b="b"/>
                <a:pathLst>
                  <a:path w="1782" h="792">
                    <a:moveTo>
                      <a:pt x="0" y="127"/>
                    </a:moveTo>
                    <a:lnTo>
                      <a:pt x="105" y="0"/>
                    </a:lnTo>
                    <a:lnTo>
                      <a:pt x="1585" y="0"/>
                    </a:lnTo>
                    <a:lnTo>
                      <a:pt x="1782" y="88"/>
                    </a:lnTo>
                    <a:lnTo>
                      <a:pt x="1782" y="660"/>
                    </a:lnTo>
                    <a:lnTo>
                      <a:pt x="1683" y="792"/>
                    </a:lnTo>
                    <a:lnTo>
                      <a:pt x="105" y="792"/>
                    </a:lnTo>
                    <a:lnTo>
                      <a:pt x="6" y="704"/>
                    </a:lnTo>
                    <a:lnTo>
                      <a:pt x="8" y="116"/>
                    </a:lnTo>
                  </a:path>
                </a:pathLst>
              </a:custGeom>
              <a:gradFill rotWithShape="0">
                <a:gsLst>
                  <a:gs pos="0">
                    <a:srgbClr val="00d200"/>
                  </a:gs>
                  <a:gs pos="50000">
                    <a:srgbClr val="008000"/>
                  </a:gs>
                  <a:gs pos="100000">
                    <a:srgbClr val="00d200"/>
                  </a:gs>
                </a:gsLst>
                <a:lin ang="13500000"/>
              </a:gradFill>
              <a:ln w="9360">
                <a:solidFill>
                  <a:srgbClr val="ffffff"/>
                </a:solidFill>
                <a:round/>
              </a:ln>
              <a:effectLst>
                <a:outerShdw dist="107932" dir="18900000" blurRad="0" rotWithShape="0">
                  <a:srgbClr val="0048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89" name=""/>
              <p:cNvGrpSpPr/>
              <p:nvPr/>
            </p:nvGrpSpPr>
            <p:grpSpPr>
              <a:xfrm>
                <a:off x="224280" y="4309200"/>
                <a:ext cx="928800" cy="194400"/>
                <a:chOff x="224280" y="4309200"/>
                <a:chExt cx="928800" cy="194400"/>
              </a:xfrm>
            </p:grpSpPr>
            <p:sp>
              <p:nvSpPr>
                <p:cNvPr id="1690" name=""/>
                <p:cNvSpPr/>
                <p:nvPr/>
              </p:nvSpPr>
              <p:spPr>
                <a:xfrm rot="214200">
                  <a:off x="228240" y="4312080"/>
                  <a:ext cx="9936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rot="214200">
                  <a:off x="344160" y="4319640"/>
                  <a:ext cx="9936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rot="214200">
                  <a:off x="460440" y="4326840"/>
                  <a:ext cx="9936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rot="214200">
                  <a:off x="580320" y="4334040"/>
                  <a:ext cx="9972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rot="214200">
                  <a:off x="700560" y="4341600"/>
                  <a:ext cx="9972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rot="214200">
                  <a:off x="816840" y="4348800"/>
                  <a:ext cx="9972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rot="214200">
                  <a:off x="1049040" y="4363560"/>
                  <a:ext cx="9972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rot="214200">
                  <a:off x="932760" y="4356360"/>
                  <a:ext cx="99720" cy="1368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8" name=""/>
              <p:cNvGrpSpPr/>
              <p:nvPr/>
            </p:nvGrpSpPr>
            <p:grpSpPr>
              <a:xfrm>
                <a:off x="379800" y="4108320"/>
                <a:ext cx="109800" cy="104760"/>
                <a:chOff x="379800" y="4108320"/>
                <a:chExt cx="109800" cy="104760"/>
              </a:xfrm>
            </p:grpSpPr>
            <p:sp>
              <p:nvSpPr>
                <p:cNvPr id="1699" name=""/>
                <p:cNvSpPr/>
                <p:nvPr/>
              </p:nvSpPr>
              <p:spPr>
                <a:xfrm rot="214200">
                  <a:off x="380520" y="4111560"/>
                  <a:ext cx="108360" cy="28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rot="214200">
                  <a:off x="405360" y="4111560"/>
                  <a:ext cx="54000" cy="99720"/>
                </a:xfrm>
                <a:custGeom>
                  <a:avLst/>
                  <a:gdLst/>
                  <a:ahLst/>
                  <a:rect l="l" t="t" r="r" b="b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1" name=""/>
              <p:cNvSpPr/>
              <p:nvPr/>
            </p:nvSpPr>
            <p:spPr>
              <a:xfrm rot="214200">
                <a:off x="188280" y="4603680"/>
                <a:ext cx="977040" cy="360"/>
              </a:xfrm>
              <a:custGeom>
                <a:avLst/>
                <a:gdLst/>
                <a:ahLst/>
                <a:rect l="l" t="t" r="r" b="b"/>
                <a:pathLst>
                  <a:path w="1728" h="1">
                    <a:moveTo>
                      <a:pt x="0" y="0"/>
                    </a:moveTo>
                    <a:cubicBezTo>
                      <a:pt x="0" y="0"/>
                      <a:pt x="864" y="0"/>
                      <a:pt x="1728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rot="214200">
                <a:off x="190080" y="4267080"/>
                <a:ext cx="996480" cy="360"/>
              </a:xfrm>
              <a:custGeom>
                <a:avLst/>
                <a:gdLst/>
                <a:ahLst/>
                <a:rect l="l" t="t" r="r" b="b"/>
                <a:pathLst>
                  <a:path w="1762" h="1">
                    <a:moveTo>
                      <a:pt x="0" y="0"/>
                    </a:moveTo>
                    <a:cubicBezTo>
                      <a:pt x="293" y="0"/>
                      <a:pt x="1395" y="0"/>
                      <a:pt x="1762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03" name=""/>
              <p:cNvGrpSpPr/>
              <p:nvPr/>
            </p:nvGrpSpPr>
            <p:grpSpPr>
              <a:xfrm>
                <a:off x="894600" y="4140360"/>
                <a:ext cx="109800" cy="104760"/>
                <a:chOff x="894600" y="4140360"/>
                <a:chExt cx="109800" cy="104760"/>
              </a:xfrm>
            </p:grpSpPr>
            <p:sp>
              <p:nvSpPr>
                <p:cNvPr id="1704" name=""/>
                <p:cNvSpPr/>
                <p:nvPr/>
              </p:nvSpPr>
              <p:spPr>
                <a:xfrm rot="214200">
                  <a:off x="895320" y="4143600"/>
                  <a:ext cx="108360" cy="28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rot="214200">
                  <a:off x="920160" y="4143600"/>
                  <a:ext cx="54000" cy="99720"/>
                </a:xfrm>
                <a:custGeom>
                  <a:avLst/>
                  <a:gdLst/>
                  <a:ahLst/>
                  <a:rect l="l" t="t" r="r" b="b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6" name=""/>
              <p:cNvSpPr/>
              <p:nvPr/>
            </p:nvSpPr>
            <p:spPr>
              <a:xfrm rot="214200">
                <a:off x="304200" y="4468320"/>
                <a:ext cx="9000" cy="1800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31"/>
                    </a:moveTo>
                    <a:cubicBezTo>
                      <a:pt x="5" y="21"/>
                      <a:pt x="16" y="0"/>
                      <a:pt x="16" y="0"/>
                    </a:cubicBezTo>
                    <a:cubicBezTo>
                      <a:pt x="16" y="0"/>
                      <a:pt x="5" y="21"/>
                      <a:pt x="0" y="31"/>
                    </a:cubicBezTo>
                    <a:close/>
                  </a:path>
                </a:pathLst>
              </a:custGeom>
              <a:solidFill>
                <a:srgbClr val="009999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rot="214200">
                <a:off x="213480" y="4270320"/>
                <a:ext cx="120960" cy="308160"/>
              </a:xfrm>
              <a:custGeom>
                <a:avLst/>
                <a:gdLst/>
                <a:ahLst/>
                <a:rect l="l" t="t" r="r" b="b"/>
                <a:pathLst>
                  <a:path w="214" h="528">
                    <a:moveTo>
                      <a:pt x="214" y="528"/>
                    </a:moveTo>
                    <a:lnTo>
                      <a:pt x="214" y="0"/>
                    </a:lnTo>
                    <a:lnTo>
                      <a:pt x="0" y="2"/>
                    </a:lnTo>
                    <a:lnTo>
                      <a:pt x="0" y="527"/>
                    </a:lnTo>
                    <a:lnTo>
                      <a:pt x="214" y="528"/>
                    </a:ln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8" name=""/>
            <p:cNvGrpSpPr/>
            <p:nvPr/>
          </p:nvGrpSpPr>
          <p:grpSpPr>
            <a:xfrm>
              <a:off x="1231200" y="4113000"/>
              <a:ext cx="1360080" cy="797760"/>
              <a:chOff x="1231200" y="4113000"/>
              <a:chExt cx="1360080" cy="797760"/>
            </a:xfrm>
          </p:grpSpPr>
          <p:grpSp>
            <p:nvGrpSpPr>
              <p:cNvPr id="1709" name=""/>
              <p:cNvGrpSpPr/>
              <p:nvPr/>
            </p:nvGrpSpPr>
            <p:grpSpPr>
              <a:xfrm>
                <a:off x="1985040" y="4644360"/>
                <a:ext cx="245880" cy="252720"/>
                <a:chOff x="1985040" y="4644360"/>
                <a:chExt cx="245880" cy="252720"/>
              </a:xfrm>
            </p:grpSpPr>
            <p:grpSp>
              <p:nvGrpSpPr>
                <p:cNvPr id="1710" name=""/>
                <p:cNvGrpSpPr/>
                <p:nvPr/>
              </p:nvGrpSpPr>
              <p:grpSpPr>
                <a:xfrm>
                  <a:off x="1985040" y="4644360"/>
                  <a:ext cx="245880" cy="252720"/>
                  <a:chOff x="1985040" y="4644360"/>
                  <a:chExt cx="245880" cy="252720"/>
                </a:xfrm>
              </p:grpSpPr>
              <p:grpSp>
                <p:nvGrpSpPr>
                  <p:cNvPr id="1711" name=""/>
                  <p:cNvGrpSpPr/>
                  <p:nvPr/>
                </p:nvGrpSpPr>
                <p:grpSpPr>
                  <a:xfrm>
                    <a:off x="1985040" y="4644360"/>
                    <a:ext cx="245880" cy="252720"/>
                    <a:chOff x="1985040" y="4644360"/>
                    <a:chExt cx="245880" cy="252720"/>
                  </a:xfrm>
                </p:grpSpPr>
                <p:grpSp>
                  <p:nvGrpSpPr>
                    <p:cNvPr id="1712" name=""/>
                    <p:cNvGrpSpPr/>
                    <p:nvPr/>
                  </p:nvGrpSpPr>
                  <p:grpSpPr>
                    <a:xfrm>
                      <a:off x="1985040" y="4644360"/>
                      <a:ext cx="245880" cy="252720"/>
                      <a:chOff x="1985040" y="4644360"/>
                      <a:chExt cx="245880" cy="252720"/>
                    </a:xfrm>
                  </p:grpSpPr>
                  <p:sp>
                    <p:nvSpPr>
                      <p:cNvPr id="1713" name=""/>
                      <p:cNvSpPr/>
                      <p:nvPr/>
                    </p:nvSpPr>
                    <p:spPr>
                      <a:xfrm rot="214200">
                        <a:off x="1991880" y="4651200"/>
                        <a:ext cx="231480" cy="23868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4" name=""/>
                      <p:cNvSpPr/>
                      <p:nvPr/>
                    </p:nvSpPr>
                    <p:spPr>
                      <a:xfrm rot="214200">
                        <a:off x="1991880" y="4651200"/>
                        <a:ext cx="231480" cy="23868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15" name=""/>
                    <p:cNvGrpSpPr/>
                    <p:nvPr/>
                  </p:nvGrpSpPr>
                  <p:grpSpPr>
                    <a:xfrm>
                      <a:off x="2005200" y="4665600"/>
                      <a:ext cx="203760" cy="209520"/>
                      <a:chOff x="2005200" y="4665600"/>
                      <a:chExt cx="203760" cy="209520"/>
                    </a:xfrm>
                  </p:grpSpPr>
                  <p:sp>
                    <p:nvSpPr>
                      <p:cNvPr id="1716" name=""/>
                      <p:cNvSpPr/>
                      <p:nvPr/>
                    </p:nvSpPr>
                    <p:spPr>
                      <a:xfrm rot="214200">
                        <a:off x="2010960" y="4671360"/>
                        <a:ext cx="191880" cy="198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7" name=""/>
                      <p:cNvSpPr/>
                      <p:nvPr/>
                    </p:nvSpPr>
                    <p:spPr>
                      <a:xfrm rot="214200">
                        <a:off x="2010960" y="4671360"/>
                        <a:ext cx="191880" cy="198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718" name=""/>
                  <p:cNvGrpSpPr/>
                  <p:nvPr/>
                </p:nvGrpSpPr>
                <p:grpSpPr>
                  <a:xfrm>
                    <a:off x="2005200" y="4665600"/>
                    <a:ext cx="203760" cy="209520"/>
                    <a:chOff x="2005200" y="4665600"/>
                    <a:chExt cx="203760" cy="209520"/>
                  </a:xfrm>
                </p:grpSpPr>
                <p:sp>
                  <p:nvSpPr>
                    <p:cNvPr id="1719" name=""/>
                    <p:cNvSpPr/>
                    <p:nvPr/>
                  </p:nvSpPr>
                  <p:spPr>
                    <a:xfrm rot="214200">
                      <a:off x="2010960" y="4671360"/>
                      <a:ext cx="191880" cy="19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0" name=""/>
                    <p:cNvSpPr/>
                    <p:nvPr/>
                  </p:nvSpPr>
                  <p:spPr>
                    <a:xfrm rot="214200">
                      <a:off x="2010960" y="4671360"/>
                      <a:ext cx="191880" cy="19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21" name=""/>
                <p:cNvGrpSpPr/>
                <p:nvPr/>
              </p:nvGrpSpPr>
              <p:grpSpPr>
                <a:xfrm>
                  <a:off x="1985040" y="4644360"/>
                  <a:ext cx="245880" cy="252720"/>
                  <a:chOff x="1985040" y="4644360"/>
                  <a:chExt cx="245880" cy="252720"/>
                </a:xfrm>
              </p:grpSpPr>
              <p:grpSp>
                <p:nvGrpSpPr>
                  <p:cNvPr id="1722" name=""/>
                  <p:cNvGrpSpPr/>
                  <p:nvPr/>
                </p:nvGrpSpPr>
                <p:grpSpPr>
                  <a:xfrm>
                    <a:off x="1985040" y="4644360"/>
                    <a:ext cx="245880" cy="252720"/>
                    <a:chOff x="1985040" y="4644360"/>
                    <a:chExt cx="245880" cy="252720"/>
                  </a:xfrm>
                </p:grpSpPr>
                <p:sp>
                  <p:nvSpPr>
                    <p:cNvPr id="1723" name=""/>
                    <p:cNvSpPr/>
                    <p:nvPr/>
                  </p:nvSpPr>
                  <p:spPr>
                    <a:xfrm rot="214200">
                      <a:off x="1991880" y="4651200"/>
                      <a:ext cx="231480" cy="23868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4" name=""/>
                    <p:cNvSpPr/>
                    <p:nvPr/>
                  </p:nvSpPr>
                  <p:spPr>
                    <a:xfrm rot="214200">
                      <a:off x="1991880" y="4651200"/>
                      <a:ext cx="231480" cy="2386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25" name=""/>
                  <p:cNvGrpSpPr/>
                  <p:nvPr/>
                </p:nvGrpSpPr>
                <p:grpSpPr>
                  <a:xfrm>
                    <a:off x="2005200" y="4665600"/>
                    <a:ext cx="203760" cy="209520"/>
                    <a:chOff x="2005200" y="4665600"/>
                    <a:chExt cx="203760" cy="209520"/>
                  </a:xfrm>
                </p:grpSpPr>
                <p:sp>
                  <p:nvSpPr>
                    <p:cNvPr id="1726" name=""/>
                    <p:cNvSpPr/>
                    <p:nvPr/>
                  </p:nvSpPr>
                  <p:spPr>
                    <a:xfrm rot="214200">
                      <a:off x="2010960" y="4671360"/>
                      <a:ext cx="191880" cy="198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7" name=""/>
                    <p:cNvSpPr/>
                    <p:nvPr/>
                  </p:nvSpPr>
                  <p:spPr>
                    <a:xfrm rot="214200">
                      <a:off x="2010960" y="4671360"/>
                      <a:ext cx="191880" cy="198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28" name=""/>
                <p:cNvGrpSpPr/>
                <p:nvPr/>
              </p:nvGrpSpPr>
              <p:grpSpPr>
                <a:xfrm>
                  <a:off x="2004480" y="4665960"/>
                  <a:ext cx="204480" cy="208440"/>
                  <a:chOff x="2004480" y="4665960"/>
                  <a:chExt cx="204480" cy="20844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 rot="214200">
                    <a:off x="2010240" y="4671720"/>
                    <a:ext cx="19260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 rot="214200">
                    <a:off x="2010240" y="4671720"/>
                    <a:ext cx="19260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1985040" y="4644360"/>
                  <a:ext cx="245880" cy="252720"/>
                  <a:chOff x="1985040" y="4644360"/>
                  <a:chExt cx="245880" cy="25272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 rot="214200">
                    <a:off x="1991880" y="4651200"/>
                    <a:ext cx="231480" cy="238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 rot="214200">
                    <a:off x="1991880" y="4651200"/>
                    <a:ext cx="231480" cy="2386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2004480" y="4665960"/>
                  <a:ext cx="204480" cy="208440"/>
                  <a:chOff x="2004480" y="4665960"/>
                  <a:chExt cx="204480" cy="20844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 rot="214200">
                    <a:off x="2010240" y="4671720"/>
                    <a:ext cx="192600" cy="196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 rot="214200">
                    <a:off x="2010240" y="4671720"/>
                    <a:ext cx="192600" cy="1969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7" name=""/>
                <p:cNvGrpSpPr/>
                <p:nvPr/>
              </p:nvGrpSpPr>
              <p:grpSpPr>
                <a:xfrm>
                  <a:off x="1985040" y="4644360"/>
                  <a:ext cx="245880" cy="252720"/>
                  <a:chOff x="1985040" y="4644360"/>
                  <a:chExt cx="245880" cy="252720"/>
                </a:xfrm>
              </p:grpSpPr>
              <p:sp>
                <p:nvSpPr>
                  <p:cNvPr id="1738" name=""/>
                  <p:cNvSpPr/>
                  <p:nvPr/>
                </p:nvSpPr>
                <p:spPr>
                  <a:xfrm rot="214200">
                    <a:off x="1991880" y="4651200"/>
                    <a:ext cx="231480" cy="238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 rot="214200">
                    <a:off x="1991880" y="4651200"/>
                    <a:ext cx="231480" cy="2386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0" name=""/>
                <p:cNvGrpSpPr/>
                <p:nvPr/>
              </p:nvGrpSpPr>
              <p:grpSpPr>
                <a:xfrm>
                  <a:off x="2004480" y="4665960"/>
                  <a:ext cx="204480" cy="208440"/>
                  <a:chOff x="2004480" y="4665960"/>
                  <a:chExt cx="204480" cy="208440"/>
                </a:xfrm>
              </p:grpSpPr>
              <p:sp>
                <p:nvSpPr>
                  <p:cNvPr id="1741" name=""/>
                  <p:cNvSpPr/>
                  <p:nvPr/>
                </p:nvSpPr>
                <p:spPr>
                  <a:xfrm rot="214200">
                    <a:off x="2010240" y="4671720"/>
                    <a:ext cx="192600" cy="196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 rot="214200">
                    <a:off x="2010240" y="4671720"/>
                    <a:ext cx="192600" cy="1969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3" name=""/>
                <p:cNvGrpSpPr/>
                <p:nvPr/>
              </p:nvGrpSpPr>
              <p:grpSpPr>
                <a:xfrm>
                  <a:off x="2004480" y="4665960"/>
                  <a:ext cx="204480" cy="208440"/>
                  <a:chOff x="2004480" y="4665960"/>
                  <a:chExt cx="204480" cy="208440"/>
                </a:xfrm>
              </p:grpSpPr>
              <p:sp>
                <p:nvSpPr>
                  <p:cNvPr id="1744" name=""/>
                  <p:cNvSpPr/>
                  <p:nvPr/>
                </p:nvSpPr>
                <p:spPr>
                  <a:xfrm rot="214200">
                    <a:off x="2010240" y="4671720"/>
                    <a:ext cx="19260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 rot="214200">
                    <a:off x="2010240" y="4671720"/>
                    <a:ext cx="19260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6" name=""/>
              <p:cNvGrpSpPr/>
              <p:nvPr/>
            </p:nvGrpSpPr>
            <p:grpSpPr>
              <a:xfrm>
                <a:off x="1659600" y="4623840"/>
                <a:ext cx="245880" cy="252720"/>
                <a:chOff x="1659600" y="4623840"/>
                <a:chExt cx="245880" cy="252720"/>
              </a:xfrm>
            </p:grpSpPr>
            <p:grpSp>
              <p:nvGrpSpPr>
                <p:cNvPr id="1747" name=""/>
                <p:cNvGrpSpPr/>
                <p:nvPr/>
              </p:nvGrpSpPr>
              <p:grpSpPr>
                <a:xfrm>
                  <a:off x="1659600" y="4623840"/>
                  <a:ext cx="245880" cy="252720"/>
                  <a:chOff x="1659600" y="4623840"/>
                  <a:chExt cx="245880" cy="252720"/>
                </a:xfrm>
              </p:grpSpPr>
              <p:grpSp>
                <p:nvGrpSpPr>
                  <p:cNvPr id="1748" name=""/>
                  <p:cNvGrpSpPr/>
                  <p:nvPr/>
                </p:nvGrpSpPr>
                <p:grpSpPr>
                  <a:xfrm>
                    <a:off x="1659600" y="4623840"/>
                    <a:ext cx="245880" cy="252720"/>
                    <a:chOff x="1659600" y="4623840"/>
                    <a:chExt cx="245880" cy="252720"/>
                  </a:xfrm>
                </p:grpSpPr>
                <p:grpSp>
                  <p:nvGrpSpPr>
                    <p:cNvPr id="1749" name=""/>
                    <p:cNvGrpSpPr/>
                    <p:nvPr/>
                  </p:nvGrpSpPr>
                  <p:grpSpPr>
                    <a:xfrm>
                      <a:off x="1659600" y="4623840"/>
                      <a:ext cx="245880" cy="252720"/>
                      <a:chOff x="1659600" y="4623840"/>
                      <a:chExt cx="245880" cy="252720"/>
                    </a:xfrm>
                  </p:grpSpPr>
                  <p:sp>
                    <p:nvSpPr>
                      <p:cNvPr id="1750" name=""/>
                      <p:cNvSpPr/>
                      <p:nvPr/>
                    </p:nvSpPr>
                    <p:spPr>
                      <a:xfrm rot="214200">
                        <a:off x="1666440" y="4630680"/>
                        <a:ext cx="231480" cy="23868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1" name=""/>
                      <p:cNvSpPr/>
                      <p:nvPr/>
                    </p:nvSpPr>
                    <p:spPr>
                      <a:xfrm rot="214200">
                        <a:off x="1666440" y="4630680"/>
                        <a:ext cx="231480" cy="23868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52" name=""/>
                    <p:cNvGrpSpPr/>
                    <p:nvPr/>
                  </p:nvGrpSpPr>
                  <p:grpSpPr>
                    <a:xfrm>
                      <a:off x="1679760" y="4645440"/>
                      <a:ext cx="203760" cy="209520"/>
                      <a:chOff x="1679760" y="4645440"/>
                      <a:chExt cx="203760" cy="209520"/>
                    </a:xfrm>
                  </p:grpSpPr>
                  <p:sp>
                    <p:nvSpPr>
                      <p:cNvPr id="1753" name=""/>
                      <p:cNvSpPr/>
                      <p:nvPr/>
                    </p:nvSpPr>
                    <p:spPr>
                      <a:xfrm rot="214200">
                        <a:off x="1685520" y="4651200"/>
                        <a:ext cx="191880" cy="198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4" name=""/>
                      <p:cNvSpPr/>
                      <p:nvPr/>
                    </p:nvSpPr>
                    <p:spPr>
                      <a:xfrm rot="214200">
                        <a:off x="1685520" y="4651200"/>
                        <a:ext cx="191880" cy="198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755" name=""/>
                  <p:cNvGrpSpPr/>
                  <p:nvPr/>
                </p:nvGrpSpPr>
                <p:grpSpPr>
                  <a:xfrm>
                    <a:off x="1679760" y="4645440"/>
                    <a:ext cx="203760" cy="209520"/>
                    <a:chOff x="1679760" y="4645440"/>
                    <a:chExt cx="203760" cy="209520"/>
                  </a:xfrm>
                </p:grpSpPr>
                <p:sp>
                  <p:nvSpPr>
                    <p:cNvPr id="1756" name=""/>
                    <p:cNvSpPr/>
                    <p:nvPr/>
                  </p:nvSpPr>
                  <p:spPr>
                    <a:xfrm rot="214200">
                      <a:off x="1685520" y="4651200"/>
                      <a:ext cx="191880" cy="19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7" name=""/>
                    <p:cNvSpPr/>
                    <p:nvPr/>
                  </p:nvSpPr>
                  <p:spPr>
                    <a:xfrm rot="214200">
                      <a:off x="1685520" y="4651200"/>
                      <a:ext cx="191880" cy="19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58" name=""/>
                <p:cNvGrpSpPr/>
                <p:nvPr/>
              </p:nvGrpSpPr>
              <p:grpSpPr>
                <a:xfrm>
                  <a:off x="1659600" y="4623840"/>
                  <a:ext cx="245880" cy="252720"/>
                  <a:chOff x="1659600" y="4623840"/>
                  <a:chExt cx="245880" cy="252720"/>
                </a:xfrm>
              </p:grpSpPr>
              <p:grpSp>
                <p:nvGrpSpPr>
                  <p:cNvPr id="1759" name=""/>
                  <p:cNvGrpSpPr/>
                  <p:nvPr/>
                </p:nvGrpSpPr>
                <p:grpSpPr>
                  <a:xfrm>
                    <a:off x="1659600" y="4623840"/>
                    <a:ext cx="245880" cy="252720"/>
                    <a:chOff x="1659600" y="4623840"/>
                    <a:chExt cx="245880" cy="252720"/>
                  </a:xfrm>
                </p:grpSpPr>
                <p:sp>
                  <p:nvSpPr>
                    <p:cNvPr id="1760" name=""/>
                    <p:cNvSpPr/>
                    <p:nvPr/>
                  </p:nvSpPr>
                  <p:spPr>
                    <a:xfrm rot="214200">
                      <a:off x="1666440" y="4630680"/>
                      <a:ext cx="231480" cy="23868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1" name=""/>
                    <p:cNvSpPr/>
                    <p:nvPr/>
                  </p:nvSpPr>
                  <p:spPr>
                    <a:xfrm rot="214200">
                      <a:off x="1666440" y="4630680"/>
                      <a:ext cx="231480" cy="2386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2" name=""/>
                  <p:cNvGrpSpPr/>
                  <p:nvPr/>
                </p:nvGrpSpPr>
                <p:grpSpPr>
                  <a:xfrm>
                    <a:off x="1679760" y="4645440"/>
                    <a:ext cx="203760" cy="209520"/>
                    <a:chOff x="1679760" y="4645440"/>
                    <a:chExt cx="203760" cy="209520"/>
                  </a:xfrm>
                </p:grpSpPr>
                <p:sp>
                  <p:nvSpPr>
                    <p:cNvPr id="1763" name=""/>
                    <p:cNvSpPr/>
                    <p:nvPr/>
                  </p:nvSpPr>
                  <p:spPr>
                    <a:xfrm rot="214200">
                      <a:off x="1685520" y="4651200"/>
                      <a:ext cx="191880" cy="198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4" name=""/>
                    <p:cNvSpPr/>
                    <p:nvPr/>
                  </p:nvSpPr>
                  <p:spPr>
                    <a:xfrm rot="214200">
                      <a:off x="1685520" y="4651200"/>
                      <a:ext cx="191880" cy="198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65" name=""/>
                <p:cNvGrpSpPr/>
                <p:nvPr/>
              </p:nvGrpSpPr>
              <p:grpSpPr>
                <a:xfrm>
                  <a:off x="1679040" y="4645440"/>
                  <a:ext cx="204480" cy="208440"/>
                  <a:chOff x="1679040" y="4645440"/>
                  <a:chExt cx="204480" cy="208440"/>
                </a:xfrm>
              </p:grpSpPr>
              <p:sp>
                <p:nvSpPr>
                  <p:cNvPr id="1766" name=""/>
                  <p:cNvSpPr/>
                  <p:nvPr/>
                </p:nvSpPr>
                <p:spPr>
                  <a:xfrm rot="214200">
                    <a:off x="1684800" y="4651200"/>
                    <a:ext cx="19260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7" name=""/>
                  <p:cNvSpPr/>
                  <p:nvPr/>
                </p:nvSpPr>
                <p:spPr>
                  <a:xfrm rot="214200">
                    <a:off x="1684800" y="4651200"/>
                    <a:ext cx="19260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8" name=""/>
                <p:cNvGrpSpPr/>
                <p:nvPr/>
              </p:nvGrpSpPr>
              <p:grpSpPr>
                <a:xfrm>
                  <a:off x="1659600" y="4623840"/>
                  <a:ext cx="245880" cy="252720"/>
                  <a:chOff x="1659600" y="4623840"/>
                  <a:chExt cx="245880" cy="252720"/>
                </a:xfrm>
              </p:grpSpPr>
              <p:sp>
                <p:nvSpPr>
                  <p:cNvPr id="1769" name=""/>
                  <p:cNvSpPr/>
                  <p:nvPr/>
                </p:nvSpPr>
                <p:spPr>
                  <a:xfrm rot="214200">
                    <a:off x="1666440" y="4630680"/>
                    <a:ext cx="231480" cy="238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 rot="214200">
                    <a:off x="1666440" y="4630680"/>
                    <a:ext cx="231480" cy="2386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1" name=""/>
                <p:cNvGrpSpPr/>
                <p:nvPr/>
              </p:nvGrpSpPr>
              <p:grpSpPr>
                <a:xfrm>
                  <a:off x="1679040" y="4645440"/>
                  <a:ext cx="204480" cy="208440"/>
                  <a:chOff x="1679040" y="4645440"/>
                  <a:chExt cx="204480" cy="208440"/>
                </a:xfrm>
              </p:grpSpPr>
              <p:sp>
                <p:nvSpPr>
                  <p:cNvPr id="1772" name=""/>
                  <p:cNvSpPr/>
                  <p:nvPr/>
                </p:nvSpPr>
                <p:spPr>
                  <a:xfrm rot="214200">
                    <a:off x="1684800" y="4651200"/>
                    <a:ext cx="192600" cy="196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3" name=""/>
                  <p:cNvSpPr/>
                  <p:nvPr/>
                </p:nvSpPr>
                <p:spPr>
                  <a:xfrm rot="214200">
                    <a:off x="1684800" y="4651200"/>
                    <a:ext cx="192600" cy="1969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4" name=""/>
                <p:cNvGrpSpPr/>
                <p:nvPr/>
              </p:nvGrpSpPr>
              <p:grpSpPr>
                <a:xfrm>
                  <a:off x="1659600" y="4623840"/>
                  <a:ext cx="245880" cy="252720"/>
                  <a:chOff x="1659600" y="4623840"/>
                  <a:chExt cx="245880" cy="252720"/>
                </a:xfrm>
              </p:grpSpPr>
              <p:sp>
                <p:nvSpPr>
                  <p:cNvPr id="1775" name=""/>
                  <p:cNvSpPr/>
                  <p:nvPr/>
                </p:nvSpPr>
                <p:spPr>
                  <a:xfrm rot="214200">
                    <a:off x="1666440" y="4630680"/>
                    <a:ext cx="231480" cy="238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 rot="214200">
                    <a:off x="1666440" y="4630680"/>
                    <a:ext cx="231480" cy="2386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7" name=""/>
                <p:cNvGrpSpPr/>
                <p:nvPr/>
              </p:nvGrpSpPr>
              <p:grpSpPr>
                <a:xfrm>
                  <a:off x="1679040" y="4645440"/>
                  <a:ext cx="204480" cy="208440"/>
                  <a:chOff x="1679040" y="4645440"/>
                  <a:chExt cx="204480" cy="208440"/>
                </a:xfrm>
              </p:grpSpPr>
              <p:sp>
                <p:nvSpPr>
                  <p:cNvPr id="1778" name=""/>
                  <p:cNvSpPr/>
                  <p:nvPr/>
                </p:nvSpPr>
                <p:spPr>
                  <a:xfrm rot="214200">
                    <a:off x="1684800" y="4651200"/>
                    <a:ext cx="192600" cy="196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9" name=""/>
                  <p:cNvSpPr/>
                  <p:nvPr/>
                </p:nvSpPr>
                <p:spPr>
                  <a:xfrm rot="214200">
                    <a:off x="1684800" y="4651200"/>
                    <a:ext cx="192600" cy="1969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0" name=""/>
                <p:cNvGrpSpPr/>
                <p:nvPr/>
              </p:nvGrpSpPr>
              <p:grpSpPr>
                <a:xfrm>
                  <a:off x="1679040" y="4645440"/>
                  <a:ext cx="204480" cy="208440"/>
                  <a:chOff x="1679040" y="4645440"/>
                  <a:chExt cx="204480" cy="208440"/>
                </a:xfrm>
              </p:grpSpPr>
              <p:sp>
                <p:nvSpPr>
                  <p:cNvPr id="1781" name=""/>
                  <p:cNvSpPr/>
                  <p:nvPr/>
                </p:nvSpPr>
                <p:spPr>
                  <a:xfrm rot="214200">
                    <a:off x="1684800" y="4651200"/>
                    <a:ext cx="19260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 rot="214200">
                    <a:off x="1684800" y="4651200"/>
                    <a:ext cx="19260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83" name=""/>
              <p:cNvGrpSpPr/>
              <p:nvPr/>
            </p:nvGrpSpPr>
            <p:grpSpPr>
              <a:xfrm>
                <a:off x="2400840" y="4556160"/>
                <a:ext cx="182520" cy="176040"/>
                <a:chOff x="2400840" y="4556160"/>
                <a:chExt cx="182520" cy="176040"/>
              </a:xfrm>
            </p:grpSpPr>
            <p:sp>
              <p:nvSpPr>
                <p:cNvPr id="1784" name=""/>
                <p:cNvSpPr/>
                <p:nvPr/>
              </p:nvSpPr>
              <p:spPr>
                <a:xfrm flipH="1">
                  <a:off x="2484720" y="4556160"/>
                  <a:ext cx="9360" cy="1760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rot="214200">
                  <a:off x="2401200" y="4615200"/>
                  <a:ext cx="181080" cy="29520"/>
                </a:xfrm>
                <a:custGeom>
                  <a:avLst/>
                  <a:gdLst/>
                  <a:ahLst/>
                  <a:rect l="l" t="t" r="r" b="b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402560" y="4606920"/>
                <a:ext cx="243360" cy="252000"/>
                <a:chOff x="1402560" y="4606920"/>
                <a:chExt cx="243360" cy="25200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402560" y="4606920"/>
                  <a:ext cx="243360" cy="252000"/>
                  <a:chOff x="1402560" y="4606920"/>
                  <a:chExt cx="243360" cy="252000"/>
                </a:xfrm>
              </p:grpSpPr>
              <p:grpSp>
                <p:nvGrpSpPr>
                  <p:cNvPr id="1788" name=""/>
                  <p:cNvGrpSpPr/>
                  <p:nvPr/>
                </p:nvGrpSpPr>
                <p:grpSpPr>
                  <a:xfrm>
                    <a:off x="1402560" y="4606920"/>
                    <a:ext cx="243360" cy="252000"/>
                    <a:chOff x="1402560" y="4606920"/>
                    <a:chExt cx="243360" cy="252000"/>
                  </a:xfrm>
                </p:grpSpPr>
                <p:grpSp>
                  <p:nvGrpSpPr>
                    <p:cNvPr id="1789" name=""/>
                    <p:cNvGrpSpPr/>
                    <p:nvPr/>
                  </p:nvGrpSpPr>
                  <p:grpSpPr>
                    <a:xfrm>
                      <a:off x="1402560" y="4606920"/>
                      <a:ext cx="243360" cy="252000"/>
                      <a:chOff x="1402560" y="4606920"/>
                      <a:chExt cx="243360" cy="252000"/>
                    </a:xfrm>
                  </p:grpSpPr>
                  <p:sp>
                    <p:nvSpPr>
                      <p:cNvPr id="1790" name=""/>
                      <p:cNvSpPr/>
                      <p:nvPr/>
                    </p:nvSpPr>
                    <p:spPr>
                      <a:xfrm rot="214200">
                        <a:off x="1409400" y="4613760"/>
                        <a:ext cx="228960" cy="23832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1" name=""/>
                      <p:cNvSpPr/>
                      <p:nvPr/>
                    </p:nvSpPr>
                    <p:spPr>
                      <a:xfrm rot="214200">
                        <a:off x="1409400" y="4613760"/>
                        <a:ext cx="228960" cy="23832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92" name=""/>
                    <p:cNvGrpSpPr/>
                    <p:nvPr/>
                  </p:nvGrpSpPr>
                  <p:grpSpPr>
                    <a:xfrm>
                      <a:off x="1422000" y="4628160"/>
                      <a:ext cx="201960" cy="209160"/>
                      <a:chOff x="1422000" y="4628160"/>
                      <a:chExt cx="201960" cy="209160"/>
                    </a:xfrm>
                  </p:grpSpPr>
                  <p:sp>
                    <p:nvSpPr>
                      <p:cNvPr id="1793" name=""/>
                      <p:cNvSpPr/>
                      <p:nvPr/>
                    </p:nvSpPr>
                    <p:spPr>
                      <a:xfrm rot="214200">
                        <a:off x="1427760" y="4633560"/>
                        <a:ext cx="190080" cy="1976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4" name=""/>
                      <p:cNvSpPr/>
                      <p:nvPr/>
                    </p:nvSpPr>
                    <p:spPr>
                      <a:xfrm rot="214200">
                        <a:off x="1427760" y="4633560"/>
                        <a:ext cx="190080" cy="197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795" name=""/>
                  <p:cNvGrpSpPr/>
                  <p:nvPr/>
                </p:nvGrpSpPr>
                <p:grpSpPr>
                  <a:xfrm>
                    <a:off x="1422000" y="4628160"/>
                    <a:ext cx="201960" cy="209160"/>
                    <a:chOff x="1422000" y="4628160"/>
                    <a:chExt cx="201960" cy="209160"/>
                  </a:xfrm>
                </p:grpSpPr>
                <p:sp>
                  <p:nvSpPr>
                    <p:cNvPr id="1796" name=""/>
                    <p:cNvSpPr/>
                    <p:nvPr/>
                  </p:nvSpPr>
                  <p:spPr>
                    <a:xfrm rot="214200">
                      <a:off x="1427760" y="4633560"/>
                      <a:ext cx="190080" cy="19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7" name=""/>
                    <p:cNvSpPr/>
                    <p:nvPr/>
                  </p:nvSpPr>
                  <p:spPr>
                    <a:xfrm rot="214200">
                      <a:off x="1427760" y="4633560"/>
                      <a:ext cx="190080" cy="19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98" name=""/>
                <p:cNvGrpSpPr/>
                <p:nvPr/>
              </p:nvGrpSpPr>
              <p:grpSpPr>
                <a:xfrm>
                  <a:off x="1402560" y="4606920"/>
                  <a:ext cx="243360" cy="252000"/>
                  <a:chOff x="1402560" y="4606920"/>
                  <a:chExt cx="243360" cy="252000"/>
                </a:xfrm>
              </p:grpSpPr>
              <p:grpSp>
                <p:nvGrpSpPr>
                  <p:cNvPr id="1799" name=""/>
                  <p:cNvGrpSpPr/>
                  <p:nvPr/>
                </p:nvGrpSpPr>
                <p:grpSpPr>
                  <a:xfrm>
                    <a:off x="1402560" y="4606920"/>
                    <a:ext cx="243360" cy="252000"/>
                    <a:chOff x="1402560" y="4606920"/>
                    <a:chExt cx="243360" cy="252000"/>
                  </a:xfrm>
                </p:grpSpPr>
                <p:sp>
                  <p:nvSpPr>
                    <p:cNvPr id="1800" name=""/>
                    <p:cNvSpPr/>
                    <p:nvPr/>
                  </p:nvSpPr>
                  <p:spPr>
                    <a:xfrm rot="214200">
                      <a:off x="1409400" y="4613760"/>
                      <a:ext cx="228960" cy="238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1" name=""/>
                    <p:cNvSpPr/>
                    <p:nvPr/>
                  </p:nvSpPr>
                  <p:spPr>
                    <a:xfrm rot="214200">
                      <a:off x="1409400" y="4613760"/>
                      <a:ext cx="228960" cy="2383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2" name=""/>
                  <p:cNvGrpSpPr/>
                  <p:nvPr/>
                </p:nvGrpSpPr>
                <p:grpSpPr>
                  <a:xfrm>
                    <a:off x="1422000" y="4628160"/>
                    <a:ext cx="201960" cy="209160"/>
                    <a:chOff x="1422000" y="4628160"/>
                    <a:chExt cx="201960" cy="209160"/>
                  </a:xfrm>
                </p:grpSpPr>
                <p:sp>
                  <p:nvSpPr>
                    <p:cNvPr id="1803" name=""/>
                    <p:cNvSpPr/>
                    <p:nvPr/>
                  </p:nvSpPr>
                  <p:spPr>
                    <a:xfrm rot="214200">
                      <a:off x="1427760" y="4633560"/>
                      <a:ext cx="190080" cy="19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4" name=""/>
                    <p:cNvSpPr/>
                    <p:nvPr/>
                  </p:nvSpPr>
                  <p:spPr>
                    <a:xfrm rot="214200">
                      <a:off x="1427760" y="4633560"/>
                      <a:ext cx="190080" cy="1976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05" name=""/>
                <p:cNvGrpSpPr/>
                <p:nvPr/>
              </p:nvGrpSpPr>
              <p:grpSpPr>
                <a:xfrm>
                  <a:off x="1422360" y="4628520"/>
                  <a:ext cx="202320" cy="208080"/>
                  <a:chOff x="1422360" y="4628520"/>
                  <a:chExt cx="202320" cy="208080"/>
                </a:xfrm>
              </p:grpSpPr>
              <p:sp>
                <p:nvSpPr>
                  <p:cNvPr id="1806" name=""/>
                  <p:cNvSpPr/>
                  <p:nvPr/>
                </p:nvSpPr>
                <p:spPr>
                  <a:xfrm rot="214200">
                    <a:off x="1428120" y="4633920"/>
                    <a:ext cx="19044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7" name=""/>
                  <p:cNvSpPr/>
                  <p:nvPr/>
                </p:nvSpPr>
                <p:spPr>
                  <a:xfrm rot="214200">
                    <a:off x="1428120" y="4633920"/>
                    <a:ext cx="19044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8" name=""/>
                <p:cNvGrpSpPr/>
                <p:nvPr/>
              </p:nvGrpSpPr>
              <p:grpSpPr>
                <a:xfrm>
                  <a:off x="1402560" y="4606920"/>
                  <a:ext cx="243360" cy="252000"/>
                  <a:chOff x="1402560" y="4606920"/>
                  <a:chExt cx="243360" cy="252000"/>
                </a:xfrm>
              </p:grpSpPr>
              <p:sp>
                <p:nvSpPr>
                  <p:cNvPr id="1809" name=""/>
                  <p:cNvSpPr/>
                  <p:nvPr/>
                </p:nvSpPr>
                <p:spPr>
                  <a:xfrm rot="214200">
                    <a:off x="1409400" y="4613760"/>
                    <a:ext cx="22896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0" name=""/>
                  <p:cNvSpPr/>
                  <p:nvPr/>
                </p:nvSpPr>
                <p:spPr>
                  <a:xfrm rot="214200">
                    <a:off x="1409400" y="4613760"/>
                    <a:ext cx="22896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1" name=""/>
                <p:cNvGrpSpPr/>
                <p:nvPr/>
              </p:nvGrpSpPr>
              <p:grpSpPr>
                <a:xfrm>
                  <a:off x="1422360" y="4628520"/>
                  <a:ext cx="202320" cy="208080"/>
                  <a:chOff x="1422360" y="4628520"/>
                  <a:chExt cx="202320" cy="208080"/>
                </a:xfrm>
              </p:grpSpPr>
              <p:sp>
                <p:nvSpPr>
                  <p:cNvPr id="1812" name=""/>
                  <p:cNvSpPr/>
                  <p:nvPr/>
                </p:nvSpPr>
                <p:spPr>
                  <a:xfrm rot="214200">
                    <a:off x="1428120" y="4633920"/>
                    <a:ext cx="19044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3" name=""/>
                  <p:cNvSpPr/>
                  <p:nvPr/>
                </p:nvSpPr>
                <p:spPr>
                  <a:xfrm rot="214200">
                    <a:off x="1428120" y="4633920"/>
                    <a:ext cx="19044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4" name=""/>
                <p:cNvGrpSpPr/>
                <p:nvPr/>
              </p:nvGrpSpPr>
              <p:grpSpPr>
                <a:xfrm>
                  <a:off x="1402560" y="4606920"/>
                  <a:ext cx="243360" cy="252000"/>
                  <a:chOff x="1402560" y="4606920"/>
                  <a:chExt cx="243360" cy="252000"/>
                </a:xfrm>
              </p:grpSpPr>
              <p:sp>
                <p:nvSpPr>
                  <p:cNvPr id="1815" name=""/>
                  <p:cNvSpPr/>
                  <p:nvPr/>
                </p:nvSpPr>
                <p:spPr>
                  <a:xfrm rot="214200">
                    <a:off x="1409400" y="4613760"/>
                    <a:ext cx="22896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6" name=""/>
                  <p:cNvSpPr/>
                  <p:nvPr/>
                </p:nvSpPr>
                <p:spPr>
                  <a:xfrm rot="214200">
                    <a:off x="1409400" y="4613760"/>
                    <a:ext cx="22896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7" name=""/>
                <p:cNvGrpSpPr/>
                <p:nvPr/>
              </p:nvGrpSpPr>
              <p:grpSpPr>
                <a:xfrm>
                  <a:off x="1422360" y="4628520"/>
                  <a:ext cx="202320" cy="208080"/>
                  <a:chOff x="1422360" y="4628520"/>
                  <a:chExt cx="202320" cy="208080"/>
                </a:xfrm>
              </p:grpSpPr>
              <p:sp>
                <p:nvSpPr>
                  <p:cNvPr id="1818" name=""/>
                  <p:cNvSpPr/>
                  <p:nvPr/>
                </p:nvSpPr>
                <p:spPr>
                  <a:xfrm rot="214200">
                    <a:off x="1428120" y="4633920"/>
                    <a:ext cx="19044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 rot="214200">
                    <a:off x="1428120" y="4633920"/>
                    <a:ext cx="19044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0" name=""/>
                <p:cNvGrpSpPr/>
                <p:nvPr/>
              </p:nvGrpSpPr>
              <p:grpSpPr>
                <a:xfrm>
                  <a:off x="1422360" y="4628520"/>
                  <a:ext cx="202320" cy="208080"/>
                  <a:chOff x="1422360" y="4628520"/>
                  <a:chExt cx="202320" cy="208080"/>
                </a:xfrm>
              </p:grpSpPr>
              <p:sp>
                <p:nvSpPr>
                  <p:cNvPr id="1821" name=""/>
                  <p:cNvSpPr/>
                  <p:nvPr/>
                </p:nvSpPr>
                <p:spPr>
                  <a:xfrm rot="214200">
                    <a:off x="1428120" y="4633920"/>
                    <a:ext cx="19044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 rot="214200">
                    <a:off x="1428120" y="4633920"/>
                    <a:ext cx="19044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23" name=""/>
              <p:cNvGrpSpPr/>
              <p:nvPr/>
            </p:nvGrpSpPr>
            <p:grpSpPr>
              <a:xfrm>
                <a:off x="2229120" y="4658400"/>
                <a:ext cx="245880" cy="252360"/>
                <a:chOff x="2229120" y="4658400"/>
                <a:chExt cx="245880" cy="252360"/>
              </a:xfrm>
            </p:grpSpPr>
            <p:grpSp>
              <p:nvGrpSpPr>
                <p:cNvPr id="1824" name=""/>
                <p:cNvGrpSpPr/>
                <p:nvPr/>
              </p:nvGrpSpPr>
              <p:grpSpPr>
                <a:xfrm>
                  <a:off x="2229120" y="4658400"/>
                  <a:ext cx="245880" cy="252360"/>
                  <a:chOff x="2229120" y="4658400"/>
                  <a:chExt cx="245880" cy="252360"/>
                </a:xfrm>
              </p:grpSpPr>
              <p:grpSp>
                <p:nvGrpSpPr>
                  <p:cNvPr id="1825" name=""/>
                  <p:cNvGrpSpPr/>
                  <p:nvPr/>
                </p:nvGrpSpPr>
                <p:grpSpPr>
                  <a:xfrm>
                    <a:off x="2229120" y="4658400"/>
                    <a:ext cx="245880" cy="252360"/>
                    <a:chOff x="2229120" y="4658400"/>
                    <a:chExt cx="245880" cy="252360"/>
                  </a:xfrm>
                </p:grpSpPr>
                <p:grpSp>
                  <p:nvGrpSpPr>
                    <p:cNvPr id="1826" name=""/>
                    <p:cNvGrpSpPr/>
                    <p:nvPr/>
                  </p:nvGrpSpPr>
                  <p:grpSpPr>
                    <a:xfrm>
                      <a:off x="2229120" y="4658400"/>
                      <a:ext cx="245880" cy="252360"/>
                      <a:chOff x="2229120" y="4658400"/>
                      <a:chExt cx="245880" cy="252360"/>
                    </a:xfrm>
                  </p:grpSpPr>
                  <p:sp>
                    <p:nvSpPr>
                      <p:cNvPr id="1827" name=""/>
                      <p:cNvSpPr/>
                      <p:nvPr/>
                    </p:nvSpPr>
                    <p:spPr>
                      <a:xfrm rot="214200">
                        <a:off x="2235960" y="4665240"/>
                        <a:ext cx="231480" cy="23832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8" name=""/>
                      <p:cNvSpPr/>
                      <p:nvPr/>
                    </p:nvSpPr>
                    <p:spPr>
                      <a:xfrm rot="214200">
                        <a:off x="2235960" y="4665240"/>
                        <a:ext cx="231480" cy="23832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29" name=""/>
                    <p:cNvGrpSpPr/>
                    <p:nvPr/>
                  </p:nvGrpSpPr>
                  <p:grpSpPr>
                    <a:xfrm>
                      <a:off x="2249280" y="4679640"/>
                      <a:ext cx="203760" cy="209160"/>
                      <a:chOff x="2249280" y="4679640"/>
                      <a:chExt cx="203760" cy="209160"/>
                    </a:xfrm>
                  </p:grpSpPr>
                  <p:sp>
                    <p:nvSpPr>
                      <p:cNvPr id="1830" name=""/>
                      <p:cNvSpPr/>
                      <p:nvPr/>
                    </p:nvSpPr>
                    <p:spPr>
                      <a:xfrm rot="214200">
                        <a:off x="2255040" y="4685400"/>
                        <a:ext cx="191880" cy="1976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1" name=""/>
                      <p:cNvSpPr/>
                      <p:nvPr/>
                    </p:nvSpPr>
                    <p:spPr>
                      <a:xfrm rot="214200">
                        <a:off x="2255040" y="4685400"/>
                        <a:ext cx="191880" cy="197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32" name=""/>
                  <p:cNvGrpSpPr/>
                  <p:nvPr/>
                </p:nvGrpSpPr>
                <p:grpSpPr>
                  <a:xfrm>
                    <a:off x="2249280" y="4679640"/>
                    <a:ext cx="203760" cy="209160"/>
                    <a:chOff x="2249280" y="4679640"/>
                    <a:chExt cx="203760" cy="209160"/>
                  </a:xfrm>
                </p:grpSpPr>
                <p:sp>
                  <p:nvSpPr>
                    <p:cNvPr id="1833" name=""/>
                    <p:cNvSpPr/>
                    <p:nvPr/>
                  </p:nvSpPr>
                  <p:spPr>
                    <a:xfrm rot="214200">
                      <a:off x="2255040" y="4685400"/>
                      <a:ext cx="191880" cy="19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4" name=""/>
                    <p:cNvSpPr/>
                    <p:nvPr/>
                  </p:nvSpPr>
                  <p:spPr>
                    <a:xfrm rot="214200">
                      <a:off x="2255040" y="4685400"/>
                      <a:ext cx="191880" cy="19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5" name=""/>
                <p:cNvGrpSpPr/>
                <p:nvPr/>
              </p:nvGrpSpPr>
              <p:grpSpPr>
                <a:xfrm>
                  <a:off x="2229120" y="4658400"/>
                  <a:ext cx="245880" cy="252360"/>
                  <a:chOff x="2229120" y="4658400"/>
                  <a:chExt cx="245880" cy="252360"/>
                </a:xfrm>
              </p:grpSpPr>
              <p:grpSp>
                <p:nvGrpSpPr>
                  <p:cNvPr id="1836" name=""/>
                  <p:cNvGrpSpPr/>
                  <p:nvPr/>
                </p:nvGrpSpPr>
                <p:grpSpPr>
                  <a:xfrm>
                    <a:off x="2229120" y="4658400"/>
                    <a:ext cx="245880" cy="252360"/>
                    <a:chOff x="2229120" y="4658400"/>
                    <a:chExt cx="245880" cy="252360"/>
                  </a:xfrm>
                </p:grpSpPr>
                <p:sp>
                  <p:nvSpPr>
                    <p:cNvPr id="1837" name=""/>
                    <p:cNvSpPr/>
                    <p:nvPr/>
                  </p:nvSpPr>
                  <p:spPr>
                    <a:xfrm rot="214200">
                      <a:off x="2235960" y="4665240"/>
                      <a:ext cx="231480" cy="238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8" name=""/>
                    <p:cNvSpPr/>
                    <p:nvPr/>
                  </p:nvSpPr>
                  <p:spPr>
                    <a:xfrm rot="214200">
                      <a:off x="2235960" y="4665240"/>
                      <a:ext cx="231480" cy="2383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9" name=""/>
                  <p:cNvGrpSpPr/>
                  <p:nvPr/>
                </p:nvGrpSpPr>
                <p:grpSpPr>
                  <a:xfrm>
                    <a:off x="2249280" y="4679640"/>
                    <a:ext cx="203760" cy="209160"/>
                    <a:chOff x="2249280" y="4679640"/>
                    <a:chExt cx="203760" cy="209160"/>
                  </a:xfrm>
                </p:grpSpPr>
                <p:sp>
                  <p:nvSpPr>
                    <p:cNvPr id="1840" name=""/>
                    <p:cNvSpPr/>
                    <p:nvPr/>
                  </p:nvSpPr>
                  <p:spPr>
                    <a:xfrm rot="214200">
                      <a:off x="2255040" y="4685400"/>
                      <a:ext cx="191880" cy="19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1" name=""/>
                    <p:cNvSpPr/>
                    <p:nvPr/>
                  </p:nvSpPr>
                  <p:spPr>
                    <a:xfrm rot="214200">
                      <a:off x="2255040" y="4685400"/>
                      <a:ext cx="191880" cy="1976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42" name=""/>
                <p:cNvGrpSpPr/>
                <p:nvPr/>
              </p:nvGrpSpPr>
              <p:grpSpPr>
                <a:xfrm>
                  <a:off x="2248560" y="4680000"/>
                  <a:ext cx="204480" cy="208080"/>
                  <a:chOff x="2248560" y="4680000"/>
                  <a:chExt cx="204480" cy="208080"/>
                </a:xfrm>
              </p:grpSpPr>
              <p:sp>
                <p:nvSpPr>
                  <p:cNvPr id="1843" name=""/>
                  <p:cNvSpPr/>
                  <p:nvPr/>
                </p:nvSpPr>
                <p:spPr>
                  <a:xfrm rot="214200">
                    <a:off x="2254320" y="4685760"/>
                    <a:ext cx="19260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4" name=""/>
                  <p:cNvSpPr/>
                  <p:nvPr/>
                </p:nvSpPr>
                <p:spPr>
                  <a:xfrm rot="214200">
                    <a:off x="2254320" y="4685760"/>
                    <a:ext cx="19260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5" name=""/>
                <p:cNvGrpSpPr/>
                <p:nvPr/>
              </p:nvGrpSpPr>
              <p:grpSpPr>
                <a:xfrm>
                  <a:off x="2229120" y="4658400"/>
                  <a:ext cx="245880" cy="252360"/>
                  <a:chOff x="2229120" y="4658400"/>
                  <a:chExt cx="245880" cy="252360"/>
                </a:xfrm>
              </p:grpSpPr>
              <p:sp>
                <p:nvSpPr>
                  <p:cNvPr id="1846" name=""/>
                  <p:cNvSpPr/>
                  <p:nvPr/>
                </p:nvSpPr>
                <p:spPr>
                  <a:xfrm rot="214200">
                    <a:off x="2235960" y="4665240"/>
                    <a:ext cx="23148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7" name=""/>
                  <p:cNvSpPr/>
                  <p:nvPr/>
                </p:nvSpPr>
                <p:spPr>
                  <a:xfrm rot="214200">
                    <a:off x="2235960" y="4665240"/>
                    <a:ext cx="23148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8" name=""/>
                <p:cNvGrpSpPr/>
                <p:nvPr/>
              </p:nvGrpSpPr>
              <p:grpSpPr>
                <a:xfrm>
                  <a:off x="2248560" y="4680000"/>
                  <a:ext cx="204480" cy="208080"/>
                  <a:chOff x="2248560" y="4680000"/>
                  <a:chExt cx="204480" cy="208080"/>
                </a:xfrm>
              </p:grpSpPr>
              <p:sp>
                <p:nvSpPr>
                  <p:cNvPr id="1849" name=""/>
                  <p:cNvSpPr/>
                  <p:nvPr/>
                </p:nvSpPr>
                <p:spPr>
                  <a:xfrm rot="214200">
                    <a:off x="2254320" y="4685760"/>
                    <a:ext cx="19260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0" name=""/>
                  <p:cNvSpPr/>
                  <p:nvPr/>
                </p:nvSpPr>
                <p:spPr>
                  <a:xfrm rot="214200">
                    <a:off x="2254320" y="4685760"/>
                    <a:ext cx="19260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1" name=""/>
                <p:cNvGrpSpPr/>
                <p:nvPr/>
              </p:nvGrpSpPr>
              <p:grpSpPr>
                <a:xfrm>
                  <a:off x="2229120" y="4658400"/>
                  <a:ext cx="245880" cy="252360"/>
                  <a:chOff x="2229120" y="4658400"/>
                  <a:chExt cx="245880" cy="252360"/>
                </a:xfrm>
              </p:grpSpPr>
              <p:sp>
                <p:nvSpPr>
                  <p:cNvPr id="1852" name=""/>
                  <p:cNvSpPr/>
                  <p:nvPr/>
                </p:nvSpPr>
                <p:spPr>
                  <a:xfrm rot="214200">
                    <a:off x="2235960" y="4665240"/>
                    <a:ext cx="231480" cy="2383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3" name=""/>
                  <p:cNvSpPr/>
                  <p:nvPr/>
                </p:nvSpPr>
                <p:spPr>
                  <a:xfrm rot="214200">
                    <a:off x="2235960" y="4665240"/>
                    <a:ext cx="231480" cy="23832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4" name=""/>
                <p:cNvGrpSpPr/>
                <p:nvPr/>
              </p:nvGrpSpPr>
              <p:grpSpPr>
                <a:xfrm>
                  <a:off x="2248560" y="4680000"/>
                  <a:ext cx="204480" cy="208080"/>
                  <a:chOff x="2248560" y="4680000"/>
                  <a:chExt cx="204480" cy="208080"/>
                </a:xfrm>
              </p:grpSpPr>
              <p:sp>
                <p:nvSpPr>
                  <p:cNvPr id="1855" name=""/>
                  <p:cNvSpPr/>
                  <p:nvPr/>
                </p:nvSpPr>
                <p:spPr>
                  <a:xfrm rot="214200">
                    <a:off x="2254320" y="4685760"/>
                    <a:ext cx="192600" cy="196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6" name=""/>
                  <p:cNvSpPr/>
                  <p:nvPr/>
                </p:nvSpPr>
                <p:spPr>
                  <a:xfrm rot="214200">
                    <a:off x="2254320" y="4685760"/>
                    <a:ext cx="192600" cy="1965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7" name=""/>
                <p:cNvGrpSpPr/>
                <p:nvPr/>
              </p:nvGrpSpPr>
              <p:grpSpPr>
                <a:xfrm>
                  <a:off x="2248560" y="4680000"/>
                  <a:ext cx="204480" cy="208080"/>
                  <a:chOff x="2248560" y="4680000"/>
                  <a:chExt cx="204480" cy="208080"/>
                </a:xfrm>
              </p:grpSpPr>
              <p:sp>
                <p:nvSpPr>
                  <p:cNvPr id="1858" name=""/>
                  <p:cNvSpPr/>
                  <p:nvPr/>
                </p:nvSpPr>
                <p:spPr>
                  <a:xfrm rot="214200">
                    <a:off x="2254320" y="4685760"/>
                    <a:ext cx="19260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9" name=""/>
                  <p:cNvSpPr/>
                  <p:nvPr/>
                </p:nvSpPr>
                <p:spPr>
                  <a:xfrm rot="214200">
                    <a:off x="2254320" y="4685760"/>
                    <a:ext cx="19260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60" name=""/>
              <p:cNvSpPr/>
              <p:nvPr/>
            </p:nvSpPr>
            <p:spPr>
              <a:xfrm rot="214200">
                <a:off x="1320120" y="4482720"/>
                <a:ext cx="2160" cy="143280"/>
              </a:xfrm>
              <a:custGeom>
                <a:avLst/>
                <a:gdLst/>
                <a:ahLst/>
                <a:rect l="l" t="t" r="r" b="b"/>
                <a:pathLst>
                  <a:path w="4" h="232">
                    <a:moveTo>
                      <a:pt x="0" y="0"/>
                    </a:moveTo>
                    <a:lnTo>
                      <a:pt x="4" y="232"/>
                    </a:ln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61" name=""/>
              <p:cNvGrpSpPr/>
              <p:nvPr/>
            </p:nvGrpSpPr>
            <p:grpSpPr>
              <a:xfrm>
                <a:off x="1231200" y="4483080"/>
                <a:ext cx="182520" cy="176400"/>
                <a:chOff x="1231200" y="4483080"/>
                <a:chExt cx="182520" cy="176400"/>
              </a:xfrm>
            </p:grpSpPr>
            <p:sp>
              <p:nvSpPr>
                <p:cNvPr id="1862" name=""/>
                <p:cNvSpPr/>
                <p:nvPr/>
              </p:nvSpPr>
              <p:spPr>
                <a:xfrm flipH="1">
                  <a:off x="1315080" y="4483080"/>
                  <a:ext cx="9720" cy="1764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 rot="214200">
                  <a:off x="1231560" y="4542480"/>
                  <a:ext cx="181080" cy="29520"/>
                </a:xfrm>
                <a:custGeom>
                  <a:avLst/>
                  <a:gdLst/>
                  <a:ahLst/>
                  <a:rect l="l" t="t" r="r" b="b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"/>
              <p:cNvSpPr/>
              <p:nvPr/>
            </p:nvSpPr>
            <p:spPr>
              <a:xfrm rot="214200">
                <a:off x="1389240" y="4241520"/>
                <a:ext cx="1181880" cy="489960"/>
              </a:xfrm>
              <a:custGeom>
                <a:avLst/>
                <a:gdLst/>
                <a:ahLst/>
                <a:rect l="l" t="t" r="r" b="b"/>
                <a:pathLst>
                  <a:path w="2088" h="891">
                    <a:moveTo>
                      <a:pt x="0" y="143"/>
                    </a:moveTo>
                    <a:lnTo>
                      <a:pt x="110" y="0"/>
                    </a:lnTo>
                    <a:lnTo>
                      <a:pt x="1668" y="0"/>
                    </a:lnTo>
                    <a:lnTo>
                      <a:pt x="1875" y="99"/>
                    </a:lnTo>
                    <a:lnTo>
                      <a:pt x="2088" y="513"/>
                    </a:lnTo>
                    <a:lnTo>
                      <a:pt x="2072" y="881"/>
                    </a:lnTo>
                    <a:lnTo>
                      <a:pt x="1771" y="891"/>
                    </a:lnTo>
                    <a:lnTo>
                      <a:pt x="110" y="891"/>
                    </a:lnTo>
                    <a:lnTo>
                      <a:pt x="6" y="792"/>
                    </a:lnTo>
                    <a:lnTo>
                      <a:pt x="8" y="131"/>
                    </a:lnTo>
                  </a:path>
                </a:pathLst>
              </a:custGeom>
              <a:gradFill rotWithShape="0">
                <a:gsLst>
                  <a:gs pos="0">
                    <a:srgbClr val="00d200"/>
                  </a:gs>
                  <a:gs pos="50000">
                    <a:srgbClr val="008000"/>
                  </a:gs>
                  <a:gs pos="100000">
                    <a:srgbClr val="00d200"/>
                  </a:gs>
                </a:gsLst>
                <a:lin ang="13500000"/>
              </a:gradFill>
              <a:ln w="9360">
                <a:solidFill>
                  <a:srgbClr val="ffffff"/>
                </a:solidFill>
                <a:round/>
              </a:ln>
              <a:effectLst>
                <a:outerShdw dist="107932" dir="18900000" blurRad="0" rotWithShape="0">
                  <a:srgbClr val="0048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rot="214200">
                <a:off x="1449360" y="4360320"/>
                <a:ext cx="105120" cy="1450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rot="214200">
                <a:off x="1693800" y="4375440"/>
                <a:ext cx="105120" cy="1450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rot="214200">
                <a:off x="2191320" y="4407480"/>
                <a:ext cx="131040" cy="1731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68" name=""/>
              <p:cNvGrpSpPr/>
              <p:nvPr/>
            </p:nvGrpSpPr>
            <p:grpSpPr>
              <a:xfrm>
                <a:off x="1608840" y="4143960"/>
                <a:ext cx="115560" cy="110520"/>
                <a:chOff x="1608840" y="4143960"/>
                <a:chExt cx="115560" cy="110520"/>
              </a:xfrm>
            </p:grpSpPr>
            <p:sp>
              <p:nvSpPr>
                <p:cNvPr id="1869" name=""/>
                <p:cNvSpPr/>
                <p:nvPr/>
              </p:nvSpPr>
              <p:spPr>
                <a:xfrm rot="214200">
                  <a:off x="1609560" y="4147200"/>
                  <a:ext cx="114120" cy="2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 rot="214200">
                  <a:off x="1635480" y="4147200"/>
                  <a:ext cx="56880" cy="105480"/>
                </a:xfrm>
                <a:custGeom>
                  <a:avLst/>
                  <a:gdLst/>
                  <a:ahLst/>
                  <a:rect l="l" t="t" r="r" b="b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1" name=""/>
              <p:cNvSpPr/>
              <p:nvPr/>
            </p:nvSpPr>
            <p:spPr>
              <a:xfrm rot="214200">
                <a:off x="1407240" y="4668840"/>
                <a:ext cx="1029240" cy="360"/>
              </a:xfrm>
              <a:custGeom>
                <a:avLst/>
                <a:gdLst/>
                <a:ahLst/>
                <a:rect l="l" t="t" r="r" b="b"/>
                <a:pathLst>
                  <a:path w="1728" h="1">
                    <a:moveTo>
                      <a:pt x="0" y="0"/>
                    </a:moveTo>
                    <a:cubicBezTo>
                      <a:pt x="0" y="0"/>
                      <a:pt x="864" y="0"/>
                      <a:pt x="1728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rot="214200">
                <a:off x="1408680" y="4312080"/>
                <a:ext cx="1049400" cy="360"/>
              </a:xfrm>
              <a:custGeom>
                <a:avLst/>
                <a:gdLst/>
                <a:ahLst/>
                <a:rect l="l" t="t" r="r" b="b"/>
                <a:pathLst>
                  <a:path w="1762" h="1">
                    <a:moveTo>
                      <a:pt x="0" y="0"/>
                    </a:moveTo>
                    <a:cubicBezTo>
                      <a:pt x="293" y="0"/>
                      <a:pt x="1395" y="0"/>
                      <a:pt x="1762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73" name=""/>
              <p:cNvGrpSpPr/>
              <p:nvPr/>
            </p:nvGrpSpPr>
            <p:grpSpPr>
              <a:xfrm>
                <a:off x="2150640" y="4177800"/>
                <a:ext cx="115560" cy="110520"/>
                <a:chOff x="2150640" y="4177800"/>
                <a:chExt cx="115560" cy="110520"/>
              </a:xfrm>
            </p:grpSpPr>
            <p:sp>
              <p:nvSpPr>
                <p:cNvPr id="1874" name=""/>
                <p:cNvSpPr/>
                <p:nvPr/>
              </p:nvSpPr>
              <p:spPr>
                <a:xfrm rot="214200">
                  <a:off x="2151360" y="4181040"/>
                  <a:ext cx="114120" cy="2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 rot="214200">
                  <a:off x="2177280" y="4181040"/>
                  <a:ext cx="56880" cy="105480"/>
                </a:xfrm>
                <a:custGeom>
                  <a:avLst/>
                  <a:gdLst/>
                  <a:ahLst/>
                  <a:rect l="l" t="t" r="r" b="b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6" name=""/>
              <p:cNvSpPr/>
              <p:nvPr/>
            </p:nvSpPr>
            <p:spPr>
              <a:xfrm rot="214200">
                <a:off x="1528560" y="452592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31"/>
                    </a:moveTo>
                    <a:cubicBezTo>
                      <a:pt x="5" y="21"/>
                      <a:pt x="16" y="0"/>
                      <a:pt x="16" y="0"/>
                    </a:cubicBezTo>
                    <a:cubicBezTo>
                      <a:pt x="16" y="0"/>
                      <a:pt x="5" y="21"/>
                      <a:pt x="0" y="31"/>
                    </a:cubicBezTo>
                    <a:close/>
                  </a:path>
                </a:pathLst>
              </a:custGeom>
              <a:solidFill>
                <a:srgbClr val="009999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rot="214200">
                <a:off x="1433160" y="4315680"/>
                <a:ext cx="127440" cy="326520"/>
              </a:xfrm>
              <a:custGeom>
                <a:avLst/>
                <a:gdLst/>
                <a:ahLst/>
                <a:rect l="l" t="t" r="r" b="b"/>
                <a:pathLst>
                  <a:path w="214" h="528">
                    <a:moveTo>
                      <a:pt x="214" y="528"/>
                    </a:moveTo>
                    <a:lnTo>
                      <a:pt x="214" y="0"/>
                    </a:lnTo>
                    <a:lnTo>
                      <a:pt x="0" y="2"/>
                    </a:lnTo>
                    <a:lnTo>
                      <a:pt x="0" y="527"/>
                    </a:lnTo>
                    <a:lnTo>
                      <a:pt x="214" y="528"/>
                    </a:ln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rot="214200">
                <a:off x="2337840" y="4329360"/>
                <a:ext cx="244440" cy="285840"/>
              </a:xfrm>
              <a:custGeom>
                <a:avLst/>
                <a:gdLst/>
                <a:ahLst/>
                <a:rect l="l" t="t" r="r" b="b"/>
                <a:pathLst>
                  <a:path w="432" h="520">
                    <a:moveTo>
                      <a:pt x="216" y="0"/>
                    </a:moveTo>
                    <a:lnTo>
                      <a:pt x="0" y="136"/>
                    </a:lnTo>
                    <a:lnTo>
                      <a:pt x="64" y="520"/>
                    </a:lnTo>
                    <a:lnTo>
                      <a:pt x="400" y="520"/>
                    </a:lnTo>
                    <a:lnTo>
                      <a:pt x="432" y="424"/>
                    </a:lnTo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rot="214200">
                <a:off x="2028600" y="4397040"/>
                <a:ext cx="131040" cy="1731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rot="214200">
                <a:off x="1882440" y="4126320"/>
                <a:ext cx="443520" cy="180360"/>
              </a:xfrm>
              <a:custGeom>
                <a:avLst/>
                <a:gdLst/>
                <a:ahLst/>
                <a:rect l="l" t="t" r="r" b="b"/>
                <a:pathLst>
                  <a:path w="784" h="328">
                    <a:moveTo>
                      <a:pt x="328" y="280"/>
                    </a:moveTo>
                    <a:lnTo>
                      <a:pt x="0" y="0"/>
                    </a:lnTo>
                    <a:lnTo>
                      <a:pt x="784" y="0"/>
                    </a:lnTo>
                    <a:lnTo>
                      <a:pt x="232" y="328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rot="214200">
                <a:off x="1861200" y="4386600"/>
                <a:ext cx="131040" cy="1731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82" name=""/>
          <p:cNvGrpSpPr/>
          <p:nvPr/>
        </p:nvGrpSpPr>
        <p:grpSpPr>
          <a:xfrm>
            <a:off x="8459640" y="4278960"/>
            <a:ext cx="594000" cy="668160"/>
            <a:chOff x="8459640" y="4278960"/>
            <a:chExt cx="594000" cy="668160"/>
          </a:xfrm>
        </p:grpSpPr>
        <p:grpSp>
          <p:nvGrpSpPr>
            <p:cNvPr id="1883" name=""/>
            <p:cNvGrpSpPr/>
            <p:nvPr/>
          </p:nvGrpSpPr>
          <p:grpSpPr>
            <a:xfrm>
              <a:off x="8459640" y="4294080"/>
              <a:ext cx="479160" cy="575640"/>
              <a:chOff x="8459640" y="4294080"/>
              <a:chExt cx="479160" cy="575640"/>
            </a:xfrm>
          </p:grpSpPr>
          <p:grpSp>
            <p:nvGrpSpPr>
              <p:cNvPr id="1884" name=""/>
              <p:cNvGrpSpPr/>
              <p:nvPr/>
            </p:nvGrpSpPr>
            <p:grpSpPr>
              <a:xfrm>
                <a:off x="8459640" y="4768560"/>
                <a:ext cx="209520" cy="101160"/>
                <a:chOff x="8459640" y="4768560"/>
                <a:chExt cx="209520" cy="101160"/>
              </a:xfrm>
            </p:grpSpPr>
            <p:sp>
              <p:nvSpPr>
                <p:cNvPr id="1885" name=""/>
                <p:cNvSpPr/>
                <p:nvPr/>
              </p:nvSpPr>
              <p:spPr>
                <a:xfrm>
                  <a:off x="8459640" y="4788720"/>
                  <a:ext cx="209520" cy="8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8488080" y="4778280"/>
                  <a:ext cx="161280" cy="6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8506800" y="4768560"/>
                  <a:ext cx="114840" cy="3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8" name=""/>
              <p:cNvSpPr/>
              <p:nvPr/>
            </p:nvSpPr>
            <p:spPr>
              <a:xfrm>
                <a:off x="8544240" y="4294080"/>
                <a:ext cx="394560" cy="474480"/>
              </a:xfrm>
              <a:custGeom>
                <a:avLst/>
                <a:gdLst/>
                <a:ahLst/>
                <a:rect l="l" t="t" r="r" b="b"/>
                <a:pathLst>
                  <a:path w="1009" h="664">
                    <a:moveTo>
                      <a:pt x="20" y="419"/>
                    </a:moveTo>
                    <a:lnTo>
                      <a:pt x="176" y="415"/>
                    </a:lnTo>
                    <a:lnTo>
                      <a:pt x="1009" y="394"/>
                    </a:lnTo>
                    <a:lnTo>
                      <a:pt x="830" y="208"/>
                    </a:lnTo>
                    <a:lnTo>
                      <a:pt x="944" y="0"/>
                    </a:lnTo>
                    <a:lnTo>
                      <a:pt x="0" y="38"/>
                    </a:lnTo>
                    <a:lnTo>
                      <a:pt x="33" y="664"/>
                    </a:lnTo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9" name=""/>
            <p:cNvSpPr/>
            <p:nvPr/>
          </p:nvSpPr>
          <p:spPr>
            <a:xfrm rot="21406800">
              <a:off x="8538480" y="4292280"/>
              <a:ext cx="497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304920" y="48006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8820000" y="5300640"/>
            <a:ext cx="15264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324000" y="4869000"/>
            <a:ext cx="8496000" cy="1031760"/>
          </a:xfrm>
          <a:custGeom>
            <a:avLst/>
            <a:gdLst/>
            <a:ahLst/>
            <a:rect l="l" t="t" r="r" b="b"/>
            <a:pathLst>
              <a:path w="5352" h="650">
                <a:moveTo>
                  <a:pt x="0" y="0"/>
                </a:moveTo>
                <a:cubicBezTo>
                  <a:pt x="404" y="174"/>
                  <a:pt x="809" y="348"/>
                  <a:pt x="1451" y="454"/>
                </a:cubicBezTo>
                <a:cubicBezTo>
                  <a:pt x="2093" y="560"/>
                  <a:pt x="3205" y="650"/>
                  <a:pt x="3855" y="635"/>
                </a:cubicBezTo>
                <a:cubicBezTo>
                  <a:pt x="4505" y="620"/>
                  <a:pt x="5110" y="408"/>
                  <a:pt x="5352" y="36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8172360" y="3357720"/>
            <a:ext cx="13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cc"/>
                </a:solidFill>
                <a:latin typeface="Arial"/>
              </a:rPr>
              <a:t>?</a:t>
            </a: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1601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601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342 0.09688 L -1.38778E-017 5.78035E-007 E">
                                      <p:cBhvr>
                                        <p:cTn id="233" dur="5000" fill="hold"/>
                                        <p:tgtEl>
                                          <p:spTgt spid="1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5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2000"/>
                                        <p:tgtEl>
                                          <p:spTgt spid="1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"/>
          <p:cNvSpPr/>
          <p:nvPr/>
        </p:nvSpPr>
        <p:spPr>
          <a:xfrm>
            <a:off x="971640" y="549360"/>
            <a:ext cx="69134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2 км/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20 к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6 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80 к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5 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5" name="" descr=""/>
          <p:cNvPicPr/>
          <p:nvPr/>
        </p:nvPicPr>
        <p:blipFill>
          <a:blip r:embed="rId1"/>
          <a:stretch/>
        </p:blipFill>
        <p:spPr>
          <a:xfrm>
            <a:off x="8172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restart="whenNotActive" nodeType="interactiveSeq" fill="hold">
                <p:stCondLst>
                  <p:cond evt="onClick">
                    <p:tgtEl>
                      <p:spTgt spid="1895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895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6124" fill="hold"/>
                                        <p:tgtEl>
                                          <p:spTgt spid="18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"/>
          <p:cNvSpPr/>
          <p:nvPr/>
        </p:nvSpPr>
        <p:spPr>
          <a:xfrm>
            <a:off x="324000" y="333360"/>
            <a:ext cx="828036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ончи пред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Чтобы найти скорость, нужно _____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расстояние умножить на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к  расстоянию добавить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расстояние разделить на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7T06:00:45Z</dcterms:created>
  <dc:creator>Родькина</dc:creator>
  <dc:description/>
  <dc:language>en-US</dc:language>
  <cp:lastModifiedBy>Nikolay</cp:lastModifiedBy>
  <dcterms:modified xsi:type="dcterms:W3CDTF">2015-03-14T07:52:44Z</dcterms:modified>
  <cp:revision>47</cp:revision>
  <dc:subject/>
  <dc:title>Слайд 1</dc:title>
</cp:coreProperties>
</file>