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7A71-A73E-431E-A3B3-0E0CDEC926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AC98-DC46-43DE-8CAF-218EB80008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75F8-8F59-4E1F-9D33-0DE082EC3E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43AF-6AD3-420B-9A53-0E2D4277D6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209A-2D12-4778-9BF8-63D95F9EAB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83C6-12B4-481E-AB32-AC5996604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A88F-6BF9-4D5E-B730-C6096289FA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745A-42D6-432D-B192-496AA14ECC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AF70-A6AB-4C7E-9794-30D4CB2788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326-D141-47CC-830F-CA8505EB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E81-00FC-4DB4-9436-7D92EBF6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5BA-D6C6-43AF-9502-4A5A04B5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71F-4722-4616-A62F-C549C7E9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B179-1087-4395-A4B0-F66E0A8B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A4EB-7EFB-415F-A6E0-7C215FD4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C552-B065-47C6-B614-7AB8B145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2411-E05E-469D-AB21-802B2869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4AF6-F3A6-49EB-9FF1-C99935C6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84A-9C72-4978-8D84-5E164EDA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E69F-A798-4DB2-A0F5-84DA7D3A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325-1433-43DE-9A99-968E7C09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31B0-1F22-43B5-8124-A3CACAC0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0996-56A0-4760-86FA-825ED319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8BAB-46BE-494A-803B-1AC518F2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A034-1184-43DE-A029-91E44468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6726-4308-48B7-B3B6-908FC17E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9EDE-35A3-4425-817E-A7B96FA0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A229-E18D-4FAC-80F5-15E84BEF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8421-21CB-45BB-8B35-EA275F8F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76F5-63D8-4CF4-A2FC-3485E9C0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D164C-110D-4440-B72B-33C72E3B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C3F-79D7-40A8-BCA3-7A8B2257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50EA-9633-473E-8A79-85777204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DC21-5312-46E1-AFD8-A08583D5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37BB-6932-4B46-9FEC-AE7CDEF5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66C7-7D4B-4D9B-8917-F5055D08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853A-AE09-41BC-9432-D3F05298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95F4-11DD-4343-A8BF-6DC4FE8E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2DD7-5B23-4EC1-9815-5BE47CB2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7127C-D487-4B72-95B6-5257C26C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1F12F-02A9-43FE-939D-A9D9D8B5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D4974-70E2-4B0E-A861-FFD02819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43D-9608-434E-B272-63B3C958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00E7-D787-4B68-AD1D-530702B9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C0875-3BC9-4233-823A-E0C3022C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97221-B2E4-4686-A63B-D70F4F7E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E51D2-7B7F-4360-A6C5-57291A24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653A6-AF68-4BF5-A4B3-EC5E164F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6199-A4C3-4BFC-915C-7EADF7F4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B24C-F43D-4013-928C-35D6910D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1A65-5850-4C1F-8542-E46D6EC4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1E99-8672-43FE-AA12-DDFFA213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9F55-7A5E-47CF-B7F0-8719CD86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B2C-C646-4BDC-8693-9BBEC6A6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4BE5-C713-4970-AFA3-FCAA0510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60E04-FBD3-4184-9AC6-9561D042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4C249-E18C-49AA-8AFF-D32CC59B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3C23C-77C8-4E8E-9679-14796887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0DB75-3125-4FB9-9940-ECC6E962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66AAD-638A-4DAE-9097-6333DBBE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666EB-9258-4CA6-833E-AE881A7D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F6474-0AC8-459A-976D-AF3CF82A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D67AA-BFDB-4BE1-AB70-4B7AA059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22833-478F-490F-8BC0-43D3644B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097-74FF-4D21-BFD8-AAE41945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EA4A9-47EB-4DDD-96C0-690D317F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182-504A-42DA-A70A-89EFCA97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991-DFF4-490F-8458-CF805ED4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22C-CC3C-499F-8C26-9A67F88F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B0DC-2AD1-4DAA-A3B9-EEE0D2E609F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F80D-A06D-4F6A-918B-7074DF31FBE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987C-4BF7-4C0A-A5E2-5EE0999850A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7D70-59A1-454C-ADEC-10621562EA5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7792-C383-4B5A-8BDA-ADF53A86E28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82520" y="189000"/>
            <a:ext cx="8163000" cy="272556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2" descr=""/>
          <p:cNvPicPr/>
          <p:nvPr/>
        </p:nvPicPr>
        <p:blipFill>
          <a:blip r:embed="rId2"/>
          <a:stretch/>
        </p:blipFill>
        <p:spPr>
          <a:xfrm>
            <a:off x="682560" y="2322360"/>
            <a:ext cx="7242120" cy="383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гровая деятельност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250920" y="1143000"/>
            <a:ext cx="5279760" cy="396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user\Desktop\1 класс\фото 1а\SDC12362.JPG"/>
          <p:cNvPicPr/>
          <p:nvPr/>
        </p:nvPicPr>
        <p:blipFill>
          <a:blip r:embed="rId2"/>
          <a:stretch/>
        </p:blipFill>
        <p:spPr>
          <a:xfrm>
            <a:off x="4500720" y="342900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филактика утомляем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Объект 7" descr=""/>
          <p:cNvPicPr/>
          <p:nvPr/>
        </p:nvPicPr>
        <p:blipFill>
          <a:blip r:embed="rId1"/>
          <a:stretch/>
        </p:blipFill>
        <p:spPr>
          <a:xfrm>
            <a:off x="30240" y="1268280"/>
            <a:ext cx="4416480" cy="3313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2" descr="C:\Users\user\Desktop\1 класс\фото 1а\SDC12387.JPG"/>
          <p:cNvPicPr/>
          <p:nvPr/>
        </p:nvPicPr>
        <p:blipFill>
          <a:blip r:embed="rId2"/>
          <a:stretch/>
        </p:blipFill>
        <p:spPr>
          <a:xfrm>
            <a:off x="4446720" y="3427560"/>
            <a:ext cx="42480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9" name="Picture 3" descr="E:\Вхождение в школьную жизнь\CIMG2033.JPG"/>
          <p:cNvPicPr/>
          <p:nvPr/>
        </p:nvPicPr>
        <p:blipFill>
          <a:blip r:embed="rId1"/>
          <a:stretch/>
        </p:blipFill>
        <p:spPr>
          <a:xfrm>
            <a:off x="406440" y="368280"/>
            <a:ext cx="7981920" cy="5986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2" name="Picture 2" descr="E:\Вхождение в школьную жизнь\CIMG2037.JPG"/>
          <p:cNvPicPr/>
          <p:nvPr/>
        </p:nvPicPr>
        <p:blipFill>
          <a:blip r:embed="rId1"/>
          <a:stretch/>
        </p:blipFill>
        <p:spPr>
          <a:xfrm>
            <a:off x="395280" y="333360"/>
            <a:ext cx="8064360" cy="6046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филактика утомляем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5" name="Picture 2" descr="C:\Users\user\Desktop\1 класс\фото 1а\SDC12454.JPG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 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7" name="Объект 5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705800" cy="5776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3000" y="549000"/>
            <a:ext cx="5085000" cy="4722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3" descr="E:\Вхождение в школьную жизнь\DSC01510.JPG"/>
          <p:cNvPicPr/>
          <p:nvPr/>
        </p:nvPicPr>
        <p:blipFill>
          <a:blip r:embed="rId1"/>
          <a:stretch/>
        </p:blipFill>
        <p:spPr>
          <a:xfrm>
            <a:off x="4214880" y="3519360"/>
            <a:ext cx="4863960" cy="2737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250920" y="169920"/>
            <a:ext cx="45403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ктивная позиция учащегос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4" name="Объект 7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769440" cy="5075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Объект 8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4897440" cy="6151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000" y="4437000"/>
            <a:ext cx="8218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спользования ИКТ на занятиях курса «Введение в школьную жизнь»</a:t>
            </a: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.</a:t>
            </a:r>
            <a:br>
              <a:rPr sz="32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0" name="Объект 8" descr=""/>
          <p:cNvPicPr/>
          <p:nvPr/>
        </p:nvPicPr>
        <p:blipFill>
          <a:blip r:embed="rId1"/>
          <a:stretch/>
        </p:blipFill>
        <p:spPr>
          <a:xfrm>
            <a:off x="1403280" y="279360"/>
            <a:ext cx="561672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49120" y="334800"/>
            <a:ext cx="5114880" cy="1524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9528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b45f07"/>
                </a:solidFill>
                <a:latin typeface="Verdana"/>
              </a:rPr>
              <a:t>заложить основы навыков учебного сотрудничества и школьного товариществ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</a:rPr>
              <a:t>оптимизировать переходный этап от дошкольного детства к обучению на ступени начального 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ист настроения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2" name="Объект 7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1767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освящение в первоклассник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4" name="Объект 8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8344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596880" y="549360"/>
            <a:ext cx="8547120" cy="1388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45f07"/>
                </a:solidFill>
                <a:latin typeface="Verdana"/>
              </a:rPr>
              <a:t>организация взаимодействия между детьми, как предпосылки навыков учебного сотрудничеств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45f07"/>
                </a:solidFill>
                <a:latin typeface="Verdana"/>
              </a:rPr>
              <a:t>формирование устойчивой учебной мотиваци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45f07"/>
                </a:solidFill>
                <a:latin typeface="Verdana"/>
              </a:rPr>
              <a:t>создание доброжелательной атмосфер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45f07"/>
                </a:solidFill>
                <a:latin typeface="Verdana"/>
              </a:rPr>
              <a:t>    </a:t>
            </a:r>
            <a:r>
              <a:rPr b="1" lang="ru-RU" sz="2600" spc="-1" strike="noStrike">
                <a:solidFill>
                  <a:srgbClr val="b45f07"/>
                </a:solidFill>
                <a:latin typeface="Verdana"/>
              </a:rPr>
              <a:t>в классе, как необходимого услов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45f07"/>
                </a:solidFill>
                <a:latin typeface="Verdana"/>
              </a:rPr>
              <a:t>    </a:t>
            </a:r>
            <a:r>
              <a:rPr b="1" lang="ru-RU" sz="2600" spc="-1" strike="noStrike">
                <a:solidFill>
                  <a:srgbClr val="b45f07"/>
                </a:solidFill>
                <a:latin typeface="Verdana"/>
              </a:rPr>
              <a:t>развития уверенности в себ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89000" y="444600"/>
            <a:ext cx="8510400" cy="188424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2" descr=""/>
          <p:cNvPicPr/>
          <p:nvPr/>
        </p:nvPicPr>
        <p:blipFill>
          <a:blip r:embed="rId2"/>
          <a:stretch/>
        </p:blipFill>
        <p:spPr>
          <a:xfrm>
            <a:off x="396720" y="2146320"/>
            <a:ext cx="8393400" cy="437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Содержание курса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2920" y="1700280"/>
            <a:ext cx="8172360" cy="439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07f09"/>
                </a:solidFill>
                <a:latin typeface="Verdana"/>
                <a:ea typeface="Times New Roman"/>
              </a:rPr>
              <a:t>Курс не совмещен с учебными предмета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07f09"/>
                </a:solidFill>
                <a:latin typeface="Verdana"/>
              </a:rPr>
              <a:t>Предметные курсы по обучению грамоте и математике начинаются на следующий учебный день после окончания учебного модульного курса «Введение в школьную жизнь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07f09"/>
                </a:solidFill>
                <a:latin typeface="Verdana"/>
              </a:rPr>
              <a:t>Знакомство ребенка с новым школьным миром организовывается на дошкольном материале: игре, рисовании, конструировании, элементарном экспериментирован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695160" y="-12600"/>
            <a:ext cx="8723520" cy="1377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9640" y="1096560"/>
            <a:ext cx="8136000" cy="576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Давайте познакомимс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 Режим дня школьни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 Я и мои товарищ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7" descr="C:\Users\user\Desktop\1 класс\фото 1а\SDC12393.JPG"/>
          <p:cNvPicPr/>
          <p:nvPr/>
        </p:nvPicPr>
        <p:blipFill>
          <a:blip r:embed="rId2"/>
          <a:stretch/>
        </p:blipFill>
        <p:spPr>
          <a:xfrm>
            <a:off x="5183280" y="1368360"/>
            <a:ext cx="3603600" cy="3500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Users\user\Desktop\1 класс\фото 1а\SDC12330.JPG"/>
          <p:cNvPicPr/>
          <p:nvPr/>
        </p:nvPicPr>
        <p:blipFill>
          <a:blip r:embed="rId3"/>
          <a:stretch/>
        </p:blipFill>
        <p:spPr>
          <a:xfrm>
            <a:off x="755640" y="1368360"/>
            <a:ext cx="3497400" cy="3500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461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79280" y="333360"/>
            <a:ext cx="8748720" cy="6524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Приветствие друг друг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Учимся работать вместе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 Детское сотрудничество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6" descr="C:\Users\user\Desktop\1 класс\фото 1а\SDC12375.JPG"/>
          <p:cNvPicPr/>
          <p:nvPr/>
        </p:nvPicPr>
        <p:blipFill>
          <a:blip r:embed="rId2"/>
          <a:stretch/>
        </p:blipFill>
        <p:spPr>
          <a:xfrm>
            <a:off x="250920" y="388800"/>
            <a:ext cx="4608360" cy="3457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572000" y="1773360"/>
            <a:ext cx="4014720" cy="280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461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68360" y="620640"/>
            <a:ext cx="8136000" cy="612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Как надо и как не надо спорить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Я хочу задать вопрос учителю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Работаем вместе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6" descr="E:\Вхождение в школьную жизнь\CIMG1992.JPG"/>
          <p:cNvPicPr/>
          <p:nvPr/>
        </p:nvPicPr>
        <p:blipFill>
          <a:blip r:embed="rId2"/>
          <a:stretch/>
        </p:blipFill>
        <p:spPr>
          <a:xfrm>
            <a:off x="1906560" y="333360"/>
            <a:ext cx="5759640" cy="412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229600" cy="146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68360" y="62064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Дискуссия. «Говорить не страшно.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Я хочу задать вопрос товарищу!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Verdana"/>
                <a:ea typeface="Times New Roman"/>
              </a:rPr>
              <a:t>Тема «Понятно ли мы говорим?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9" descr="E:\Вхождение в школьную жизнь\CIMG2106.JPG"/>
          <p:cNvPicPr/>
          <p:nvPr/>
        </p:nvPicPr>
        <p:blipFill>
          <a:blip r:embed="rId2"/>
          <a:stretch/>
        </p:blipFill>
        <p:spPr>
          <a:xfrm>
            <a:off x="1703520" y="404640"/>
            <a:ext cx="5113080" cy="383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18:28:16Z</dcterms:created>
  <dc:creator>User</dc:creator>
  <dc:description/>
  <dc:language>en-US</dc:language>
  <cp:lastModifiedBy>user</cp:lastModifiedBy>
  <dcterms:modified xsi:type="dcterms:W3CDTF">2015-03-16T08:18:23Z</dcterms:modified>
  <cp:revision>50</cp:revision>
  <dc:subject/>
  <dc:title>Слайд 1</dc:title>
</cp:coreProperties>
</file>