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F45-0AC6-491E-8996-A4032F2C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6B6-8794-4CB5-A1A5-C67F860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152-EC05-46B4-A5C2-73357326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FC7-6D88-4FAB-AB94-008625F8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A65F-464D-4F65-BD39-57536F6D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9A55-0822-4E26-ACC1-03CFFFE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AAD-BF6F-4C43-A34B-89DD638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8D92-284B-47F4-9FCF-BF9A568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B8A-934F-4E81-B482-4CB96B2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BE07-85E3-4793-8971-74DC8B2D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32D-96F9-4942-940F-500BF79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E04-4DA5-4649-9CD5-F397824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138-4BF5-40FC-8BB5-7A9B9FC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B442-0DA9-4F4C-8392-6B53C8FC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0C17-A376-4297-B4F0-8337221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B6C7-76E6-4A02-B121-33521CAC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10F-3111-4B2C-8540-EDF82376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3F4-B533-41B2-9F94-515B030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B21-AB74-48F9-803A-0FA2769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1FE-49E4-4C20-AB66-08F5666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E65-3E01-4BA4-AE24-54B9E34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93B-DA6E-4ECD-9034-9CE3CF81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7A0-311B-458B-8FDC-71D416E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953-F0CE-4AA0-A621-324C190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4BC-D43F-477C-B68F-C0C718BD2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0E0-7576-41AF-88E6-047092CB0D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765000"/>
            <a:ext cx="66294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КРАЕВОЙ КОНКУРС МЕТОДИЧЕСКИХ МАТЕРИАЛОВ ПО ПРИМЕНЕНИЮ ИНФОРМАЦИОННО-КОММУНИКАЦИОННЫХ ТЕХНОЛОГИЙ В РАБОТЕ КРУЖКОВ ПРОФЕССИОНАЛЬНО-ТЕХНИЧЕСКОГО ТВОРЧЕСТВА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01616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минация: Создание и использование авторских цифровых образователь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42" descr=""/>
          <p:cNvPicPr/>
          <p:nvPr/>
        </p:nvPicPr>
        <p:blipFill>
          <a:blip r:embed="rId1"/>
          <a:stretch/>
        </p:blipFill>
        <p:spPr>
          <a:xfrm>
            <a:off x="826920" y="277920"/>
            <a:ext cx="79218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7" descr=""/>
          <p:cNvPicPr/>
          <p:nvPr/>
        </p:nvPicPr>
        <p:blipFill>
          <a:blip r:embed="rId1"/>
          <a:stretch/>
        </p:blipFill>
        <p:spPr>
          <a:xfrm>
            <a:off x="1333440" y="554040"/>
            <a:ext cx="7005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82" descr=""/>
          <p:cNvPicPr/>
          <p:nvPr/>
        </p:nvPicPr>
        <p:blipFill>
          <a:blip r:embed="rId1"/>
          <a:stretch/>
        </p:blipFill>
        <p:spPr>
          <a:xfrm>
            <a:off x="1262160" y="622440"/>
            <a:ext cx="71434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бумагой может стать основой для любого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бумагой, в частности процесс вырезания и складывания определенных скульптур, требует  безграничного терпения, усидчивости и внимания. Бумажная архитектура не терпит спешки, ведь это настоящий враг творчеству. Потеря концентрации на одно мгновение может привести к провалу целого проекта. Но, завершив возведение чуда бумажной архитектуры, вы почувствуете невероятное умиротворение и удоволь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чего начинается любое изделие? Конечно с идеи, эскиза, рису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занятия:  Проектирование и создание макета подставки для каранда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дея бумажной архитектуры: Элементы подставки собираем при помощи пазов (без кле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 этап: Работаем с геометрическими формам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1200" y="1600200"/>
            <a:ext cx="569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Для работы необходимы: бумага, тонкий картон, линейка, карандаш, циркуль, ножницы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14400" y="3941640"/>
            <a:ext cx="3809880" cy="2189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предложенных шаблонов выбрать одну из форм, продумать количество элементов, способ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езать необходимое количество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 этап: Получаем объемные формы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51200" y="1600200"/>
            <a:ext cx="569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заготовках изделия отмечаем линии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езаем п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яем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не спешите вырезать пазы сразу во всех деталях, делайте это по мере соединения сторо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Для работы необходимы: заготовки изделия, линейка, карандаш, циркуль, ножницы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5900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3 этап: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Решаем возникшую проблему – соединение деталей стенок и дна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51200" y="1600200"/>
            <a:ext cx="569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Название разработки:  методическая разработка занятия кружка профессионально – технической направленности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и форма проведения мероприятия: занятие кружка «СамСтрою» по теме «Проектирование и создание макета подставки для карандаш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разработки: Гололобова Валерия Федоровна, преподаватель спец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цензент: Щербаха Н.Е., методист КГБОУ НПО ПУ №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и год выпуска разработки: КГБОУ НПО ПУ № 12,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работы необходимы: заготовки изделия,  ножницы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лучения объемной формы с дном, необходимо срезать часть детали боковых стенок до линии 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стойчивости изделия на опорных стенках срезать небольш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5900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4 этап: Выбор и изготовление модели будущего издели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51200" y="1600200"/>
            <a:ext cx="569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Для работы необходимы: тонкий картон, линейка, карандаш, циркуль, ножницы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делие с круглыми формами показалось наиболее интересным и безопасным, имеет четыре отдела для хранения карандашей и ру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ядок изготовления уже известен: рассчитать и вырезать детали и места соединения, собрать издел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и занят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занятия достигнута. Данная модель наиболее эстетична, проста в исполнении и содержит элементы бумажной архите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али данной модели могут служить шаблоном при изгото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выполнения данного изделия можно использовать тонкую фанеру, ДВ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Работы участников круж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6120" y="1600200"/>
            <a:ext cx="2752920" cy="2184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2160" y="1600200"/>
            <a:ext cx="2752920" cy="21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442880" y="3943440"/>
            <a:ext cx="275616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02160" y="3943440"/>
            <a:ext cx="2752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Автор методической разработки – Гололобова Валерия Федоровна, преподаватель спецдисциплин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КГБОУ НПО ПУ12, г.Николаевск-на-Амур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794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Содержание методической разработки</a:t>
            </a:r>
            <a:br>
              <a:rPr sz="24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Тема занятия: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Проектирование и создание макета подставки для карандашей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знакомить учащихся с разнообразием  форм бумажной архитек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учить  приемам проектирования и создания макета подставки для карандаш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творческих способностей при проектировании подставки для карандаш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спитание экологической культуры, художественного в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, технические сред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й проектор, видеоматериалы; плакаты с высказываниями о тру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ьное оснащение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картон, карандаш, линейка, циркуль, нож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мага – поистине одно из величайших изобретений человека. Этот удивительный материал применяется практически во всех сферах современной жизни. Благодаря своим уникальным свойствам, бумага очень ценится и в художественной среде. С ее помощью можно создавать не только шедевры живописи, но и оригинальные трехмерные фигур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Изложение дополнительного материал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Бумажная архитектура – 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идеи для создания изделий из древес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м известны такие виды декоративного прикладного творчества на бумажной основе, как оригами, бумагопластика, квиллинг. Одно из самых удивительных применений бумаги – это бумажная архите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12" descr=""/>
          <p:cNvPicPr/>
          <p:nvPr/>
        </p:nvPicPr>
        <p:blipFill>
          <a:blip r:embed="rId1"/>
          <a:stretch/>
        </p:blipFill>
        <p:spPr>
          <a:xfrm>
            <a:off x="4876920" y="1773360"/>
            <a:ext cx="38098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игами — этот искусство бумажной пластики, родившееся в Японии. Несмотря на то, что сама бумага появилась в Китае, именно в Японии научились складывать из нее удивительные по своей красоте фигурки. Может быть, свою роль здесь сыграло и то, что по-японски слова «бумага» и «бог» очень пох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75" descr=""/>
          <p:cNvPicPr/>
          <p:nvPr/>
        </p:nvPicPr>
        <p:blipFill>
          <a:blip r:embed="rId1"/>
          <a:stretch/>
        </p:blipFill>
        <p:spPr>
          <a:xfrm>
            <a:off x="4876920" y="2052720"/>
            <a:ext cx="38098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мажная или оригамная архитектура – это форма бумажного ремесла, в которой для изготовления используют листы бумаги или тонкого картона, которые надрезают и склад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06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9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8894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1" descr=""/>
          <p:cNvPicPr/>
          <p:nvPr/>
        </p:nvPicPr>
        <p:blipFill>
          <a:blip r:embed="rId1"/>
          <a:stretch/>
        </p:blipFill>
        <p:spPr>
          <a:xfrm>
            <a:off x="1195560" y="912960"/>
            <a:ext cx="7277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400" y="162864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мажная архитектура – популярное занятие не только в среде архитекторов-профессионалов, но и любителей. В настоящее время это искусство приобретает все больше поклонников, ежегодно в мире проводится множество выставок, на которых можно полюбоваться гениальными сооружениями из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Домашний Дек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5:01:19Z</dcterms:created>
  <dc:creator>мм</dc:creator>
  <dc:description/>
  <dc:language>en-US</dc:language>
  <cp:lastModifiedBy>мм</cp:lastModifiedBy>
  <dcterms:modified xsi:type="dcterms:W3CDTF">2015-03-17T06:30:10Z</dcterms:modified>
  <cp:revision>12</cp:revision>
  <dc:subject/>
  <dc:title>Бумажная архитектура</dc:title>
</cp:coreProperties>
</file>