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28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37.gif" ContentType="image/gif"/>
  <Override PartName="/ppt/media/image52.jpeg" ContentType="image/jpeg"/>
  <Override PartName="/ppt/media/image39.jpeg" ContentType="image/jpeg"/>
  <Override PartName="/ppt/media/image8.png" ContentType="image/png"/>
  <Override PartName="/ppt/media/image47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6.gif" ContentType="image/gif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979-8A3E-4BFA-AD03-145C7094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1BD-6DE9-4210-8E02-3C977B99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759-6921-431F-8FF9-11865F25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392-3777-4D95-81BA-83901056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0FCD-F099-4079-B5BA-E3122C1E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7189-7060-461B-8DD1-AE99587F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9D0C-E617-4F1B-AD5F-EFD56E25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A5E9-4D95-425A-BBDC-2B858455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FE04-7E98-4D10-A0F3-81A31775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34DD-4CC0-461A-BB5E-2DFE4144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8BB8-E597-4EFC-8780-06424DD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FC7-0A34-4CAF-880B-B5239A92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E67D-4C5D-454F-ACD5-70D22927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FE97-5477-483B-BBBF-779E6F90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E01-5DD1-459E-8614-EAC0B8E3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6ACD-5877-46EC-B4A1-E2191AEF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0E39-2BAE-4A03-BB55-19E7A6A6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5C3-0A32-4CF9-A92F-51502176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4E8-6D11-477E-82DB-1EA6E29E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0F3-380D-4DB3-A072-30F5E2AB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A67-8E25-457E-9480-3BF43096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8DD-9EB0-4675-974A-1603B5A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BB6-D695-4BCC-845C-851BA27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D8B-5768-455A-B408-6C3A999C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8A5F-3DC2-47A4-80D2-29E0AB87D94A}" type="datetime3">
              <a:rPr b="0" lang="en-US" sz="900" spc="-1" strike="noStrike">
                <a:solidFill>
                  <a:srgbClr val="404040"/>
                </a:solidFill>
                <a:latin typeface="Arial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41B-1289-4C8C-B217-5624DB1B4DC1}" type="slidenum">
              <a:rPr b="0" lang="en-US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3F9-D615-42C7-9CBD-A21E669F7EEC}" type="datetime3">
              <a:rPr b="0" lang="en-US" sz="900" spc="-1" strike="noStrike">
                <a:solidFill>
                  <a:srgbClr val="404040"/>
                </a:solidFill>
                <a:latin typeface="Arial"/>
              </a:rPr>
              <a:t>July 30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4AC4-6E15-48A2-8DC5-AB3361FC43A4}" type="slidenum">
              <a:rPr b="0" lang="en-US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2411280" y="1341360"/>
            <a:ext cx="46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835280" y="1218960"/>
            <a:ext cx="604836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БЛОК ЗАНЯТИЙ  ПО  ЭКОЛОГИЧЕСКОМУ  ВОСПИТАНИЮ В  СТАРШЕЙ 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8fe28a"/>
                </a:solidFill>
                <a:uFillTx/>
                <a:latin typeface="Arial"/>
              </a:rPr>
              <a:t>Комнатные растения наши друз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ЫПОЛНИЛА : АЛЕКСАНОВА М.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1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665440" cy="1968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"/>
          <p:cNvSpPr/>
          <p:nvPr/>
        </p:nvSpPr>
        <p:spPr>
          <a:xfrm>
            <a:off x="1979640" y="62064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3399"/>
                </a:solidFill>
                <a:uFillTx/>
                <a:latin typeface="Comic Sans MS"/>
              </a:rPr>
              <a:t>Комнатные растения наш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0009-022-Fialki"/>
          <p:cNvPicPr/>
          <p:nvPr/>
        </p:nvPicPr>
        <p:blipFill>
          <a:blip r:embed="rId2"/>
          <a:stretch/>
        </p:blipFill>
        <p:spPr>
          <a:xfrm>
            <a:off x="6300720" y="3933720"/>
            <a:ext cx="2224080" cy="19479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21.jpg"/>
          <p:cNvPicPr/>
          <p:nvPr/>
        </p:nvPicPr>
        <p:blipFill>
          <a:blip r:embed="rId3"/>
          <a:stretch/>
        </p:blipFill>
        <p:spPr>
          <a:xfrm>
            <a:off x="539640" y="3860640"/>
            <a:ext cx="1752840" cy="20876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flover_008.gif"/>
          <p:cNvPicPr/>
          <p:nvPr/>
        </p:nvPicPr>
        <p:blipFill>
          <a:blip r:embed="rId4"/>
          <a:stretch/>
        </p:blipFill>
        <p:spPr>
          <a:xfrm>
            <a:off x="179280" y="1484280"/>
            <a:ext cx="2389320" cy="1657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1257585369_xedera"/>
          <p:cNvPicPr/>
          <p:nvPr/>
        </p:nvPicPr>
        <p:blipFill>
          <a:blip r:embed="rId5"/>
          <a:stretch/>
        </p:blipFill>
        <p:spPr>
          <a:xfrm>
            <a:off x="3276720" y="2349360"/>
            <a:ext cx="2109600" cy="2880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39528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omic Sans MS"/>
              </a:rPr>
              <a:t>Гера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3132000" y="49417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omic Sans MS"/>
              </a:rPr>
              <a:t>Плю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6156360" y="3141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omic Sans MS"/>
              </a:rPr>
              <a:t>Алоэ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6227640" y="56610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omic Sans MS"/>
              </a:rPr>
              <a:t>Фиалк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95280" y="566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omic Sans MS"/>
              </a:rPr>
              <a:t>Бего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3399"/>
                </a:solidFill>
                <a:uFillTx/>
                <a:latin typeface="Comic Sans MS"/>
              </a:rPr>
              <a:t>Рекомендуемые растения для старшей группы детского сад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979640" y="1898640"/>
            <a:ext cx="4248000" cy="3873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116"/>
          <p:cNvPicPr/>
          <p:nvPr/>
        </p:nvPicPr>
        <p:blipFill>
          <a:blip r:embed="rId2"/>
          <a:stretch/>
        </p:blipFill>
        <p:spPr>
          <a:xfrm rot="20349600">
            <a:off x="7164360" y="5373720"/>
            <a:ext cx="1285920" cy="8380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3" descr="1039_babochkiz.narod.ru.gif"/>
          <p:cNvPicPr/>
          <p:nvPr/>
        </p:nvPicPr>
        <p:blipFill>
          <a:blip r:embed="rId3"/>
          <a:stretch/>
        </p:blipFill>
        <p:spPr>
          <a:xfrm>
            <a:off x="7380360" y="765000"/>
            <a:ext cx="857160" cy="2710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987640" y="549360"/>
            <a:ext cx="56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Стихи о комнатных раст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700360" y="422100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Китайской розой наз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Цветок любви и стр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Взгляни на красоту 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Забудь про все нап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 rot="20800800">
            <a:off x="-86760" y="1776960"/>
            <a:ext cx="448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822d"/>
                </a:solidFill>
                <a:latin typeface="Comic Sans MS"/>
              </a:rPr>
              <a:t>Хрустит за окошком морозный денёк.</a:t>
            </a:r>
            <a:br>
              <a:rPr sz="1600"/>
            </a:br>
            <a:r>
              <a:rPr b="1" lang="ru-RU" sz="1600" spc="-1" strike="noStrike">
                <a:solidFill>
                  <a:srgbClr val="66822d"/>
                </a:solidFill>
                <a:latin typeface="Comic Sans MS"/>
              </a:rPr>
              <a:t>Стоит на окошке цветок-огонёк.</a:t>
            </a:r>
            <a:br>
              <a:rPr sz="1600"/>
            </a:br>
            <a:r>
              <a:rPr b="1" lang="ru-RU" sz="1600" spc="-1" strike="noStrike">
                <a:solidFill>
                  <a:srgbClr val="66822d"/>
                </a:solidFill>
                <a:latin typeface="Comic Sans MS"/>
              </a:rPr>
              <a:t>Малиновым цветом цветут лепестки,</a:t>
            </a:r>
            <a:br>
              <a:rPr sz="1600"/>
            </a:br>
            <a:r>
              <a:rPr b="1" lang="ru-RU" sz="1600" spc="-1" strike="noStrike">
                <a:solidFill>
                  <a:srgbClr val="66822d"/>
                </a:solidFill>
                <a:latin typeface="Comic Sans MS"/>
              </a:rPr>
              <a:t>Как будто и вправду зажглись огоньки. </a:t>
            </a:r>
            <a:br>
              <a:rPr sz="1600"/>
            </a:br>
            <a:r>
              <a:rPr b="1" lang="ru-RU" sz="1600" spc="-1" strike="noStrike">
                <a:solidFill>
                  <a:srgbClr val="66822d"/>
                </a:solidFill>
                <a:latin typeface="Comic Sans MS"/>
              </a:rPr>
              <a:t>Его поливаю, его берегу,</a:t>
            </a:r>
            <a:br>
              <a:rPr sz="1600"/>
            </a:br>
            <a:r>
              <a:rPr b="1" lang="ru-RU" sz="1600" spc="-1" strike="noStrike">
                <a:solidFill>
                  <a:srgbClr val="66822d"/>
                </a:solidFill>
                <a:latin typeface="Comic Sans MS"/>
              </a:rPr>
              <a:t>Его подарить никому не могу!</a:t>
            </a:r>
            <a:br>
              <a:rPr sz="1600"/>
            </a:br>
            <a:r>
              <a:rPr b="1" lang="ru-RU" sz="1600" spc="-1" strike="noStrike">
                <a:solidFill>
                  <a:srgbClr val="66822d"/>
                </a:solidFill>
                <a:latin typeface="Comic Sans MS"/>
              </a:rPr>
              <a:t>Уж очень он ярок, уж очень хорош,</a:t>
            </a:r>
            <a:br>
              <a:rPr sz="1600"/>
            </a:br>
            <a:r>
              <a:rPr b="1" lang="ru-RU" sz="1600" spc="-1" strike="noStrike">
                <a:solidFill>
                  <a:srgbClr val="66822d"/>
                </a:solidFill>
                <a:latin typeface="Comic Sans MS"/>
              </a:rPr>
              <a:t>Уж очень на мамину сказку похож!</a:t>
            </a:r>
            <a:br>
              <a:rPr sz="1600"/>
            </a:br>
            <a:r>
              <a:rPr b="1" i="1" lang="ru-RU" sz="1600" spc="-1" strike="noStrike">
                <a:solidFill>
                  <a:srgbClr val="66822d"/>
                </a:solidFill>
                <a:latin typeface="Comic Sans MS"/>
              </a:rPr>
              <a:t>Е.Благ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rot="616800">
            <a:off x="4768560" y="2059920"/>
            <a:ext cx="4150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omic Sans MS"/>
              </a:rPr>
              <a:t>Говорят - алоэ, алоэ, - интересно, что это такое?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omic Sans MS"/>
              </a:rPr>
              <a:t>Какое оно алоэ – алое, голубое?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omic Sans MS"/>
              </a:rPr>
              <a:t>Доброе или злое? Маленькое или большое?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omic Sans MS"/>
              </a:rPr>
              <a:t>Хорошее или плохое?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omic Sans MS"/>
              </a:rPr>
              <a:t>Одного сослуживца папы буквально спасло алоэ.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omic Sans MS"/>
              </a:rPr>
              <a:t>А маминой лучшей подруге алоэ не помогло-э. 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omic Sans MS"/>
              </a:rPr>
              <a:t>И вот я увидел алоэ на комоде у тёти Зои.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omic Sans MS"/>
              </a:rPr>
              <a:t>На комоде у тёти Зои в горшочке росло алоэ: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omic Sans MS"/>
              </a:rPr>
              <a:t>Зелёное, небольшое, но колючее и кривое.</a:t>
            </a:r>
            <a:br>
              <a:rPr sz="1200"/>
            </a:br>
            <a:r>
              <a:rPr b="1" i="1" lang="ru-RU" sz="1200" spc="-1" strike="noStrike">
                <a:solidFill>
                  <a:srgbClr val="009900"/>
                </a:solidFill>
                <a:latin typeface="Comic Sans MS"/>
              </a:rPr>
              <a:t>Б. Захо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140360" y="90792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99"/>
                </a:solidFill>
                <a:uFillTx/>
                <a:latin typeface="Comic Sans MS"/>
              </a:rPr>
              <a:t>Загадки о комнатных раст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262440" y="1700280"/>
            <a:ext cx="433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Загадки о комнатных раст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Чтобы солнце сквозь стекло 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К нам в окошко не пекло, 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Я повешу шторочку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В белую оборочку, 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Не крючком плетеную — 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Живую и зеленую. (Традескан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379400" y="1629000"/>
            <a:ext cx="472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Лист с горбочком-желобочком, 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Шипы имеет, а ранить не умеет, 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Зато лечит нас в любой час. (Ало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Вышла балерина: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Блузка, как рябина.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Юбочка лиловая, лента васильковая.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Ножки, как точеные,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Туфли золоченые. (Фук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243760" y="4076640"/>
            <a:ext cx="334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9817"/>
                </a:solidFill>
                <a:latin typeface="Comic Sans MS"/>
              </a:rPr>
              <a:t>Стоит мокрый Ванек</a:t>
            </a:r>
            <a:br>
              <a:rPr sz="1800"/>
            </a:br>
            <a:r>
              <a:rPr b="1" lang="ru-RU" sz="1800" spc="-1" strike="noStrike">
                <a:solidFill>
                  <a:srgbClr val="689817"/>
                </a:solidFill>
                <a:latin typeface="Comic Sans MS"/>
              </a:rPr>
              <a:t>В кудрях красный огоне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9817"/>
                </a:solidFill>
                <a:latin typeface="Comic Sans MS"/>
              </a:rPr>
              <a:t>(Бальзам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9817"/>
                </a:solidFill>
                <a:latin typeface="Comic Sans MS"/>
              </a:rPr>
              <a:t>Щучий хвост </a:t>
            </a:r>
            <a:br>
              <a:rPr sz="1800"/>
            </a:br>
            <a:r>
              <a:rPr b="1" lang="ru-RU" sz="1800" spc="-1" strike="noStrike">
                <a:solidFill>
                  <a:srgbClr val="689817"/>
                </a:solidFill>
                <a:latin typeface="Comic Sans MS"/>
              </a:rPr>
              <a:t>В землю врос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9817"/>
                </a:solidFill>
                <a:latin typeface="Comic Sans MS"/>
              </a:rPr>
              <a:t>(Сансевь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85400" y="3789360"/>
            <a:ext cx="50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6222"/>
                </a:solidFill>
                <a:latin typeface="Comic Sans MS"/>
              </a:rPr>
              <a:t>Куст – оконный и балко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6222"/>
                </a:solidFill>
                <a:latin typeface="Comic Sans MS"/>
              </a:rPr>
              <a:t>Лист – пушистый и душист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6222"/>
                </a:solidFill>
                <a:latin typeface="Comic Sans MS"/>
              </a:rPr>
              <a:t>Он сборчатый и каемчат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6222"/>
                </a:solidFill>
                <a:latin typeface="Comic Sans MS"/>
              </a:rPr>
              <a:t>А цветы на окне – словно шапка в огн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6222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4d6222"/>
                </a:solidFill>
                <a:latin typeface="Comic Sans MS"/>
              </a:rPr>
              <a:t>(Герань)</a:t>
            </a:r>
            <a:r>
              <a:rPr b="0" lang="ru-RU" sz="1800" spc="-1" strike="noStrike">
                <a:solidFill>
                  <a:srgbClr val="4d6222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8" descr="P1020617"/>
          <p:cNvPicPr/>
          <p:nvPr/>
        </p:nvPicPr>
        <p:blipFill>
          <a:blip r:embed="rId1"/>
          <a:stretch/>
        </p:blipFill>
        <p:spPr>
          <a:xfrm>
            <a:off x="5867280" y="981000"/>
            <a:ext cx="3127320" cy="234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2"/>
          <p:cNvSpPr/>
          <p:nvPr/>
        </p:nvSpPr>
        <p:spPr>
          <a:xfrm>
            <a:off x="179280" y="2492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Рисуем как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4067280" y="404640"/>
            <a:ext cx="3671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Фотоотчет 1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4716360" y="4292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e28a"/>
                </a:solidFill>
                <a:latin typeface="Comic Sans MS"/>
              </a:rPr>
              <a:t>Лепим гера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3" descr="P1020662"/>
          <p:cNvPicPr/>
          <p:nvPr/>
        </p:nvPicPr>
        <p:blipFill>
          <a:blip r:embed="rId3"/>
          <a:stretch/>
        </p:blipFill>
        <p:spPr>
          <a:xfrm>
            <a:off x="395280" y="4221000"/>
            <a:ext cx="2824200" cy="2117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5" descr="P1020666"/>
          <p:cNvPicPr/>
          <p:nvPr/>
        </p:nvPicPr>
        <p:blipFill>
          <a:blip r:embed="rId4"/>
          <a:stretch/>
        </p:blipFill>
        <p:spPr>
          <a:xfrm>
            <a:off x="5940360" y="4149720"/>
            <a:ext cx="2968560" cy="2227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P1020667"/>
          <p:cNvPicPr/>
          <p:nvPr/>
        </p:nvPicPr>
        <p:blipFill>
          <a:blip r:embed="rId5"/>
          <a:stretch/>
        </p:blipFill>
        <p:spPr>
          <a:xfrm>
            <a:off x="3203640" y="1628640"/>
            <a:ext cx="2808360" cy="3745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7"/>
          <p:cNvSpPr/>
          <p:nvPr/>
        </p:nvSpPr>
        <p:spPr>
          <a:xfrm>
            <a:off x="5148360" y="292428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Лепим гер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2700360" y="515772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Экскурсия в соседнюю груп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5148360" y="58770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Раскрашиваем раскра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179280" y="602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e28a"/>
                </a:solidFill>
                <a:latin typeface="Comic Sans MS"/>
              </a:rPr>
              <a:t>д/и «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Чего ни стало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395280" y="5516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e28a"/>
                </a:solidFill>
                <a:latin typeface="Comic Sans MS"/>
              </a:rPr>
              <a:t>Выращиваем комнатные растения через расс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79280" y="2492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e28a"/>
                </a:solidFill>
                <a:latin typeface="Comic Sans MS"/>
              </a:rPr>
              <a:t>Рассматриваем кар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P1020574"/>
          <p:cNvPicPr/>
          <p:nvPr/>
        </p:nvPicPr>
        <p:blipFill>
          <a:blip r:embed="rId1"/>
          <a:stretch/>
        </p:blipFill>
        <p:spPr>
          <a:xfrm>
            <a:off x="900000" y="3573360"/>
            <a:ext cx="2540160" cy="1905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4067280" y="404640"/>
            <a:ext cx="3671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Фотоотчет 1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P1020661"/>
          <p:cNvPicPr/>
          <p:nvPr/>
        </p:nvPicPr>
        <p:blipFill>
          <a:blip r:embed="rId2"/>
          <a:stretch/>
        </p:blipFill>
        <p:spPr>
          <a:xfrm>
            <a:off x="6300720" y="4653000"/>
            <a:ext cx="2536920" cy="1903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1020668"/>
          <p:cNvPicPr/>
          <p:nvPr/>
        </p:nvPicPr>
        <p:blipFill>
          <a:blip r:embed="rId3"/>
          <a:stretch/>
        </p:blipFill>
        <p:spPr>
          <a:xfrm>
            <a:off x="5292720" y="1341360"/>
            <a:ext cx="3255840" cy="2441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1020665"/>
          <p:cNvPicPr/>
          <p:nvPr/>
        </p:nvPicPr>
        <p:blipFill>
          <a:blip r:embed="rId4"/>
          <a:stretch/>
        </p:blipFill>
        <p:spPr>
          <a:xfrm>
            <a:off x="324000" y="476280"/>
            <a:ext cx="2823840" cy="21175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6"/>
          <p:cNvSpPr/>
          <p:nvPr/>
        </p:nvSpPr>
        <p:spPr>
          <a:xfrm>
            <a:off x="5472000" y="6237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e28a"/>
                </a:solidFill>
                <a:latin typeface="Comic Sans MS"/>
              </a:rPr>
              <a:t>Д/и « Собери цвето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4500720" y="378936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e28a"/>
                </a:solidFill>
                <a:latin typeface="Comic Sans MS"/>
              </a:rPr>
              <a:t>Просматриваем слайдовые презент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1020575"/>
          <p:cNvPicPr/>
          <p:nvPr/>
        </p:nvPicPr>
        <p:blipFill>
          <a:blip r:embed="rId1"/>
          <a:stretch/>
        </p:blipFill>
        <p:spPr>
          <a:xfrm>
            <a:off x="2843280" y="1989000"/>
            <a:ext cx="3327480" cy="2495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P1020582"/>
          <p:cNvPicPr/>
          <p:nvPr/>
        </p:nvPicPr>
        <p:blipFill>
          <a:blip r:embed="rId2"/>
          <a:stretch/>
        </p:blipFill>
        <p:spPr>
          <a:xfrm>
            <a:off x="5888160" y="1197000"/>
            <a:ext cx="3255840" cy="24415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971640" y="189000"/>
            <a:ext cx="7127640" cy="12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Фотоотчет «Поможем чем смож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данная работа проводи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од руководством взрослог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472000" y="3284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Опрыски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P1020577"/>
          <p:cNvPicPr/>
          <p:nvPr/>
        </p:nvPicPr>
        <p:blipFill>
          <a:blip r:embed="rId3"/>
          <a:stretch/>
        </p:blipFill>
        <p:spPr>
          <a:xfrm>
            <a:off x="6032520" y="3933720"/>
            <a:ext cx="3111480" cy="2333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P1020579"/>
          <p:cNvPicPr/>
          <p:nvPr/>
        </p:nvPicPr>
        <p:blipFill>
          <a:blip r:embed="rId4"/>
          <a:stretch/>
        </p:blipFill>
        <p:spPr>
          <a:xfrm>
            <a:off x="3059280" y="450864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P1020580"/>
          <p:cNvPicPr/>
          <p:nvPr/>
        </p:nvPicPr>
        <p:blipFill>
          <a:blip r:embed="rId5"/>
          <a:stretch/>
        </p:blipFill>
        <p:spPr>
          <a:xfrm>
            <a:off x="179280" y="371628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P1020581"/>
          <p:cNvPicPr/>
          <p:nvPr/>
        </p:nvPicPr>
        <p:blipFill>
          <a:blip r:embed="rId6"/>
          <a:stretch/>
        </p:blipFill>
        <p:spPr>
          <a:xfrm>
            <a:off x="0" y="1341360"/>
            <a:ext cx="2840040" cy="2130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2"/>
          <p:cNvSpPr/>
          <p:nvPr/>
        </p:nvSpPr>
        <p:spPr>
          <a:xfrm>
            <a:off x="2916360" y="400536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Поли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5472000" y="5805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Протир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Удаляем кисточкой п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0" y="5516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Поливаем через под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0" y="2997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Рыхлим зем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4788000" y="333360"/>
            <a:ext cx="3671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Фотоотчет 2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P1020572"/>
          <p:cNvPicPr/>
          <p:nvPr/>
        </p:nvPicPr>
        <p:blipFill>
          <a:blip r:embed="rId1"/>
          <a:stretch/>
        </p:blipFill>
        <p:spPr>
          <a:xfrm>
            <a:off x="5364000" y="177336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1"/>
          <p:cNvPicPr/>
          <p:nvPr/>
        </p:nvPicPr>
        <p:blipFill>
          <a:blip r:embed="rId2"/>
          <a:stretch/>
        </p:blipFill>
        <p:spPr>
          <a:xfrm>
            <a:off x="0" y="83664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7" descr="1"/>
          <p:cNvPicPr/>
          <p:nvPr/>
        </p:nvPicPr>
        <p:blipFill>
          <a:blip r:embed="rId3"/>
          <a:stretch/>
        </p:blipFill>
        <p:spPr>
          <a:xfrm>
            <a:off x="2843280" y="357336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4"/>
          <p:cNvSpPr/>
          <p:nvPr/>
        </p:nvSpPr>
        <p:spPr>
          <a:xfrm>
            <a:off x="5472000" y="400536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00"/>
                </a:solidFill>
                <a:uFillTx/>
                <a:latin typeface="Comic Sans MS"/>
              </a:rPr>
              <a:t>Пополненный родителями уго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-324000" y="4076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00"/>
                </a:solidFill>
                <a:uFillTx/>
                <a:latin typeface="Comic Sans MS"/>
              </a:rPr>
              <a:t>Консультации 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2987640" y="6093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9900"/>
                </a:solidFill>
                <a:uFillTx/>
                <a:latin typeface="Comic Sans MS"/>
              </a:rPr>
              <a:t>Изготовление пособий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4067280" y="404640"/>
            <a:ext cx="3671640" cy="1608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Что нового вы узнали о комнатных растени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(вопросы детя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042920" y="1989000"/>
            <a:ext cx="727416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«Я узнала новое растение каланхоэ, если кто то порежет пальчик, то соком можно быстрее заживить рану»-Катя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«Я узнала, что спатифиллум не любит прямых солнечных лучей, лучше растет в тени»-Вика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«Я узнал, что алоэ лекарственное растение, им можно лечить насморк»-Денис 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«Я узнал, как правильно нужно поливать фиалки-в поддон»-Влад 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547640" y="981000"/>
            <a:ext cx="6409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99"/>
                </a:solidFill>
                <a:uFillTx/>
                <a:latin typeface="Comic Sans MS"/>
              </a:rPr>
              <a:t>Результаты  работы проект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1. Повысился  уровень  сформированности  системы  знаний  о комнатных  растениях  у  детей  средней группы  через реализацию проекта «Комнатные  растения  наши -  друзь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2. Создан комплекс дидактических и словесных  игр о раст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3. Пополнился  уголок природы в группе новыми комнатными раст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4. Разработаны конспекты  НОД , экскурсий  в другие группы, просмотр  иллюстрированных  презентаций о  цв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5. Показана  НОД «Комнатные растения - наши друз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6. Повысился уровень экологической культуры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7. 80% родителей проявили активность по данной пробл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067280" y="105264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fe28a"/>
                </a:solidFill>
                <a:uFillTx/>
                <a:latin typeface="Comic Sans MS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835280" y="1989000"/>
            <a:ext cx="576108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omic Sans MS"/>
              </a:rPr>
              <a:t>У 35% воспитанников отмечается низкий уровень сформированности знаний о комнатных раст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4140360" y="90792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99"/>
                </a:solidFill>
                <a:uFillTx/>
                <a:latin typeface="Comic Sans MS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332000" y="159876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Каменева Л.А. Как знакомить дошкольников с прир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Марковская М. М. Уголок природы в детском саду: Кн. Для воспитателя дет. са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Дамашева Т</a:t>
            </a:r>
            <a:r>
              <a:rPr b="1" i="1" lang="ru-RU" sz="1800" spc="-1" strike="noStrike">
                <a:solidFill>
                  <a:srgbClr val="009900"/>
                </a:solidFill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 Комнатные растения – спутники нашей жизни // Дошкольное воспитание. – 1996. - №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Организация деятельности уголка природы. Средняя группа /Сост.П.Г. Федосе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771640" y="1413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92360" y="249228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Недостаточное оснащение  экологической зоны комнатными расте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Не заинтересованность родителей проблемой отсутствия знаний о комнатных раст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Недостаточная сформированность трудовых навыков и умений по уходу за раст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771640" y="1557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908000" y="2205000"/>
            <a:ext cx="5761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ызвать интерес к окружающему миру, формировать реалистические представления о природе, расширять у детей знания и представления о цветах, прививать ребенку внимательное и бережное отношение к живой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995640" y="170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763640" y="249228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Повысить уровень экологической культуры и знаний детей по теме: «Комнатные раст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Привлечь родителей к данн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Изготовить дидактические игры и пособий по данному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203640" y="54936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Мероприятия 1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258920" y="1628640"/>
            <a:ext cx="669780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Comic Sans MS"/>
              </a:rPr>
              <a:t>Рассматривание демонстрационного материала: картины и плакаты из серии «Комнатные раст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Comic Sans MS"/>
              </a:rPr>
              <a:t>Наблюдение за растениями в д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Comic Sans MS"/>
              </a:rPr>
              <a:t>Чтение художественной литературы: Е. Благинина «Огонек», А. Латулина «Комнатные цветы», Б.Заходер «Алоэ», М.Марусин «Фику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Comic Sans MS"/>
              </a:rPr>
              <a:t>Продуктивная деятельность: «Раскраски», «Лепим любимый цветок», «Цветы нашей группы»(конструирование из бумаг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Comic Sans MS"/>
              </a:rPr>
              <a:t>Проведение целевых прогулок в другие группы д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Comic Sans MS"/>
              </a:rPr>
              <a:t>Игры</a:t>
            </a: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: «Собери цветок», «Что изменилось», «Найди такой же», «Угадай растение по описанию», «Где спряталась матрешка», «Найди растение по названию», «Чего ни стало», «Опиши, я отгадаю», «Магазин цветов», «Помощник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Comic Sans MS"/>
              </a:rPr>
              <a:t>Беседа – рассу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Comic Sans MS"/>
              </a:rPr>
              <a:t>Картотека загадок о комнатных раст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Comic Sans MS"/>
              </a:rPr>
              <a:t>Просмотр слайдовых презентаций: «Комнатные растения в детском саду», «Цвет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843280" y="620640"/>
            <a:ext cx="36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Мероприя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2 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835280" y="2060640"/>
            <a:ext cx="576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Comic Sans MS"/>
              </a:rPr>
              <a:t>Оснащение экологической зоны в группе новыми раст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Comic Sans MS"/>
              </a:rPr>
              <a:t>2. Оформление пособия «Растения нашей груп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Comic Sans MS"/>
              </a:rPr>
              <a:t>3. Составление и заучивание совместно с детьми рассказа о любимом растении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Comic Sans MS"/>
              </a:rPr>
              <a:t>4. Привлечь родителей к уходу и разведению растений в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Comic Sans MS"/>
              </a:rPr>
              <a:t>5. Размещение на сайте ГБОУ информации по данн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Comic Sans MS"/>
              </a:rPr>
              <a:t>6. Оформление папок передвиж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195640" y="1484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Comic Sans MS"/>
              </a:rPr>
              <a:t>Мероприятия 3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619280" y="278136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268360" y="2276640"/>
            <a:ext cx="457200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Изготовление д/и «Собери цветок», «Что изменилось», «Найди такой же», «Найди растение по названию», «Чего ни стало», «Магазин цветов», «Помощники»</a:t>
            </a:r>
            <a:r>
              <a:rPr b="1" i="1" lang="ru-RU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Изготовление пособия «Работа с комнатными растени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Изготовление картотеки «Комнатные раст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Изготовление фотоальбома «Растения нашей груп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1619280" y="278136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1"/>
          <p:cNvSpPr/>
          <p:nvPr/>
        </p:nvSpPr>
        <p:spPr>
          <a:xfrm>
            <a:off x="6659640" y="1628640"/>
            <a:ext cx="2268360" cy="3529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Художествен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эстетическое развитие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епка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исование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скрашивание гот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илуэтов цве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гад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их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амостоя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ссказ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 раст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3"/>
          <p:cNvSpPr/>
          <p:nvPr/>
        </p:nvSpPr>
        <p:spPr>
          <a:xfrm>
            <a:off x="3203640" y="4508640"/>
            <a:ext cx="4321080" cy="2349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Физическое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/и «Раз, два, три к бегонии бег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.минутка «Цвет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: «Заряд бодрости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а о лечеб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я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/и «Чем полез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цветок?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гимнаст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Я раст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3132000" y="2205000"/>
            <a:ext cx="3168720" cy="22338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Интег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99"/>
                </a:solidFill>
                <a:uFillTx/>
                <a:latin typeface="Comic Sans MS"/>
              </a:rPr>
              <a:t>об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5"/>
          <p:cNvSpPr/>
          <p:nvPr/>
        </p:nvSpPr>
        <p:spPr>
          <a:xfrm>
            <a:off x="250920" y="0"/>
            <a:ext cx="3529080" cy="2133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е: «Комна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я -наши друзь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/и, беседы, эксперимен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мощь взросло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поливе, рыхлен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ыски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тирании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ручения по ух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 раст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6"/>
          <p:cNvSpPr/>
          <p:nvPr/>
        </p:nvSpPr>
        <p:spPr>
          <a:xfrm>
            <a:off x="4284720" y="0"/>
            <a:ext cx="2808360" cy="2133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ечевое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/и «Угадай по описанию»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Опиши, я отгадаю»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Магазин цветов»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учивание новых слов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ебель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лоэ, Бегония, Геран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алка, Кактус.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ставление рассказа 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юбимом цветке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туативные разговор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7"/>
          <p:cNvSpPr/>
          <p:nvPr/>
        </p:nvSpPr>
        <p:spPr>
          <a:xfrm>
            <a:off x="0" y="2133720"/>
            <a:ext cx="2916360" cy="4535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коммуникатив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Д/и: «Собери цветок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Ч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изменилось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Найди такой же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Угадай раст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по описанию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Где спряталас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матрешка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Найди растение по названию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Чего ни стало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Опиши, я отгадаю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Магазин цветов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Помощник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Бесе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Ядовитые комна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растения»,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«Правила у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за раст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9"/>
          <p:cNvSpPr/>
          <p:nvPr/>
        </p:nvSpPr>
        <p:spPr>
          <a:xfrm>
            <a:off x="4140360" y="4365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2"/>
          <p:cNvSpPr/>
          <p:nvPr/>
        </p:nvSpPr>
        <p:spPr>
          <a:xfrm flipV="1">
            <a:off x="6300720" y="306828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4"/>
          <p:cNvSpPr/>
          <p:nvPr/>
        </p:nvSpPr>
        <p:spPr>
          <a:xfrm flipV="1">
            <a:off x="4716360" y="184428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5"/>
          <p:cNvSpPr/>
          <p:nvPr/>
        </p:nvSpPr>
        <p:spPr>
          <a:xfrm flipH="1" flipV="1">
            <a:off x="3203640" y="184464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843280" y="3860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6:15:42Z</dcterms:created>
  <dc:creator>ALLA</dc:creator>
  <dc:description/>
  <dc:language>en-US</dc:language>
  <cp:lastModifiedBy>418</cp:lastModifiedBy>
  <dcterms:modified xsi:type="dcterms:W3CDTF">2015-01-30T13:31:43Z</dcterms:modified>
  <cp:revision>36</cp:revision>
  <dc:subject/>
  <dc:title>Слайд 1</dc:title>
</cp:coreProperties>
</file>