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18.jpeg" ContentType="image/jpe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40.png" ContentType="image/png"/>
  <Override PartName="/ppt/media/image38.jpeg" ContentType="image/jpeg"/>
  <Override PartName="/ppt/media/image3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BF1-A748-4CFA-856E-61129B46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6A6-AD61-4A6A-81ED-2780369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A4979-601E-4357-B7AC-83D1FBA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DA158-4A6A-4BAA-973C-D57BDEEA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39614-A4D0-4E16-B7F1-EC171BF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1524C-4AF9-44A7-89D8-A7ED9A5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9AF24-46C7-4D89-821C-8F904D5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4BA3-05A0-46BE-847E-BC8CACC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2B9E-7940-44E9-841C-0D2C485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C9453-4633-4EF8-9EEF-CFB87B0F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C2CBD-3074-40F5-A446-6D3B60BD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FA15-7078-40F7-8EE8-42A32DB9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41B-B8B8-461D-85AD-5B9025A0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1CAD-38F2-44EC-AA81-90F5DEB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1F133-B1BB-42F0-9E85-DAE3E866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E59F1-8398-4C64-9B6F-4E79E10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D670-DFA9-4334-B899-E2074928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A87EC-D9F7-43D5-8040-629F7938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66581-477B-498E-8C85-E83B2A5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6A5B6-E891-479E-AD02-EE9B369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477AC-D549-4D9A-8123-98D0888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6EF33-FA12-4AAB-910A-573434A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85E9D-3011-4897-91F3-F4EA011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72D-B218-4DF7-9909-42192DD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C727F-EFEF-4C64-B67D-5BC52C6B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03B4C-DA83-4B23-A990-402E546D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8F468-3293-4A2E-AF8E-4111035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7DFB-FFF7-42F5-8811-C4B5C99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B14C9-1236-4FA3-AB78-5A78DA2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36F78-2C12-4372-B812-AB2C2DE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F1341-E0D6-4706-952F-4C0241D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A567-794B-42CE-9E78-957B5CC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3C697-2D76-40B6-8C7C-CDE51DB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06EED-ACF7-4DD0-8A27-3AAB101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268-FB97-441A-86C3-816B48FE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7023-AF62-4106-80CE-C7A3784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6A76F-F7C1-452A-A85C-9C7D8004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2843-1C86-42A1-8656-38B5E0D4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40B6C-3DD8-403A-B6BF-6E9F2495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89F4A-BB8D-4AE8-81C0-BF41B421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92723-CE7F-4B39-952D-7A5EED1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3634D-671D-4B64-9635-00F10F9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1F739-E725-4335-9DA9-5C6B91E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1B93-27BA-494E-A9E8-CBE90CE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A0E0-1A27-40D2-9C95-98B1DD7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EAA-E18F-4D38-BF69-E1BEBDA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F626B-E034-43E2-AD40-E4D3201E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C9E67-2E7F-4EF8-B790-BB57ACC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AFF7C-D52B-48A5-8935-E48580A7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8DE96-681C-421A-8298-7DD48B90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987EC-01D5-4632-9724-B6A6AEB9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10694-6816-4D5D-A188-BF0DEFE3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F2062-81E9-467C-A4C6-584262D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CCFEA-4E6C-40A5-93A9-4C56CB56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E3308-B33D-4500-8D8A-E2B58A72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76114-FE5A-492F-94F1-723571E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F50-5C5E-45AE-BBDA-C6DC0CCE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3FD13-DA28-4A53-9A7A-F825545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8F6C-0C08-44A7-8EE4-4E7F587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2FD99-117A-413A-BCCA-42023A8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3671F-A1B5-41AA-A0A0-A3E33EA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E3267-CCE9-47BC-AE08-7239F91C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9BCD0-2816-4DE7-A86F-020C584E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C7FA5-9830-420A-98B3-A6E8C096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7D136-0AF0-49D5-8A10-D3B6F34D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BB3D9-E894-4AB1-BC3F-41FFA26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6763A-7BED-4DE1-8DDA-63F2F9C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0AB8-DFD5-4328-A4AE-E982979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D10E4-D9A2-4DB2-B978-4EBF664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D32C7-F20D-49B0-B819-F78B1EE5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7273E-7753-4951-B4DE-B8AD9C0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010F4-234E-4B20-9E17-03741E4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FEBE4-925A-4A74-B4F5-29B37A8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1F2E8-03D7-4900-9ABE-A9F996E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EFC2C-0901-4531-A3FA-30D84DE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F690B-1AF0-4EC4-87BE-4A61004A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6B67A-7507-4F36-A1D9-A3C780E1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09B97-9169-4E62-A887-F21B3873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890-28AE-4E0C-BDD3-00514552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41D06-31F2-41D2-AC53-0AECBFD5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8DB1E-9C35-45D8-AAEC-BA09869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46DA6-E8AE-4A73-8463-73EDD25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8E10E-A647-4133-A73B-0A71E56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6FD28-1FF7-4E66-AA44-543D08A0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DB51F-70C1-471B-83EC-F54BC17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85E3B-19DA-49A8-96E0-E8A0C77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7ADD9-3ED7-4EE1-8BCA-976778D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3B876-0061-4B59-82A1-A083FC6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C1DD2-6743-4388-BAB1-B7DB8520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2DF-3220-454C-BFB2-49B45BC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D1A63-F687-4530-9B7E-7503BB39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4310-9CE7-4CAF-9203-6A7E8FE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F98-9B1A-455C-A19E-5586ED2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0C3D-E0EA-4CF7-B8C4-297379D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B4F-28E6-4353-9642-C26B124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961-C07C-4AE7-A092-8962967F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672-F82C-4180-9D60-6693F437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C1E4-5B0F-4B1E-BFDB-21D0D2B0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BEE9-9B50-4F78-ABDA-420A9AD8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F732-B253-4A0F-9CC2-BC3A50C4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CF32-D24E-4732-9E0C-68C06BD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4205-9D46-4ECC-9F88-A8647BD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27E6-F7AD-428C-965B-8BCAA6FA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E6B-ED47-4765-AFC5-2989C11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D2EE-6F73-4AE2-803A-FECDE109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5221-B417-4FB8-B79B-C4C1E58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302C-CFDF-4755-B2B3-A1C451A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FFF2-363B-450C-A9B6-DC7D84F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7078-660F-46E3-824E-149662C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2CCB-9660-4B8B-92F3-C48171D7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D7B7-DF0F-4744-9660-ECA0B3E7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8939-B26A-486B-9F83-8B030AEF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64DC-F847-4BB9-9F4A-EDB1685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FD42-656B-42F1-9BEB-74A43D7C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B3D-59C4-492A-A6CF-9597C08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8F2D-F741-433B-8907-C8943112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A770-AE53-4D8F-BD9A-2F41DA6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7229-7F68-4D03-B855-48760631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3A22-D3FE-4E9E-BE10-1A10999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67DE-BC90-4430-9B04-2BAB725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B1E3-90A8-44AD-BA2B-4D0CA28A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2DD1-8B5C-49DF-824A-7D08022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02CA-17CF-4226-B061-03F9A432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37E8-4366-42C6-80E2-CCFC36B9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859E-3B91-4774-AE59-C6922ED0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C78-E196-4E53-AD7E-8405CD2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14FD-FE51-4C8B-8524-971AF19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587B-669C-449F-8AFB-6AE9177E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C21F-65BF-456B-B3DD-EF4FD11B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762F-6262-4EF3-B89A-3C9892EA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8DF8-9CD4-4F4B-BF2D-2A72248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C4E7-68D5-44EF-B154-88B454B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8B2D-A4FF-4D64-AABC-6268829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E600-4A2F-4956-98B0-F2A5811B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5D69-BC98-4966-AA33-B94D751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AB11-5A20-4C2D-85FA-59FA9058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925-ED70-4C2A-A8E2-C61B2E4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B0DC-BA8B-40F2-BF14-219051EC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87F11-3339-44A5-9B7B-9FC2F5F1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2B31-5A86-4AB4-A795-29BCF54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6A76-A763-40A7-8A65-4E087B57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A803-403D-412E-96F7-4208C118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DEF5A-50B6-4BC0-8A1E-E0E40CCA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67D89-B01D-41B6-BFBA-4BFA488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FDB0-D196-451F-90CF-7DD8963B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BD37-724E-4AFC-9869-6542B5A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F7E1-307E-4158-AF58-B2FDF47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910-DD89-49E5-B5CB-913368B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A7E10-EEC3-443C-B103-72856B1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46F86-95A6-41F8-9C09-AEE57AFA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0090-2324-4ABD-8B18-14D18C5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D86B8-3F10-488B-B5A4-D514AD4C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C456-E8DD-48B5-A900-3394DF9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728B-5591-4A47-A208-2665D8DF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A196-A170-4700-B172-5C9C04E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68203-D823-476E-9810-7D2EB38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90F89-E0E7-4AA6-8722-E96E42A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4DB0-3A92-4186-B142-3C0AA24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293-9CC0-4F60-9F26-2E94FF5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FC61A-0939-4468-BDC5-661A7D2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CF28-07D8-4568-9747-33637B4C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944D-DCBF-41E3-9F03-0BD073C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9CB3-CA17-4D8D-B811-BE75B12C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3A07-0FB8-442B-8A12-5DA74EC2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11CD-9920-4F23-BD53-A224EE6C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16B4A-0171-4429-AA5F-252DAB9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0D19-D5AF-4F7F-8854-66399EC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840B-F0BF-4C7E-9FFA-344696F9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908E-2BFE-4CC3-91DD-9A5DBB5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674-58DA-42F8-8093-5A56461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9BBB-16AA-4BA9-8F73-3DC97CC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7C2B-9641-429C-8B2D-21112FB7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F260B-094D-4F86-8B15-6408198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A1707-1BAB-4284-8410-BCF9F82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E3FA-86EE-4B54-A5C9-BE8EB46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4013-6A6D-4B2A-8FDF-A0CA8EE3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BFB4-DE02-46F4-A019-48A4FF7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38350-166E-406D-8262-0B245D5D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351A7-5000-4E87-BAB1-C42C27A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5B360-F0EF-4D96-9588-C3247068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ADB-E9A9-4210-B64B-53BE1935CC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157-9B74-47BD-AF7B-9F7500B14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54F-14BE-4909-94F3-803247E71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B26-02CE-44FB-BB83-3E21EFEBA9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52E-8B98-47B1-9F50-DDE24CBF22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0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249-498B-48F1-BFDF-39990BCA5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5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8C06-D707-4CBC-B580-83363659A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249"/>
                  </a:spcBef>
                  <a:buClr>
                    <a:srgbClr val="ffffff"/>
                  </a:buClr>
                  <a:buFont typeface="Lucida Sans Unicod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5D32-04BA-4152-8A31-00436CA91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39B6-8042-42BF-AC1E-A05706314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3B3-3193-4013-8EFD-210F19036F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C0E-55C3-48F4-8DA4-C3F5634A8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B070-47C0-463C-A057-F45835DC4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A84-A8E7-4CAF-B16B-7D8921EDC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949-0A98-4662-9987-7C5C063FF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B00-CA0F-4284-A6C4-9E8C24AB86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2" descr=""/>
          <p:cNvPicPr/>
          <p:nvPr/>
        </p:nvPicPr>
        <p:blipFill>
          <a:blip r:embed="rId1"/>
          <a:stretch/>
        </p:blipFill>
        <p:spPr>
          <a:xfrm>
            <a:off x="133200" y="1352520"/>
            <a:ext cx="8882280" cy="4840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D:\мои документы\анимации\04740717.gif"/>
          <p:cNvPicPr/>
          <p:nvPr/>
        </p:nvPicPr>
        <p:blipFill>
          <a:blip r:embed="rId2"/>
          <a:stretch/>
        </p:blipFill>
        <p:spPr>
          <a:xfrm>
            <a:off x="6786720" y="142920"/>
            <a:ext cx="2087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328680" y="219240"/>
            <a:ext cx="8450280" cy="914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" descr="GEDC0057"/>
          <p:cNvPicPr/>
          <p:nvPr/>
        </p:nvPicPr>
        <p:blipFill>
          <a:blip r:embed="rId2"/>
          <a:stretch/>
        </p:blipFill>
        <p:spPr>
          <a:xfrm>
            <a:off x="395280" y="1557360"/>
            <a:ext cx="4105440" cy="29034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214200" y="4786200"/>
            <a:ext cx="87868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01a1"/>
                </a:solidFill>
                <a:latin typeface="Tahoma"/>
                <a:ea typeface="Tahoma"/>
              </a:rPr>
              <a:t>    </a:t>
            </a:r>
            <a:r>
              <a:rPr b="1" lang="en-US" sz="2400" spc="-1" strike="noStrike">
                <a:solidFill>
                  <a:srgbClr val="1401a1"/>
                </a:solidFill>
                <a:latin typeface="Tahoma"/>
                <a:ea typeface="Tahoma"/>
              </a:rPr>
              <a:t>Если усилия  ребёнка не замечаются, а промахи критикуются,  то малыш обижается, замыкается в своих переживаниях, развитие его останавлива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4" name="Picture 7" descr="GEDC0294"/>
          <p:cNvPicPr/>
          <p:nvPr/>
        </p:nvPicPr>
        <p:blipFill>
          <a:blip r:embed="rId3"/>
          <a:stretch/>
        </p:blipFill>
        <p:spPr>
          <a:xfrm>
            <a:off x="5003640" y="1557360"/>
            <a:ext cx="38545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2" descr=""/>
          <p:cNvPicPr/>
          <p:nvPr/>
        </p:nvPicPr>
        <p:blipFill>
          <a:blip r:embed="rId1"/>
          <a:stretch/>
        </p:blipFill>
        <p:spPr>
          <a:xfrm>
            <a:off x="347760" y="244440"/>
            <a:ext cx="8345520" cy="118260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44290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Ребёнок    учится     наблюдать, сравнивать, отвечать на вопросы, соблюдать правила безопас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Чем больше новой информаци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он   получает   тем     быстрее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и  полноценнее   развивает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Tahoma"/>
              </a:rPr>
              <a:t>Малыш становится более находчивым  в достижении поставленной    цел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7" name="Picture 8" descr="GEDC0533"/>
          <p:cNvPicPr/>
          <p:nvPr/>
        </p:nvPicPr>
        <p:blipFill>
          <a:blip r:embed="rId2"/>
          <a:stretch/>
        </p:blipFill>
        <p:spPr>
          <a:xfrm>
            <a:off x="4643280" y="1500120"/>
            <a:ext cx="43405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42920" y="1643040"/>
            <a:ext cx="42148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1.В раннем возрасте дети активно стремятся к новым  впечатлениям, с интересом включаются 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предложенные взрослым игры и эксперименты, подолгу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           </a:t>
            </a: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с увлечением экспериментируют сами, подражая взрослому и изобретая новые действ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2. Экспериментирование    как     основной     способ познавательной   активности  в   раннем   возрасте  стимулирует   развитие   таких личностных качеств как     инициативность,     самостоятельность,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           </a:t>
            </a:r>
            <a:r>
              <a:rPr b="0" lang="en-US" sz="1400" spc="-1" strike="noStrike">
                <a:solidFill>
                  <a:srgbClr val="1401a1"/>
                </a:solidFill>
                <a:latin typeface="Tahoma"/>
              </a:rPr>
              <a:t>целеустремлённос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0" name="Picture 5" descr="GEDC0216"/>
          <p:cNvPicPr/>
          <p:nvPr/>
        </p:nvPicPr>
        <p:blipFill>
          <a:blip r:embed="rId2"/>
          <a:stretch/>
        </p:blipFill>
        <p:spPr>
          <a:xfrm>
            <a:off x="4367160" y="1928880"/>
            <a:ext cx="45975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6" descr="GEDC0153"/>
          <p:cNvPicPr/>
          <p:nvPr/>
        </p:nvPicPr>
        <p:blipFill>
          <a:blip r:embed="rId1"/>
          <a:stretch/>
        </p:blipFill>
        <p:spPr>
          <a:xfrm>
            <a:off x="1552680" y="1481040"/>
            <a:ext cx="6038640" cy="4525920"/>
          </a:xfrm>
          <a:prstGeom prst="rect">
            <a:avLst/>
          </a:prstGeom>
          <a:ln w="0">
            <a:noFill/>
          </a:ln>
        </p:spPr>
      </p:pic>
      <p:pic>
        <p:nvPicPr>
          <p:cNvPr id="742" name="Rectangle 4" descr=""/>
          <p:cNvPicPr/>
          <p:nvPr/>
        </p:nvPicPr>
        <p:blipFill>
          <a:blip r:embed="rId2"/>
          <a:stretch/>
        </p:blipFill>
        <p:spPr>
          <a:xfrm>
            <a:off x="817560" y="353880"/>
            <a:ext cx="72360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7" descr=""/>
          <p:cNvPicPr/>
          <p:nvPr/>
        </p:nvPicPr>
        <p:blipFill>
          <a:blip r:embed="rId1"/>
          <a:stretch/>
        </p:blipFill>
        <p:spPr>
          <a:xfrm>
            <a:off x="2535120" y="-6480"/>
            <a:ext cx="4542120" cy="11588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47149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Ранний     возраст    –   период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активного познания окружающего мира  и  экспериментирования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ребёнка с   предметами</a:t>
            </a:r>
            <a:r>
              <a:rPr b="0" lang="en-US" sz="2400" spc="-1" strike="noStrike">
                <a:solidFill>
                  <a:srgbClr val="1401a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Ребёнок,   исследуя     различные предметы и их свойства, проводит простые причинно – следственные связи, изучает характер движений   и соотношение предмет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1a1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1401a1"/>
                </a:solidFill>
                <a:latin typeface="Tahoma"/>
              </a:rPr>
              <a:t>Тем   самым   он   формирует свой интеллектуальный и творческий   потенциал.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03" name="Picture 10" descr="GEDC0586"/>
          <p:cNvPicPr/>
          <p:nvPr/>
        </p:nvPicPr>
        <p:blipFill>
          <a:blip r:embed="rId2"/>
          <a:stretch/>
        </p:blipFill>
        <p:spPr>
          <a:xfrm>
            <a:off x="5429160" y="10000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4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412120" cy="12142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142920" y="1500120"/>
            <a:ext cx="557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       </a:t>
            </a: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Так любой нормальный ребёнок появляется на свет с врождённой познавательной направленностью, которая помогает ему на первых порах адаптироваться к новым условиям жизни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     </a:t>
            </a: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Постепенно познавательная направленность переходит в познавательную активность – состояние внутренней готовности к познавательной деятельности, которое проявляется у детей в поисковых действиях, направленных на получение новых впечатлений об окружающем мире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     </a:t>
            </a: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Познавательная     активность   возникает   на основе   рефлекса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Tahoma"/>
              </a:rPr>
              <a:t>«что такое?»,  </a:t>
            </a:r>
            <a:r>
              <a:rPr b="0" lang="en-US" sz="1600" spc="-1" strike="noStrike">
                <a:solidFill>
                  <a:srgbClr val="1401a1"/>
                </a:solidFill>
                <a:latin typeface="Tahoma"/>
                <a:ea typeface="Tahoma"/>
              </a:rPr>
              <a:t>а проявляется она  в бесконечных детских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Tahoma"/>
              </a:rPr>
              <a:t>«почему?»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06" name="Picture 10" descr="GEDC0434"/>
          <p:cNvPicPr/>
          <p:nvPr/>
        </p:nvPicPr>
        <p:blipFill>
          <a:blip r:embed="rId2"/>
          <a:stretch/>
        </p:blipFill>
        <p:spPr>
          <a:xfrm>
            <a:off x="5796000" y="1557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GEDC0271"/>
          <p:cNvPicPr/>
          <p:nvPr/>
        </p:nvPicPr>
        <p:blipFill>
          <a:blip r:embed="rId3"/>
          <a:stretch/>
        </p:blipFill>
        <p:spPr>
          <a:xfrm>
            <a:off x="5796000" y="3933720"/>
            <a:ext cx="2917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GEDC0402"/>
          <p:cNvPicPr/>
          <p:nvPr/>
        </p:nvPicPr>
        <p:blipFill>
          <a:blip r:embed="rId2"/>
          <a:stretch/>
        </p:blipFill>
        <p:spPr>
          <a:xfrm>
            <a:off x="2286000" y="785880"/>
            <a:ext cx="4535640" cy="347328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99680" y="4500720"/>
            <a:ext cx="82868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1a1"/>
                </a:solidFill>
                <a:latin typeface="Tahoma"/>
                <a:ea typeface="Tahoma"/>
              </a:rPr>
              <a:t>     </a:t>
            </a:r>
            <a:r>
              <a:rPr b="0" lang="en-US" sz="1900" spc="-1" strike="noStrike">
                <a:solidFill>
                  <a:srgbClr val="1401a1"/>
                </a:solidFill>
                <a:latin typeface="Tahoma"/>
                <a:ea typeface="Tahoma"/>
              </a:rPr>
              <a:t>Познавательная    активность успешно формируется  в процессе взаимодействия, когда воспитатель используя  разнообразные методы и приёмы, побуждает   детей   к   исследовательскому  подходу - самостоятельному  и   творческому поиску  ответов  на  постоянно возникающие вопрос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4" descr=""/>
          <p:cNvPicPr/>
          <p:nvPr/>
        </p:nvPicPr>
        <p:blipFill>
          <a:blip r:embed="rId1"/>
          <a:stretch/>
        </p:blipFill>
        <p:spPr>
          <a:xfrm>
            <a:off x="993600" y="212760"/>
            <a:ext cx="7216920" cy="1214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1" descr="GEDC0540"/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2" descr="GEDC0516"/>
          <p:cNvPicPr/>
          <p:nvPr/>
        </p:nvPicPr>
        <p:blipFill>
          <a:blip r:embed="rId3"/>
          <a:stretch/>
        </p:blipFill>
        <p:spPr>
          <a:xfrm>
            <a:off x="4643280" y="1628640"/>
            <a:ext cx="3635640" cy="272736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755280" y="4581000"/>
            <a:ext cx="810252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Смысл действий открывает для ребёнка взрослый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</a:rPr>
              <a:t>Он – соучастник, помогающий малышу освоить какое – либо  действие, образец того,  как нужно делать правильн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8" descr="GEDC0064"/>
          <p:cNvPicPr/>
          <p:nvPr/>
        </p:nvPicPr>
        <p:blipFill>
          <a:blip r:embed="rId1"/>
          <a:stretch/>
        </p:blipFill>
        <p:spPr>
          <a:xfrm>
            <a:off x="755640" y="26028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GEDC0474"/>
          <p:cNvPicPr/>
          <p:nvPr/>
        </p:nvPicPr>
        <p:blipFill>
          <a:blip r:embed="rId2"/>
          <a:stretch/>
        </p:blipFill>
        <p:spPr>
          <a:xfrm>
            <a:off x="755640" y="3537000"/>
            <a:ext cx="4248000" cy="31878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5072040" y="35712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Tahoma"/>
              </a:rPr>
              <a:t>  </a:t>
            </a:r>
            <a:r>
              <a:rPr b="0" lang="ru-RU" sz="2400" spc="-1" strike="noStrike">
                <a:solidFill>
                  <a:srgbClr val="1401a1"/>
                </a:solidFill>
                <a:latin typeface="Tahoma"/>
                <a:ea typeface="Calibri"/>
              </a:rPr>
              <a:t> </a:t>
            </a: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Главное     достоинство экспериментирования заключается в том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    </a:t>
            </a: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что оно дает детям реальные представления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Calibri"/>
              </a:rPr>
              <a:t> </a:t>
            </a: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о различных сторонах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Calibri"/>
              </a:rPr>
              <a:t> </a:t>
            </a: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изучаемого объекта, о его взаимоотношениях</a:t>
            </a:r>
            <a:r>
              <a:rPr b="0" lang="en-US" sz="2000" spc="-1" strike="noStrike">
                <a:solidFill>
                  <a:srgbClr val="1401a1"/>
                </a:solidFill>
                <a:latin typeface="Tahoma"/>
                <a:ea typeface="Calibri"/>
              </a:rPr>
              <a:t> </a:t>
            </a:r>
            <a:r>
              <a:rPr b="0" lang="ru-RU" sz="2000" spc="-1" strike="noStrike">
                <a:solidFill>
                  <a:srgbClr val="1401a1"/>
                </a:solidFill>
                <a:latin typeface="Tahoma"/>
                <a:ea typeface="Calibri"/>
              </a:rPr>
              <a:t>с другими объектами и со средой обит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334800" y="171360"/>
            <a:ext cx="8132760" cy="91440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включение в неё максимального количества предметов взрослого обихода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предоставление свободы исследования («ломания»предметов)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резерв свободного места и времени для разворачивания игр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разнообразие и  насыщенность, неординарность и сменяемость    предметной среды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возможность брать любые игрушки и действовать с ними по собственному усмотрению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определение максимального уровня размещения игрушек  и материалов согласно росту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универсальность предметно - игровой среды, позволяющей играть совместно, трансформировать её в соответствии  с видом игры и содержанием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a1"/>
                </a:solidFill>
                <a:latin typeface="Tahoma"/>
              </a:rPr>
              <a:t>учёт опыта детей, способности к комбинированию, созданию нового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0" name="Picture 12" descr="GEDC0514"/>
          <p:cNvPicPr/>
          <p:nvPr/>
        </p:nvPicPr>
        <p:blipFill>
          <a:blip r:embed="rId2"/>
          <a:stretch/>
        </p:blipFill>
        <p:spPr>
          <a:xfrm>
            <a:off x="5003640" y="121284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3" descr="GEDC0548"/>
          <p:cNvPicPr/>
          <p:nvPr/>
        </p:nvPicPr>
        <p:blipFill>
          <a:blip r:embed="rId3"/>
          <a:stretch/>
        </p:blipFill>
        <p:spPr>
          <a:xfrm>
            <a:off x="5076720" y="4094280"/>
            <a:ext cx="35625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Rectangle 2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382240" cy="11588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428760" y="1928880"/>
            <a:ext cx="424656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обогащение окружающей среды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1a1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предметами,   объектами    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стимулами,       максимальн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усиливающих любознательн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поддержка и поощрение иде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и  замыслов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создание условий для реализации творческих   идей   на    практик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использование вопросов проблемного характер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использование личного пример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создание проблемно –</a:t>
            </a:r>
            <a:r>
              <a:rPr b="0" lang="en-US" sz="2400" spc="-1" strike="noStrike">
                <a:solidFill>
                  <a:srgbClr val="1401a1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1401a1"/>
                </a:solidFill>
                <a:latin typeface="Tahoma"/>
              </a:rPr>
              <a:t>поисковых  ситуаци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4" name="Picture 7" descr="GEDC0551"/>
          <p:cNvPicPr/>
          <p:nvPr/>
        </p:nvPicPr>
        <p:blipFill>
          <a:blip r:embed="rId2"/>
          <a:stretch/>
        </p:blipFill>
        <p:spPr>
          <a:xfrm>
            <a:off x="5219640" y="1341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8" descr="GEDC0560"/>
          <p:cNvPicPr/>
          <p:nvPr/>
        </p:nvPicPr>
        <p:blipFill>
          <a:blip r:embed="rId3"/>
          <a:stretch/>
        </p:blipFill>
        <p:spPr>
          <a:xfrm>
            <a:off x="5219640" y="393372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Rectangle 2" descr=""/>
          <p:cNvPicPr/>
          <p:nvPr/>
        </p:nvPicPr>
        <p:blipFill>
          <a:blip r:embed="rId1"/>
          <a:stretch/>
        </p:blipFill>
        <p:spPr>
          <a:xfrm>
            <a:off x="378000" y="195120"/>
            <a:ext cx="8315280" cy="951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GEDC0565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GEDC0575"/>
          <p:cNvPicPr/>
          <p:nvPr/>
        </p:nvPicPr>
        <p:blipFill>
          <a:blip r:embed="rId3"/>
          <a:stretch/>
        </p:blipFill>
        <p:spPr>
          <a:xfrm>
            <a:off x="4788000" y="13413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0" descr="GEDC0475"/>
          <p:cNvPicPr/>
          <p:nvPr/>
        </p:nvPicPr>
        <p:blipFill>
          <a:blip r:embed="rId4"/>
          <a:stretch/>
        </p:blipFill>
        <p:spPr>
          <a:xfrm>
            <a:off x="755640" y="4149720"/>
            <a:ext cx="3600360" cy="2557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1" descr="GEDC0405"/>
          <p:cNvPicPr/>
          <p:nvPr/>
        </p:nvPicPr>
        <p:blipFill>
          <a:blip r:embed="rId5"/>
          <a:stretch/>
        </p:blipFill>
        <p:spPr>
          <a:xfrm>
            <a:off x="4788000" y="4076640"/>
            <a:ext cx="3636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5:15:26Z</dcterms:created>
  <dc:creator>800737</dc:creator>
  <dc:description/>
  <dc:language>en-US</dc:language>
  <cp:lastModifiedBy>НИНА</cp:lastModifiedBy>
  <dcterms:modified xsi:type="dcterms:W3CDTF">2015-03-17T18:19:30Z</dcterms:modified>
  <cp:revision>11</cp:revision>
  <dc:subject/>
  <dc:title>Слайд 1</dc:title>
</cp:coreProperties>
</file>