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4C8-A8E9-4772-A3D6-8563B9AB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1E16-5C1B-44D9-A3B9-A381F909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8CCA-A6BD-453F-861C-05B84539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C77-B162-428C-8436-EA50FA2E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F39-F753-48F4-836E-706998E9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AB87-3B3B-4F1E-86A1-8DAA7614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81C4-5CFD-4C76-9019-9BE028E9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4A2-25C4-4A1C-AAD9-24FA042B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EC7F-9D85-434A-A91C-D978CBA2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F591-D1D4-42B8-9D37-E8F05800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EBBD-288C-4557-A6B3-95D11666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DF04-7ABC-49BF-B4C3-C53EA967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6D42-11BE-4704-8A9E-136DF06289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АПЫ ИССЛЕДОВАНИЯ ЛУ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20640" y="2997360"/>
            <a:ext cx="7848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следования  Лу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7360" y="1700280"/>
            <a:ext cx="46180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ССР проводил исследования на поверхности Луны с помощью двух радиоуправляемых самоходных аппаратов, «Луноход-1», запущенный к Луне в ноябре 1970 года и «Луноход-2» — в январе 1973. «Луноход-1» работал 10,5 земных месяцев, «Луноход-2» — 4,5 земных месяцев (то есть 5 лунных дней и 4 лунные ночи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003640" y="2708280"/>
            <a:ext cx="392436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XXI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ачале XXI века Китай опубликовал свою программу освоения Луны, включающую кроме доставки лунохода (в 2011 году) и отправки грунта на Землю (2012), в том числе и постройку обитаемых лунных баз (2030). Считается, что это заставило остальные космические державы снова развернуть лунные програм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971640" y="1373040"/>
            <a:ext cx="73134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08000" y="81000"/>
            <a:ext cx="856764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евность и Средние 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68280"/>
            <a:ext cx="4186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уна привлекала внимание людей с древних времён. Во II в. до н. э. Гиппарх исследовал поведение Луны в звёздном небе, определив наклон лунной орбиты относительно земной эклиптики, а также выявил ряд особенностей движени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716360" y="1197000"/>
            <a:ext cx="42865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84280"/>
            <a:ext cx="4619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веденную Гиппархом теорию развил впоследствии астроном из Александрии Клавдий Птолемей во II в. н. э., написав об этом книгу «Альмагест». Данная теория множество раз уточнялась, и в 1687 году, после открытия Ньютоном закона всемирного тяготения, из чисто кинематической, описывающей геометрические свойства движения, теория стала динамической, учитывающей движение тел под действием приложенных к ним си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148360" y="1413000"/>
            <a:ext cx="38098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XVII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773000"/>
            <a:ext cx="4762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обретение телескопов позволило различать более мелкие детали рельефа Луны. Одну из первых лунных карт составил Джованни Риччиоли в 1651 году, он же дал названия крупным тёмным областям, именовав их «морями», чем мы и пользуемся до сих пор. Данные топонимы отражали давнее представление, будто погода на Луне схожа с Земной, и тёмные участки якобы были заполнены лунной водой, а светлые участки считались суш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508720" y="1700280"/>
            <a:ext cx="3143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XVIII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700280"/>
            <a:ext cx="4259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1753 году хорватский астроном Руджер Бошкович доказал, что Луна не имеет атмосферы. Дело в том, что при покрытии звёзд Луной, те исчезают мгновенно. Но если бы у Луны была атмосфера, то звезды бы погасали постепенно. Это свидетельствовало о том, что у спутника нет атмосферы. А в таком случае жидкой воды на поверхности Луны быть не может, так как она мгновенно бы испарилас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90528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т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57000"/>
            <a:ext cx="404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лёгкой руки того же Джованни Риччиоли кратерам стали давать имена известных учёных: от Платона, Аристотеля и Архимеда до Вернадского, Циолковского и Павлов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788000" y="1808280"/>
            <a:ext cx="415296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4920" y="1413000"/>
            <a:ext cx="4321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вым этапом исследования Луны стало применение фотографии в астрономических наблюдениях, начиная с середины XIX века. Это позволило более детально анализировать поверхность Луны по подробным фотографиям. Такие фотографии были сделаны, в частности, Уорреном де ла Рю (1852) и Льюисом Резерфордом (1865). В 1881 Пьер Жансен составил детальный «Фотографический атлас Луны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819680" y="1341360"/>
            <a:ext cx="4005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811 году французский астроном Франсуа Араго открыл явление поляризации света, отражённого поверхностью Луны. Причина данного явления заключается в наличии на поверхности раздробленного грунта, который отражает свет в целом лучше, чем окружающая его территория. Этим и объясняются светлые лучи вокруг тёмных лунных кратеров, оставленные выбросом грунта при удар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413000"/>
            <a:ext cx="5267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первые Луны достиг советский космический корабль «Луна-2» 13 сентября 1959 год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первые удалось заглянуть на обратную сторону Луны в 1959 году, когда советская станция «Луна-3» пролетела над ней и сфотографировала невидимую с Земли часть её поверхности. Обратная сторона Луны представляет собой идеальное место для астрономической обсерватор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635800" y="1484280"/>
            <a:ext cx="33764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13:25:28Z</dcterms:created>
  <dc:creator>Дмитрий</dc:creator>
  <dc:description/>
  <dc:language>en-US</dc:language>
  <cp:lastModifiedBy>Дмитрий</cp:lastModifiedBy>
  <dcterms:modified xsi:type="dcterms:W3CDTF">2014-11-16T15:21:13Z</dcterms:modified>
  <cp:revision>8</cp:revision>
  <dc:subject/>
  <dc:title>ИССЛЕДОВАНИЯ ЛУНЫ</dc:title>
</cp:coreProperties>
</file>