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28D-24B9-4B8F-BC25-C6F3D3B5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43C-C82E-4FEB-A112-E1C5A331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A09-DC31-4BED-8F71-2F67EF6D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6FC-91D5-4280-9EB1-69A3D8C1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E622-6991-4979-9314-8D5E9776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CBA1-775A-4680-A53E-3AA198D9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1CCB-5333-4461-838E-DDF56314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978E-8C94-44F3-8C32-6A818580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8D91-0B6B-4433-879E-B504DB7F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A4DD-A673-49F9-B5D5-B0225435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5D0E-EFF1-4DAE-999A-3447A52F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47B-16E7-4314-BF26-531A13BD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6066-3A41-4A11-9018-98CDCE6F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FF47-61CD-4D70-8CCB-35234101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460A-25D4-4B36-8E68-3D08515E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E14C-6BCC-4A37-BBC4-1ADAE2BB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3321-9BF6-4E11-991A-8D95F192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3D6D-7E8C-4EBB-A295-55DB1D81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DC10-4B37-478B-B31D-38FFA16C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4903-A05E-42D7-943B-4AAAB255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C0EA-5672-4714-904C-197B309D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64FE-C2BB-4677-ADB1-630616D1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365-2550-41E1-896B-EBE5020F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797B-05C0-4F45-A0E7-3CA78124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D92AC-33B5-49A2-BC86-5B702C20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360D-CC5A-4A09-A0B7-E91A3F3A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8F1B-6E07-43B0-A5F4-9DE2EA70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44FC-11AA-4857-A93A-389C2601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3717-D603-40D7-AE9B-59C8F48E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74D5-4E76-4495-8D2B-5844BD28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F641E-CADC-4524-8965-59A04280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E9F2B-E7D1-4E2B-9819-E8FC5EB3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2C5B-D3D0-4CA4-9CC3-D706A881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4B4-2FB0-4B70-AF36-7CAE458B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C45AD-880E-4B70-87B2-033ACAC1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CF407-3759-4038-8D43-F1586818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9F4EC-5CE4-4804-866B-51096EB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67391-377A-4DA5-B774-022CFD5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5F682-0AF6-4A49-BF1B-38691B10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CE649-5E5C-43D2-9509-4706D8D7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F2331-2247-410F-BB32-2B0C1964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8804-F800-44C2-B52F-A24F4661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2CB5-968C-4385-A1E8-83F65B96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82DFE-BD6D-466D-9B32-65789384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FDF-3226-491F-9D87-A494DE06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3D739-9A01-48C5-8EEF-8F75A789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41D1A-80E7-44A2-A872-1A9FFFD3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ED0B8-6FA4-4EE7-A50E-282C69F9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325B-615E-4353-A2E4-B3EBFFDF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62412-C917-4F30-BB73-B4E051C8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D22CB-F712-4EE5-8735-A32B8515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81084-85E7-4362-9E56-9318294B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8F9FB-384F-48BD-9D76-450C0A41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B9374-F500-4C7D-8797-F4F2C282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82CEF-FCBA-4508-BC47-10ECEBEE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430-AD05-4B2B-85CC-F7CBC2C6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9B96F-636D-4A5D-B57B-B01ADDEE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C523C-EF63-4BD0-972D-0B2056CD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75FD9-A240-4D4F-8FB1-5FBDB185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2F010-8471-4D16-ABC2-7967BC75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8ADCF-9634-46E5-ABAD-EE639302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F7201-8E32-4E78-97CB-B27BD61A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66DBB-A594-4B36-81EC-C945057B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BCF84-1A4D-44CB-B757-68CAA6B3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17B38-887A-4E12-9A82-567FDAE6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1EF9F-FE2C-486F-9F58-681EEEFE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56A-A496-4596-B254-97DED188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9550D-8AF8-44F8-B3B4-D6CF7D77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C8A01-DB37-472F-B854-3CF1E096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34B34-9F8D-47DB-97ED-ED7A6B5F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7DC-9CA7-45D5-A0C9-C37703CE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0DB-6983-4B17-9084-4B939CEA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4A4E-BCC1-4C53-9EEC-488CB6A7569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69D7-280D-4D02-81BB-E29FB745C67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FB8C-476E-4887-91FC-38694ED5997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A5C2-C11D-4E29-A9EA-8FD8F743195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BAEF-DC92-44B3-9E2C-5212031F3F8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DB96-CF02-433D-AE4C-ECDA734CD2E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0840" y="3206880"/>
            <a:ext cx="7003800" cy="2438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рас Шевченко 1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herepashki-Nindzya-Pesnya-iz-zastavki-2003-Na-russkom-2(muzofon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Черепашки ниндз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8" name="Содержимое 5" descr="frame.jpg"/>
          <p:cNvPicPr/>
          <p:nvPr/>
        </p:nvPicPr>
        <p:blipFill>
          <a:blip r:embed="rId1"/>
          <a:stretch/>
        </p:blipFill>
        <p:spPr>
          <a:xfrm>
            <a:off x="457200" y="1787400"/>
            <a:ext cx="7467480" cy="415152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Учитель Сплинтер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0" name="Содержимое 3" descr="1291140755_9.jpg"/>
          <p:cNvPicPr/>
          <p:nvPr/>
        </p:nvPicPr>
        <p:blipFill>
          <a:blip r:embed="rId1"/>
          <a:stretch/>
        </p:blipFill>
        <p:spPr>
          <a:xfrm>
            <a:off x="1671480" y="1805040"/>
            <a:ext cx="5038920" cy="411480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Рафаэл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Содержимое 3" descr="2731607.jpg"/>
          <p:cNvPicPr/>
          <p:nvPr/>
        </p:nvPicPr>
        <p:blipFill>
          <a:blip r:embed="rId1"/>
          <a:stretch/>
        </p:blipFill>
        <p:spPr>
          <a:xfrm>
            <a:off x="2143080" y="1285920"/>
            <a:ext cx="4143600" cy="514332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келанджело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Содержимое 3" descr="1291746082_mike_06.jpg"/>
          <p:cNvPicPr/>
          <p:nvPr/>
        </p:nvPicPr>
        <p:blipFill>
          <a:blip r:embed="rId1"/>
          <a:stretch/>
        </p:blipFill>
        <p:spPr>
          <a:xfrm>
            <a:off x="2168640" y="1600200"/>
            <a:ext cx="4044960" cy="452592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нателло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Содержимое 3" descr="file_171063_4_don_03.jpg"/>
          <p:cNvPicPr/>
          <p:nvPr/>
        </p:nvPicPr>
        <p:blipFill>
          <a:blip r:embed="rId1"/>
          <a:stretch/>
        </p:blipFill>
        <p:spPr>
          <a:xfrm>
            <a:off x="1413000" y="1600200"/>
            <a:ext cx="5556240" cy="452592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еонардо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Содержимое 3" descr="leonardo.jpg"/>
          <p:cNvPicPr/>
          <p:nvPr/>
        </p:nvPicPr>
        <p:blipFill>
          <a:blip r:embed="rId1"/>
          <a:stretch/>
        </p:blipFill>
        <p:spPr>
          <a:xfrm>
            <a:off x="2189160" y="1600200"/>
            <a:ext cx="4003560" cy="452592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ружная семей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Содержимое 3" descr="teenage-mutant-ninja-turtles-nickelodeon.jpg"/>
          <p:cNvPicPr/>
          <p:nvPr/>
        </p:nvPicPr>
        <p:blipFill>
          <a:blip r:embed="rId1"/>
          <a:stretch/>
        </p:blipFill>
        <p:spPr>
          <a:xfrm>
            <a:off x="457200" y="1762200"/>
            <a:ext cx="7467480" cy="420192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Содержимое 3" descr="IMAG0454.jpg"/>
          <p:cNvPicPr/>
          <p:nvPr/>
        </p:nvPicPr>
        <p:blipFill>
          <a:blip r:embed="rId1"/>
          <a:stretch/>
        </p:blipFill>
        <p:spPr>
          <a:xfrm>
            <a:off x="2214720" y="214200"/>
            <a:ext cx="4806720" cy="6383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3:49:17Z</dcterms:created>
  <dc:creator>Надя</dc:creator>
  <dc:description/>
  <dc:language>en-US</dc:language>
  <cp:lastModifiedBy>Надя</cp:lastModifiedBy>
  <dcterms:modified xsi:type="dcterms:W3CDTF">2015-02-23T11:06:38Z</dcterms:modified>
  <cp:revision>9</cp:revision>
  <dc:subject/>
  <dc:title>Мои любимые игрушки</dc:title>
</cp:coreProperties>
</file>