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35F5-BBA3-4B38-A1B2-AAD4E4BFA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4C6-88B1-4A00-97C0-CCDCD692B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8AD5-C721-4C14-8D98-3D1E474A8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8C26-1F33-4E47-87E9-2A48C3BB0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3D86-8B7F-46F4-97F9-3DBEC1A22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CCB-2345-416E-A290-130DDB04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B94-CB68-4908-875B-437B3F4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F68-DAAD-4A23-8CEB-084BD74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B18-4666-40AD-8ECA-D20D1216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1E2-4425-4186-A4A9-F0FC2D1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5BA-3921-41B8-AF9B-CF57E0B5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F00-1129-419E-885A-289C35C7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988-A226-4C03-B86A-E0E11564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3A1-FA51-4C1F-9725-150B935D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2B1-1E44-4310-BCDD-B24AAD9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FB9-8176-46C4-9606-3147F7C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2D8-2F78-4EAF-9500-CD59755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ADF-6E20-4CF4-BC0D-21EC56690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89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821664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вышение  мотивации через активные формы учебной деятельности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а уроках истори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ществознания, экономики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Написание  СИНКВЕЙ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714240" y="1444680"/>
            <a:ext cx="77155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В переводе с французского слово «синквейн» означает стихотворение, состоящее из пяти строк, которое пишется по определенным правила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Написание синквейна — это рефлексивное осмысление накопленной информации, форма свободного творчества по определенным правилам. Методика синквейна позволяет сформировать четкое представление об определенном понятии, сформулировать свое отношение к нем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w30"/>
          <p:cNvPicPr/>
          <p:nvPr/>
        </p:nvPicPr>
        <p:blipFill>
          <a:blip r:embed="rId1"/>
          <a:stretch/>
        </p:blipFill>
        <p:spPr>
          <a:xfrm>
            <a:off x="7286760" y="4902120"/>
            <a:ext cx="16430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468360" y="1413000"/>
            <a:ext cx="81756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чувства, эмоции (фраза из четырех слов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12"/>
          <p:cNvPicPr/>
          <p:nvPr/>
        </p:nvPicPr>
        <p:blipFill>
          <a:blip r:embed="rId1"/>
          <a:stretch/>
        </p:blipFill>
        <p:spPr>
          <a:xfrm>
            <a:off x="6429240" y="-214200"/>
            <a:ext cx="227664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2520" y="7488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квейн на тему Рели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ществознание 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нквейн на тему : «Религ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нтегративная регуля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ерят поклоняются соеди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форма осознания мира, обусловленная верой в сверхъ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свят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829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- это совокуп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ных действий, документов, предварительных текстов, замысел для создания реального объекта, предмета, создания разного рода теоретического проду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проектов - педагогическая технология, ориентированная не на интеграцию фактических знаний, а на их применение и приобретение нов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о чем задумался"/>
          <p:cNvPicPr/>
          <p:nvPr/>
        </p:nvPicPr>
        <p:blipFill>
          <a:blip r:embed="rId1"/>
          <a:stretch/>
        </p:blipFill>
        <p:spPr>
          <a:xfrm>
            <a:off x="6659640" y="115920"/>
            <a:ext cx="207144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блем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1357200"/>
            <a:ext cx="7072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стоин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развивает мыслительные способности, вызывает интерес к  учению, пробуждает творческие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не всегда можно приме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из-за характер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неподготовленности учащих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квалификации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2"/>
          <p:cNvPicPr/>
          <p:nvPr/>
        </p:nvPicPr>
        <p:blipFill>
          <a:blip r:embed="rId1"/>
          <a:stretch/>
        </p:blipFill>
        <p:spPr>
          <a:xfrm flipH="1">
            <a:off x="6928920" y="3894120"/>
            <a:ext cx="16434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проблемной ситуаци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уроке можно приме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2600" y="1213920"/>
            <a:ext cx="7929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роблемные задачи с недостающими, избыточными противоречивыми д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Различные точки зрения на один и тот же воп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ротиворечия практ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роблемные задачи с заведомо допущенными ошиб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оиск истины (способа, приёма, правила реш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ути подведения учащихся к проблемн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обуждающий диалог, «экскаватор», который выкапывает проблему, вопрос, трудность, т. е. помогает формулировать учебную задач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одводящий диалог - логически выстроенная цепочка заданий и вопр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badde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Применение мотивирующих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adde1"/>
                </a:solidFill>
                <a:latin typeface="Arial"/>
              </a:rPr>
              <a:t>«Яркое пятно» -сообщение интригующего материала(исторических фактов, легенд и т.п.), демонстрация непонятных явлений (эксперимент, наглядность),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рок  «Деньги. Функции ден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"/>
          <p:cNvSpPr/>
          <p:nvPr/>
        </p:nvSpPr>
        <p:spPr>
          <a:xfrm>
            <a:off x="214200" y="642960"/>
            <a:ext cx="5072040" cy="3857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ТИВ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рок начинается с выражения сочувствия к детям, что они устали. Почему бы им не пойти домой? Родители будут ругать! Это же не справедливо! Наверное, они сейчас телевизор смотрят, а вас заставляют учиться! А зачем они ходят на работу? Их, наверное, тоже родители заставляют? Деньги? Это же просто бумага! Зачем они нуж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5500800" y="571680"/>
            <a:ext cx="3643200" cy="228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чная формулиров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дставить себя на месте родителей и показать зачем они работают. Для чего нужны деньги. Какую функцию они несут. Высказать свои со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5715000" y="3143160"/>
            <a:ext cx="3143160" cy="857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точни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циальный оп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1857240" y="4572000"/>
            <a:ext cx="7286760" cy="20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нструмент 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000160" y="505116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Речевая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Использование терминов в соответствии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Использование примеров и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личие собственной точки зрения по теме от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ae7125b032b97b698f903407ce24b4c0"/>
          <p:cNvPicPr/>
          <p:nvPr/>
        </p:nvPicPr>
        <p:blipFill>
          <a:blip r:embed="rId1"/>
          <a:stretch/>
        </p:blipFill>
        <p:spPr>
          <a:xfrm>
            <a:off x="500040" y="5357880"/>
            <a:ext cx="11494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000" spc="-1" strike="noStrike">
                <a:solidFill>
                  <a:srgbClr val="f808d6"/>
                </a:solidFill>
                <a:latin typeface="Arial"/>
              </a:rPr>
              <a:t>УДАЧИ ВАМ ВО ВСЁМ, </a:t>
            </a:r>
            <a:br>
              <a:rPr sz="5000"/>
            </a:br>
            <a:r>
              <a:rPr b="1" lang="ru-RU" sz="5000" spc="-1" strike="noStrike">
                <a:solidFill>
                  <a:srgbClr val="f808d6"/>
                </a:solidFill>
                <a:latin typeface="Arial"/>
              </a:rPr>
              <a:t>ДОРОГИЕ КОЛЛЕГИ!</a:t>
            </a:r>
            <a:br>
              <a:rPr sz="48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57200" y="2857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115"/>
          <p:cNvPicPr/>
          <p:nvPr/>
        </p:nvPicPr>
        <p:blipFill>
          <a:blip r:embed="rId1"/>
          <a:stretch/>
        </p:blipFill>
        <p:spPr>
          <a:xfrm>
            <a:off x="2357280" y="4643280"/>
            <a:ext cx="4643640" cy="18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щеизвестно, что даже самые новейшие и современные знания очень быстро теряют актуальность, устаревают и становятся невостребованными.  Можно заставить учащихся выучить все даты и понятия, но он никогда не поймёт взаимосвязи исторических процес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много продуктивнее, научить учащихся пользоваться словарём, справочником, сформировать у них способность анализировать источник и находить общий принцип каких-либо событий, их основную иде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Поэтому на уроках   истории  и обществознания , использую словари энциклопедии  и справочник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62"/>
          <p:cNvPicPr/>
          <p:nvPr/>
        </p:nvPicPr>
        <p:blipFill>
          <a:blip r:embed="rId1"/>
          <a:stretch/>
        </p:blipFill>
        <p:spPr>
          <a:xfrm flipH="1">
            <a:off x="7164000" y="4149720"/>
            <a:ext cx="2428920" cy="3292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9152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бота с кей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ейс-технология – это интерактивная технология для краткосрочного обучения , на основе реальных или вымышленных ситуаций, направленная не столько на освоение знаний, сколько на формирование у слушателей новых качеств и ум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й из важнейших характеристик кейс-метода является  умение воспользоваться теорией, обращение к фактическому материал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знак"/>
          <p:cNvPicPr/>
          <p:nvPr/>
        </p:nvPicPr>
        <p:blipFill>
          <a:blip r:embed="rId1"/>
          <a:stretch/>
        </p:blipFill>
        <p:spPr>
          <a:xfrm>
            <a:off x="1285920" y="357120"/>
            <a:ext cx="1461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яд шагов для создания кейс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571680" y="1638360"/>
            <a:ext cx="7858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пределение темы и вопросы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Выбор объекта исследования «конкретной ситу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Определение кон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ланирование кейс-исследования, проведение сбора материала и анализа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иск решений, обсуждение возможных сценариев дальнейшего развитию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Описание и редактирование к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Формирование вопроса для дальнейшего обсуждения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земля2"/>
          <p:cNvPicPr/>
          <p:nvPr/>
        </p:nvPicPr>
        <p:blipFill>
          <a:blip r:embed="rId1"/>
          <a:stretch/>
        </p:blipFill>
        <p:spPr>
          <a:xfrm>
            <a:off x="6858000" y="4929120"/>
            <a:ext cx="17762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к истории  11 класс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ССР на кануне вой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В тетради записи ведутся  следующим образ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3141720"/>
          <a:ext cx="8353440" cy="33829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26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ло укреплению обороноспособ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удшало обороноспособ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 стра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52000" y="1576080"/>
            <a:ext cx="821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Calibri"/>
                <a:ea typeface="Times New Roman"/>
              </a:rPr>
              <a:t>Педагогический метод, который развивает вариан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Calibri"/>
                <a:ea typeface="Times New Roman"/>
              </a:rPr>
              <a:t>мышления, способность устанавливать всесторонн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92d050"/>
                </a:solidFill>
                <a:uFillTx/>
                <a:latin typeface="Calibri"/>
                <a:ea typeface="Times New Roman"/>
              </a:rPr>
              <a:t>и отношения изучаемой темы (понятие, явление, событ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28760" y="2857680"/>
            <a:ext cx="82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Прием кластеров 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- оценку прочитанного текста с точки зрения возможности выделения в нем больших и малых смысловых едини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- выделение смысловых блоков и более мелких единиц, графическое установление связей между ни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- осмысление полученной графической систематизации текста (оценка полноты, обоснованности темы, определение вопросов, вызывающих сомнение, требующих более аргументированного изложения и т.д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- умение презентовать свою графическую схему текста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hel13"/>
          <p:cNvPicPr/>
          <p:nvPr/>
        </p:nvPicPr>
        <p:blipFill>
          <a:blip r:embed="rId1"/>
          <a:stretch/>
        </p:blipFill>
        <p:spPr>
          <a:xfrm>
            <a:off x="6715080" y="2142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рок «Политический статус личност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6360" y="1293480"/>
            <a:ext cx="756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Мотивац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длагается тема урока  оформленная в виде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лнечной системы: звезда в центре – это наша те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круг нее планеты – основны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(смысловые блоки)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94920" y="3433320"/>
            <a:ext cx="76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дача: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сле чтения  текста  дополнить каждую планету 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утникам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скрывающими смысл данных 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64320"/>
            <a:ext cx="764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струмент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) полнота раскрытия темы; 2) дизай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3) участие каждого члена группы; 4) защита клас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5) умение отвечать на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задумался"/>
          <p:cNvPicPr/>
          <p:nvPr/>
        </p:nvPicPr>
        <p:blipFill>
          <a:blip r:embed="rId1"/>
          <a:stretch/>
        </p:blipFill>
        <p:spPr>
          <a:xfrm>
            <a:off x="6981840" y="1857240"/>
            <a:ext cx="1717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ластер в начал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143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 конц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240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7:52:31Z</dcterms:created>
  <dc:creator>Пользователь</dc:creator>
  <dc:description/>
  <dc:language>en-US</dc:language>
  <cp:lastModifiedBy>Дима</cp:lastModifiedBy>
  <dcterms:modified xsi:type="dcterms:W3CDTF">2012-01-09T19:04:14Z</dcterms:modified>
  <cp:revision>109</cp:revision>
  <dc:subject/>
  <dc:title>Развитие познавательных компетенций у обучаемых на уроках обществознания</dc:title>
</cp:coreProperties>
</file>