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D89A7-2301-4C2D-ABD7-15ECF4480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B7291-7D5B-4B3A-AB00-5A344B2AA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B61CC-2EB2-4CBE-A89C-9C8AC58DF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63E3E-97E9-43B3-B181-175692E2F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18971-04D7-43DF-A71C-8A9FB40B4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01459-5B80-428C-8932-25FEC257D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1C354-926C-435F-B4A3-E360E1910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8727A-3E2A-4A02-BC7C-4530EDADE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CC86B-89B2-4AC5-87B9-2C9D4B12D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12FBE-88AD-4B28-B903-868299B1F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17DD7-E6E5-41C1-8153-1EBD71EA5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3798D-B34D-4721-9868-1B9D54BAE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DF146-D6A2-4E07-9DED-102F9FCCA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74E81-2230-46B9-BF97-433B3F4AD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5742F-2600-435D-B14B-ACCDB45A6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8F519-7D74-435C-8765-13A6B6C2C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41102-6BB6-4E01-8CAE-CF04D959D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765E3-54EC-43F4-B7F8-7D41FABD2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2BEF1-6076-4BB0-9388-AD49574C4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C0056-8D59-4245-A282-593EF23CE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813CB-43AD-4E5A-8E5A-5ADB45191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7A87C-9628-4D45-920A-BC3FB62CC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8FC0F-456F-46F0-86B4-E853D63EA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22324-B8A9-46A1-A17B-DFE2EEB98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76DDA-FF67-481F-87C6-F56AF4618D6D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5258E-7674-4C92-BCCB-2D10E0114BA7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0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999900"/>
                </a:solidFill>
                <a:latin typeface="Garamond"/>
              </a:rPr>
              <a:t>Экскурсия в сквер «Победы»</a:t>
            </a: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Экскурсия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— один из видов занятий по ознакомлению детей с природой. Во время экскурсии ребенок может в естественной обстановке наблюдать явления природы, сезонные изменения, увидеть, как люди преобразуют природу в соответствии с требованиями жизни и как природа служит им.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Verdana"/>
              </a:rPr>
              <a:t>Ребенок должен вырасти хозяином, чувствовать ответственность за всю живую природу, которая окружает его. Сохранить, окружающий мир для своих потомков. И мы – взрослые, воспитатели, педагоги, должны дать необходимые знания, научить беречь, любить природу с малых лет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Verdana"/>
              </a:rPr>
              <a:t>Цели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Verdana"/>
              </a:rPr>
              <a:t>Закрепить знания о весеннем изменении в живой и не живой природе: развивать умение сравнивать различные периоды весны: воспитывать радостное, заботливое отношение детей к пробуждающейся природе; желание больше узнать об особенностях природы своего края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9900"/>
                </a:solidFill>
                <a:latin typeface="Garamond"/>
              </a:rPr>
              <a:t>Наша экскурсия начинается</a:t>
            </a:r>
            <a:endParaRPr b="0" lang="en-US" sz="28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8640" y="1778040"/>
            <a:ext cx="4037040" cy="361944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5003640" y="2565360"/>
            <a:ext cx="3576960" cy="352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0640" y="302760"/>
            <a:ext cx="7956720" cy="10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9900"/>
                </a:solidFill>
                <a:latin typeface="Garamond"/>
              </a:rPr>
              <a:t>Как ярко светит весенние солнышко</a:t>
            </a:r>
            <a:endParaRPr b="0" lang="en-US" sz="28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95280" y="2708280"/>
            <a:ext cx="4319640" cy="36003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6064200" y="2081160"/>
            <a:ext cx="1028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5388120" y="1720800"/>
            <a:ext cx="285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559480" y="2297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4859280" y="2781360"/>
            <a:ext cx="3702240" cy="345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47640" y="301320"/>
            <a:ext cx="691056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9900"/>
                </a:solidFill>
                <a:latin typeface="Garamond"/>
              </a:rPr>
              <a:t>Памятник  неизвестному солдату.</a:t>
            </a:r>
            <a:endParaRPr b="0" lang="en-US" sz="28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332000" y="2276640"/>
            <a:ext cx="632628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30369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9900"/>
                </a:solidFill>
                <a:latin typeface="Garamond"/>
              </a:rPr>
              <a:t>Попробуем слепить снежок</a:t>
            </a:r>
            <a:endParaRPr b="0" lang="en-US" sz="28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539640" y="1557360"/>
            <a:ext cx="3384720" cy="47116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4140360" y="1628640"/>
            <a:ext cx="4537080" cy="463716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4500720" y="549360"/>
            <a:ext cx="403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9900"/>
                </a:solidFill>
                <a:latin typeface="Arial"/>
              </a:rPr>
              <a:t>Мы нашли первых насеком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284360" y="404640"/>
            <a:ext cx="43196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9900"/>
                </a:solidFill>
                <a:latin typeface="Garamond"/>
              </a:rPr>
              <a:t>Интересно , что же в дупле?</a:t>
            </a:r>
            <a:endParaRPr b="0" lang="en-US" sz="2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4788000" y="2276640"/>
            <a:ext cx="3744720" cy="33843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684360" y="765000"/>
            <a:ext cx="3382920" cy="25927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684360" y="4149720"/>
            <a:ext cx="3168360" cy="24480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971640" y="359244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А снег то, та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779640" y="620280"/>
            <a:ext cx="3097080" cy="7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9900"/>
                </a:solidFill>
                <a:latin typeface="Garamond"/>
              </a:rPr>
              <a:t>Фонтан!!!</a:t>
            </a:r>
            <a:br>
              <a:rPr sz="3600"/>
            </a:br>
            <a:r>
              <a:rPr b="1" lang="en-US" sz="2800" spc="-1" strike="noStrike">
                <a:solidFill>
                  <a:srgbClr val="999900"/>
                </a:solidFill>
                <a:latin typeface="Garamond"/>
              </a:rPr>
              <a:t>А где вода?</a:t>
            </a:r>
            <a:endParaRPr b="0" lang="en-US" sz="28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219640" y="1844640"/>
            <a:ext cx="3240000" cy="46800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684360" y="1844640"/>
            <a:ext cx="3960720" cy="475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9900"/>
                </a:solidFill>
                <a:latin typeface="Garamond"/>
              </a:rPr>
              <a:t>          </a:t>
            </a:r>
            <a:r>
              <a:rPr b="1" lang="en-US" sz="3600" spc="-1" strike="noStrike">
                <a:solidFill>
                  <a:srgbClr val="999900"/>
                </a:solidFill>
                <a:latin typeface="Garamond"/>
              </a:rPr>
              <a:t>Проверяем почки на деревьях</a:t>
            </a: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4064040" cy="475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403280" y="277920"/>
            <a:ext cx="728352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9900"/>
                </a:solidFill>
                <a:latin typeface="Garamond"/>
              </a:rPr>
              <a:t>Мы устали, пора возвращаться.</a:t>
            </a: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3924360" y="1557360"/>
            <a:ext cx="4321080" cy="41050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684360" y="1557360"/>
            <a:ext cx="2665440" cy="403236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2247840" y="5950080"/>
            <a:ext cx="499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м так понравилась прогулка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432600" y="6396120"/>
            <a:ext cx="225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0 марта 2015 го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14T13:03:58Z</dcterms:created>
  <dc:creator>Admin</dc:creator>
  <dc:description/>
  <dc:language>en-US</dc:language>
  <cp:lastModifiedBy>Admin</cp:lastModifiedBy>
  <dcterms:modified xsi:type="dcterms:W3CDTF">2015-03-17T12:37:28Z</dcterms:modified>
  <cp:revision>6</cp:revision>
  <dc:subject/>
  <dc:title>Слайд 1</dc:title>
</cp:coreProperties>
</file>