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6787-D2D8-44E4-8E23-AE114C60F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E380-FFC4-447E-85F4-C8D1764D0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629F-D890-466D-AA59-7C4A3AE7A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00F9-DA02-49C5-A2E5-B2A17BE21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1D7A5-9582-442A-B8AF-CB1309902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CD24C-3E6F-49E2-AA5C-D943F2030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78C4B-4465-4F9D-B8AB-AEBEE047C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D892C-F126-48C1-A926-7B5489E50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5116B-0668-4200-8F05-A45CE7372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6F295-0BB0-4161-8664-9BA788514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D8E35-378A-48E8-90FE-319FD169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7335-75B2-4BD2-B4C1-96D8AAF24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7E9AD-8DEC-4029-9BDD-4BD60C4B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C0F05-11F1-4ED8-8DB6-5D42E1DC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77A3A-AB41-40CC-86C5-48A11A6CC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CA6FC-52E4-48B9-BFF1-AC1CF39CE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85EF9-5EE9-483B-9FB6-76DE7EC6D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067CA-9290-4B31-9145-7E11913B2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A57FE-E4E6-4094-B00F-CCD4AC852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A3C2F-2CFB-4DAB-8BB6-02C2FB5B0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87A24-9F75-4E44-9B25-DB8089CB4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7C801-A3CE-4B17-BB8F-C27CFBC5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0298-EA7F-4289-AB23-677B3C31E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44EE9-1A92-48AC-A009-3C7F8CBCA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9EC9C-EB43-4A8E-A94E-510D1A4A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05391-B90A-49AE-806B-C652E33F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17E09-D96B-45A6-B78F-4013145D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3903E-05E1-42A5-96EF-4EF019017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A1B40-398C-4D00-A79B-D5E07EBAA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CD2FC-C3A4-4DA9-8D42-4EDDB8757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31E24-318C-4CCD-9A0C-91997FA04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00B77-CF30-4770-ABA0-28DDA8FCD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34C14-91EE-48DF-BB6B-CB9324B09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8726-72E1-4DBE-B29C-28206F45D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C424E-8086-4E1C-817B-9F436CFF9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B7EA0-CCF0-4661-9B11-77A0B4938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A40F7-A1F6-488F-BE18-C6ABD9F88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BE4E3-F866-4FA7-8BFD-1F9CEDE4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35C82-D501-456A-8E39-8EAA4C4E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27384-E198-4B21-9DC3-FA688347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9515C-715B-4E77-8179-8529B6C15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A3407-6DFB-4A30-B976-8FE5216E1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93731-6DDB-413B-99D2-DCAE9BABF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FBCC1-8956-42A9-B2B5-7129AA861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48E3-EF00-4376-80A3-1E7B25E14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76D38-C0E2-450E-B6B4-6112CCDB0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AE8A3-6B3C-40FB-A3E2-35A85DB50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D1F45-61CB-4441-A33E-45FD8FC05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FAD6B-A6F1-473C-93A7-847013A54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DB11F-AD7D-41B5-8904-603BF5054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B59F5-D357-473D-B822-C30BDAA1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E0102-B59C-48E4-9E37-8EE973E2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69797-DBAC-491F-91DE-2E1A5308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22D83-00EF-43D9-B258-B665E36CB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18CC0-B199-47B5-9F64-1B7ADA36D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BFED-DD28-43B8-9331-8B7DBB43F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91CDD-1D49-462F-8DC1-FDE43A5D5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60F5-A458-47A7-9B98-145D479B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69AE-E259-4946-8D58-6DCB1F0D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EB6D-EFC6-452D-AEDD-A7032A75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925EE-F7A0-4F7E-8521-FF13EB9D6D1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EAE0C-1DE3-4495-815D-D4214F7C5BC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9156A-5AF4-4D63-9E83-4CC945BC102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D25F6-131D-46B5-BA4E-01088748B18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32336-AE93-4A16-8F1E-79E6A794744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42960" y="19285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8d3e"/>
                </a:solidFill>
                <a:latin typeface="Verdana"/>
              </a:rPr>
              <a:t>Презентация курсового проекта на тему: «Обеспечение информационной безопастности веб-сайта Московского авиационного техникума им.Н.Н. Годовикова»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14240" y="4429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Verdana"/>
              </a:rPr>
              <a:t>Выполнил: Герасимов Н.В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Verdana"/>
              </a:rPr>
              <a:t>Руководитель: Шакирова Г.Ш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1. Запрещение удаленного доступ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этого в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hroot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mysql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etc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my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добавляем строку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skip-network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7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3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2. Запрещение использования команды </a:t>
            </a:r>
            <a:r>
              <a:rPr b="1" i="1" lang="en-US" sz="3600" spc="-1" strike="noStrike">
                <a:solidFill>
                  <a:srgbClr val="ff8d3e"/>
                </a:solidFill>
                <a:latin typeface="Verdana"/>
              </a:rPr>
              <a:t>LOAD DATA LOCAL INFIL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24000" y="2637000"/>
            <a:ext cx="8229600" cy="2404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Это поможет предотвратить НСД к локальным файла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ля этого, добавляем в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 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hroot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ysql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etc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y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nf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едующий параметр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set-variable=local-infile=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1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3. Задание пароля администратора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95280" y="404280"/>
            <a:ext cx="8229600" cy="3295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ем следующие команды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r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l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ysql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n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ysql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 root mysql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&gt;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T PASSWORD FO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oot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@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lhost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WORD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('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w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_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word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'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5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28760" y="121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4. Удаление БД и учетных записей, созданные по-умолчанию.</a:t>
            </a:r>
            <a:br>
              <a:rPr sz="29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00040" y="242856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Это позволит предотвратить несанкционированные подключения к СУБД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mysql&gt; drop database test;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mysql&gt; use mysql;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mysql&gt; delete from db;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ysql&gt; delete from user where not (host="localhost" and user="root"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mysql&gt; flush privileges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9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28760" y="37857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5. Очистка истори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00040" y="714240"/>
            <a:ext cx="8229600" cy="3197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о необходимо сделать, так как в истории хранятся все выполненные команды (включая их параметры, в частности — пароли) в открытом вид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cat /dev/null &gt; ~/.mysql_his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Экономические показател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работная плата = 10476,4 руб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числения во внебюджетные фонды = 3561,98 руб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того затраты на разработку системы защиты персональных данных в ГБОУ СПО «МАТ»  составляют 14 038,38 руб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7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Оценка рисков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иск (без системы защиты)=61 800 руб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иск (с системой защиты)=24 600 руб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нижение риска=37 200 руб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траты на реализацию проекта=14 038 руб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1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9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Темпы автоматизаци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28760" y="499680"/>
            <a:ext cx="8229600" cy="3925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 II квартал 2012 г. в мире было продано 108,7 млн ПК — на 12% больше, чем годом ране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татисти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удитория Рунета в 2011 году составила 70 миллионов человек, а к 2013 году она может возрасти до 90 млн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сскоязычному сегменту Интернет в апреле 2013 исполнится уже 19 лет и сегодня  Россия занимает первое место в Европе по числу пользователей Всемирной паутины старше 15 лет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Необходимость защит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фиксировано более 2000 случаев взлома злоумышленниками веб-сайтов с целью распространения вредоносного ПО. Среди подвергшихся атаке ресурсов замечены достаточно популярные и посещаемые порталы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0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одель нарушител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едполагается, что нарушитель обладает следующими возможностями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нание работы сетевых протоколов, механизмов передачи и обработки данных, идентификации и аутентификации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нание возможных уязвимостей веб-приложений и прикладного ПО, обеспечивающего их работу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редства для перехвата и анализа сетевого трафика (сниферы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редства автоматизации проведения атак, подбора параметров, подбора пароля по известному хэшу и другое специализированное ПО (такие программы как Sqlmap, Havij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выки программирования на языках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HP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Javascript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и др., что позволят создавать и/или внедрять ложные объекты (ссылки, веб-документы, скрипты) в атакуемую систему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достаточно большие вычислительные мощности и каналы связи для реализации атаки типа «Отказ в доступе»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выки социальной инженери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едполагается, что нарушитель не имеет доступа к парольной, ключевой, аутентифицирующей информации, к исходному коду веб-ресурса; не имеет данных о структуре БД, составе версиях и настройках используемого ПО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5280" y="1052640"/>
            <a:ext cx="818352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8d3e"/>
                </a:solidFill>
                <a:latin typeface="Verdana"/>
              </a:rPr>
              <a:t>Законодательные требования к обеспечению безопасности ИС:</a:t>
            </a:r>
            <a:br>
              <a:rPr sz="2200"/>
            </a:b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68360" y="1267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) предотвращение несанкционированного доступа к информации и (или) передачи ее лицам, не имеющим права на доступ к информаци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) своевременное обнаружение фактов несанкционированного доступа к информаци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) предупреждение возможности неблагоприятных последствий нарушения порядка доступа к информаци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4) недопущение воздействия на технические средства обработки информации, в результате которого нарушается их функционирование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5) возможность незамедлительного восстановления информации, модифицированной или уничтоженной вследствие несанкционированного доступа к ней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6)постоянный контроль за обеспечением уровня защищенности информац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8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50920" y="836640"/>
            <a:ext cx="82087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8d3e"/>
                </a:solidFill>
                <a:latin typeface="Verdana"/>
              </a:rPr>
              <a:t>Настройка безопасности ОС для </a:t>
            </a:r>
            <a:r>
              <a:rPr b="1" lang="en-US" sz="2500" spc="-1" strike="noStrike">
                <a:solidFill>
                  <a:srgbClr val="ff8d3e"/>
                </a:solidFill>
                <a:latin typeface="Verdana"/>
              </a:rPr>
              <a:t>MySQL</a:t>
            </a:r>
            <a:br>
              <a:rPr sz="2500"/>
            </a:br>
            <a:endParaRPr b="1" lang="en-US" sz="2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285480" y="785520"/>
            <a:ext cx="8435880" cy="5543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здаем учетную запись пользователя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pw groupadd mysql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pw useradd mysql -c "MySQL Server" -d /dev/null -g mysql -s /sbin/nologi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здаем каталог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mkdir -p /chroot/mysql/dev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mkdir -p /chroot/mysql/etc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mkdir -p /chroot/mysql/tmp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mkdir -p /chroot/mysql/var/tmp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mkdir -p /chroot/mysql/usr/local/mysql/libexec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mkdir -p /chroot/mysql/usr/local/mysql/share/mysql/englis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станавливаем права доступ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chown -R root:sys /chroot/mysql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chmod -R 755 /chroot/mysql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chmod 1777 /chroot/mysql/tmp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пируем базы данных с настройкам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p -R /usr/local/mysql/var/ /chroot/mysql/usr/local/mysql/va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own -R mysql:mysql /chroot/mysql/usr/local/mysql/va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пускаем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ервер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rootuid /chroot/mysql mysql /usr/local/mysql/libexec/mysqld &amp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2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71680"/>
            <a:ext cx="82296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8d3e"/>
                </a:solidFill>
                <a:latin typeface="Verdana"/>
              </a:rPr>
              <a:t>Результат создания изолированного пространства в файловой системе показан на схеме:</a:t>
            </a:r>
            <a:endParaRPr b="1" lang="en-US" sz="1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5" name="Picture 3" descr=""/>
          <p:cNvPicPr/>
          <p:nvPr/>
        </p:nvPicPr>
        <p:blipFill>
          <a:blip r:embed="rId1"/>
          <a:stretch/>
        </p:blipFill>
        <p:spPr>
          <a:xfrm>
            <a:off x="3635280" y="907920"/>
            <a:ext cx="468000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2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6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202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280" y="1197000"/>
            <a:ext cx="8075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Настройка конфигурации </a:t>
            </a: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MySQL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58560" y="2571840"/>
            <a:ext cx="8785080" cy="3457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Цель данного этапа — привести конфигурацию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ySQL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в соответствие с требованиями безопасности. Конфигурация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ySQL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задается в двух файлах - 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hroot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ysql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etc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y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etc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y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nf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0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6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4T08:22:50Z</dcterms:created>
  <dc:creator>User</dc:creator>
  <dc:description/>
  <dc:language>en-US</dc:language>
  <cp:lastModifiedBy>PREPODAVATEL</cp:lastModifiedBy>
  <dcterms:modified xsi:type="dcterms:W3CDTF">2015-03-16T13:31:01Z</dcterms:modified>
  <cp:revision>14</cp:revision>
  <dc:subject/>
  <dc:title>Презентация конкурсного проекта на тему: «Обеспечение информационной безопастности веб-сайта Московского авиационного техникума им.Н.Н. Годовикова»</dc:title>
</cp:coreProperties>
</file>