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9A9-A23D-47CC-B436-E0C2B9B8C3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8F4-91EF-40AB-9847-C9CA1A072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645-DD0F-4A4F-BC15-18F11A24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6F7-5F72-4210-90E4-1B4AB25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AA9-033F-4CB4-9DAE-C91ABACC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8FF-9008-49BB-A438-AC81FB46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AB00-EEAB-485F-A3DD-137ED28C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E44-0C7F-4354-B460-A933731E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7972-AA6C-4896-A695-D86EBD3C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F4B3-17DC-4313-8095-12E0FE9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D7A4-390B-4A16-8760-3FBE6443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11C-C978-4C8E-8A28-3DFABFF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361-F8A7-486D-996E-3FEC5ED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B0D-3C20-4538-B1C3-2CB41857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E2DC-B39B-49EC-A9AE-7F3A30C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41C-1B81-4AB8-B4EB-F03E441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820F-749A-424E-9F5C-D913F8BC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DC0-E5B1-4D70-89AA-2B44B986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44B9-6C5E-4F9F-9AD5-5A130532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DB0-AAE2-4218-99B6-97150D1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BAF-E93F-4A0E-9B3B-431CABF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517-C089-4B1A-A995-7075D1F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F2F-9D9F-4FE7-8302-D0E741B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40B-CB78-412F-99B0-EBDADA6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A7D-8653-4184-B933-8D0424A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16C-177C-46C1-8A09-C132BA4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31C-C993-4D3E-932E-0EC7ABF5D4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9391-DD8E-4587-81FD-3B946DD382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Сказки народные и литературные. Русская сказка «Снегурочка»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68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Учитель: Наталья Леонид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1600200"/>
          <a:ext cx="8291520" cy="493560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Герои сказк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.Отношение к ней старик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.Отношение к ней подр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7.Окончание сказ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5052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600200"/>
          <a:ext cx="8229600" cy="5240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Девочка Снегурочка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-были старик со старухой… Не было детей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-были…дед да баба. Не было дете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 старик со старухой… Не было дете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…дед да баба. Не было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5356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 старик со старухой… Не было дете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…дед да баба. Не было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Герои сказ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рик,  старуха,  Сне-гурочка, Жучка, волк,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са, подруги, медвед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д, баба, Снегурочка, подруг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125360"/>
          <a:ext cx="8785440" cy="61549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 старик со старухой… Не было дете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…дед да баба. Не было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Герои сказ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рик,  старуха,  Сне-гурочка, Жучка, волк,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са, подруги, медвед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д, баба, Снегурочка, подруг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.Отношение к ней стар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янчат, заботя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таял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341360"/>
          <a:ext cx="8229600" cy="5415120"/>
        </p:xfrm>
        <a:graphic>
          <a:graphicData uri="http://schemas.openxmlformats.org/drawingml/2006/table">
            <a:tbl>
              <a:tblPr/>
              <a:tblGrid>
                <a:gridCol w="2314440"/>
                <a:gridCol w="3171960"/>
                <a:gridCol w="27432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 старик со старухой… Не было дете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…дед да баба. Не было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Герои сказ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рик,  старуха,  Снегу-рочка, Жучка, волк,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са, подруги, медвед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д, баба, Снегурочка, подруг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.Отношение к ней стар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янчат, заботя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таял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. Отношение к ней подр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внима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внима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блица сравнения сказ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341360"/>
          <a:ext cx="8229600" cy="5488200"/>
        </p:xfrm>
        <a:graphic>
          <a:graphicData uri="http://schemas.openxmlformats.org/drawingml/2006/table">
            <a:tbl>
              <a:tblPr/>
              <a:tblGrid>
                <a:gridCol w="2314440"/>
                <a:gridCol w="317196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я срав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казка В.И.Да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сская народная ска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.Название сказк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Девочка Снегурочка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«Снегурочка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.Начало ска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 старик со старухой… Не было дете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Жили-были…дед да баба. Не было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.Время событ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имо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4.Герои сказ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арик,  старуха,  Снегу-рочка, Жучка, волк,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са, подруги, медвед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д, баба, Снегурочка, подруг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5.Отношение к ней стар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янчат, заботя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таял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6. Отношение к ней подр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внима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внима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7. Окончание сказ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ернулась с Жучко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таял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Итог уро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Закончи фразу: «Сегодня на уроке я научился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2"/>
          <p:cNvPicPr/>
          <p:nvPr/>
        </p:nvPicPr>
        <p:blipFill>
          <a:blip r:embed="rId2"/>
          <a:stretch/>
        </p:blipFill>
        <p:spPr>
          <a:xfrm>
            <a:off x="6156360" y="3933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Сочини свою сказку о Снегуроч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еречитать понравившиеся отрыв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оинсценировать любой диало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ысловая размин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адаю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 неба снежи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ают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 неб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нежи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ают с неб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нежин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eorgia"/>
              </a:rPr>
              <a:t>ДАЛЬ Владимир Ивано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987800" y="1623960"/>
            <a:ext cx="3678480" cy="4451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95280" y="1369800"/>
            <a:ext cx="4248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- русский писате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- лексикограф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- этнограф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член-корреспондент Петербургской 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Создал «Толковый словарь живого великорусского языка» (т. 1 – 4, 1863 – 1866), за который был удостоен звания почетного академика Петербургской АН (186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81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я о Снегуроч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1"/>
          <p:cNvPicPr/>
          <p:nvPr/>
        </p:nvPicPr>
        <p:blipFill>
          <a:blip r:embed="rId2"/>
          <a:stretch/>
        </p:blipFill>
        <p:spPr>
          <a:xfrm>
            <a:off x="735120" y="1600200"/>
            <a:ext cx="348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Тема урока: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Сказки народные и литературные. Русская сказка «Снегурочка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Цель урока: Се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ня мы будем открывать  «тайны неизвестного» через чтение художественной литер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tv-vo"/>
          <p:cNvPicPr/>
          <p:nvPr/>
        </p:nvPicPr>
        <p:blipFill>
          <a:blip r:embed="rId2"/>
          <a:stretch/>
        </p:blipFill>
        <p:spPr>
          <a:xfrm>
            <a:off x="5079960" y="1655640"/>
            <a:ext cx="317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в Николаевич Толст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68280"/>
            <a:ext cx="5194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1859 Толстой открыл в деревне школу для крестьянских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1862 издавал педагогический журнал «Ясная Поляна» с книжками для чт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Этот журнал  стал в России таким же образцом детской и народной литературы, как и составленные им в начале 1870-х гг. «Азбука» и «Новая Азбу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Ге Николай. Портрет писателя Льва Николаевича Толстого. Эксклюзивный заказ постера"/>
          <p:cNvPicPr/>
          <p:nvPr/>
        </p:nvPicPr>
        <p:blipFill>
          <a:blip r:embed="rId2"/>
          <a:stretch/>
        </p:blipFill>
        <p:spPr>
          <a:xfrm>
            <a:off x="6012000" y="191628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Моделирование облож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ь, каков жанр этого произвед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делировать обложку и выбрать одного человека, который обоснует мнение вашей групп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закончит первым, подайте сигнал «Работа завершен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Работа в группах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у разрушает ветер, а людскую дружбу слово”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авила работы в группах: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мей выслушать кажд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важай собесе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иди к единому мн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обивайся успех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8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5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6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8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9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6:24:36Z</dcterms:created>
  <dc:creator>Admin</dc:creator>
  <dc:description/>
  <dc:language>en-US</dc:language>
  <cp:lastModifiedBy>1</cp:lastModifiedBy>
  <dcterms:modified xsi:type="dcterms:W3CDTF">2009-11-26T09:46:21Z</dcterms:modified>
  <cp:revision>15</cp:revision>
  <dc:subject/>
  <dc:title>Сказки народные и литературные. Русская сказка «Снегурочка». </dc:title>
</cp:coreProperties>
</file>