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CAC-CEE1-47A0-A3BC-8FDEC78A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DA2-C4F2-4862-82AB-D30C1087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8D9-B8B3-4007-8EC7-7B0EF925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6EC-0FAB-4D64-B3B4-6CAF8CE7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D69-0033-47FD-97F3-FBD78884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48F-7017-432A-AF3B-08499EEE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958-FE33-427B-A845-C2E6F30C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EAA7-EE7A-4919-B430-68F96908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CF6-BFD3-485B-926B-F7C739DE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70C-AE76-4EBF-9205-38B0C89C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DA9-3019-409B-87CB-1FCA7BF2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67E-AF32-47B1-9FDC-A553F44E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335D-D94A-4FB5-9328-ACFF8F2200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.nr2.ru/pict/arts1/05/81/58106.jpg" TargetMode="External"/><Relationship Id="rId2" Type="http://schemas.openxmlformats.org/officeDocument/2006/relationships/hyperlink" Target="http://psj.ru/upload/iblock/789/bnvpiirtmk.jpg" TargetMode="External"/><Relationship Id="rId3" Type="http://schemas.openxmlformats.org/officeDocument/2006/relationships/hyperlink" Target="http://slavs.org.ua/img/diorama/02.jpg" TargetMode="External"/><Relationship Id="rId4" Type="http://schemas.openxmlformats.org/officeDocument/2006/relationships/hyperlink" Target="http://img-fotki.yandex.ru/get/5806/puliru.a2/0_4be67_e00f4e28_XL" TargetMode="External"/><Relationship Id="rId5" Type="http://schemas.openxmlformats.org/officeDocument/2006/relationships/hyperlink" Target="http://waralbum.ru/wp-content/uploads/2011/05/imStalengrades-315.jpg" TargetMode="External"/><Relationship Id="rId6" Type="http://schemas.openxmlformats.org/officeDocument/2006/relationships/hyperlink" Target="http://waralbum.ru/wp-content/uploads/2010/03/photo11.jpg" TargetMode="External"/><Relationship Id="rId7" Type="http://schemas.openxmlformats.org/officeDocument/2006/relationships/hyperlink" Target="http://igor-tambov.narod.ru/museum/gpw/gpw-1942/img/1942_46.jpg" TargetMode="External"/><Relationship Id="rId8" Type="http://schemas.openxmlformats.org/officeDocument/2006/relationships/hyperlink" Target="http://img-fotki.yandex.ru/get/4515/yes06.245/0_6ad4f_5436c5bc_XL" TargetMode="External"/><Relationship Id="rId9" Type="http://schemas.openxmlformats.org/officeDocument/2006/relationships/hyperlink" Target="http://smi2.ru/data/galleries/cache//e/8/7/144385_680x600.jpeg" TargetMode="External"/><Relationship Id="rId10" Type="http://schemas.openxmlformats.org/officeDocument/2006/relationships/hyperlink" Target="http://www.rkka.es/Otros_articulos/06_art/Dioramas/pan_02_08_0ButIDr_StalingrBitva_8.jpg" TargetMode="External"/><Relationship Id="rId11" Type="http://schemas.openxmlformats.org/officeDocument/2006/relationships/hyperlink" Target="http://img11.nnm.ru/1/2/c/5/1/12c5163c4e2a307acc2d3c5834d5ea79_full.jpg" TargetMode="External"/><Relationship Id="rId12" Type="http://schemas.openxmlformats.org/officeDocument/2006/relationships/hyperlink" Target="http://stahlhelm1939.files.wordpress.com/2011/05/420px-bundesarchiv_bild_183-f0316-0204-005_russland_paulus_in_kriegsgefangenschaft.jpg?w=440&amp;h=620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2 февраля – Сталинградская бит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11.gif"/>
          <p:cNvPicPr/>
          <p:nvPr/>
        </p:nvPicPr>
        <p:blipFill>
          <a:blip r:embed="rId1"/>
          <a:stretch/>
        </p:blipFill>
        <p:spPr>
          <a:xfrm>
            <a:off x="2357280" y="2000160"/>
            <a:ext cx="46436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амаев Кург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11811_3.jpg"/>
          <p:cNvPicPr/>
          <p:nvPr/>
        </p:nvPicPr>
        <p:blipFill>
          <a:blip r:embed="rId1"/>
          <a:stretch/>
        </p:blipFill>
        <p:spPr>
          <a:xfrm>
            <a:off x="1428840" y="1285920"/>
            <a:ext cx="67150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лощадь павших бор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sm_users_img-316743.jpg"/>
          <p:cNvPicPr/>
          <p:nvPr/>
        </p:nvPicPr>
        <p:blipFill>
          <a:blip r:embed="rId1"/>
          <a:stretch/>
        </p:blipFill>
        <p:spPr>
          <a:xfrm>
            <a:off x="1428840" y="157176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амятник Михаилу Паниках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pamyatnik_panikaha.jpg"/>
          <p:cNvPicPr/>
          <p:nvPr/>
        </p:nvPicPr>
        <p:blipFill>
          <a:blip r:embed="rId1"/>
          <a:stretch/>
        </p:blipFill>
        <p:spPr>
          <a:xfrm>
            <a:off x="1285920" y="1357200"/>
            <a:ext cx="703260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" name="Содержимое 3" descr="kon_work.jpg"/>
          <p:cNvPicPr/>
          <p:nvPr/>
        </p:nvPicPr>
        <p:blipFill>
          <a:blip r:embed="rId1"/>
          <a:stretch/>
        </p:blipFill>
        <p:spPr>
          <a:xfrm>
            <a:off x="500040" y="357120"/>
            <a:ext cx="810756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СЫЛКИ НА 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85880" y="1214280"/>
            <a:ext cx="7772400" cy="507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лайд 1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g.nr2.ru/pict/arts1/05/81/58106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лайд 2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sj.ru/upload/iblock/789/bnvpiirtmk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лайд 3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lavs.org.ua/img/diorama/02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Танк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mg-fotki.yandex.ru/get/5806/puliru.a2/0_4be67_e00f4e28_X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ом Павлова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aralbum.ru/wp-content/uploads/2011/05/imStalengrades-315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лайд 4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aralbum.ru/wp-content/uploads/2010/03/photo1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Залпы Катюш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gor-tambov.narod.ru/museum/gpw/gpw-1942/img/1942_46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Фонтан «Дети»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img-fotki.yandex.ru/get/4515/yes06.245/0_6ad4f_5436c5bc_X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Разрушенный город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smi2.ru/data/galleries/cache//e/8/7/144385_680x600.jpe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лайд 6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rkka.es/Otros_articulos/06_art/Dioramas/pan_02_08_0ButIDr_StalingrBitva_8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аулюс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img11.nnm.ru/1/2/c/5/1/12c5163c4e2a307acc2d3c5834d5ea79_full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ленение Паулюса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stahlhelm1939.files.wordpress.com/2011/05/420px-bundesarchiv_bild_183-f0316-0204-005_russland_paulus_in_kriegsgefangenschaft.jpg?w=440&amp;h=62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Орден Ленина и медаль «Золотая звезда» -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www.nivasposad.ru/school/homepages/belousova/2010-2011/konkurs/filatova_marina_v/big_photo/gagarin65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Мамаев Курган -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ivanpobeda.ru/photos/miracles/russia/rodina3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лощадь павших борцов -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www.tineye.com/query/6e5a51c46a3eb5ca6e871382e43baeb799728df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амятник Паникахе -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www.militarists.ru/wp-content/uploads/pamyatnik_panikaha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Мы помним -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www.photoshop-master.ru/kon_img/kon5/us_231390/kon_work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2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февраля 1943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5" descr="70062410_stalingrad_20.jpg"/>
          <p:cNvPicPr/>
          <p:nvPr/>
        </p:nvPicPr>
        <p:blipFill>
          <a:blip r:embed="rId1"/>
          <a:stretch/>
        </p:blipFill>
        <p:spPr>
          <a:xfrm>
            <a:off x="1357200" y="1214280"/>
            <a:ext cx="664704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17 июля 1942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5" descr="02.jpg"/>
          <p:cNvPicPr/>
          <p:nvPr/>
        </p:nvPicPr>
        <p:blipFill>
          <a:blip r:embed="rId1"/>
          <a:stretch/>
        </p:blipFill>
        <p:spPr>
          <a:xfrm>
            <a:off x="428760" y="1071720"/>
            <a:ext cx="3924000" cy="36050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0_4be67_e00f4e28_XL.jpeg"/>
          <p:cNvPicPr/>
          <p:nvPr/>
        </p:nvPicPr>
        <p:blipFill>
          <a:blip r:embed="rId2"/>
          <a:stretch/>
        </p:blipFill>
        <p:spPr>
          <a:xfrm>
            <a:off x="4500720" y="3556080"/>
            <a:ext cx="42973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imstalengrades_315_d4750xk3xe88kkwscw80cwwck_ejcuplo1l0oo0sk8c40s8osc4_th.jpg"/>
          <p:cNvPicPr/>
          <p:nvPr/>
        </p:nvPicPr>
        <p:blipFill>
          <a:blip r:embed="rId1"/>
          <a:stretch/>
        </p:blipFill>
        <p:spPr>
          <a:xfrm>
            <a:off x="714240" y="500040"/>
            <a:ext cx="7929720" cy="56563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photo11.jpg"/>
          <p:cNvPicPr/>
          <p:nvPr/>
        </p:nvPicPr>
        <p:blipFill>
          <a:blip r:embed="rId2"/>
          <a:stretch/>
        </p:blipFill>
        <p:spPr>
          <a:xfrm>
            <a:off x="714240" y="500040"/>
            <a:ext cx="79297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23 августа 1942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5" descr="stalingrad_01.jpg"/>
          <p:cNvPicPr/>
          <p:nvPr/>
        </p:nvPicPr>
        <p:blipFill>
          <a:blip r:embed="rId1"/>
          <a:stretch/>
        </p:blipFill>
        <p:spPr>
          <a:xfrm>
            <a:off x="285840" y="1143000"/>
            <a:ext cx="4649760" cy="3471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16924831__01s.jpg"/>
          <p:cNvPicPr/>
          <p:nvPr/>
        </p:nvPicPr>
        <p:blipFill>
          <a:blip r:embed="rId2"/>
          <a:stretch/>
        </p:blipFill>
        <p:spPr>
          <a:xfrm>
            <a:off x="3786120" y="2965320"/>
            <a:ext cx="4857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19 ноября 1942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51375318_1942_46.jpg"/>
          <p:cNvPicPr/>
          <p:nvPr/>
        </p:nvPicPr>
        <p:blipFill>
          <a:blip r:embed="rId1"/>
          <a:stretch/>
        </p:blipFill>
        <p:spPr>
          <a:xfrm>
            <a:off x="571680" y="1214280"/>
            <a:ext cx="4214520" cy="3772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s8kc18xgG1.jpg"/>
          <p:cNvPicPr/>
          <p:nvPr/>
        </p:nvPicPr>
        <p:blipFill>
          <a:blip r:embed="rId2"/>
          <a:stretch/>
        </p:blipFill>
        <p:spPr>
          <a:xfrm>
            <a:off x="3375000" y="2571840"/>
            <a:ext cx="51674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Фельдмаршал Паулю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bundesarchiv_bild_183_f0316_0204_005_russland_paulus_in_kriegsgefangenschaft.jpg"/>
          <p:cNvPicPr/>
          <p:nvPr/>
        </p:nvPicPr>
        <p:blipFill>
          <a:blip r:embed="rId1"/>
          <a:srcRect l="2254" t="0" r="0" b="0"/>
          <a:stretch/>
        </p:blipFill>
        <p:spPr>
          <a:xfrm>
            <a:off x="857160" y="1428840"/>
            <a:ext cx="309744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pauljusGl2.jpg"/>
          <p:cNvPicPr/>
          <p:nvPr/>
        </p:nvPicPr>
        <p:blipFill>
          <a:blip r:embed="rId2"/>
          <a:stretch/>
        </p:blipFill>
        <p:spPr>
          <a:xfrm>
            <a:off x="5286240" y="1428840"/>
            <a:ext cx="28670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236a92d31e18.jpg"/>
          <p:cNvPicPr/>
          <p:nvPr/>
        </p:nvPicPr>
        <p:blipFill>
          <a:blip r:embed="rId1"/>
          <a:stretch/>
        </p:blipFill>
        <p:spPr>
          <a:xfrm>
            <a:off x="857160" y="642960"/>
            <a:ext cx="75582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олгоград – город – геро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gagarin65.jpg"/>
          <p:cNvPicPr/>
          <p:nvPr/>
        </p:nvPicPr>
        <p:blipFill>
          <a:blip r:embed="rId1"/>
          <a:stretch/>
        </p:blipFill>
        <p:spPr>
          <a:xfrm>
            <a:off x="2571840" y="1500120"/>
            <a:ext cx="3976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u57</cp:lastModifiedBy>
  <dcterms:modified xsi:type="dcterms:W3CDTF">2015-01-31T09:10:15Z</dcterms:modified>
  <cp:revision>22</cp:revision>
  <dc:subject/>
  <dc:title>2 февраля – Сталинградская битва</dc:title>
</cp:coreProperties>
</file>