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18C-DBC3-40A8-A2BC-F7F69D0B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D6E-186B-4866-9EB9-731BD51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6E1-C386-4B48-88BB-6BE1810F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5B4-C3BE-4766-A255-27E2249D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33DD-F65B-4FCF-9165-81D398A6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852-294D-410D-9C22-1384DA6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AF4-362C-40B2-A909-CD2E406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8CB4-9AD8-4749-AEC3-57CCA44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768C-E34F-4225-B46B-BF2755EB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363-D9BC-4885-B11F-EB81F82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98FA-5770-4AAA-8DA2-D7EB493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2E-937D-4C96-9DA0-F705424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834-F5BC-4FFD-AD36-CE9D143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3023-63D4-4B98-A861-13691B0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F5CB-EBE2-4887-9F1F-A7312DC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14CC-79B5-451D-B5B0-6134B242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F37A-6DC8-496C-9471-222487D9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706-4EA7-4951-A0A7-5C42312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36A-AF24-4682-8B9F-BF1335DD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731-1AB9-43F0-9EEF-8CF16716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DF2-B6B6-40A8-95E9-D19D3C0B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1D7-AFF1-4EB9-BA5C-4F61DC2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651-7E56-481A-8D41-714C064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B0B-3CA4-43FA-9948-133A1C7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CB42-08BC-4DD4-A86E-6910536BD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CD6-1EF2-4E07-A8E2-878CD92FF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portfile.ru/basketbol/info/fizicheskaya-podgotovka-basketbolistov/" TargetMode="External"/><Relationship Id="rId2" Type="http://schemas.openxmlformats.org/officeDocument/2006/relationships/hyperlink" Target="http://5fan.ru/wievjob.php?id=3155" TargetMode="External"/><Relationship Id="rId3" Type="http://schemas.openxmlformats.org/officeDocument/2006/relationships/hyperlink" Target="http://nsportal.ru/ap/library/drugoe/2012/09/13/vkr-rol-basketbola-v-razvitii-fizicheskogo-kachestva-lovkost-u" TargetMode="External"/><Relationship Id="rId4" Type="http://schemas.openxmlformats.org/officeDocument/2006/relationships/hyperlink" Target="http://revolution.allbest.ru/sport/00268905_0.html" TargetMode="External"/><Relationship Id="rId5" Type="http://schemas.openxmlformats.org/officeDocument/2006/relationships/hyperlink" Target="http://www.world-sport.org/games/basketball/technology" TargetMode="External"/><Relationship Id="rId6" Type="http://schemas.openxmlformats.org/officeDocument/2006/relationships/hyperlink" Target="http://www.ronl.ru/referaty/fizra_i_sport/214635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АСКЕТБО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Правильное применение техники в баскетболе во многом зависит от соблюдения правил игры. Небольшая площадка для игры, правило фола, правила передвижения по площадке – все это обуславливает постоянную и быструю смену направления, движения и затраты сил, высокий темп иг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нимая во внимание сдерживание натиска команды соперника, соблюдение важнейших правил, быстрое передвижение по площадке, большие затраты сил, можно сказать, что бросок мяча в корзину является самым сложным техническим элементом игры в баскетбол, к тому же он требует от спортсмена хорошей ориентации, быстрой реакции и комбинационно-моторных навык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4592880" cy="286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4084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хника владения тело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3300480" cy="330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 технике владения телом относятся обычно все движения без мяча: поворот, все виды пробежек, остановок и прыжков. Они являются предпосылкой для овладения техникой работы с мячом и основой техники ведения защит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арактерная для баскетболистов основная стойка – ноги слегка согнуты в коленях, правильное распределение основного центра тяжести тела помогает быстро реагировать на изменение ситуации на площад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ин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ты (обманные движения) связаны с техникой владения телом и используются в основном нападающи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уществуют прежде всего финты с мячом – ложные передачи, броски в корзину, дриблинг и финты без мяча – ложная смена скорости и напр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обходим быстрый переход от финтов к самой игр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2828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Баскетбол является прекрасным средством для многогранного физического развития человека. Играя в баскетбол, используются различные виды двигательной активности: бег, ходьба, прыжки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4150800"/>
            <a:ext cx="7772400" cy="23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оцессе игры тренируются органы дыхательного аппарата, железы внутренней секреции и даже пищеварительная системы.  При этом движении важная роль принадлежит многим звеньям нервной системы, поскольку они постоянно контролируют и регулируют активность органов того или иного аппара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4848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portfile.ru/basketbol/info/fizicheskaya-podgotovka-basketbolistov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5fan.ru/wievjob.php?id=31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nsportal.ru/ap/library/drugoe/2012/09/13/vkr-rol-basketbola-v-razvitii-fizicheskogo-kachestva-lovkost-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revolution.allbest.ru/sport/00268905_0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world-sport.org/games/basketball/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http://www.ronl.ru/referaty/fizra_i_sport/214635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бота с мяч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яч держат свободно расставленными пальц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передаче и ведении мяча, броске в корзину руки согнуты в локтя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79920" y="1341360"/>
            <a:ext cx="3664080" cy="179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3554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едача мяч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2600" y="4159080"/>
            <a:ext cx="3811680" cy="1973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143320" y="2017800"/>
            <a:ext cx="381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большинстве случаев мяч передается обеими руками для того, чтобы передача была более точной, уверенной и быстр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давать мяч можно с места, в движении (на бегу), в прыжке, непосредственно товарищу по команде или после удара об по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ыстрый темп игры обуславливает передачу мяча за наименьшее время и с любого полож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17600" y="2558880"/>
            <a:ext cx="3816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ём передач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нимать мяч нужно по возможности двумя рука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моменту касания мяча руки должны быть вытянуты по направлению к нему, а затем быстро согнуты (уже с мячом) в локтях с целью ослабления силы уда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ловле мяча на бегу необходимо соблюдение 2-контактного ритма (двухшажной техник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4033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ём пере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106880" cy="2905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ем мяча с одновременным касанием пола засчитывается за 1 шаг (первый контакт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 только спортсмен поймал мяч, он делает легкий прыж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Через шаг он должен остановиться или передать мяч дальше до того, как будет сделан 3-й ша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дение мяч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4159080"/>
            <a:ext cx="77724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едении мяча на бегу спортсмен на каждом втором шаге ударяет мячом (одной рукой) об пол и плавно ловит ег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мяч желательно не смотреть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ртсмены должны одинаково хорошо уметь вести мяч как правой, так и левой руко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7560" y="2035080"/>
            <a:ext cx="2692440" cy="214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02240" y="2035080"/>
            <a:ext cx="29844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роски в корзину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3548160" cy="3265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лижние или дальние – выполняются одной или двумя руками непосредственно в корзину или после удара мячом о щи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2641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лижний бросок в корзин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лижний бросок в корзину осуществляется, как правило, в прыжке после удара мячом о щит (иногда на бегу или с места) и с большой силой для того, чтобы защитники соперника не могли бы помешать этому брос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8360" y="2708280"/>
            <a:ext cx="34081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альний бросок в кольцо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4351320" cy="3263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льний бросок, имеющий высокую траекторию полета, осуществляется непосредственно в корзину с места (опытные баскетболисты исполняют этот бросок в прыжк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 всех случаях решающее значение имеют направление и сила бро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роски в корзину с ближней дистанции спортсмены должны выполнять одинаково хорошо как правой, так и левой ру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07:38:34Z</dcterms:created>
  <dc:creator>пк</dc:creator>
  <dc:description/>
  <dc:language>en-US</dc:language>
  <cp:lastModifiedBy>пк</cp:lastModifiedBy>
  <dcterms:modified xsi:type="dcterms:W3CDTF">2015-03-18T16:35:54Z</dcterms:modified>
  <cp:revision>4</cp:revision>
  <dc:subject/>
  <dc:title>БАСКЕТБОЛ</dc:title>
</cp:coreProperties>
</file>